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4.png" ContentType="image/png"/>
  <Override PartName="/ppt/media/image24.gif" ContentType="image/gif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8B0-887A-4C79-B8E8-83486F5F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30D-9883-4461-85B2-4D216E30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0FF-A22A-4A8A-9406-13BDB715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0A7-3BA2-4232-9BD4-E6D64D86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F5E5-9493-467C-BAF7-805F019C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262B-93B2-4601-8D1D-D47FF202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0BF1-8DF3-4905-BC7E-81EDF3C4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20B6-C760-4A00-9BEC-619144B8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006E-B5A7-4192-A413-888539BC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DA39-5099-4014-A94A-F8D44CB0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F013-5F2C-474D-A1D6-D3F17C2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CFD-54D2-4B00-824A-EC599BC9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B363-41B3-4230-B92A-2B6F59E7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19D0-56FB-48AC-8A89-947D192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0C71-F076-426C-9ACE-7D56887E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C9FC-AFFE-4524-9156-B6913EB6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57B6-5DE9-4B7C-B151-EB870249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29FA-9172-4CE7-9A6F-2FCD7DDE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B9E0-E48B-415C-BA4A-87BAA4BF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E9A69-D3CB-4AAD-BDCB-ACB62E67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E7F7-9C3F-4659-AD54-18FD0B94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5CEE-6C51-48B7-883F-C35D6D95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FA2-B948-46C4-8026-199C420F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4C1F9-87DD-4A39-89E8-CAC2452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29AA-F95B-4D1C-8A5C-48C286C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C09F-4272-4535-A6D6-5CDDE145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B2D8D-158E-4F21-9E31-014D3421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D27E-A065-45E2-BB86-676A5660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A16F-E9F9-4D70-B084-C19F5FF4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1D50-614D-4A9E-8901-47E03A7B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F2CD2-B2B0-4E34-9B61-F0DAD86B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3E08B-E3F6-4973-8258-765DE699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133D1-8B2D-4588-B985-3763C269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DD3-5745-4080-9794-9A0A3B4E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32ED8-D169-4249-B0BF-9FD08B56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C7D2-BB3A-4924-A4C9-A76E1DD3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0D98-55E0-4A0B-B31B-FE647985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12550-F854-469A-B2C7-F415756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BDDC-2DB0-4E54-828A-A5FA6A0D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6335-AD6F-4FA9-BB5E-3E1CCF16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DD117-36A0-49C8-BECE-6A29BBB4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CE36-A1C6-4AB8-9D8F-81401B3B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ABF48-D104-4370-ADA4-3983690A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E0FCF-F066-4ED6-87A5-6F711B88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2F4-D538-47DF-8156-5AF7909E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31701-0AE9-4195-9717-5E3E7703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0FAA3-8156-4CBB-9E9A-26BA6E74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E377C-EFF4-4D2E-86F6-E990D23A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19DA4-2E50-4202-8B4F-44CFDEA0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49AA0-4829-4219-A38D-3BFF9ABC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05600-34D1-4567-93DF-1B86258E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96374-5259-4E1C-B7DA-B1076D1E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4C82-E1A9-45DA-85F7-BDB612F8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87F1F-57FC-44FA-AC5C-0C5F89B3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3768B-17FD-470E-9C26-4E397906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10E-4153-4161-A661-648371B1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CFFEF-5F24-4FE8-863A-2BA23A0F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93B03-E0B9-45C3-A2B1-0FF6AB71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150E1-6249-44B3-B1F1-5FDE8A83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C0A64-61C9-4ACF-BDB8-93E36A05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DCFAA-BD39-431E-93E7-6FA25A0C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E4690-87E6-4824-BE1E-DD947AC1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50DAE-345B-4A40-BD1C-0C42A3D7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0BD96-8970-47AA-B71B-514576D8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FC47C-8649-4BFB-A2E1-19B83F2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529BA-6FF0-4293-9B38-0C5F767D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C44-BE19-4EF4-A632-B48F27E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A7A11-5E13-465E-BD40-66039ACD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DBF82-D701-4CFF-B0C3-40248304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5E8B4-2313-423A-A319-029C420F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E9C98-F918-4F4D-BB4F-1EB9EDB9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241A-959E-42E3-9498-49A37A47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6FBE0-D90D-44E3-9413-FA0B4091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B9F87-1500-477A-9C1A-D2A5A838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77C02-266C-4921-9963-80781EAC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D567B-F60B-4483-A9A9-737580A2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CDB9-32A0-45B2-A7DE-D0C17AF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E3D-000E-4930-9158-3A45D8E8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C45B1-57DA-44FC-8AA7-4546F7DD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CED16-2CC4-40CF-B2A3-AEAFDEA0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737EA-818E-4006-A7E5-DCE424C1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F9D6D-0F0F-4362-BB9A-4D593F65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9A4D7-42F8-4508-B805-DCEF4E55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6EC-3ACD-49CB-B176-1EB8F5FD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81FA-7E18-4F8F-8835-C8723D0A479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D5E4-7233-4CB7-AD06-4352D59C5766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EA9F-D08E-4CC3-89BF-1F5B1BBCCFF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51CE-558C-4A57-9612-8CA8C8ED649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4BAF-C4C7-4DB5-8546-AD085D97696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71AB-934B-404E-9ECB-8B16A5DC3BE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C38-E93A-4D3D-A2DD-06EE9A0D39A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http://images.yandex.ru/yandsearch?text=&#1075;&#1072;&#1081;&#1082;&#1072;-&#1073;&#1072;&#1088;&#1072;&#1096;&#1077;&#1082;&amp;img_url=http%3A%2F%2Fimages.prom.ua%2F1265540_w640_h640_gajkabarashkovaya.jpg&amp;pos=6&amp;rpt=simage&amp;nojs=1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27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Script MT Bold"/>
              </a:rPr>
              <a:t>КПД</a:t>
            </a:r>
            <a:r>
              <a:rPr b="1" lang="ru-RU" sz="12900" spc="-1" strike="noStrike">
                <a:solidFill>
                  <a:srgbClr val="a50021"/>
                </a:solidFill>
                <a:latin typeface="Script MT Bold"/>
              </a:rPr>
              <a:t> </a:t>
            </a:r>
            <a:br>
              <a:rPr sz="12900"/>
            </a:br>
            <a:r>
              <a:rPr b="1" lang="ru-RU" sz="6000" spc="-1" strike="noStrike">
                <a:solidFill>
                  <a:srgbClr val="a50021"/>
                </a:solidFill>
                <a:latin typeface="Script MT Bold"/>
              </a:rPr>
              <a:t>ПРОСТЫХ МЕХАНИЗМОВ</a:t>
            </a:r>
            <a:endParaRPr b="0" lang="en-US" sz="6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685800" y="762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ript MT Bold"/>
              </a:rPr>
              <a:t>Уроки физики в 7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6095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КАКУЮ РАБОТУ НАЗЫВАЮТ ПОЛЕЗНОЙ, КАКУЮ ПОЛНОЙ?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8" name="Picture 5" descr="p-03h-1"/>
          <p:cNvPicPr/>
          <p:nvPr/>
        </p:nvPicPr>
        <p:blipFill>
          <a:blip r:embed="rId1"/>
          <a:stretch/>
        </p:blipFill>
        <p:spPr>
          <a:xfrm>
            <a:off x="228600" y="1371600"/>
            <a:ext cx="4152960" cy="2133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4495680" y="1295280"/>
            <a:ext cx="42832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чку массой 200 кг надо поднять на борт корабля на высоту 10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5639040" y="304812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2133720" y="37242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Какую работу нужно совершить, чтобы выполнить зад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0" y="4572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=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= 20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/кг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0 00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441360" y="5141880"/>
            <a:ext cx="8397720" cy="137376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у, которую необходимо совершить непосредственно для выполнения конкретного задания, называют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ОЛЕЗ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2209680" y="3724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Для чего грузчики используют наклонную плоск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228600" y="4572000"/>
            <a:ext cx="862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В чём выигрывают грузчики, применяя наклонную плоскость, а в чём проигр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212760" y="5553000"/>
            <a:ext cx="862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Получают ли грузчики выигрыш в работе, применяя наклонную плоск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4"/>
          <p:cNvSpPr/>
          <p:nvPr/>
        </p:nvSpPr>
        <p:spPr>
          <a:xfrm flipH="1" rot="5103600">
            <a:off x="6990120" y="5419080"/>
            <a:ext cx="1395360" cy="609120"/>
          </a:xfrm>
          <a:custGeom>
            <a:avLst/>
            <a:gdLst>
              <a:gd name="textAreaLeft" fmla="*/ 803160 w 1395360"/>
              <a:gd name="textAreaRight" fmla="*/ 1177920 w 1395360"/>
              <a:gd name="textAreaTop" fmla="*/ 82080 h 609120"/>
              <a:gd name="textAreaBottom" fmla="*/ 260640 h 60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28600" y="38862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Учитывали ли мы при расчёте работы действие сил трения и сопротивле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6"/>
          <p:cNvSpPr/>
          <p:nvPr/>
        </p:nvSpPr>
        <p:spPr>
          <a:xfrm>
            <a:off x="289080" y="5141880"/>
            <a:ext cx="847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Необходимо ли на практике совершить дополнительную работу для преодоления сил трения и сопротив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533520" y="0"/>
            <a:ext cx="83055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Какую работу необходимо совершить на практи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8"/>
          <p:cNvSpPr/>
          <p:nvPr/>
        </p:nvSpPr>
        <p:spPr>
          <a:xfrm>
            <a:off x="304920" y="3733920"/>
            <a:ext cx="8550000" cy="173988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практике совершённая с помощью механизма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олна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бота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Аз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сегда несколько больше полезной ра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9"/>
          <p:cNvSpPr/>
          <p:nvPr/>
        </p:nvSpPr>
        <p:spPr>
          <a:xfrm>
            <a:off x="1085760" y="5715000"/>
            <a:ext cx="2268720" cy="70344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п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0"/>
          <p:cNvSpPr/>
          <p:nvPr/>
        </p:nvSpPr>
        <p:spPr>
          <a:xfrm>
            <a:off x="4039920" y="5715000"/>
            <a:ext cx="105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1"/>
          <p:cNvSpPr/>
          <p:nvPr/>
        </p:nvSpPr>
        <p:spPr>
          <a:xfrm>
            <a:off x="5657400" y="5715000"/>
            <a:ext cx="2600640" cy="70344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п / Аз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59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ОЭФФИЦИЕНТ ПОЛЕЗНОГО ДЕЙСТВИЯ (КПД)</a:t>
            </a: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80880" y="1600200"/>
            <a:ext cx="8305920" cy="155628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ношение полезной работы к полной работе называется коэффициентом полезного действия мех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34960" y="3589200"/>
            <a:ext cx="15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ПД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134800" y="3352680"/>
            <a:ext cx="7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457200" y="4648320"/>
            <a:ext cx="3429000" cy="152388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565560" y="502920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η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1449000" y="4800600"/>
            <a:ext cx="7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2135160" y="50292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2"/>
          <p:cNvSpPr/>
          <p:nvPr/>
        </p:nvSpPr>
        <p:spPr>
          <a:xfrm>
            <a:off x="685800" y="4191120"/>
            <a:ext cx="304920" cy="976320"/>
          </a:xfrm>
          <a:prstGeom prst="down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229320" y="627840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э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4"/>
          <p:cNvSpPr/>
          <p:nvPr/>
        </p:nvSpPr>
        <p:spPr>
          <a:xfrm flipV="1">
            <a:off x="685800" y="57142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251240" y="3618000"/>
            <a:ext cx="458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олезного действия не может быть больше 1 (или 100 %),             т.к. на практике всегда действуют силы сопроти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62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50021"/>
                </a:solidFill>
                <a:latin typeface="Times New Roman"/>
              </a:rPr>
              <a:t>КАК УВЕЛИЧИТЬ КПД?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38" name="Picture 4" descr="image004"/>
          <p:cNvPicPr/>
          <p:nvPr/>
        </p:nvPicPr>
        <p:blipFill>
          <a:blip r:embed="rId1"/>
          <a:stretch/>
        </p:blipFill>
        <p:spPr>
          <a:xfrm>
            <a:off x="228600" y="1981080"/>
            <a:ext cx="2819520" cy="16002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685800" y="1523880"/>
            <a:ext cx="136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Рыч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6" descr="image003"/>
          <p:cNvPicPr/>
          <p:nvPr/>
        </p:nvPicPr>
        <p:blipFill>
          <a:blip r:embed="rId2"/>
          <a:stretch/>
        </p:blipFill>
        <p:spPr>
          <a:xfrm>
            <a:off x="5943600" y="2514600"/>
            <a:ext cx="3200400" cy="10144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7"/>
          <p:cNvSpPr/>
          <p:nvPr/>
        </p:nvSpPr>
        <p:spPr>
          <a:xfrm>
            <a:off x="61722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Наклонная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8" descr="image002"/>
          <p:cNvPicPr/>
          <p:nvPr/>
        </p:nvPicPr>
        <p:blipFill>
          <a:blip r:embed="rId3"/>
          <a:stretch/>
        </p:blipFill>
        <p:spPr>
          <a:xfrm>
            <a:off x="3429000" y="1828800"/>
            <a:ext cx="828720" cy="20574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9"/>
          <p:cNvSpPr/>
          <p:nvPr/>
        </p:nvSpPr>
        <p:spPr>
          <a:xfrm>
            <a:off x="4191480" y="1523880"/>
            <a:ext cx="11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0"/>
          <p:cNvSpPr/>
          <p:nvPr/>
        </p:nvSpPr>
        <p:spPr>
          <a:xfrm>
            <a:off x="3124080" y="1752480"/>
            <a:ext cx="0" cy="289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1"/>
          <p:cNvSpPr/>
          <p:nvPr/>
        </p:nvSpPr>
        <p:spPr>
          <a:xfrm>
            <a:off x="5715000" y="1752480"/>
            <a:ext cx="0" cy="289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ывали ли мы при расчёт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383400" y="3581280"/>
            <a:ext cx="21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 рыча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 крюч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62485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ние  между  телом и плоскост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5"/>
          <p:cNvSpPr/>
          <p:nvPr/>
        </p:nvSpPr>
        <p:spPr>
          <a:xfrm>
            <a:off x="3429000" y="3581280"/>
            <a:ext cx="20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   бл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 верёв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533520" y="4952880"/>
            <a:ext cx="8092800" cy="1556280"/>
          </a:xfrm>
          <a:prstGeom prst="rect">
            <a:avLst/>
          </a:prstGeom>
          <a:solidFill>
            <a:srgbClr val="ffffff"/>
          </a:solidFill>
          <a:ln w="316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увеличения КПД необходимо уменьшить трение и использовать лёгкие, но прочные 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50021"/>
                </a:solidFill>
                <a:latin typeface="Times New Roman"/>
              </a:rPr>
              <a:t>РЕШИ ЗАДАЧУ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28600" y="8380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коротком плече рычага подвешен груз массой 100 кг. Для его подъёма к длинному плечу приложили силу 250 Н. Груз подняли на 0,08 м, при этом точка приложения движущей силы опустилась на 0,4 м. Найти КПД рыч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image003"/>
          <p:cNvPicPr/>
          <p:nvPr/>
        </p:nvPicPr>
        <p:blipFill>
          <a:blip r:embed="rId1"/>
          <a:stretch/>
        </p:blipFill>
        <p:spPr>
          <a:xfrm>
            <a:off x="3657600" y="3505320"/>
            <a:ext cx="5153040" cy="1514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image002"/>
          <p:cNvPicPr/>
          <p:nvPr/>
        </p:nvPicPr>
        <p:blipFill>
          <a:blip r:embed="rId2"/>
          <a:stretch/>
        </p:blipFill>
        <p:spPr>
          <a:xfrm>
            <a:off x="3657600" y="2895480"/>
            <a:ext cx="5181480" cy="32482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9"/>
          <p:cNvSpPr/>
          <p:nvPr/>
        </p:nvSpPr>
        <p:spPr>
          <a:xfrm>
            <a:off x="291240" y="2581200"/>
            <a:ext cx="2012760" cy="37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00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9,8 Н/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50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0,08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0,4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Monotype Corsiva"/>
              </a:rPr>
              <a:t>η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2286000" y="27432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380880" y="4724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8535960" y="47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3664440" y="312408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8084160" y="426708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2307960" y="2743200"/>
            <a:ext cx="802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Monotype Corsiva"/>
              </a:rPr>
              <a:t>η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3049200" y="2514600"/>
            <a:ext cx="7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3735000" y="2743200"/>
            <a:ext cx="12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2451600" y="3886200"/>
            <a:ext cx="180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2451240" y="4419720"/>
            <a:ext cx="174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0"/>
          <p:cNvSpPr/>
          <p:nvPr/>
        </p:nvSpPr>
        <p:spPr>
          <a:xfrm>
            <a:off x="2231640" y="5638680"/>
            <a:ext cx="802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Monotype Corsiva"/>
              </a:rPr>
              <a:t>η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2984040" y="5486400"/>
            <a:ext cx="14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"/>
          <p:cNvSpPr/>
          <p:nvPr/>
        </p:nvSpPr>
        <p:spPr>
          <a:xfrm>
            <a:off x="3135600" y="6019920"/>
            <a:ext cx="96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3"/>
          <p:cNvSpPr/>
          <p:nvPr/>
        </p:nvSpPr>
        <p:spPr>
          <a:xfrm>
            <a:off x="3048120" y="59436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4344840" y="5689440"/>
            <a:ext cx="11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5"/>
          <p:cNvSpPr/>
          <p:nvPr/>
        </p:nvSpPr>
        <p:spPr>
          <a:xfrm>
            <a:off x="5410080" y="281952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5540040" y="2657520"/>
            <a:ext cx="11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el-GR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7"/>
          <p:cNvSpPr/>
          <p:nvPr/>
        </p:nvSpPr>
        <p:spPr>
          <a:xfrm>
            <a:off x="6629400" y="29718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6554520" y="25146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2441880" y="4952880"/>
            <a:ext cx="13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∙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0"/>
          <p:cNvSpPr/>
          <p:nvPr/>
        </p:nvSpPr>
        <p:spPr>
          <a:xfrm>
            <a:off x="6630480" y="2895480"/>
            <a:ext cx="11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1"/>
          <p:cNvSpPr/>
          <p:nvPr/>
        </p:nvSpPr>
        <p:spPr>
          <a:xfrm>
            <a:off x="8002800" y="2666880"/>
            <a:ext cx="4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2"/>
          <p:cNvSpPr/>
          <p:nvPr/>
        </p:nvSpPr>
        <p:spPr>
          <a:xfrm>
            <a:off x="8305920" y="266688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555520" y="3809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6107400" y="3581280"/>
            <a:ext cx="24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08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5"/>
          <p:cNvSpPr/>
          <p:nvPr/>
        </p:nvSpPr>
        <p:spPr>
          <a:xfrm>
            <a:off x="6248520" y="411480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6858720" y="411480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793480" y="449568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8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8"/>
          <p:cNvSpPr/>
          <p:nvPr/>
        </p:nvSpPr>
        <p:spPr>
          <a:xfrm>
            <a:off x="5642640" y="51814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8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140"/>
                            </p:stCondLst>
                            <p:childTnLst>
                              <p:par>
                                <p:cTn id="3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2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2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34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380"/>
                            </p:stCondLst>
                            <p:childTnLst>
                              <p:par>
                                <p:cTn id="5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46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580"/>
                            </p:stCondLst>
                            <p:childTnLst>
                              <p:par>
                                <p:cTn id="5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5520" y="407880"/>
            <a:ext cx="826128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ОМАШНЕЕ ЗАДАНИЕ</a:t>
            </a:r>
            <a:endParaRPr b="0" lang="en-US" sz="5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80880" y="144792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стно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 читать, отвечать на вопрос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исьменно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ивидуальное задание по карточкам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3962520"/>
            <a:ext cx="8305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Times New Roman"/>
              </a:rPr>
              <a:t>Спасибо </a:t>
            </a:r>
            <a:br>
              <a:rPr sz="7200"/>
            </a:br>
            <a:r>
              <a:rPr b="1" lang="ru-RU" sz="7200" spc="-1" strike="noStrike">
                <a:solidFill>
                  <a:srgbClr val="cc0000"/>
                </a:solidFill>
                <a:latin typeface="Times New Roman"/>
              </a:rPr>
              <a:t>за работу на урок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f8d608fd2d03547ade4bdd56d034d467"/>
          <p:cNvPicPr/>
          <p:nvPr/>
        </p:nvPicPr>
        <p:blipFill>
          <a:blip r:embed="rId1"/>
          <a:stretch/>
        </p:blipFill>
        <p:spPr>
          <a:xfrm>
            <a:off x="6477120" y="3733920"/>
            <a:ext cx="1860480" cy="1752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Times New Roman"/>
              </a:rPr>
              <a:t>БЛОК КОНТРОЛЯ</a:t>
            </a:r>
            <a:endParaRPr b="0" lang="en-US" sz="7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5" name="Picture 3" descr="13595000069da5e54c25e4126663ea79259f93374"/>
          <p:cNvPicPr/>
          <p:nvPr/>
        </p:nvPicPr>
        <p:blipFill>
          <a:blip r:embed="rId1"/>
          <a:stretch/>
        </p:blipFill>
        <p:spPr>
          <a:xfrm>
            <a:off x="228600" y="17524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4267080" y="2286000"/>
            <a:ext cx="413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тветьте     на вопросы мудрой со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13595000069da5e54c25e4126663ea79259f93374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2514600" y="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Ответь на 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819520" y="1219320"/>
            <a:ext cx="611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В чём состоит «золотое правило» механ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2819520" y="25146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Дают ли простые механизмы выигрыш в рабо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2743200" y="3733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Докажите, что «золотое правило» механики применимо к гидравлической ма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3a"/>
          <p:cNvPicPr/>
          <p:nvPr/>
        </p:nvPicPr>
        <p:blipFill>
          <a:blip r:embed="rId2"/>
          <a:srcRect l="0" t="4809" r="0" b="13464"/>
          <a:stretch/>
        </p:blipFill>
        <p:spPr>
          <a:xfrm>
            <a:off x="304920" y="304812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13595000069da5e54c25e4126663ea79259f93374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2590920" y="0"/>
            <a:ext cx="6400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Ответь на 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image001"/>
          <p:cNvPicPr/>
          <p:nvPr/>
        </p:nvPicPr>
        <p:blipFill>
          <a:blip r:embed="rId2"/>
          <a:stretch/>
        </p:blipFill>
        <p:spPr>
          <a:xfrm>
            <a:off x="533520" y="2971800"/>
            <a:ext cx="3571920" cy="190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image001"/>
          <p:cNvPicPr/>
          <p:nvPr/>
        </p:nvPicPr>
        <p:blipFill>
          <a:blip r:embed="rId3"/>
          <a:stretch/>
        </p:blipFill>
        <p:spPr>
          <a:xfrm>
            <a:off x="5105520" y="2971800"/>
            <a:ext cx="3571920" cy="190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image001"/>
          <p:cNvPicPr/>
          <p:nvPr/>
        </p:nvPicPr>
        <p:blipFill>
          <a:blip r:embed="rId4"/>
          <a:stretch/>
        </p:blipFill>
        <p:spPr>
          <a:xfrm>
            <a:off x="457200" y="4952880"/>
            <a:ext cx="3571920" cy="190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image001"/>
          <p:cNvPicPr/>
          <p:nvPr/>
        </p:nvPicPr>
        <p:blipFill>
          <a:blip r:embed="rId5"/>
          <a:stretch/>
        </p:blipFill>
        <p:spPr>
          <a:xfrm>
            <a:off x="5181480" y="4952880"/>
            <a:ext cx="3571920" cy="19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image006"/>
          <p:cNvPicPr/>
          <p:nvPr/>
        </p:nvPicPr>
        <p:blipFill>
          <a:blip r:embed="rId6"/>
          <a:stretch/>
        </p:blipFill>
        <p:spPr>
          <a:xfrm>
            <a:off x="1828800" y="30481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image006"/>
          <p:cNvPicPr/>
          <p:nvPr/>
        </p:nvPicPr>
        <p:blipFill>
          <a:blip r:embed="rId7"/>
          <a:stretch/>
        </p:blipFill>
        <p:spPr>
          <a:xfrm>
            <a:off x="6400800" y="30481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image006"/>
          <p:cNvPicPr/>
          <p:nvPr/>
        </p:nvPicPr>
        <p:blipFill>
          <a:blip r:embed="rId8"/>
          <a:stretch/>
        </p:blipFill>
        <p:spPr>
          <a:xfrm>
            <a:off x="2438280" y="5029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image006"/>
          <p:cNvPicPr/>
          <p:nvPr/>
        </p:nvPicPr>
        <p:blipFill>
          <a:blip r:embed="rId9"/>
          <a:stretch/>
        </p:blipFill>
        <p:spPr>
          <a:xfrm>
            <a:off x="7162920" y="50292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image003"/>
          <p:cNvPicPr/>
          <p:nvPr/>
        </p:nvPicPr>
        <p:blipFill>
          <a:blip r:embed="rId10"/>
          <a:stretch/>
        </p:blipFill>
        <p:spPr>
          <a:xfrm>
            <a:off x="3962520" y="3048120"/>
            <a:ext cx="199800" cy="1104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image003"/>
          <p:cNvPicPr/>
          <p:nvPr/>
        </p:nvPicPr>
        <p:blipFill>
          <a:blip r:embed="rId11"/>
          <a:stretch/>
        </p:blipFill>
        <p:spPr>
          <a:xfrm>
            <a:off x="8534520" y="3048120"/>
            <a:ext cx="199800" cy="1104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image003"/>
          <p:cNvPicPr/>
          <p:nvPr/>
        </p:nvPicPr>
        <p:blipFill>
          <a:blip r:embed="rId12"/>
          <a:stretch/>
        </p:blipFill>
        <p:spPr>
          <a:xfrm>
            <a:off x="3886200" y="5029200"/>
            <a:ext cx="200160" cy="1104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image003"/>
          <p:cNvPicPr/>
          <p:nvPr/>
        </p:nvPicPr>
        <p:blipFill>
          <a:blip r:embed="rId13"/>
          <a:stretch/>
        </p:blipFill>
        <p:spPr>
          <a:xfrm>
            <a:off x="5181480" y="5029200"/>
            <a:ext cx="200160" cy="1104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8" descr="image002"/>
          <p:cNvPicPr/>
          <p:nvPr/>
        </p:nvPicPr>
        <p:blipFill>
          <a:blip r:embed="rId14"/>
          <a:stretch/>
        </p:blipFill>
        <p:spPr>
          <a:xfrm>
            <a:off x="5105520" y="3048120"/>
            <a:ext cx="199800" cy="1619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9" descr="image002"/>
          <p:cNvPicPr/>
          <p:nvPr/>
        </p:nvPicPr>
        <p:blipFill>
          <a:blip r:embed="rId15"/>
          <a:stretch/>
        </p:blipFill>
        <p:spPr>
          <a:xfrm>
            <a:off x="457200" y="5029200"/>
            <a:ext cx="200160" cy="1619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" descr="image004"/>
          <p:cNvPicPr/>
          <p:nvPr/>
        </p:nvPicPr>
        <p:blipFill>
          <a:blip r:embed="rId16"/>
          <a:srcRect l="0" t="33970" r="0" b="0"/>
          <a:stretch/>
        </p:blipFill>
        <p:spPr>
          <a:xfrm>
            <a:off x="533520" y="3124080"/>
            <a:ext cx="199800" cy="560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1" descr="image004"/>
          <p:cNvPicPr/>
          <p:nvPr/>
        </p:nvPicPr>
        <p:blipFill>
          <a:blip r:embed="rId17"/>
          <a:srcRect l="0" t="29724" r="0" b="0"/>
          <a:stretch/>
        </p:blipFill>
        <p:spPr>
          <a:xfrm>
            <a:off x="8610480" y="5029200"/>
            <a:ext cx="200160" cy="5954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2"/>
          <p:cNvSpPr/>
          <p:nvPr/>
        </p:nvSpPr>
        <p:spPr>
          <a:xfrm>
            <a:off x="2803680" y="1066680"/>
            <a:ext cx="634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Будет ли какой-либо из рычагов, изображённых на рисунке,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391680" y="37339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3820680" y="40384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5268600" y="41911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96600" y="60199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40000" y="60958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8316360" y="40384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8469000" y="57150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0"/>
          <p:cNvSpPr/>
          <p:nvPr/>
        </p:nvSpPr>
        <p:spPr>
          <a:xfrm>
            <a:off x="3744360" y="60199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1982520" y="3886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6859440" y="3886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2058840" y="5943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6859440" y="5943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3595000069da5e54c25e4126663ea79259f93374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2514600" y="0"/>
            <a:ext cx="6400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Ответь на 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727360" y="120960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акая из наклонных плоскостей, по-вашему, даёт больший выигрыш в силе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 flipH="1">
            <a:off x="457200" y="3048120"/>
            <a:ext cx="1371600" cy="9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 flipH="1">
            <a:off x="2362320" y="3048120"/>
            <a:ext cx="3504960" cy="9144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 flipH="1">
            <a:off x="6172200" y="3048120"/>
            <a:ext cx="2362320" cy="9144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 flipH="1">
            <a:off x="380880" y="4952880"/>
            <a:ext cx="2159280" cy="106704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 flipH="1">
            <a:off x="3429000" y="4572000"/>
            <a:ext cx="2209680" cy="144792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 flipH="1">
            <a:off x="6476400" y="5334120"/>
            <a:ext cx="2158920" cy="68580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992520" y="4038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4268880" y="4038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7240680" y="4038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1068480" y="6095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4268880" y="6019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7317000" y="6019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7"/>
          <p:cNvSpPr/>
          <p:nvPr/>
        </p:nvSpPr>
        <p:spPr>
          <a:xfrm>
            <a:off x="1828800" y="3048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9"/>
          <p:cNvSpPr/>
          <p:nvPr/>
        </p:nvSpPr>
        <p:spPr>
          <a:xfrm flipH="1">
            <a:off x="1568520" y="45356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443520" y="273672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459360" y="4800600"/>
            <a:ext cx="6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13595000069da5e54c25e4126663ea79259f93374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3"/>
          <p:cNvSpPr/>
          <p:nvPr/>
        </p:nvSpPr>
        <p:spPr>
          <a:xfrm>
            <a:off x="2514600" y="0"/>
            <a:ext cx="6400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Ответь на 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228600" y="3733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Почему ручку двери располагают не к середине двери, а  ближе к её кра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362320" y="1066680"/>
            <a:ext cx="678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Если на доске, перекинутой через бревно, качаются двое ребят различного веса, то следует ли им садиться на одинаковом расстоянии от опор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28600" y="49528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 Для чего гайка-барашек имеет лоп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0" descr="i?id=661195587-71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87692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13595000069da5e54c25e4126663ea79259f93374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"/>
          <p:cNvSpPr/>
          <p:nvPr/>
        </p:nvSpPr>
        <p:spPr>
          <a:xfrm>
            <a:off x="2514600" y="0"/>
            <a:ext cx="6400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Ответь на 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2362320" y="1066680"/>
            <a:ext cx="655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. Почему для резки бумаги и ткани применяют ножницы с короткими ручками и длинными лезвиями, а для резки листового металла – с длинными ручками и короткими лезвия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228600" y="4191120"/>
            <a:ext cx="862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. В школьной мастерской мальчик, чтобы сильно зажать в тиски обрабатываемую деталь, берётся не за середину, а за край ручки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27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800" spc="-1" strike="noStrike">
                <a:solidFill>
                  <a:srgbClr val="a50021"/>
                </a:solidFill>
                <a:latin typeface="Script MT Bold"/>
              </a:rPr>
              <a:t>КПД</a:t>
            </a:r>
            <a:r>
              <a:rPr b="1" lang="ru-RU" sz="12900" spc="-1" strike="noStrike">
                <a:solidFill>
                  <a:srgbClr val="a50021"/>
                </a:solidFill>
                <a:latin typeface="Script MT Bold"/>
              </a:rPr>
              <a:t> </a:t>
            </a:r>
            <a:br>
              <a:rPr sz="12900"/>
            </a:br>
            <a:r>
              <a:rPr b="1" lang="ru-RU" sz="6000" spc="-1" strike="noStrike">
                <a:solidFill>
                  <a:srgbClr val="a50021"/>
                </a:solidFill>
                <a:latin typeface="Script MT Bold"/>
              </a:rPr>
              <a:t>ПРОСТЫХ МЕХАНИЗМОВ</a:t>
            </a:r>
            <a:endParaRPr b="0" lang="en-US" sz="6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9144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cript MT Bold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50021"/>
                </a:solidFill>
                <a:latin typeface="Times New Roman"/>
              </a:rPr>
              <a:t>ЧТО ДОЛЖНЫ УЗНАТЬ?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289080" y="1514520"/>
            <a:ext cx="855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Какую работу называют полезной,               какую пол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Почему на практике совершённая работа больше, чем полезн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Что такое коэффициент полезного действ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Может ли КПД быть больше един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Как можно увеличить КП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5-02T04:44:04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