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4.png" ContentType="image/png"/>
  <Override PartName="/ppt/media/image24.gif" ContentType="image/gif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F79-B289-4DA7-91C1-F711937E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C1E-38B2-401D-9DE6-D6942786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10A-CEB6-4A09-A543-3DC3AE5D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37C-21B5-4B2B-9E2E-5204EF15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7A4B-DF83-48D8-BB58-0A6EB34E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0049-68D2-45E4-BA9E-AA9330EE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7E84-9CBA-446D-9918-3F727F4B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381C-CDD8-4A88-AE1D-A1752CD0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C512-76AA-455B-829E-34E379E7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758F-5B74-4B11-AED5-AD192560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D091-431E-4D86-B813-F953E05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8EF-6C2B-447C-B94E-97EF7A9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18CD-D1FD-46FF-93CF-36819404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090B-8A84-4D4B-972A-5350F54A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708E-7B9C-49CA-9182-AE029D88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B812-C0C9-4DE2-853E-64DC1438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EC9E-446D-40EE-9777-93F9F0A7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6CA6-0A91-428B-BC70-BCDB2F54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B23F-29C7-4295-BA7F-7E875544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9173-FD0F-4C21-90C4-1A11A66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4DF1-0015-488E-8F74-6223FE7A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995E-F3D6-4A1A-8F14-E8203DF0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EF5-67A7-4908-9C99-4EA496CB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533F-5D29-489F-9380-53027CA2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C04B-F4D5-4189-AAE7-BC48586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AC6D-EAA7-44D0-B508-AE55C47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C965-6D27-4C71-B489-7E4A597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CF4A7-3C2B-449B-90DD-2549F38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C015-51EF-4561-A738-A1B2C958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DD100-4EE8-43B7-AFDB-73DEAE5A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3CF5-31DD-49F6-AD2A-A1C99ABF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EDBA-8667-41E1-8DE4-DE7F3B04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7322-EA64-4E88-8EC8-2A1E1E75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E83-4AB2-40D3-9197-23775ABF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E246-E53E-4501-9FC9-FB4EFD26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EFDB-13BF-4D7A-834F-354BDF2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A45F-CCD8-44E3-8774-EC739B11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6800-1F39-44C0-90D3-6FF590C2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3124-650F-4DD4-AB68-05B29C5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648A-8FCA-45E9-8965-1B5BF7A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CBC4-F99F-4FD5-A2BF-D2159F7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48EB-D306-4BB9-821D-19F01976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FFDC-2A9C-4D63-812D-0195AFB7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688E-E489-4050-95AC-8F20BA8F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FB3-0572-4D49-B2D3-131D7399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CDFB-D59F-4E33-B289-FE068DF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7D2F-F9A1-4D6B-9186-B3C1D2C8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81B4E-6D8C-4000-A015-CF309C67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7986-5DF2-4247-8797-F0A0E61C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45A5-003B-4A4B-975A-2F62BB03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49C8-7F86-4C76-9B47-6C58F03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B417-0EE0-42E0-8D3A-A5DC5139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E15B6-0E50-4D8F-8A0C-DD2C0CF3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358B-EBF8-42ED-95A7-1B8D367F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9445A-0EFA-477F-8E1D-806CB599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B6E-5596-4855-A70A-9603DCA9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CFCB8-F2E6-4E14-9741-E6CF1078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9ECEA-BBB2-4483-A11C-BD6A78DD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C73C2-898F-4394-AA6C-D4908059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FFA99-A649-4A9B-9BBE-63635743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BC1B6-8E89-4B50-869E-002F837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4F6D3-8419-45E6-B8E2-608B637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4476B-E1C7-4762-A219-00FD40DD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803DF-BC62-4E79-8359-FC4F4C0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335D2-450C-4FA0-B9E6-ADF023DB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F95A7-0CFD-41A5-B5BA-C5AAECA6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268-EBCA-4857-A579-D4A512A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5E236-81EF-4C6F-AA5C-1F763CE6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78B0D-6B08-4BA6-8106-34709658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7CC79-8087-44C2-A1CC-59738FD7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247CC-924A-427A-9888-57E539CF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19F28-CD18-4BF7-B1AD-51A29FEC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2ACD-42F3-4602-BB53-296F64C7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B17D3-7742-41CA-821B-B22423BB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92B38-1AC8-477D-8E33-C376918F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3F32-1295-4A20-8F90-39FF6DD2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0718F-18CD-4647-AE68-8F7F58D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326-D442-4E02-A2D8-C60E2D1B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6161-DEAE-4672-B6ED-607A2AD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08DC0-92F0-4C16-98E7-1CBA8318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CFBE-3342-4866-91CA-59720E97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5000-C245-408A-9542-E22D1CEC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D5A9D-F6AF-4095-8265-DAC7CC41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698-A8C2-4382-971D-593DB7D6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88E4-DAD5-473A-B16B-80537C84915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B51D-590C-4136-A00F-70FA1B708261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6589-DB5C-4294-8BAA-FA3276B156E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A11-F331-4BF0-BB4F-867E97D2E5D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C5F8-7862-4E84-9E5A-FEF1CA6F024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FD77-E28B-40C5-849F-4FB36A11CC9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86EB-5BC4-43D9-9FF6-486D3E0BE36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images.yandex.ru/yandsearch?text=&#1075;&#1072;&#1081;&#1082;&#1072;-&#1073;&#1072;&#1088;&#1072;&#1096;&#1077;&#1082;&amp;img_url=http%3A%2F%2Fimages.prom.ua%2F1265540_w640_h640_gajkabarashkovaya.jpg&amp;pos=6&amp;rpt=simage&amp;nojs=1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27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Script MT Bold"/>
              </a:rPr>
              <a:t>КПД</a:t>
            </a:r>
            <a:r>
              <a:rPr b="1" lang="ru-RU" sz="12900" spc="-1" strike="noStrike">
                <a:solidFill>
                  <a:srgbClr val="a50021"/>
                </a:solidFill>
                <a:latin typeface="Script MT Bold"/>
              </a:rPr>
              <a:t> </a:t>
            </a:r>
            <a:br>
              <a:rPr sz="12900"/>
            </a:br>
            <a:r>
              <a:rPr b="1" lang="ru-RU" sz="6000" spc="-1" strike="noStrike">
                <a:solidFill>
                  <a:srgbClr val="a50021"/>
                </a:solidFill>
                <a:latin typeface="Script MT Bold"/>
              </a:rPr>
              <a:t>ПРОСТЫХ МЕХАНИЗМОВ</a:t>
            </a:r>
            <a:endParaRPr b="0" lang="en-US" sz="6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85800" y="762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Уроки физики 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095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КАКУЮ РАБОТУ НАЗЫВАЮТ ПОЛЕЗНОЙ, КАКУЮ ПОЛНОЙ?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8" name="Picture 5" descr="p-03h-1"/>
          <p:cNvPicPr/>
          <p:nvPr/>
        </p:nvPicPr>
        <p:blipFill>
          <a:blip r:embed="rId1"/>
          <a:stretch/>
        </p:blipFill>
        <p:spPr>
          <a:xfrm>
            <a:off x="228600" y="1371600"/>
            <a:ext cx="4152960" cy="2133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4495680" y="1295280"/>
            <a:ext cx="42832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чку массой 200 кг надо поднять на борт корабля на высоту 10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5639040" y="30481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2133720" y="37242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Какую работу нужно совершить, чтобы выполнить зад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0" y="4572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=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= 2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/кг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0 00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441360" y="5141880"/>
            <a:ext cx="8397720" cy="137376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у, которую необходимо совершить непосредственно для выполнения конкретного задания, называют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ОЛЕЗ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2209680" y="3724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Для чего грузчики используют наклонную плоск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228600" y="4572000"/>
            <a:ext cx="86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 чём выигрывают грузчики, применяя наклонную плоскость, а в чём проигр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212760" y="5553000"/>
            <a:ext cx="86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Получают ли грузчики выигрыш в работе, применяя наклонную плоск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 flipH="1" rot="5103600">
            <a:off x="6990120" y="5419080"/>
            <a:ext cx="1395360" cy="609120"/>
          </a:xfrm>
          <a:custGeom>
            <a:avLst/>
            <a:gdLst>
              <a:gd name="textAreaLeft" fmla="*/ 803160 w 1395360"/>
              <a:gd name="textAreaRight" fmla="*/ 1177920 w 1395360"/>
              <a:gd name="textAreaTop" fmla="*/ 82080 h 609120"/>
              <a:gd name="textAreaBottom" fmla="*/ 260640 h 60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28600" y="38862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Учитывали ли мы при расчёте работы действие сил трения и сопротивле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289080" y="5141880"/>
            <a:ext cx="84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Необходимо ли на практике совершить дополнительную работу для преодоления сил трения и сопроти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533520" y="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Какую работу необходимо совершить на практи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304920" y="3733920"/>
            <a:ext cx="8550000" cy="173988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практике совершённая с помощью механизма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олн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бота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А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сегда несколько больше полезной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9"/>
          <p:cNvSpPr/>
          <p:nvPr/>
        </p:nvSpPr>
        <p:spPr>
          <a:xfrm>
            <a:off x="1085760" y="5715000"/>
            <a:ext cx="2268720" cy="70344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п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4039920" y="5715000"/>
            <a:ext cx="10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5657400" y="5715000"/>
            <a:ext cx="2600640" cy="70344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п / Аз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59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ОЭФФИЦИЕНТ ПОЛЕЗНОГО ДЕЙСТВИЯ (КПД)</a:t>
            </a: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80880" y="1600200"/>
            <a:ext cx="8305920" cy="155628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ношение полезной работы к полной работе называется коэффициентом полезного действия мех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34960" y="358920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ПД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134800" y="3352680"/>
            <a:ext cx="7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457200" y="4648320"/>
            <a:ext cx="3429000" cy="152388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565560" y="502920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η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449000" y="4800600"/>
            <a:ext cx="7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2135160" y="50292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2"/>
          <p:cNvSpPr/>
          <p:nvPr/>
        </p:nvSpPr>
        <p:spPr>
          <a:xfrm>
            <a:off x="685800" y="4191120"/>
            <a:ext cx="304920" cy="976320"/>
          </a:xfrm>
          <a:prstGeom prst="down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229320" y="627840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э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 flipV="1">
            <a:off x="685800" y="57142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251240" y="3618000"/>
            <a:ext cx="458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олезного действия не может быть больше 1 (или 100 %),             т.к. на практике всегда действуют силы сопроти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62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50021"/>
                </a:solidFill>
                <a:latin typeface="Times New Roman"/>
              </a:rPr>
              <a:t>КАК УВЕЛИЧИТЬ КПД?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38" name="Picture 4" descr="image004"/>
          <p:cNvPicPr/>
          <p:nvPr/>
        </p:nvPicPr>
        <p:blipFill>
          <a:blip r:embed="rId1"/>
          <a:stretch/>
        </p:blipFill>
        <p:spPr>
          <a:xfrm>
            <a:off x="228600" y="1981080"/>
            <a:ext cx="2819520" cy="16002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685800" y="152388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Рыч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6" descr="image003"/>
          <p:cNvPicPr/>
          <p:nvPr/>
        </p:nvPicPr>
        <p:blipFill>
          <a:blip r:embed="rId2"/>
          <a:stretch/>
        </p:blipFill>
        <p:spPr>
          <a:xfrm>
            <a:off x="5943600" y="2514600"/>
            <a:ext cx="3200400" cy="10144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7"/>
          <p:cNvSpPr/>
          <p:nvPr/>
        </p:nvSpPr>
        <p:spPr>
          <a:xfrm>
            <a:off x="61722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Наклонн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8" descr="image002"/>
          <p:cNvPicPr/>
          <p:nvPr/>
        </p:nvPicPr>
        <p:blipFill>
          <a:blip r:embed="rId3"/>
          <a:stretch/>
        </p:blipFill>
        <p:spPr>
          <a:xfrm>
            <a:off x="3429000" y="1828800"/>
            <a:ext cx="828720" cy="20574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9"/>
          <p:cNvSpPr/>
          <p:nvPr/>
        </p:nvSpPr>
        <p:spPr>
          <a:xfrm>
            <a:off x="4191480" y="152388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0"/>
          <p:cNvSpPr/>
          <p:nvPr/>
        </p:nvSpPr>
        <p:spPr>
          <a:xfrm>
            <a:off x="3124080" y="1752480"/>
            <a:ext cx="0" cy="289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>
            <a:off x="5715000" y="1752480"/>
            <a:ext cx="0" cy="289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ывали ли мы при расчёт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383400" y="3581280"/>
            <a:ext cx="2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 рыча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 крюч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62485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ние  между  телом и плоск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5"/>
          <p:cNvSpPr/>
          <p:nvPr/>
        </p:nvSpPr>
        <p:spPr>
          <a:xfrm>
            <a:off x="3429000" y="358128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   бл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 верёв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533520" y="4952880"/>
            <a:ext cx="8092800" cy="155628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увеличения КПД необходимо уменьшить трение и использовать лёгкие, но прочные 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50021"/>
                </a:solidFill>
                <a:latin typeface="Times New Roman"/>
              </a:rPr>
              <a:t>РЕШИ ЗАДАЧУ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28600" y="8380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коротком плече рычага подвешен груз массой 100 кг. Для его подъёма к длинному плечу приложили силу 250 Н. Груз подняли на 0,08 м, при этом точка приложения движущей силы опустилась на 0,4 м. Найти КПД рыч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image003"/>
          <p:cNvPicPr/>
          <p:nvPr/>
        </p:nvPicPr>
        <p:blipFill>
          <a:blip r:embed="rId1"/>
          <a:stretch/>
        </p:blipFill>
        <p:spPr>
          <a:xfrm>
            <a:off x="3657600" y="3505320"/>
            <a:ext cx="5153040" cy="1514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image002"/>
          <p:cNvPicPr/>
          <p:nvPr/>
        </p:nvPicPr>
        <p:blipFill>
          <a:blip r:embed="rId2"/>
          <a:stretch/>
        </p:blipFill>
        <p:spPr>
          <a:xfrm>
            <a:off x="3657600" y="2895480"/>
            <a:ext cx="5181480" cy="32482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9"/>
          <p:cNvSpPr/>
          <p:nvPr/>
        </p:nvSpPr>
        <p:spPr>
          <a:xfrm>
            <a:off x="291240" y="2581200"/>
            <a:ext cx="2012760" cy="37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0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9,8 Н/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50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0,08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0,4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Monotype Corsiva"/>
              </a:rPr>
              <a:t>η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2286000" y="2743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380880" y="4724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853596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3664440" y="31240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8084160" y="42670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2307960" y="2743200"/>
            <a:ext cx="802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Monotype Corsiva"/>
              </a:rPr>
              <a:t>η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3049200" y="2514600"/>
            <a:ext cx="7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3735000" y="2743200"/>
            <a:ext cx="12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2451600" y="3886200"/>
            <a:ext cx="180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2451240" y="4419720"/>
            <a:ext cx="174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2231640" y="5638680"/>
            <a:ext cx="802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Monotype Corsiva"/>
              </a:rPr>
              <a:t>η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2984040" y="5486400"/>
            <a:ext cx="14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3135600" y="6019920"/>
            <a:ext cx="96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3"/>
          <p:cNvSpPr/>
          <p:nvPr/>
        </p:nvSpPr>
        <p:spPr>
          <a:xfrm>
            <a:off x="3048120" y="59436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4344840" y="568944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5"/>
          <p:cNvSpPr/>
          <p:nvPr/>
        </p:nvSpPr>
        <p:spPr>
          <a:xfrm>
            <a:off x="5410080" y="281952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5540040" y="2657520"/>
            <a:ext cx="11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l-GR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7"/>
          <p:cNvSpPr/>
          <p:nvPr/>
        </p:nvSpPr>
        <p:spPr>
          <a:xfrm>
            <a:off x="6629400" y="29718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6554520" y="25146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2441880" y="4952880"/>
            <a:ext cx="13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∙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0"/>
          <p:cNvSpPr/>
          <p:nvPr/>
        </p:nvSpPr>
        <p:spPr>
          <a:xfrm>
            <a:off x="6630480" y="2895480"/>
            <a:ext cx="11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1"/>
          <p:cNvSpPr/>
          <p:nvPr/>
        </p:nvSpPr>
        <p:spPr>
          <a:xfrm>
            <a:off x="8002800" y="2666880"/>
            <a:ext cx="4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2"/>
          <p:cNvSpPr/>
          <p:nvPr/>
        </p:nvSpPr>
        <p:spPr>
          <a:xfrm>
            <a:off x="8305920" y="266688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555520" y="3809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6107400" y="3581280"/>
            <a:ext cx="24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08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5"/>
          <p:cNvSpPr/>
          <p:nvPr/>
        </p:nvSpPr>
        <p:spPr>
          <a:xfrm>
            <a:off x="6248520" y="411480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6858720" y="411480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793480" y="449568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8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5642640" y="51814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8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14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34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38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580"/>
                            </p:stCondLst>
                            <p:childTnLst>
                              <p:par>
                                <p:cTn id="5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5520" y="407880"/>
            <a:ext cx="826128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ОМАШНЕЕ ЗАДАНИЕ</a:t>
            </a:r>
            <a:endParaRPr b="0" lang="en-US" sz="5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0880" y="144792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стно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читать, отвечать на вопрос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исьменно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ивидуальное задание по карточкам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39625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Спасибо </a:t>
            </a:r>
            <a:br>
              <a:rPr sz="7200"/>
            </a:b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за работу на урок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f8d608fd2d03547ade4bdd56d034d467"/>
          <p:cNvPicPr/>
          <p:nvPr/>
        </p:nvPicPr>
        <p:blipFill>
          <a:blip r:embed="rId1"/>
          <a:stretch/>
        </p:blipFill>
        <p:spPr>
          <a:xfrm>
            <a:off x="6477120" y="3733920"/>
            <a:ext cx="186048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БЛОК КОНТРОЛЯ</a:t>
            </a:r>
            <a:endParaRPr b="0" lang="en-US" sz="7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5" name="Picture 3" descr="13595000069da5e54c25e4126663ea79259f93374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4267080" y="2286000"/>
            <a:ext cx="413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тветьте     на вопросы мудрой со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2514600" y="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819520" y="1219320"/>
            <a:ext cx="611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чём состоит «золотое правило» механ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819520" y="2514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Дают ли простые механизмы выигрыш в рабо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743200" y="3733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Докажите, что «золотое правило» механики применимо к гидравлической ма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3a"/>
          <p:cNvPicPr/>
          <p:nvPr/>
        </p:nvPicPr>
        <p:blipFill>
          <a:blip r:embed="rId2"/>
          <a:srcRect l="0" t="4809" r="0" b="13464"/>
          <a:stretch/>
        </p:blipFill>
        <p:spPr>
          <a:xfrm>
            <a:off x="304920" y="304812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2590920" y="0"/>
            <a:ext cx="6400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image001"/>
          <p:cNvPicPr/>
          <p:nvPr/>
        </p:nvPicPr>
        <p:blipFill>
          <a:blip r:embed="rId2"/>
          <a:stretch/>
        </p:blipFill>
        <p:spPr>
          <a:xfrm>
            <a:off x="533520" y="2971800"/>
            <a:ext cx="3571920" cy="190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image001"/>
          <p:cNvPicPr/>
          <p:nvPr/>
        </p:nvPicPr>
        <p:blipFill>
          <a:blip r:embed="rId3"/>
          <a:stretch/>
        </p:blipFill>
        <p:spPr>
          <a:xfrm>
            <a:off x="5105520" y="2971800"/>
            <a:ext cx="3571920" cy="190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image001"/>
          <p:cNvPicPr/>
          <p:nvPr/>
        </p:nvPicPr>
        <p:blipFill>
          <a:blip r:embed="rId4"/>
          <a:stretch/>
        </p:blipFill>
        <p:spPr>
          <a:xfrm>
            <a:off x="457200" y="4952880"/>
            <a:ext cx="3571920" cy="19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image001"/>
          <p:cNvPicPr/>
          <p:nvPr/>
        </p:nvPicPr>
        <p:blipFill>
          <a:blip r:embed="rId5"/>
          <a:stretch/>
        </p:blipFill>
        <p:spPr>
          <a:xfrm>
            <a:off x="5181480" y="4952880"/>
            <a:ext cx="3571920" cy="19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image006"/>
          <p:cNvPicPr/>
          <p:nvPr/>
        </p:nvPicPr>
        <p:blipFill>
          <a:blip r:embed="rId6"/>
          <a:stretch/>
        </p:blipFill>
        <p:spPr>
          <a:xfrm>
            <a:off x="1828800" y="30481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image006"/>
          <p:cNvPicPr/>
          <p:nvPr/>
        </p:nvPicPr>
        <p:blipFill>
          <a:blip r:embed="rId7"/>
          <a:stretch/>
        </p:blipFill>
        <p:spPr>
          <a:xfrm>
            <a:off x="6400800" y="30481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image006"/>
          <p:cNvPicPr/>
          <p:nvPr/>
        </p:nvPicPr>
        <p:blipFill>
          <a:blip r:embed="rId8"/>
          <a:stretch/>
        </p:blipFill>
        <p:spPr>
          <a:xfrm>
            <a:off x="2438280" y="5029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image006"/>
          <p:cNvPicPr/>
          <p:nvPr/>
        </p:nvPicPr>
        <p:blipFill>
          <a:blip r:embed="rId9"/>
          <a:stretch/>
        </p:blipFill>
        <p:spPr>
          <a:xfrm>
            <a:off x="7162920" y="5029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image003"/>
          <p:cNvPicPr/>
          <p:nvPr/>
        </p:nvPicPr>
        <p:blipFill>
          <a:blip r:embed="rId10"/>
          <a:stretch/>
        </p:blipFill>
        <p:spPr>
          <a:xfrm>
            <a:off x="3962520" y="3048120"/>
            <a:ext cx="199800" cy="1104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image003"/>
          <p:cNvPicPr/>
          <p:nvPr/>
        </p:nvPicPr>
        <p:blipFill>
          <a:blip r:embed="rId11"/>
          <a:stretch/>
        </p:blipFill>
        <p:spPr>
          <a:xfrm>
            <a:off x="8534520" y="3048120"/>
            <a:ext cx="199800" cy="1104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image003"/>
          <p:cNvPicPr/>
          <p:nvPr/>
        </p:nvPicPr>
        <p:blipFill>
          <a:blip r:embed="rId12"/>
          <a:stretch/>
        </p:blipFill>
        <p:spPr>
          <a:xfrm>
            <a:off x="3886200" y="5029200"/>
            <a:ext cx="200160" cy="1104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image003"/>
          <p:cNvPicPr/>
          <p:nvPr/>
        </p:nvPicPr>
        <p:blipFill>
          <a:blip r:embed="rId13"/>
          <a:stretch/>
        </p:blipFill>
        <p:spPr>
          <a:xfrm>
            <a:off x="5181480" y="5029200"/>
            <a:ext cx="200160" cy="1104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8" descr="image002"/>
          <p:cNvPicPr/>
          <p:nvPr/>
        </p:nvPicPr>
        <p:blipFill>
          <a:blip r:embed="rId14"/>
          <a:stretch/>
        </p:blipFill>
        <p:spPr>
          <a:xfrm>
            <a:off x="5105520" y="3048120"/>
            <a:ext cx="199800" cy="1619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image002"/>
          <p:cNvPicPr/>
          <p:nvPr/>
        </p:nvPicPr>
        <p:blipFill>
          <a:blip r:embed="rId15"/>
          <a:stretch/>
        </p:blipFill>
        <p:spPr>
          <a:xfrm>
            <a:off x="457200" y="5029200"/>
            <a:ext cx="200160" cy="1619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" descr="image004"/>
          <p:cNvPicPr/>
          <p:nvPr/>
        </p:nvPicPr>
        <p:blipFill>
          <a:blip r:embed="rId16"/>
          <a:srcRect l="0" t="33970" r="0" b="0"/>
          <a:stretch/>
        </p:blipFill>
        <p:spPr>
          <a:xfrm>
            <a:off x="533520" y="3124080"/>
            <a:ext cx="199800" cy="560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1" descr="image004"/>
          <p:cNvPicPr/>
          <p:nvPr/>
        </p:nvPicPr>
        <p:blipFill>
          <a:blip r:embed="rId17"/>
          <a:srcRect l="0" t="29724" r="0" b="0"/>
          <a:stretch/>
        </p:blipFill>
        <p:spPr>
          <a:xfrm>
            <a:off x="8610480" y="5029200"/>
            <a:ext cx="200160" cy="595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2"/>
          <p:cNvSpPr/>
          <p:nvPr/>
        </p:nvSpPr>
        <p:spPr>
          <a:xfrm>
            <a:off x="2803680" y="1066680"/>
            <a:ext cx="634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Будет ли какой-либо из рычагов, изображённых на рисунке,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391680" y="37339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3820680" y="40384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5268600" y="41911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96600" y="60199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40000" y="60958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8316360" y="40384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8469000" y="57150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0"/>
          <p:cNvSpPr/>
          <p:nvPr/>
        </p:nvSpPr>
        <p:spPr>
          <a:xfrm>
            <a:off x="3744360" y="60199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1982520" y="3886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6859440" y="3886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058840" y="5943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6859440" y="5943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2514600" y="0"/>
            <a:ext cx="6400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727360" y="120960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акая из наклонных плоскостей, по-вашему, даёт больший выигрыш в сил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 flipH="1">
            <a:off x="457200" y="3048120"/>
            <a:ext cx="1371600" cy="9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 flipH="1">
            <a:off x="2362320" y="3048120"/>
            <a:ext cx="3504960" cy="914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 flipH="1">
            <a:off x="6172200" y="3048120"/>
            <a:ext cx="2362320" cy="9144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 flipH="1">
            <a:off x="380880" y="4952880"/>
            <a:ext cx="2159280" cy="106704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 flipH="1">
            <a:off x="3429000" y="4572000"/>
            <a:ext cx="2209680" cy="144792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 flipH="1">
            <a:off x="6476400" y="5334120"/>
            <a:ext cx="2158920" cy="68580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992520" y="4038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4268880" y="4038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7240680" y="4038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1068480" y="6095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4268880" y="6019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7317000" y="6019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>
            <a:off x="1828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9"/>
          <p:cNvSpPr/>
          <p:nvPr/>
        </p:nvSpPr>
        <p:spPr>
          <a:xfrm flipH="1">
            <a:off x="1568520" y="45356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443520" y="27367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459360" y="480060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3"/>
          <p:cNvSpPr/>
          <p:nvPr/>
        </p:nvSpPr>
        <p:spPr>
          <a:xfrm>
            <a:off x="2514600" y="0"/>
            <a:ext cx="6400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228600" y="3733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очему ручку двери располагают не к середине двери, а  ближе к её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362320" y="10666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Если на доске, перекинутой через бревно, качаются двое ребят различного веса, то следует ли им садиться на одинаковом расстоянии от опор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28600" y="49528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 Для чего гайка-барашек имеет лоп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0" descr="i?id=661195587-71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87692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2514600" y="0"/>
            <a:ext cx="6400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2362320" y="1066680"/>
            <a:ext cx="655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 Почему для резки бумаги и ткани применяют ножницы с короткими ручками и длинными лезвиями, а для резки листового металла – с длинными ручками и короткими лезвия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228600" y="4191120"/>
            <a:ext cx="862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 В школьной мастерской мальчик, чтобы сильно зажать в тиски обрабатываемую деталь, берётся не за середину, а за край ручк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27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800" spc="-1" strike="noStrike">
                <a:solidFill>
                  <a:srgbClr val="a50021"/>
                </a:solidFill>
                <a:latin typeface="Script MT Bold"/>
              </a:rPr>
              <a:t>КПД</a:t>
            </a:r>
            <a:r>
              <a:rPr b="1" lang="ru-RU" sz="12900" spc="-1" strike="noStrike">
                <a:solidFill>
                  <a:srgbClr val="a50021"/>
                </a:solidFill>
                <a:latin typeface="Script MT Bold"/>
              </a:rPr>
              <a:t> </a:t>
            </a:r>
            <a:br>
              <a:rPr sz="12900"/>
            </a:br>
            <a:r>
              <a:rPr b="1" lang="ru-RU" sz="6000" spc="-1" strike="noStrike">
                <a:solidFill>
                  <a:srgbClr val="a50021"/>
                </a:solidFill>
                <a:latin typeface="Script MT Bold"/>
              </a:rPr>
              <a:t>ПРОСТЫХ МЕХАНИЗМОВ</a:t>
            </a:r>
            <a:endParaRPr b="0" lang="en-US" sz="6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9144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cript MT Bold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50021"/>
                </a:solidFill>
                <a:latin typeface="Times New Roman"/>
              </a:rPr>
              <a:t>ЧТО ДОЛЖНЫ УЗНАТЬ?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289080" y="1514520"/>
            <a:ext cx="855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Какую работу называют полезной,               какую пол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Почему на практике совершённая работа больше, чем полезн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Что такое коэффициент полезного действ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Может ли КПД быть больше един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Как можно увеличить КП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5-02T04:44:0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