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21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EAD-7D40-4D17-8667-20375EEC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E7E-F682-4229-9E72-F03E4B58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1C3-4D90-462D-B04F-2634A836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719-187D-4EA6-85C0-982F9BA8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EE6-0D20-433C-A245-BA93DC63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EDB-5404-4357-BFDA-68344083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953-7BF8-4C87-B7B8-E87B77FD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01A-999C-414F-8617-913AD803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E73-9BDD-4A68-80ED-BCE634CD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7B4-36E1-4A28-9D58-412EF882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9CC-0D0E-4BC3-BC86-9DFE2A94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2D5-4301-4E89-A66A-E463577C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BF7613-281F-403B-8F91-6EEB9B65047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3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827640" y="146160"/>
            <a:ext cx="6454440" cy="365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t2.gstatic.com/images?q=tbn:ANd9GcT0Dg06R7JdUaW-FSfbdKIfHwldB_0X7vRP7Q3-cxpwC4vW5-Mp"/>
          <p:cNvPicPr/>
          <p:nvPr/>
        </p:nvPicPr>
        <p:blipFill>
          <a:blip r:embed="rId3"/>
          <a:stretch/>
        </p:blipFill>
        <p:spPr>
          <a:xfrm>
            <a:off x="6802560" y="633240"/>
            <a:ext cx="1731600" cy="175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kid-info.ru/wp-content/uploads/2012/04/pozharnaya_bezopasnost.jpg"/>
          <p:cNvPicPr/>
          <p:nvPr/>
        </p:nvPicPr>
        <p:blipFill>
          <a:blip r:embed="rId4"/>
          <a:stretch/>
        </p:blipFill>
        <p:spPr>
          <a:xfrm>
            <a:off x="6456240" y="2614680"/>
            <a:ext cx="2133360" cy="173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in-teh.com/wp-content/uploads/2012/10/zao-firma-specavtomatiki.jpg"/>
          <p:cNvPicPr/>
          <p:nvPr/>
        </p:nvPicPr>
        <p:blipFill>
          <a:blip r:embed="rId5"/>
          <a:stretch/>
        </p:blipFill>
        <p:spPr>
          <a:xfrm>
            <a:off x="6308640" y="4572000"/>
            <a:ext cx="2347560" cy="188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Natali\Downloads\2963507.gif"/>
          <p:cNvPicPr/>
          <p:nvPr/>
        </p:nvPicPr>
        <p:blipFill>
          <a:blip r:embed="rId6"/>
          <a:stretch/>
        </p:blipFill>
        <p:spPr>
          <a:xfrm>
            <a:off x="3560760" y="4170240"/>
            <a:ext cx="2369880" cy="166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www.teremoc.ru/pravila/pravila_dvigenija.jpg"/>
          <p:cNvPicPr/>
          <p:nvPr/>
        </p:nvPicPr>
        <p:blipFill>
          <a:blip r:embed="rId7"/>
          <a:stretch/>
        </p:blipFill>
        <p:spPr>
          <a:xfrm>
            <a:off x="676440" y="3481560"/>
            <a:ext cx="1920600" cy="1388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9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20" name="Прямоугольник 7" descr=""/>
          <p:cNvPicPr/>
          <p:nvPr/>
        </p:nvPicPr>
        <p:blipFill>
          <a:blip r:embed="rId2"/>
          <a:stretch/>
        </p:blipFill>
        <p:spPr>
          <a:xfrm>
            <a:off x="1468440" y="2798640"/>
            <a:ext cx="6797160" cy="93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52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5"/>
          <p:cNvSpPr/>
          <p:nvPr/>
        </p:nvSpPr>
        <p:spPr>
          <a:xfrm>
            <a:off x="1042920" y="404640"/>
            <a:ext cx="669744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безопасного поведения в жизни и бы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1323000438_pb15"/>
          <p:cNvPicPr/>
          <p:nvPr/>
        </p:nvPicPr>
        <p:blipFill>
          <a:blip r:embed="rId2"/>
          <a:stretch/>
        </p:blipFill>
        <p:spPr>
          <a:xfrm>
            <a:off x="3949560" y="3151080"/>
            <a:ext cx="4620960" cy="3090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749160" y="1427760"/>
            <a:ext cx="791964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ый человек должен знать и выполнять общие правила в повседневной жизни, чтобы чрезвычайные ситуации не застали враспло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ая опасная и чрезвычайная ситуация имеет свою специфику и требует конкретных действий человека с учетом складывающейся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pddt.ru/upload/image/news/pdd.jpg"/>
          <p:cNvPicPr/>
          <p:nvPr/>
        </p:nvPicPr>
        <p:blipFill>
          <a:blip r:embed="rId3"/>
          <a:stretch/>
        </p:blipFill>
        <p:spPr>
          <a:xfrm>
            <a:off x="749160" y="3614760"/>
            <a:ext cx="3041280" cy="263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61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2" name="TextBox 5"/>
          <p:cNvSpPr/>
          <p:nvPr/>
        </p:nvSpPr>
        <p:spPr>
          <a:xfrm>
            <a:off x="971640" y="404640"/>
            <a:ext cx="748800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Общие правила безопасного обращения с электрич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33520" y="1413000"/>
            <a:ext cx="590976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ключение прибора производится в обратном поря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прикасайтесь к включенному электроприбору мокрыми ру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мните: нельзя пользоваться электрическими устройствами, находясь в в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 обнаруженных неисправностях в электроприборах, об оголенных и плохо изолированных проводах немедленно сообщайте родителям или стар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www.aquafanat.com.ua/uploads/pages/pages-Tx6JLKZ4j3.jpg"/>
          <p:cNvPicPr/>
          <p:nvPr/>
        </p:nvPicPr>
        <p:blipFill>
          <a:blip r:embed="rId2"/>
          <a:stretch/>
        </p:blipFill>
        <p:spPr>
          <a:xfrm>
            <a:off x="900000" y="2676600"/>
            <a:ext cx="4208040" cy="4181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Не тяни вилку из розетки за провод"/>
          <p:cNvPicPr/>
          <p:nvPr/>
        </p:nvPicPr>
        <p:blipFill>
          <a:blip r:embed="rId3"/>
          <a:stretch/>
        </p:blipFill>
        <p:spPr>
          <a:xfrm>
            <a:off x="6351480" y="3121200"/>
            <a:ext cx="2279160" cy="314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Не берись мокрыми руками к проводам электроприборов"/>
          <p:cNvPicPr/>
          <p:nvPr/>
        </p:nvPicPr>
        <p:blipFill>
          <a:blip r:embed="rId4"/>
          <a:stretch/>
        </p:blipFill>
        <p:spPr>
          <a:xfrm>
            <a:off x="6272280" y="1189080"/>
            <a:ext cx="2426760" cy="371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Не включай все электроприборы одновременно"/>
          <p:cNvPicPr/>
          <p:nvPr/>
        </p:nvPicPr>
        <p:blipFill>
          <a:blip r:embed="rId5"/>
          <a:stretch/>
        </p:blipFill>
        <p:spPr>
          <a:xfrm>
            <a:off x="6156360" y="4791240"/>
            <a:ext cx="2328480" cy="206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1" name="TextBox 4"/>
          <p:cNvSpPr/>
          <p:nvPr/>
        </p:nvSpPr>
        <p:spPr>
          <a:xfrm>
            <a:off x="684360" y="260280"/>
            <a:ext cx="7991280" cy="127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безопасного обращения с газовыми приборами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423720" y="1279440"/>
            <a:ext cx="831024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течка газа может привести к отравлению человека и взрыву помещения. Чтобы предотвратить это, необходимо соблюдать правила безопасности при пользовании бытовым газ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Основны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бы зажечь газовую горелку, сначала поднесите зажженную спичку, а затем плавно и осторожно откройте газовый к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оставляйте включенные газовые горелки без присмот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ледите за тем, чтобы нагреваемая на газовой плите жидкость не залила пламя горел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метив потухшую горелку, не пытайтесь ее зажечь вновь - это может привести к взрыву. Перекройте кран подачи газа, распахните окна и как следует проветрите кухню. Сообщите о случившемся взрос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altai.fm/images/news/2013/april/1347446706_gazprom.jpg"/>
          <p:cNvPicPr/>
          <p:nvPr/>
        </p:nvPicPr>
        <p:blipFill>
          <a:blip r:embed="rId2"/>
          <a:stretch/>
        </p:blipFill>
        <p:spPr>
          <a:xfrm>
            <a:off x="811080" y="4863960"/>
            <a:ext cx="2607840" cy="177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Газовые баллоны"/>
          <p:cNvPicPr/>
          <p:nvPr/>
        </p:nvPicPr>
        <p:blipFill>
          <a:blip r:embed="rId3"/>
          <a:stretch/>
        </p:blipFill>
        <p:spPr>
          <a:xfrm>
            <a:off x="6713640" y="4508640"/>
            <a:ext cx="1991880" cy="2122200"/>
          </a:xfrm>
          <a:prstGeom prst="rect">
            <a:avLst/>
          </a:prstGeom>
          <a:ln w="9525">
            <a:noFill/>
          </a:ln>
        </p:spPr>
      </p:pic>
      <p:pic>
        <p:nvPicPr>
          <p:cNvPr id="75" name="Picture 6" descr="Ремонт и подключение газовых плит"/>
          <p:cNvPicPr/>
          <p:nvPr/>
        </p:nvPicPr>
        <p:blipFill>
          <a:blip r:embed="rId4"/>
          <a:stretch/>
        </p:blipFill>
        <p:spPr>
          <a:xfrm>
            <a:off x="3822840" y="4863960"/>
            <a:ext cx="2687400" cy="1810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static4.aif.ru/pictures/201303/0505.jpg"/>
          <p:cNvPicPr/>
          <p:nvPr/>
        </p:nvPicPr>
        <p:blipFill>
          <a:blip r:embed="rId5"/>
          <a:stretch/>
        </p:blipFill>
        <p:spPr>
          <a:xfrm>
            <a:off x="447840" y="1114560"/>
            <a:ext cx="5781240" cy="375408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9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0" name="TextBox 4"/>
          <p:cNvSpPr/>
          <p:nvPr/>
        </p:nvSpPr>
        <p:spPr>
          <a:xfrm>
            <a:off x="1258920" y="458640"/>
            <a:ext cx="705600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Что нужно делать при появлении запаха газ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900000" y="1773360"/>
            <a:ext cx="4319280" cy="36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628351"/>
          <p:cNvPicPr/>
          <p:nvPr/>
        </p:nvPicPr>
        <p:blipFill>
          <a:blip r:embed="rId2"/>
          <a:stretch/>
        </p:blipFill>
        <p:spPr>
          <a:xfrm>
            <a:off x="2050920" y="1573200"/>
            <a:ext cx="5495400" cy="5284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628375"/>
          <p:cNvPicPr/>
          <p:nvPr/>
        </p:nvPicPr>
        <p:blipFill>
          <a:blip r:embed="rId3"/>
          <a:stretch/>
        </p:blipFill>
        <p:spPr>
          <a:xfrm>
            <a:off x="614520" y="1636560"/>
            <a:ext cx="7914960" cy="4676400"/>
          </a:xfrm>
          <a:prstGeom prst="rect">
            <a:avLst/>
          </a:prstGeom>
          <a:ln cap="sq" w="38100">
            <a:solidFill>
              <a:srgbClr val="ff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84" name="Picture 10" descr="http://www.dddmarket.ru/image/new/new.7.1.jpg"/>
          <p:cNvPicPr/>
          <p:nvPr/>
        </p:nvPicPr>
        <p:blipFill>
          <a:blip r:embed="rId4"/>
          <a:stretch/>
        </p:blipFill>
        <p:spPr>
          <a:xfrm>
            <a:off x="3000240" y="1450800"/>
            <a:ext cx="3214440" cy="4641480"/>
          </a:xfrm>
          <a:prstGeom prst="rect">
            <a:avLst/>
          </a:prstGeom>
          <a:ln cap="sq" w="38100">
            <a:solidFill>
              <a:srgbClr val="f79646">
                <a:lumMod val="7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7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7" descr="1291999687_fire_meaney"/>
          <p:cNvPicPr/>
          <p:nvPr/>
        </p:nvPicPr>
        <p:blipFill>
          <a:blip r:embed="rId2"/>
          <a:stretch/>
        </p:blipFill>
        <p:spPr>
          <a:xfrm>
            <a:off x="254160" y="295200"/>
            <a:ext cx="1004400" cy="1112400"/>
          </a:xfrm>
          <a:prstGeom prst="rect">
            <a:avLst/>
          </a:prstGeom>
          <a:ln w="9525">
            <a:noFill/>
          </a:ln>
        </p:spPr>
      </p:pic>
      <p:sp>
        <p:nvSpPr>
          <p:cNvPr id="89" name="TextBox 5"/>
          <p:cNvSpPr/>
          <p:nvPr/>
        </p:nvSpPr>
        <p:spPr>
          <a:xfrm>
            <a:off x="1603440" y="353880"/>
            <a:ext cx="667656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и обнаружении источника возгора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258920" y="1187280"/>
            <a:ext cx="7345080" cy="277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Не бойся позвать на помощь взрослых, даже если ты являешься виновником пож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Немедленно покидай горящее помещение, проверив, не остались ли в квартире те, кто не сможет выбраться сам (маленькие дети, больные стар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. Позвони в пожарную аварийно-спасательную службу МЧС  по телефону « 01». При этом сообщи точный адрес, что и где горит, свою фамилию и номер телеф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06469_pojar_rebenok"/>
          <p:cNvPicPr/>
          <p:nvPr/>
        </p:nvPicPr>
        <p:blipFill>
          <a:blip r:embed="rId3"/>
          <a:stretch/>
        </p:blipFill>
        <p:spPr>
          <a:xfrm>
            <a:off x="4788000" y="3860640"/>
            <a:ext cx="3492000" cy="27572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5" descr="0017-022-Pravila-bezopasnogo-povedenija-v-zone-lesnogo-pozhara-i-ego-tushenie"/>
          <p:cNvPicPr/>
          <p:nvPr/>
        </p:nvPicPr>
        <p:blipFill>
          <a:blip r:embed="rId4"/>
          <a:srcRect l="-266" t="0" r="0" b="39340"/>
          <a:stretch/>
        </p:blipFill>
        <p:spPr>
          <a:xfrm>
            <a:off x="1187280" y="3981600"/>
            <a:ext cx="2982600" cy="287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xn--72-xlclcmc5acae7irb.xn--80atdkbji0d.xn--p1ai/uploads/f1/s/34/954/image/649/37/medium_smotr.jpg"/>
          <p:cNvPicPr/>
          <p:nvPr/>
        </p:nvPicPr>
        <p:blipFill>
          <a:blip r:embed="rId5"/>
          <a:stretch/>
        </p:blipFill>
        <p:spPr>
          <a:xfrm>
            <a:off x="2682720" y="1187280"/>
            <a:ext cx="3952440" cy="45716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96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4"/>
          <p:cNvSpPr/>
          <p:nvPr/>
        </p:nvSpPr>
        <p:spPr>
          <a:xfrm>
            <a:off x="971640" y="404640"/>
            <a:ext cx="734508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пользования системой водоснаб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11280" y="1954080"/>
            <a:ext cx="5113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бросай в канализацию посторонни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засоряй раковину отходами продуктов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ходя из дома, проверяй все ли краны закры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леди за состоянием труб для своевременного устранения в них проте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www.odintsovo.info/img/2009/10/apicturepicture5129_98954.jpg"/>
          <p:cNvPicPr/>
          <p:nvPr/>
        </p:nvPicPr>
        <p:blipFill>
          <a:blip r:embed="rId2"/>
          <a:stretch/>
        </p:blipFill>
        <p:spPr>
          <a:xfrm>
            <a:off x="6156360" y="4149720"/>
            <a:ext cx="2017440" cy="204264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6" descr="Как очистить водопроводную воду?"/>
          <p:cNvPicPr/>
          <p:nvPr/>
        </p:nvPicPr>
        <p:blipFill>
          <a:blip r:embed="rId3"/>
          <a:stretch/>
        </p:blipFill>
        <p:spPr>
          <a:xfrm>
            <a:off x="5580000" y="1392120"/>
            <a:ext cx="2828520" cy="226980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3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4" name="TextBox 4"/>
          <p:cNvSpPr/>
          <p:nvPr/>
        </p:nvSpPr>
        <p:spPr>
          <a:xfrm>
            <a:off x="971640" y="549360"/>
            <a:ext cx="7416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508040" y="317520"/>
            <a:ext cx="720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а безопасности в ИНТЕРН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395280" y="1324080"/>
            <a:ext cx="5976720" cy="466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гда ты регистрируешься на сайтах, старайся не указывать личную информацию (номер мобильного телефона, адрес электронной почты, свое фот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желательные письма от незнакомых людей называются «Спам», если ты получил такое письмо, не отвечай на н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сли тебе пришло сообщение с незнакомого адреса, его лучше не открывать, подобные письма могут содержать виру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сли рядом с тобой нет взрослых, не встречайся в реальной жизни с людьми, с которыми ты познакомился в Интерн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4.bp.blogspot.com/-XAxkLbEe2mE/UBQ33f9x5AI/AAAAAAAAGCU/daBFopUVTbI/s320/28jpg.gif"/>
          <p:cNvPicPr/>
          <p:nvPr/>
        </p:nvPicPr>
        <p:blipFill>
          <a:blip r:embed="rId2"/>
          <a:stretch/>
        </p:blipFill>
        <p:spPr>
          <a:xfrm>
            <a:off x="177840" y="254160"/>
            <a:ext cx="1587240" cy="95544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4" descr="http://i.family.booknik.ru/_img/255-14.jpg"/>
          <p:cNvPicPr/>
          <p:nvPr/>
        </p:nvPicPr>
        <p:blipFill>
          <a:blip r:embed="rId3"/>
          <a:stretch/>
        </p:blipFill>
        <p:spPr>
          <a:xfrm>
            <a:off x="6227640" y="3683160"/>
            <a:ext cx="2476080" cy="2746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09" name="Picture 6" descr="http://onotebook.ru/wp-content/uploads/2011/06/3-249x300.jpg"/>
          <p:cNvPicPr/>
          <p:nvPr/>
        </p:nvPicPr>
        <p:blipFill>
          <a:blip r:embed="rId4"/>
          <a:stretch/>
        </p:blipFill>
        <p:spPr>
          <a:xfrm>
            <a:off x="6227640" y="752400"/>
            <a:ext cx="2501640" cy="261108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2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3" name="TextBox 5"/>
          <p:cNvSpPr/>
          <p:nvPr/>
        </p:nvSpPr>
        <p:spPr>
          <a:xfrm>
            <a:off x="539640" y="1182600"/>
            <a:ext cx="7272000" cy="176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ельзя употреблять лекарства, названия которых неизвестны (таблетки без упаковки или в склянках со стершейся этикеткой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лекарства, срок годности у которых вышел, нужно выбросить. Пить их нельз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1009800" y="476280"/>
            <a:ext cx="73450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Какой вред могут нанести лекарств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www.vestikavkaza.ru/upload/iblock/7fe/lekarstva.jpg"/>
          <p:cNvPicPr/>
          <p:nvPr/>
        </p:nvPicPr>
        <p:blipFill>
          <a:blip r:embed="rId2"/>
          <a:stretch/>
        </p:blipFill>
        <p:spPr>
          <a:xfrm>
            <a:off x="826920" y="3429000"/>
            <a:ext cx="3234960" cy="2430000"/>
          </a:xfrm>
          <a:prstGeom prst="rect">
            <a:avLst/>
          </a:prstGeom>
          <a:ln cap="sq" w="57150">
            <a:solidFill>
              <a:srgbClr val="c80000"/>
            </a:solidFill>
            <a:miter/>
          </a:ln>
          <a:effectLst>
            <a:outerShdw algn="tl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16" name="Picture 6" descr="http://static2.aif.ru/public/article/big/678/fbff067860010a58b4090eba4df58edc.0.jpg"/>
          <p:cNvPicPr/>
          <p:nvPr/>
        </p:nvPicPr>
        <p:blipFill>
          <a:blip r:embed="rId3"/>
          <a:stretch/>
        </p:blipFill>
        <p:spPr>
          <a:xfrm>
            <a:off x="5076720" y="3408480"/>
            <a:ext cx="3231720" cy="2719080"/>
          </a:xfrm>
          <a:prstGeom prst="rect">
            <a:avLst/>
          </a:prstGeom>
          <a:ln cap="sq" w="57150">
            <a:solidFill>
              <a:srgbClr val="c80000"/>
            </a:solidFill>
            <a:miter/>
          </a:ln>
          <a:effectLst>
            <a:outerShdw algn="tl" dir="2700000" dist="37674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  <Words>274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7:46:40Z</dcterms:created>
  <dc:creator>Natali</dc:creator>
  <dc:description/>
  <dc:language>en-US</dc:language>
  <cp:lastModifiedBy>компьютер2</cp:lastModifiedBy>
  <dcterms:modified xsi:type="dcterms:W3CDTF">2017-06-09T09:44:23Z</dcterms:modified>
  <cp:revision>7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