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42C-2A40-41B5-B1DC-3A4B01D8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9DE-3F34-4E9C-8CA4-D240B19B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2B8-44A4-4DB3-9145-C1F167AF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890-D6E5-4FCD-8121-0A7A3B2E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362-979F-4A43-813C-54E15B2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20F-B9E0-4D0E-ABAD-42DF5EA8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1B3-2FDB-4BE7-B612-FBDA5E5C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AC5-E10F-4557-AA37-EF00EF50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4E3-7286-4A4A-A001-A55357D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783-91DC-441C-A336-DAA2D8E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8BF-1492-4E5D-95A2-81B97EE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C8D-6728-47EB-84F9-637D26B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E23540-D325-41F0-9114-3A3742754CE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827640" y="146160"/>
            <a:ext cx="6454440" cy="36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2.gstatic.com/images?q=tbn:ANd9GcT0Dg06R7JdUaW-FSfbdKIfHwldB_0X7vRP7Q3-cxpwC4vW5-Mp"/>
          <p:cNvPicPr/>
          <p:nvPr/>
        </p:nvPicPr>
        <p:blipFill>
          <a:blip r:embed="rId3"/>
          <a:stretch/>
        </p:blipFill>
        <p:spPr>
          <a:xfrm>
            <a:off x="6802560" y="633240"/>
            <a:ext cx="1731600" cy="175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kid-info.ru/wp-content/uploads/2012/04/pozharnaya_bezopasnost.jpg"/>
          <p:cNvPicPr/>
          <p:nvPr/>
        </p:nvPicPr>
        <p:blipFill>
          <a:blip r:embed="rId4"/>
          <a:stretch/>
        </p:blipFill>
        <p:spPr>
          <a:xfrm>
            <a:off x="6456240" y="2614680"/>
            <a:ext cx="2133360" cy="17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in-teh.com/wp-content/uploads/2012/10/zao-firma-specavtomatiki.jpg"/>
          <p:cNvPicPr/>
          <p:nvPr/>
        </p:nvPicPr>
        <p:blipFill>
          <a:blip r:embed="rId5"/>
          <a:stretch/>
        </p:blipFill>
        <p:spPr>
          <a:xfrm>
            <a:off x="6308640" y="4572000"/>
            <a:ext cx="2347560" cy="188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Natali\Downloads\2963507.gif"/>
          <p:cNvPicPr/>
          <p:nvPr/>
        </p:nvPicPr>
        <p:blipFill>
          <a:blip r:embed="rId6"/>
          <a:stretch/>
        </p:blipFill>
        <p:spPr>
          <a:xfrm>
            <a:off x="3560760" y="4170240"/>
            <a:ext cx="2369880" cy="166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www.teremoc.ru/pravila/pravila_dvigenija.jpg"/>
          <p:cNvPicPr/>
          <p:nvPr/>
        </p:nvPicPr>
        <p:blipFill>
          <a:blip r:embed="rId7"/>
          <a:stretch/>
        </p:blipFill>
        <p:spPr>
          <a:xfrm>
            <a:off x="676440" y="3481560"/>
            <a:ext cx="1920600" cy="1388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1468440" y="2798640"/>
            <a:ext cx="679716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5"/>
          <p:cNvSpPr/>
          <p:nvPr/>
        </p:nvSpPr>
        <p:spPr>
          <a:xfrm>
            <a:off x="1042920" y="404640"/>
            <a:ext cx="66974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в жизни и бы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323000438_pb15"/>
          <p:cNvPicPr/>
          <p:nvPr/>
        </p:nvPicPr>
        <p:blipFill>
          <a:blip r:embed="rId2"/>
          <a:stretch/>
        </p:blipFill>
        <p:spPr>
          <a:xfrm>
            <a:off x="3949560" y="3151080"/>
            <a:ext cx="4620960" cy="3090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749160" y="1427760"/>
            <a:ext cx="791964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й человек должен знать и выполнять общие правила в повседневной жизни, чтобы чрезвычайные ситуации не застали враспл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складывающейся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pddt.ru/upload/image/news/pdd.jpg"/>
          <p:cNvPicPr/>
          <p:nvPr/>
        </p:nvPicPr>
        <p:blipFill>
          <a:blip r:embed="rId3"/>
          <a:stretch/>
        </p:blipFill>
        <p:spPr>
          <a:xfrm>
            <a:off x="749160" y="3614760"/>
            <a:ext cx="304128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1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2" name="TextBox 5"/>
          <p:cNvSpPr/>
          <p:nvPr/>
        </p:nvSpPr>
        <p:spPr>
          <a:xfrm>
            <a:off x="971640" y="404640"/>
            <a:ext cx="74880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Общие правила безопасного обращения с электрич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33520" y="1413000"/>
            <a:ext cx="59097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ключение прибора производится в обратном поря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прикасайтесь к включенному электроприбору мокрым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те: нельзя пользоваться электрическими устройствами, находясь в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aquafanat.com.ua/uploads/pages/pages-Tx6JLKZ4j3.jpg"/>
          <p:cNvPicPr/>
          <p:nvPr/>
        </p:nvPicPr>
        <p:blipFill>
          <a:blip r:embed="rId2"/>
          <a:stretch/>
        </p:blipFill>
        <p:spPr>
          <a:xfrm>
            <a:off x="900000" y="2676600"/>
            <a:ext cx="4208040" cy="418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Не тяни вилку из розетки за провод"/>
          <p:cNvPicPr/>
          <p:nvPr/>
        </p:nvPicPr>
        <p:blipFill>
          <a:blip r:embed="rId3"/>
          <a:stretch/>
        </p:blipFill>
        <p:spPr>
          <a:xfrm>
            <a:off x="6351480" y="3121200"/>
            <a:ext cx="2279160" cy="314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Не берись мокрыми руками к проводам электроприборов"/>
          <p:cNvPicPr/>
          <p:nvPr/>
        </p:nvPicPr>
        <p:blipFill>
          <a:blip r:embed="rId4"/>
          <a:stretch/>
        </p:blipFill>
        <p:spPr>
          <a:xfrm>
            <a:off x="6272280" y="1189080"/>
            <a:ext cx="2426760" cy="37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Не включай все электроприборы одновременно"/>
          <p:cNvPicPr/>
          <p:nvPr/>
        </p:nvPicPr>
        <p:blipFill>
          <a:blip r:embed="rId5"/>
          <a:stretch/>
        </p:blipFill>
        <p:spPr>
          <a:xfrm>
            <a:off x="6156360" y="4791240"/>
            <a:ext cx="2328480" cy="206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1" name="TextBox 4"/>
          <p:cNvSpPr/>
          <p:nvPr/>
        </p:nvSpPr>
        <p:spPr>
          <a:xfrm>
            <a:off x="684360" y="260280"/>
            <a:ext cx="7991280" cy="127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обращения с газовыми приборами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23720" y="1279440"/>
            <a:ext cx="83102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Основ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бы зажечь газовую горелку, сначала поднесите зажженную спичку, а затем плавно и осторожно откройте газовый к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оставляйте включенные газовые горелки без присмо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тем, чтобы нагреваемая на газовой плите жидкость не залила пламя горе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altai.fm/images/news/2013/april/1347446706_gazprom.jpg"/>
          <p:cNvPicPr/>
          <p:nvPr/>
        </p:nvPicPr>
        <p:blipFill>
          <a:blip r:embed="rId2"/>
          <a:stretch/>
        </p:blipFill>
        <p:spPr>
          <a:xfrm>
            <a:off x="811080" y="4863960"/>
            <a:ext cx="2607840" cy="177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Газовые баллоны"/>
          <p:cNvPicPr/>
          <p:nvPr/>
        </p:nvPicPr>
        <p:blipFill>
          <a:blip r:embed="rId3"/>
          <a:stretch/>
        </p:blipFill>
        <p:spPr>
          <a:xfrm>
            <a:off x="6713640" y="4508640"/>
            <a:ext cx="1991880" cy="2122200"/>
          </a:xfrm>
          <a:prstGeom prst="rect">
            <a:avLst/>
          </a:prstGeom>
          <a:ln w="9525">
            <a:noFill/>
          </a:ln>
        </p:spPr>
      </p:pic>
      <p:pic>
        <p:nvPicPr>
          <p:cNvPr id="75" name="Picture 6" descr="Ремонт и подключение газовых плит"/>
          <p:cNvPicPr/>
          <p:nvPr/>
        </p:nvPicPr>
        <p:blipFill>
          <a:blip r:embed="rId4"/>
          <a:stretch/>
        </p:blipFill>
        <p:spPr>
          <a:xfrm>
            <a:off x="3822840" y="4863960"/>
            <a:ext cx="2687400" cy="1810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static4.aif.ru/pictures/201303/0505.jpg"/>
          <p:cNvPicPr/>
          <p:nvPr/>
        </p:nvPicPr>
        <p:blipFill>
          <a:blip r:embed="rId5"/>
          <a:stretch/>
        </p:blipFill>
        <p:spPr>
          <a:xfrm>
            <a:off x="447840" y="1114560"/>
            <a:ext cx="5781240" cy="375408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0" name="TextBox 4"/>
          <p:cNvSpPr/>
          <p:nvPr/>
        </p:nvSpPr>
        <p:spPr>
          <a:xfrm>
            <a:off x="1258920" y="458640"/>
            <a:ext cx="70560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то нужно делать при появлении запаха газ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900000" y="1773360"/>
            <a:ext cx="431928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628351"/>
          <p:cNvPicPr/>
          <p:nvPr/>
        </p:nvPicPr>
        <p:blipFill>
          <a:blip r:embed="rId2"/>
          <a:stretch/>
        </p:blipFill>
        <p:spPr>
          <a:xfrm>
            <a:off x="2050920" y="1573200"/>
            <a:ext cx="5495400" cy="528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628375"/>
          <p:cNvPicPr/>
          <p:nvPr/>
        </p:nvPicPr>
        <p:blipFill>
          <a:blip r:embed="rId3"/>
          <a:stretch/>
        </p:blipFill>
        <p:spPr>
          <a:xfrm>
            <a:off x="614520" y="1636560"/>
            <a:ext cx="7914960" cy="467640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84" name="Picture 10" descr="http://www.dddmarket.ru/image/new/new.7.1.jpg"/>
          <p:cNvPicPr/>
          <p:nvPr/>
        </p:nvPicPr>
        <p:blipFill>
          <a:blip r:embed="rId4"/>
          <a:stretch/>
        </p:blipFill>
        <p:spPr>
          <a:xfrm>
            <a:off x="3000240" y="1450800"/>
            <a:ext cx="3214440" cy="4641480"/>
          </a:xfrm>
          <a:prstGeom prst="rect">
            <a:avLst/>
          </a:prstGeom>
          <a:ln cap="sq" w="38100">
            <a:solidFill>
              <a:srgbClr val="f79646">
                <a:lumMod val="7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7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7" descr="1291999687_fire_meaney"/>
          <p:cNvPicPr/>
          <p:nvPr/>
        </p:nvPicPr>
        <p:blipFill>
          <a:blip r:embed="rId2"/>
          <a:stretch/>
        </p:blipFill>
        <p:spPr>
          <a:xfrm>
            <a:off x="254160" y="295200"/>
            <a:ext cx="1004400" cy="1112400"/>
          </a:xfrm>
          <a:prstGeom prst="rect">
            <a:avLst/>
          </a:prstGeom>
          <a:ln w="9525">
            <a:noFill/>
          </a:ln>
        </p:spPr>
      </p:pic>
      <p:sp>
        <p:nvSpPr>
          <p:cNvPr id="89" name="TextBox 5"/>
          <p:cNvSpPr/>
          <p:nvPr/>
        </p:nvSpPr>
        <p:spPr>
          <a:xfrm>
            <a:off x="1603440" y="353880"/>
            <a:ext cx="667656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 обнаружении источника возгор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258920" y="1187280"/>
            <a:ext cx="7345080" cy="277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06469_pojar_rebenok"/>
          <p:cNvPicPr/>
          <p:nvPr/>
        </p:nvPicPr>
        <p:blipFill>
          <a:blip r:embed="rId3"/>
          <a:stretch/>
        </p:blipFill>
        <p:spPr>
          <a:xfrm>
            <a:off x="4788000" y="3860640"/>
            <a:ext cx="3492000" cy="27572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5" descr="0017-022-Pravila-bezopasnogo-povedenija-v-zone-lesnogo-pozhara-i-ego-tushenie"/>
          <p:cNvPicPr/>
          <p:nvPr/>
        </p:nvPicPr>
        <p:blipFill>
          <a:blip r:embed="rId4"/>
          <a:srcRect l="-266" t="0" r="0" b="39340"/>
          <a:stretch/>
        </p:blipFill>
        <p:spPr>
          <a:xfrm>
            <a:off x="1187280" y="3981600"/>
            <a:ext cx="2982600" cy="287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xn--72-xlclcmc5acae7irb.xn--80atdkbji0d.xn--p1ai/uploads/f1/s/34/954/image/649/37/medium_smotr.jpg"/>
          <p:cNvPicPr/>
          <p:nvPr/>
        </p:nvPicPr>
        <p:blipFill>
          <a:blip r:embed="rId5"/>
          <a:stretch/>
        </p:blipFill>
        <p:spPr>
          <a:xfrm>
            <a:off x="2682720" y="1187280"/>
            <a:ext cx="3952440" cy="4571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96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4"/>
          <p:cNvSpPr/>
          <p:nvPr/>
        </p:nvSpPr>
        <p:spPr>
          <a:xfrm>
            <a:off x="971640" y="404640"/>
            <a:ext cx="73450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пользования системой водоснаб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11280" y="1954080"/>
            <a:ext cx="5113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бросай в канализацию посторонн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засоряй раковину отходами продуктов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ходя из дома, проверяй все ли краны закры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 за состоянием труб для своевременного устранения в них проте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odintsovo.info/img/2009/10/apicturepicture5129_98954.jpg"/>
          <p:cNvPicPr/>
          <p:nvPr/>
        </p:nvPicPr>
        <p:blipFill>
          <a:blip r:embed="rId2"/>
          <a:stretch/>
        </p:blipFill>
        <p:spPr>
          <a:xfrm>
            <a:off x="6156360" y="4149720"/>
            <a:ext cx="2017440" cy="20426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Как очистить водопроводную воду?"/>
          <p:cNvPicPr/>
          <p:nvPr/>
        </p:nvPicPr>
        <p:blipFill>
          <a:blip r:embed="rId3"/>
          <a:stretch/>
        </p:blipFill>
        <p:spPr>
          <a:xfrm>
            <a:off x="5580000" y="1392120"/>
            <a:ext cx="2828520" cy="226980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4" name="TextBox 4"/>
          <p:cNvSpPr/>
          <p:nvPr/>
        </p:nvSpPr>
        <p:spPr>
          <a:xfrm>
            <a:off x="971640" y="549360"/>
            <a:ext cx="741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508040" y="317520"/>
            <a:ext cx="720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безопасности в ИНТЕРН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95280" y="1324080"/>
            <a:ext cx="5976720" cy="466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ы регистрируешься на сайтах, старайся не указывать личную информацию (номер мобильного телефона, адрес электронной почты, свое фот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желательные письма от незнакомых людей называются «Спам», если ты получил такое письмо, не отвечай на н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тебе пришло сообщение с незнакомого адреса, его лучше не открывать, подобные письма могут содержать виру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рядом с тобой нет взрослых, не встречайся в реальной жизни с людьми, с которыми ты познакомился в Интерн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4.bp.blogspot.com/-XAxkLbEe2mE/UBQ33f9x5AI/AAAAAAAAGCU/daBFopUVTbI/s320/28jpg.gif"/>
          <p:cNvPicPr/>
          <p:nvPr/>
        </p:nvPicPr>
        <p:blipFill>
          <a:blip r:embed="rId2"/>
          <a:stretch/>
        </p:blipFill>
        <p:spPr>
          <a:xfrm>
            <a:off x="177840" y="254160"/>
            <a:ext cx="1587240" cy="9554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4" descr="http://i.family.booknik.ru/_img/255-14.jpg"/>
          <p:cNvPicPr/>
          <p:nvPr/>
        </p:nvPicPr>
        <p:blipFill>
          <a:blip r:embed="rId3"/>
          <a:stretch/>
        </p:blipFill>
        <p:spPr>
          <a:xfrm>
            <a:off x="6227640" y="3683160"/>
            <a:ext cx="2476080" cy="2746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6" descr="http://onotebook.ru/wp-content/uploads/2011/06/3-249x300.jpg"/>
          <p:cNvPicPr/>
          <p:nvPr/>
        </p:nvPicPr>
        <p:blipFill>
          <a:blip r:embed="rId4"/>
          <a:stretch/>
        </p:blipFill>
        <p:spPr>
          <a:xfrm>
            <a:off x="6227640" y="752400"/>
            <a:ext cx="2501640" cy="261108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5"/>
          <p:cNvSpPr/>
          <p:nvPr/>
        </p:nvSpPr>
        <p:spPr>
          <a:xfrm>
            <a:off x="539640" y="1182600"/>
            <a:ext cx="7272000" cy="176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льзя употреблять лекарства, названия которых неизвестны (таблетки без упаковки или в склянках со стершейся этикетко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екарства, срок годности у которых вышел, нужно выбросить. Пить их нельз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1009800" y="476280"/>
            <a:ext cx="73450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Какой вред могут нанести лекарств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vestikavkaza.ru/upload/iblock/7fe/lekarstva.jpg"/>
          <p:cNvPicPr/>
          <p:nvPr/>
        </p:nvPicPr>
        <p:blipFill>
          <a:blip r:embed="rId2"/>
          <a:stretch/>
        </p:blipFill>
        <p:spPr>
          <a:xfrm>
            <a:off x="826920" y="3429000"/>
            <a:ext cx="3234960" cy="2430000"/>
          </a:xfrm>
          <a:prstGeom prst="rect">
            <a:avLst/>
          </a:prstGeom>
          <a:ln cap="sq" w="57150">
            <a:solidFill>
              <a:srgbClr val="c8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16" name="Picture 6" descr="http://static2.aif.ru/public/article/big/678/fbff067860010a58b4090eba4df58edc.0.jpg"/>
          <p:cNvPicPr/>
          <p:nvPr/>
        </p:nvPicPr>
        <p:blipFill>
          <a:blip r:embed="rId3"/>
          <a:stretch/>
        </p:blipFill>
        <p:spPr>
          <a:xfrm>
            <a:off x="5076720" y="3408480"/>
            <a:ext cx="3231720" cy="2719080"/>
          </a:xfrm>
          <a:prstGeom prst="rect">
            <a:avLst/>
          </a:prstGeom>
          <a:ln cap="sq" w="57150">
            <a:solidFill>
              <a:srgbClr val="c8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  <Words>274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7:46:40Z</dcterms:created>
  <dc:creator>Natali</dc:creator>
  <dc:description/>
  <dc:language>en-US</dc:language>
  <cp:lastModifiedBy>компьютер2</cp:lastModifiedBy>
  <dcterms:modified xsi:type="dcterms:W3CDTF">2017-06-09T09:44:23Z</dcterms:modified>
  <cp:revision>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