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84B-778D-402B-81A4-C9EE6632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AF9-407A-40E1-A73C-DE148513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D76-502B-4719-999C-18D22772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DD79-740F-4ADF-B555-29B72FC7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2A9-5589-482E-8B88-5A4B4BE4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373-12B1-403F-8173-D1AE02E9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C48-ADC9-42A5-A245-344F2F80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57D-04D4-4E48-A422-ED0D6F94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B8F2-A9F8-420A-AA49-0B23A00E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F9C-935A-4660-B58A-ED10D79E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6CE9-7995-41D2-A349-03E40C2C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374-E09B-4243-B55F-DC99CC6D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4716360" y="5345280"/>
            <a:ext cx="4426200" cy="1511280"/>
            <a:chOff x="4716360" y="5345280"/>
            <a:chExt cx="4426200" cy="1511280"/>
          </a:xfrm>
        </p:grpSpPr>
        <p:sp>
          <p:nvSpPr>
            <p:cNvPr id="1" name="Freeform 2"/>
            <p:cNvSpPr/>
            <p:nvPr/>
          </p:nvSpPr>
          <p:spPr>
            <a:xfrm>
              <a:off x="4716360" y="5345280"/>
              <a:ext cx="4426200" cy="151128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7305840" y="6372360"/>
              <a:ext cx="17280" cy="2700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7296120" y="6343560"/>
              <a:ext cx="7920" cy="2700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8223120" y="5678640"/>
              <a:ext cx="481320" cy="117468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7807320" y="5640480"/>
              <a:ext cx="496800" cy="121608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7461360" y="5869080"/>
              <a:ext cx="434880" cy="98748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7178760" y="5888160"/>
              <a:ext cx="336600" cy="96840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6813720" y="6248520"/>
              <a:ext cx="263520" cy="60804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6508800" y="6381720"/>
              <a:ext cx="261720" cy="47484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6207120" y="6410160"/>
              <a:ext cx="374760" cy="44640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5832360" y="6486480"/>
              <a:ext cx="309600" cy="37008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5518080" y="6458040"/>
              <a:ext cx="300240" cy="39852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5032440" y="6648480"/>
              <a:ext cx="363600" cy="20808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4832280" y="6696000"/>
              <a:ext cx="139680" cy="16056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702640" y="5345280"/>
              <a:ext cx="439920" cy="151128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B30DBE-FFC0-4161-B965-7439E3119DE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ЧОУ «Православная средняя школа Феодоровской иконы Божией Матери» г. Иваново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928680" y="4100400"/>
            <a:ext cx="507204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оставитель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читель начальных класс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узмакова Надежда Александровн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2016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59" name="Прямоугольник 3" descr=""/>
          <p:cNvPicPr/>
          <p:nvPr/>
        </p:nvPicPr>
        <p:blipFill>
          <a:blip r:embed="rId1"/>
          <a:stretch/>
        </p:blipFill>
        <p:spPr>
          <a:xfrm>
            <a:off x="560520" y="1689120"/>
            <a:ext cx="81691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73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179280" y="549360"/>
            <a:ext cx="460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вост пушистый, 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х золотистый, 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лесу живет, 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деревне кур крадет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357200" y="4071960"/>
            <a:ext cx="29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lisa_05"/>
          <p:cNvPicPr/>
          <p:nvPr/>
        </p:nvPicPr>
        <p:blipFill>
          <a:blip r:embed="rId1"/>
          <a:stretch/>
        </p:blipFill>
        <p:spPr>
          <a:xfrm>
            <a:off x="4757760" y="1285920"/>
            <a:ext cx="43862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946a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250920" y="333360"/>
            <a:ext cx="439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полю скачет —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шки прячет, 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танет столбом — 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шки торч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11280" y="2924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йч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25ebd12ff42c"/>
          <p:cNvPicPr/>
          <p:nvPr/>
        </p:nvPicPr>
        <p:blipFill>
          <a:blip r:embed="rId1"/>
          <a:stretch/>
        </p:blipFill>
        <p:spPr>
          <a:xfrm>
            <a:off x="3203640" y="2421000"/>
            <a:ext cx="568800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e0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395280" y="260280"/>
            <a:ext cx="489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Летом ходит без дороги 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Возле сосен и берез. 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А зимой он спит в берлоге,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От мороза прячет нос.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258920" y="2924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149211_html_mdc7acbf"/>
          <p:cNvPicPr/>
          <p:nvPr/>
        </p:nvPicPr>
        <p:blipFill>
          <a:blip r:embed="rId1"/>
          <a:stretch/>
        </p:blipFill>
        <p:spPr>
          <a:xfrm>
            <a:off x="3492360" y="2781360"/>
            <a:ext cx="541044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e0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285840" y="285840"/>
            <a:ext cx="8358120" cy="23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Font typeface="Wingdings" charset="2"/>
              <a:buChar char="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Узнать, как на свет появляются детеныш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Font typeface="Wingdings" charset="2"/>
              <a:buChar char="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Узнать, как животные заботятся о своих детеныша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http://courier-pskov.ru/uploads/posts/2011-03/1300868195_7882.jpg"/>
          <p:cNvPicPr/>
          <p:nvPr/>
        </p:nvPicPr>
        <p:blipFill>
          <a:blip r:embed="rId1"/>
          <a:stretch/>
        </p:blipFill>
        <p:spPr>
          <a:xfrm>
            <a:off x="285840" y="314316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www.metod-kopilka.ru/images/doc/43/37519/hello_html_56806707.jpg"/>
          <p:cNvPicPr/>
          <p:nvPr/>
        </p:nvPicPr>
        <p:blipFill>
          <a:blip r:embed="rId2"/>
          <a:stretch/>
        </p:blipFill>
        <p:spPr>
          <a:xfrm>
            <a:off x="4857840" y="3071880"/>
            <a:ext cx="40575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755640" y="105264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785880" y="1000080"/>
            <a:ext cx="7286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Arial"/>
              </a:rPr>
              <a:t>СЕГОДНЯ Я УЗНАЛ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Arial"/>
              </a:rPr>
              <a:t>БЫЛО ИНТЕРЕСНО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Arial"/>
              </a:rPr>
              <a:t>БЫЛО ТРУДНО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Arial"/>
              </a:rPr>
              <a:t>Я ПОНЯЛ, ЧТО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Arial"/>
              </a:rPr>
              <a:t>МЕНЯ УДИВИЛО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Arial"/>
              </a:rPr>
              <a:t>МНЕ ЗАХОТЕЛОСЬ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дготовить рассказы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к животные появляются на све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к родители заботятся о своем потомстве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571680" y="189000"/>
            <a:ext cx="75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Verdana"/>
              </a:rPr>
              <a:t>солнце,  погожие дни, тёплый ветерок,  снег, сугробы,  лёд на реке, прилетели,  почки на деревьях,  на земле зеленеет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59281865460798"/>
          <p:cNvPicPr/>
          <p:nvPr/>
        </p:nvPicPr>
        <p:blipFill>
          <a:blip r:embed="rId1"/>
          <a:stretch/>
        </p:blipFill>
        <p:spPr>
          <a:xfrm>
            <a:off x="250920" y="3933720"/>
            <a:ext cx="4176720" cy="277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56926437_VESNA"/>
          <p:cNvPicPr/>
          <p:nvPr/>
        </p:nvPicPr>
        <p:blipFill>
          <a:blip r:embed="rId2"/>
          <a:stretch/>
        </p:blipFill>
        <p:spPr>
          <a:xfrm>
            <a:off x="4716360" y="4005360"/>
            <a:ext cx="3903840" cy="2852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c99c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1332000" y="83664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86880" cy="52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mbria"/>
              </a:rPr>
              <a:t>Задачи нашего урока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Узнать, как на свет появляются детеныши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Узнать, как животные заботятся о своих детенышах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5" name="Picture 5" descr="http://takefon.com/_ld/32/12639334.jpg"/>
          <p:cNvPicPr/>
          <p:nvPr/>
        </p:nvPicPr>
        <p:blipFill>
          <a:blip r:embed="rId1"/>
          <a:stretch/>
        </p:blipFill>
        <p:spPr>
          <a:xfrm>
            <a:off x="71280" y="3357720"/>
            <a:ext cx="4143600" cy="3071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img15.mynnm.com/1/8/1/d/b/2f87ebd5e1ff6b8606809529638.jpg"/>
          <p:cNvPicPr/>
          <p:nvPr/>
        </p:nvPicPr>
        <p:blipFill>
          <a:blip r:embed="rId2"/>
          <a:stretch/>
        </p:blipFill>
        <p:spPr>
          <a:xfrm>
            <a:off x="4286160" y="3357720"/>
            <a:ext cx="4767480" cy="30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684360" y="62064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едве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788000" y="2349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едвеж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4360" y="3213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ли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716360" y="1700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лися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195640" y="5084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55640" y="184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зая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788000" y="450864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зайч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84360" y="4581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ел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643280" y="549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ельч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755640" y="1268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б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788000" y="371628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рося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684360" y="3860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932360" y="522936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Verdana"/>
              </a:rPr>
              <a:t>утя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684360" y="24922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т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4572000" y="1125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тен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755640" y="5229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лягу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4716360" y="3141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головаст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27"/>
          <p:cNvSpPr/>
          <p:nvPr/>
        </p:nvSpPr>
        <p:spPr>
          <a:xfrm>
            <a:off x="2428920" y="928800"/>
            <a:ext cx="2287440" cy="16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28"/>
          <p:cNvSpPr/>
          <p:nvPr/>
        </p:nvSpPr>
        <p:spPr>
          <a:xfrm>
            <a:off x="2214720" y="1571760"/>
            <a:ext cx="25732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29"/>
          <p:cNvSpPr/>
          <p:nvPr/>
        </p:nvSpPr>
        <p:spPr>
          <a:xfrm>
            <a:off x="1857240" y="2143080"/>
            <a:ext cx="2930760" cy="265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30"/>
          <p:cNvSpPr/>
          <p:nvPr/>
        </p:nvSpPr>
        <p:spPr>
          <a:xfrm flipV="1">
            <a:off x="2071800" y="1557000"/>
            <a:ext cx="2571480" cy="12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1"/>
          <p:cNvSpPr/>
          <p:nvPr/>
        </p:nvSpPr>
        <p:spPr>
          <a:xfrm flipV="1">
            <a:off x="1857240" y="2133720"/>
            <a:ext cx="2859120" cy="13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2"/>
          <p:cNvSpPr/>
          <p:nvPr/>
        </p:nvSpPr>
        <p:spPr>
          <a:xfrm>
            <a:off x="1785960" y="4143240"/>
            <a:ext cx="3146400" cy="13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33"/>
          <p:cNvSpPr/>
          <p:nvPr/>
        </p:nvSpPr>
        <p:spPr>
          <a:xfrm flipV="1">
            <a:off x="2000160" y="980640"/>
            <a:ext cx="2571840" cy="387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34"/>
          <p:cNvSpPr/>
          <p:nvPr/>
        </p:nvSpPr>
        <p:spPr>
          <a:xfrm flipV="1">
            <a:off x="2714760" y="3499920"/>
            <a:ext cx="2073240" cy="200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1908000" y="333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268360" y="260280"/>
            <a:ext cx="539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268360" y="189000"/>
            <a:ext cx="532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476360" y="1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ерная лягу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8" descr="http://macroclub.ru/gallery/data/517/000aesby.jpeg"/>
          <p:cNvPicPr/>
          <p:nvPr/>
        </p:nvPicPr>
        <p:blipFill>
          <a:blip r:embed="rId1"/>
          <a:stretch/>
        </p:blipFill>
        <p:spPr>
          <a:xfrm>
            <a:off x="428760" y="1357200"/>
            <a:ext cx="8323200" cy="5072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8bf6a39779d6"/>
          <p:cNvPicPr/>
          <p:nvPr/>
        </p:nvPicPr>
        <p:blipFill>
          <a:blip r:embed="rId1"/>
          <a:stretch/>
        </p:blipFill>
        <p:spPr>
          <a:xfrm>
            <a:off x="468360" y="1203480"/>
            <a:ext cx="8280360" cy="56545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619280" y="40464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авяная лягу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539640" y="1295280"/>
            <a:ext cx="8388360" cy="5562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"/>
          <p:cNvSpPr/>
          <p:nvPr/>
        </p:nvSpPr>
        <p:spPr>
          <a:xfrm>
            <a:off x="1547640" y="4046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стромордая лягу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95280" y="549360"/>
            <a:ext cx="72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голки лежали, лежали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а под стол убежа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0c055894ba5ea65149f4b3986f98f4bc"/>
          <p:cNvPicPr/>
          <p:nvPr/>
        </p:nvPicPr>
        <p:blipFill>
          <a:blip r:embed="rId1"/>
          <a:stretch/>
        </p:blipFill>
        <p:spPr>
          <a:xfrm>
            <a:off x="3564000" y="2492280"/>
            <a:ext cx="5184720" cy="4029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684360" y="328464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ж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684360" y="620640"/>
            <a:ext cx="381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191966"/>
                </a:solidFill>
                <a:latin typeface="Arial"/>
              </a:rPr>
              <a:t>Зверька узнали мы с тобой </a:t>
            </a:r>
            <a:br>
              <a:rPr sz="2800"/>
            </a:br>
            <a:r>
              <a:rPr b="1" lang="ru-RU" sz="2800" spc="-1" strike="noStrike">
                <a:solidFill>
                  <a:srgbClr val="191966"/>
                </a:solidFill>
                <a:latin typeface="Arial"/>
              </a:rPr>
              <a:t>По двум таким приметам: </a:t>
            </a:r>
            <a:br>
              <a:rPr sz="2800"/>
            </a:br>
            <a:r>
              <a:rPr b="1" lang="ru-RU" sz="2800" spc="-1" strike="noStrike">
                <a:solidFill>
                  <a:srgbClr val="191966"/>
                </a:solidFill>
                <a:latin typeface="Arial"/>
              </a:rPr>
              <a:t>Он в шубе серенькой зимой, </a:t>
            </a:r>
            <a:br>
              <a:rPr sz="2800"/>
            </a:br>
            <a:r>
              <a:rPr b="1" lang="ru-RU" sz="2800" spc="-1" strike="noStrike">
                <a:solidFill>
                  <a:srgbClr val="191966"/>
                </a:solidFill>
                <a:latin typeface="Arial"/>
              </a:rPr>
              <a:t>А в рыжей шубке — летом.</a:t>
            </a:r>
            <a:r>
              <a:rPr b="0" lang="ru-RU" sz="2800" spc="-1" strike="noStrike">
                <a:solidFill>
                  <a:srgbClr val="1919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x_aea2b497"/>
          <p:cNvPicPr/>
          <p:nvPr/>
        </p:nvPicPr>
        <p:blipFill>
          <a:blip r:embed="rId1"/>
          <a:stretch/>
        </p:blipFill>
        <p:spPr>
          <a:xfrm>
            <a:off x="4751280" y="1428840"/>
            <a:ext cx="4392720" cy="43196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971640" y="46530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17:51:31Z</dcterms:created>
  <dc:creator>Admin</dc:creator>
  <dc:description/>
  <dc:language>en-US</dc:language>
  <cp:lastModifiedBy>Зайчик</cp:lastModifiedBy>
  <dcterms:modified xsi:type="dcterms:W3CDTF">2017-01-14T15:53:35Z</dcterms:modified>
  <cp:revision>50</cp:revision>
  <dc:subject/>
  <dc:title>Слайд 1</dc:title>
</cp:coreProperties>
</file>