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BDE-7A42-4783-90BA-7E4D0E68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5C5-8AE8-42E5-B01A-1EE716EB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FB7-53CC-4114-AE01-94E5B5CF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13D-83E4-4B16-A2E5-5656E952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297A-2A36-47C8-BA1E-0422DEDD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CAF9-5924-440B-81B6-9C364698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B7A6-2BE2-4B7A-B45D-D23983D7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EF58-D4F2-4BEA-B076-4670FC08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079B-B246-4390-AA0D-3D682FFC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F207-66C9-49A0-88DB-29F5B88D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7DF7-39BF-42A4-BDB4-BA766961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4D1-71D9-4342-8723-94E26E14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7ACD-28FB-4C67-AC55-4F24D2EC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8A6B-09A3-4308-83F7-D095FA90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100E-9EF1-4E7D-BF3C-2948036F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C7B7-7641-4DA6-8679-9D842121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9BE8-835B-4EB9-AF4C-A48AC445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422-F7E5-45FA-B03B-04C3014B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A51-B084-44EB-8D54-0C30843A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5DB-8E2D-45E8-88A8-906AEB7A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171-EEAF-4BA5-B4B3-2D1855CF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953-13D3-41A3-86B6-3097803B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512-D44D-44D3-A479-7C84125E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4A9-EB16-46D7-A0EE-C6BB7B2A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12B1-D873-423A-9243-5EA5DB4FE85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D67D-FEB0-4370-B912-40F9A5A1565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hintfox.com/article/kak-davno-pojavilsja-schet-y-slavjan.html" TargetMode="External"/><Relationship Id="rId2" Type="http://schemas.openxmlformats.org/officeDocument/2006/relationships/hyperlink" Target="http://sovbuh.ru/poleznye_sovety1/ochevidnoe_neveroyatnoe/matematika_cherez_veka_i_strany_prodolzhenie/" TargetMode="External"/><Relationship Id="rId3" Type="http://schemas.openxmlformats.org/officeDocument/2006/relationships/hyperlink" Target="http://www.hintfox.com/article/kak-davno-pojavilsja-schet-y-slavja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623000" cy="30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Garamond"/>
              </a:rPr>
              <a:t>ЧОУ «Православная средняя школа Феодоровской иконы Божией Матери»</a:t>
            </a:r>
            <a:br>
              <a:rPr sz="1600"/>
            </a:br>
            <a:r>
              <a:rPr b="0" lang="ru-RU" sz="1600" spc="-1" strike="noStrike">
                <a:solidFill>
                  <a:srgbClr val="006633"/>
                </a:solidFill>
                <a:latin typeface="Garamond"/>
              </a:rPr>
              <a:t>г. Иваново</a:t>
            </a:r>
            <a:br>
              <a:rPr sz="1600"/>
            </a:b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28680" y="3962520"/>
            <a:ext cx="46054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змакова Надежд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857160" y="1785960"/>
            <a:ext cx="7345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лавянская нумер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 появления письменности наши предки обозначали числа зарубками на палочках или дощечках, которые у русских народов назывались бир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Изображение 016"/>
          <p:cNvPicPr/>
          <p:nvPr/>
        </p:nvPicPr>
        <p:blipFill>
          <a:blip r:embed="rId1"/>
          <a:stretch/>
        </p:blipFill>
        <p:spPr>
          <a:xfrm>
            <a:off x="1979640" y="2421000"/>
            <a:ext cx="5184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ругой факт, подтверждающий существование у славян определенной системы счисления, является наличие у них календар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s://yt3.ggpht.com/-L-dnIsCjKaY/AAAAAAAAAAI/AAAAAAAAAAA/bzdZpwoBWkk/s900-c-k-no-rj-c0xffffff/photo.jpg"/>
          <p:cNvPicPr/>
          <p:nvPr/>
        </p:nvPicPr>
        <p:blipFill>
          <a:blip r:embed="rId1"/>
          <a:stretch/>
        </p:blipFill>
        <p:spPr>
          <a:xfrm>
            <a:off x="2643120" y="2357280"/>
            <a:ext cx="3643560" cy="36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</a:rPr>
              <a:t>Первые сведения о развитии математики на Руси относятся к IX-XII вв. (древнерусская нумерация, метрология, первые системы дробей и др.). В Древней Руси времен Ярослава Мудрого (978-1054) уже существовали общеобразовательные школ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advTm="15000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 нумерация была создана вместе со славянской алфавитной системой для переписки священных книг для славян греческими монахами братьями Кириллом (Константином) и Мефодием в IX веке.  До XVII века эта форма записи чиcел была официальной на территории современной России, Белоруссии, Украины, Болгарии, Венгрии, Сербии и Хорватии. До сих пор православные церковные книги используют эту нумераци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3960720" cy="57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диницы, десятки и сотни изображались славянскими буквами с поставленным над ними знаком ~ , называемым "титло", для отличия цифр от букв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Picture 4" descr="Числа в Древней руси"/>
          <p:cNvPicPr/>
          <p:nvPr/>
        </p:nvPicPr>
        <p:blipFill>
          <a:blip r:embed="rId1"/>
          <a:stretch/>
        </p:blipFill>
        <p:spPr>
          <a:xfrm>
            <a:off x="611280" y="1844640"/>
            <a:ext cx="7848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ля обозначения чисел больших, чем 900 использовались специальные значки, которые дорисовывались к букве. Так образовывались числа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61800" cy="533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78520" y="19162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я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414160" y="1916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615960" cy="649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1478160" y="256536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126520" y="25653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3"/>
          <a:stretch/>
        </p:blipFill>
        <p:spPr>
          <a:xfrm>
            <a:off x="684360" y="3213000"/>
            <a:ext cx="649080" cy="619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1550520" y="328464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342880" y="32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792000" cy="743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4"/>
          <p:cNvSpPr/>
          <p:nvPr/>
        </p:nvSpPr>
        <p:spPr>
          <a:xfrm>
            <a:off x="1550160" y="407664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д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2342880" y="4076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 0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6" descr=""/>
          <p:cNvPicPr/>
          <p:nvPr/>
        </p:nvPicPr>
        <p:blipFill>
          <a:blip r:embed="rId5"/>
          <a:stretch/>
        </p:blipFill>
        <p:spPr>
          <a:xfrm>
            <a:off x="684360" y="4869000"/>
            <a:ext cx="728640" cy="739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7"/>
          <p:cNvSpPr/>
          <p:nvPr/>
        </p:nvSpPr>
        <p:spPr>
          <a:xfrm>
            <a:off x="1550520" y="501336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2342880" y="50133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 0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9" descr=""/>
          <p:cNvPicPr/>
          <p:nvPr/>
        </p:nvPicPr>
        <p:blipFill>
          <a:blip r:embed="rId6"/>
          <a:stretch/>
        </p:blipFill>
        <p:spPr>
          <a:xfrm>
            <a:off x="4356000" y="1916280"/>
            <a:ext cx="560520" cy="720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0"/>
          <p:cNvSpPr/>
          <p:nvPr/>
        </p:nvSpPr>
        <p:spPr>
          <a:xfrm>
            <a:off x="5005080" y="2133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5943600" y="213372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 0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"/>
          <p:cNvPicPr/>
          <p:nvPr/>
        </p:nvPicPr>
        <p:blipFill>
          <a:blip r:embed="rId7"/>
          <a:stretch/>
        </p:blipFill>
        <p:spPr>
          <a:xfrm>
            <a:off x="4067280" y="2781360"/>
            <a:ext cx="4464000" cy="1351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3"/>
          <p:cNvSpPr/>
          <p:nvPr/>
        </p:nvSpPr>
        <p:spPr>
          <a:xfrm>
            <a:off x="3924360" y="450864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последнем из этих чисел, то есть о колоде, говорилось: "И более сего несть человеческому уму разумевати"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3971880" y="5788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154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utami"/>
              </a:rPr>
              <a:t>Первым русским памятник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utami"/>
              </a:rPr>
              <a:t>математического содержания</a:t>
            </a:r>
            <a:r>
              <a:rPr b="1" lang="ru-RU" sz="4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3280" y="1557360"/>
            <a:ext cx="3606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настоящего времени считается рукописное сочинение новгородского монаха Кирика, написанное им в 1136 г. и носящее заголовок "Кирика диакона и доместика Новгородского Антониева монастыря учение имже ведати человеку числа всех лет"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"/>
          <p:cNvPicPr/>
          <p:nvPr/>
        </p:nvPicPr>
        <p:blipFill>
          <a:blip r:embed="rId1"/>
          <a:stretch/>
        </p:blipFill>
        <p:spPr>
          <a:xfrm>
            <a:off x="714240" y="1357200"/>
            <a:ext cx="432144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okultureno.ru/uploads/ckfinder/userfiles/images/2_%20%D0%BA%D0%B8%D1%80%D0%B8%D0%BA%20%D0%BD%D0%BE%D0%B2%D0%B3%D0%BE%D1%80%D0%BE%D0%B4%D0%B5%D1%86351(1).jpg"/>
          <p:cNvPicPr/>
          <p:nvPr/>
        </p:nvPicPr>
        <p:blipFill>
          <a:blip r:embed="rId1"/>
          <a:stretch/>
        </p:blipFill>
        <p:spPr>
          <a:xfrm>
            <a:off x="2214720" y="142920"/>
            <a:ext cx="4714560" cy="602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539640" y="1052640"/>
            <a:ext cx="374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ения Кирика никому, кроме него самого, не были нужны; они не могли принести никакой практической пользы людям. А вот  для нас рукопись Кирика очень важ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а ясно показывает, что славяне тысяч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 назад отлично владели четырь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ми Арифметики, свободно обращались с очень большими целыми числами и с очень маленькими дроб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http://krotov.info/pictures/books/fasmer/cyr1.gif"/>
          <p:cNvPicPr/>
          <p:nvPr/>
        </p:nvPicPr>
        <p:blipFill>
          <a:blip r:embed="rId1"/>
          <a:stretch/>
        </p:blipFill>
        <p:spPr>
          <a:xfrm>
            <a:off x="4500720" y="2786040"/>
            <a:ext cx="4095720" cy="321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http://fenixclub.com/uploads/52524/img-140387-7ef54fccb7.jpg"/>
          <p:cNvPicPr/>
          <p:nvPr/>
        </p:nvPicPr>
        <p:blipFill>
          <a:blip r:embed="rId2"/>
          <a:stretch/>
        </p:blipFill>
        <p:spPr>
          <a:xfrm>
            <a:off x="4929120" y="357120"/>
            <a:ext cx="3071880" cy="21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3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ри Петре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, в 1703 году была издана книга "Арифметика, сиречь наука числительная. С разных диалектов на славянский язык переведенная, и воедино собрана и на две части разделенная"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писанная Л.Ф. Магницким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476360" y="1960560"/>
            <a:ext cx="6191280" cy="38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100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http://school-collection.iv-edu.ru/dlrstore/8ae76280-3feb-d766-1887-af49f9babe3a/72967.jpg"/>
          <p:cNvPicPr/>
          <p:nvPr/>
        </p:nvPicPr>
        <p:blipFill>
          <a:blip r:embed="rId1"/>
          <a:stretch/>
        </p:blipFill>
        <p:spPr>
          <a:xfrm>
            <a:off x="428760" y="1000080"/>
            <a:ext cx="828648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Буквенные цифры давались параллельно с арабскими в разделе «Число церковное и арифметическое»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4" descr="петр 1"/>
          <p:cNvPicPr/>
          <p:nvPr/>
        </p:nvPicPr>
        <p:blipFill>
          <a:blip r:embed="rId1"/>
          <a:stretch/>
        </p:blipFill>
        <p:spPr>
          <a:xfrm>
            <a:off x="2000160" y="2000160"/>
            <a:ext cx="517212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1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теперь еще при перечислении раздел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нктов вместо числовой нумерации используют буквенную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,    б),    в),     г)   и 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же славянская система счисления осталась в богослужебных книг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лавянский счет возник очень да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Древние славяне владели узелковым счетом, использовали зарубки на костях, палочках и доще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Умели оперировать целыми и дробн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Считали в 60-тиричной и 10-тиричной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С момента создания азбуки у них появляется буквенная нуме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Славянская нумерация имела свои отличия от нумерации других народов и имела общие черты с греческой и римской нумер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Начиная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вяне используют арабские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>
            <a:off x="500040" y="164304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hintfox.com/article/kak-davno-pojavilsja-schet-y-slavj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точники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500040" y="207180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sovbuh.ru/poleznye_sovety1/ochevidnoe_neveroyatnoe/matematika_cherez_veka_i_strany_prodolzhenie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500040" y="292896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hintfox.com/article/kak-davno-pojavilsja-schet-y-slavjan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Цель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86040" y="428400"/>
            <a:ext cx="52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baseline="2000">
                <a:solidFill>
                  <a:srgbClr val="000000"/>
                </a:solidFill>
                <a:latin typeface="Vivaldi"/>
              </a:rPr>
              <a:t>Выяснить, как считали славяне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http://bogoglasnik.ru/_ph/19/393609826.jpg"/>
          <p:cNvPicPr/>
          <p:nvPr/>
        </p:nvPicPr>
        <p:blipFill>
          <a:blip r:embed="rId1"/>
          <a:stretch/>
        </p:blipFill>
        <p:spPr>
          <a:xfrm>
            <a:off x="571680" y="1143000"/>
            <a:ext cx="8001000" cy="4781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ипотез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оятно, система счисления  славян имела общие черты с системами счисления других народов, а также имела свои отличительные особен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славян, как и у всех других народов, счет возник очень давно. Сначала они на глаз сравнивали разные количества одинаковых предметов, могли на глаз определить, в каком стаде больше оленей, в какой кучке больше пл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http://www.bestreferat.ru/images/paper/25/00/9670025.png"/>
          <p:cNvPicPr/>
          <p:nvPr/>
        </p:nvPicPr>
        <p:blipFill>
          <a:blip r:embed="rId1"/>
          <a:stretch/>
        </p:blipFill>
        <p:spPr>
          <a:xfrm>
            <a:off x="3500280" y="2786040"/>
            <a:ext cx="4888080" cy="33526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лавянские общины развивались: возникли земледелие, скотоводство, ремесла. Вместе с ними появились простейшие формы учета. Так в Чехии в Дольне-Вестонице была найдена волчья кость с 55-ю насечками. Ученые доказали, что возраст этой кости составляет 25000 лет. Причем насечки на кости были сгруппированы по 5. Это свидетельствует о том, что уже в те далекие времена люди умели вести счет и считали пятерками или как говорили «пятк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713880"/>
            <a:ext cx="578628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Принято считать, что узел-ковое письмо характерно для индейских племен, населявших Северную и Южную Америку. Оказывается у славян тоже было узелковое письмо и узелковый счет. К нашему времени от узелкового письма  остались только следы в виде выражения «узелок на память» и гада-ние по узлам на льняной нити, в которых просма-тривается 60-тиричная сис-тема счис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coollib.com/i/6/350206/doc2fb_image_0200009a.jpg"/>
          <p:cNvPicPr/>
          <p:nvPr/>
        </p:nvPicPr>
        <p:blipFill>
          <a:blip r:embed="rId1"/>
          <a:stretch/>
        </p:blipFill>
        <p:spPr>
          <a:xfrm>
            <a:off x="5769000" y="785880"/>
            <a:ext cx="3375000" cy="5143320"/>
          </a:xfrm>
          <a:prstGeom prst="rect">
            <a:avLst/>
          </a:prstGeom>
          <a:ln w="0">
            <a:noFill/>
          </a:ln>
        </p:spPr>
      </p:pic>
    </p:spTree>
  </p:cSld>
  <p:transition advTm="25000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 Black"/>
              </a:rPr>
              <a:t>Доказательством того, что у славян была 60-тиричная система счисления, является следующий факт: в некоторых областях Украины несколько десятков лет назад продавали яблоки, картошку, яйца на «копа», т.е. кучами по 60 шту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CA2WJMLHCAKYTBUUCACAGTEHCA8RP8R1CAK1T138CANG0UBACA7EK430CANHHYENCASRR8MGCAQXHZB8CAPSTQQ3CAZ8VVBBCAVN36GLCAC0JN4FCAGVQ493CA65MXLLCA8HZGOBCAVQLRSYCA3FISLECAX4EFND"/>
          <p:cNvPicPr/>
          <p:nvPr/>
        </p:nvPicPr>
        <p:blipFill>
          <a:blip r:embed="rId1"/>
          <a:stretch/>
        </p:blipFill>
        <p:spPr>
          <a:xfrm>
            <a:off x="5364000" y="3860640"/>
            <a:ext cx="3095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в современной жизни мы пользуемся 60-тиричной системой счисления: 1 ч = 60 мин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мин = 60 сек,               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= 6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часы"/>
          <p:cNvPicPr/>
          <p:nvPr/>
        </p:nvPicPr>
        <p:blipFill>
          <a:blip r:embed="rId1"/>
          <a:stretch/>
        </p:blipFill>
        <p:spPr>
          <a:xfrm>
            <a:off x="3132000" y="3213000"/>
            <a:ext cx="2521080" cy="244800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1:59:30Z</dcterms:created>
  <dc:creator>Alex_2</dc:creator>
  <dc:description/>
  <dc:language>en-US</dc:language>
  <cp:lastModifiedBy>Зайчик</cp:lastModifiedBy>
  <dcterms:modified xsi:type="dcterms:W3CDTF">2017-01-03T13:35:15Z</dcterms:modified>
  <cp:revision>27</cp:revision>
  <dc:subject/>
  <dc:title>Славянская нумерация</dc:title>
</cp:coreProperties>
</file>