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A15CA-D818-4BF9-B881-5DE2740C8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3400" y="833040"/>
            <a:ext cx="777888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769140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7720" y="4307040"/>
            <a:ext cx="769140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B6207-2C63-423F-AB14-D79E6DAB7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3400" y="833040"/>
            <a:ext cx="777888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336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79000" y="2362320"/>
            <a:ext cx="375336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7720" y="4307040"/>
            <a:ext cx="375336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79000" y="4307040"/>
            <a:ext cx="375336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C7B3E-7E79-41D9-9A0D-17AA76FCE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3400" y="833040"/>
            <a:ext cx="777888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247644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8360" y="2362320"/>
            <a:ext cx="247644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39000" y="2362320"/>
            <a:ext cx="247644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7720" y="4307040"/>
            <a:ext cx="247644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8360" y="4307040"/>
            <a:ext cx="247644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39000" y="4307040"/>
            <a:ext cx="247644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FCC0E-9A29-4845-9576-F9FE24111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43224-F539-4EA1-883E-68D053A5F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3400" y="833040"/>
            <a:ext cx="777888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7720" y="2362320"/>
            <a:ext cx="7691400" cy="37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E27F4-04FC-415F-9896-08AD3D071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3400" y="833040"/>
            <a:ext cx="777888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7691400" cy="37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FD71D-5E04-403F-8654-9620A4157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3400" y="833040"/>
            <a:ext cx="777888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3360" cy="37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79000" y="2362320"/>
            <a:ext cx="3753360" cy="37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FBECD-737C-404B-815F-11F39370C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3400" y="833040"/>
            <a:ext cx="777888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8E040-CFD0-4953-900E-776575822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3400" y="833040"/>
            <a:ext cx="7778880" cy="46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C2407-1B77-48B1-A5AF-061D14D73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3400" y="833040"/>
            <a:ext cx="777888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336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79000" y="2362320"/>
            <a:ext cx="3753360" cy="37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7720" y="4307040"/>
            <a:ext cx="375336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300A3-79C7-42EE-A015-45F3F9E8E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3400" y="833040"/>
            <a:ext cx="777888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7720" y="2362320"/>
            <a:ext cx="7691400" cy="37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AFFDF-58B6-4531-BD4D-2853A362F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3400" y="833040"/>
            <a:ext cx="777888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3360" cy="37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79000" y="2362320"/>
            <a:ext cx="375336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79000" y="4307040"/>
            <a:ext cx="375336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3E772-50D9-4E76-BF8B-CCE713D27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3400" y="833040"/>
            <a:ext cx="777888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336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79000" y="2362320"/>
            <a:ext cx="375336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7720" y="4307040"/>
            <a:ext cx="769140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F8429-3DAE-4FA9-9D29-E65FBD710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3400" y="833040"/>
            <a:ext cx="777888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769140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7720" y="4307040"/>
            <a:ext cx="769140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F5845-AC89-415C-89EF-57DA3CA3A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3400" y="833040"/>
            <a:ext cx="777888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336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79000" y="2362320"/>
            <a:ext cx="375336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7720" y="4307040"/>
            <a:ext cx="375336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79000" y="4307040"/>
            <a:ext cx="375336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DDB88-6F56-455F-80E8-2E5B6FF42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3400" y="833040"/>
            <a:ext cx="777888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247644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8360" y="2362320"/>
            <a:ext cx="247644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39000" y="2362320"/>
            <a:ext cx="247644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7720" y="4307040"/>
            <a:ext cx="247644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8360" y="4307040"/>
            <a:ext cx="247644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39000" y="4307040"/>
            <a:ext cx="247644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91BA3-4F5F-4E4B-85B4-FE011175B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3400" y="833040"/>
            <a:ext cx="777888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7691400" cy="37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D62D2-C6A3-428D-B857-B51ABDBFD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3400" y="833040"/>
            <a:ext cx="777888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3360" cy="37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79000" y="2362320"/>
            <a:ext cx="3753360" cy="37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2C21D-AC4B-417D-839A-85BAFDC29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3400" y="833040"/>
            <a:ext cx="777888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56649-EE17-4193-AC4E-444A9D6BA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3400" y="833040"/>
            <a:ext cx="7778880" cy="46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E45F6-F98E-4765-8E29-AA09ACA09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3400" y="833040"/>
            <a:ext cx="777888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336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79000" y="2362320"/>
            <a:ext cx="3753360" cy="37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7720" y="4307040"/>
            <a:ext cx="375336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9ED9F-89C6-48A9-A6ED-AE154B93D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3400" y="833040"/>
            <a:ext cx="777888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3360" cy="37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79000" y="2362320"/>
            <a:ext cx="375336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79000" y="4307040"/>
            <a:ext cx="375336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A04E9-98C8-426B-9867-969C2BEA6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3400" y="833040"/>
            <a:ext cx="777888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336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79000" y="2362320"/>
            <a:ext cx="375336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7720" y="4307040"/>
            <a:ext cx="769140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57E9C-2F47-4768-A5DA-910CE1F16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aae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18320" cy="6856560"/>
            <a:chOff x="0" y="0"/>
            <a:chExt cx="7618320" cy="685656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198960" cy="6856560"/>
              <a:chOff x="0" y="0"/>
              <a:chExt cx="3198960" cy="685656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0320" cy="685656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1760" cy="116532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240" y="1981080"/>
              <a:ext cx="7390080" cy="317520"/>
              <a:chOff x="228240" y="1981080"/>
              <a:chExt cx="7390080" cy="3175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08840" cy="31608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7880" y="1981080"/>
                <a:ext cx="392040" cy="3175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3400" y="833040"/>
            <a:ext cx="777888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7720" y="2362320"/>
            <a:ext cx="7691400" cy="37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2904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5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572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8284516-9963-49C5-AD65-3818DEF25E9C}" type="slidenum">
              <a:rPr b="0" lang="ru-RU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aae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5840" cy="6856560"/>
            <a:chOff x="0" y="0"/>
            <a:chExt cx="5865840" cy="685656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0560" cy="685656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0040" cy="19033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5480" cy="317520"/>
            <a:chOff x="3632040" y="4889520"/>
            <a:chExt cx="4875480" cy="31752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4560" cy="3157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58840" cy="31752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2904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5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3366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160"/>
            <a:ext cx="5857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10FE9BD-8A66-4D87-B20E-3338BB4DFA9F}" type="slidenum">
              <a:rPr b="1" lang="ru-RU" sz="26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5160" y="1269720"/>
            <a:ext cx="7670880" cy="13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743040" indent="0" algn="ctr">
              <a:spcBef>
                <a:spcPts val="601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 algn="ctr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 algn="ctr"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6.xml"/><Relationship Id="rId3" Type="http://schemas.openxmlformats.org/officeDocument/2006/relationships/image" Target="../media/image4.png"/><Relationship Id="rId4" Type="http://schemas.openxmlformats.org/officeDocument/2006/relationships/slide" Target="slide5.xml"/><Relationship Id="rId5" Type="http://schemas.openxmlformats.org/officeDocument/2006/relationships/image" Target="../media/image5.png"/><Relationship Id="rId6" Type="http://schemas.openxmlformats.org/officeDocument/2006/relationships/slide" Target="slide4.xml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slide" Target="slide3.xm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png"/><Relationship Id="rId3" Type="http://schemas.openxmlformats.org/officeDocument/2006/relationships/slide" Target="slide3.xm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8.png"/><Relationship Id="rId4" Type="http://schemas.openxmlformats.org/officeDocument/2006/relationships/slide" Target="slide3.xml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stihi.ru/pics/2010/06/19/3464.jpg" TargetMode="External"/><Relationship Id="rId3" Type="http://schemas.openxmlformats.org/officeDocument/2006/relationships/hyperlink" Target="http://super-photoshop.ucoz.ru/images/kliparti/myltiki/klipart_gnomi.jpg" TargetMode="External"/><Relationship Id="rId4" Type="http://schemas.openxmlformats.org/officeDocument/2006/relationships/hyperlink" Target="http://super-photoshop.ucoz.ru/images/kliparti/myltiki/klipart_gnomi.jpg" TargetMode="External"/><Relationship Id="rId5" Type="http://schemas.openxmlformats.org/officeDocument/2006/relationships/hyperlink" Target="http://super-photoshop.ucoz.ru/images/kliparti/myltiki/klipart_gnomi.jpg" TargetMode="External"/><Relationship Id="rId6" Type="http://schemas.openxmlformats.org/officeDocument/2006/relationships/hyperlink" Target="http://super-photoshop.ucoz.ru/images/kliparti/myltiki/klipart_gnomi.jpg" TargetMode="External"/><Relationship Id="rId7" Type="http://schemas.openxmlformats.org/officeDocument/2006/relationships/hyperlink" Target="http://super-photoshop.ucoz.ru/images/kliparti/myltiki/klipart_gnomi.jpg" TargetMode="External"/><Relationship Id="rId8" Type="http://schemas.openxmlformats.org/officeDocument/2006/relationships/hyperlink" Target="http://super-photoshop.ucoz.ru/images/kliparti/myltiki/klipart_gnomi.jpg" TargetMode="External"/><Relationship Id="rId9" Type="http://schemas.openxmlformats.org/officeDocument/2006/relationships/hyperlink" Target="http://super-photoshop.ucoz.ru/images/kliparti/myltiki/klipart_gnomi.jpg" TargetMode="External"/><Relationship Id="rId10" Type="http://schemas.openxmlformats.org/officeDocument/2006/relationships/hyperlink" Target="http://super-photoshop.ucoz.ru/images/kliparti/myltiki/klipart_gnomi.jpg" TargetMode="External"/><Relationship Id="rId11" Type="http://schemas.openxmlformats.org/officeDocument/2006/relationships/hyperlink" Target="http://super-photoshop.ucoz.ru/images/kliparti/myltiki/klipart_gnomi.jpg" TargetMode="External"/><Relationship Id="rId12" Type="http://schemas.openxmlformats.org/officeDocument/2006/relationships/hyperlink" Target="http://super-photoshop.ucoz.ru/images/kliparti/myltiki/klipart_gnomi.jpg" TargetMode="External"/><Relationship Id="rId13" Type="http://schemas.openxmlformats.org/officeDocument/2006/relationships/hyperlink" Target="http://super-photoshop.ucoz.ru/images/kliparti/klipart_koshki_1.jpg" TargetMode="External"/><Relationship Id="rId14" Type="http://schemas.openxmlformats.org/officeDocument/2006/relationships/hyperlink" Target="http://super-photoshop.ucoz.ru/images/kliparti/klipart_koshki_1.jpg" TargetMode="External"/><Relationship Id="rId15" Type="http://schemas.openxmlformats.org/officeDocument/2006/relationships/hyperlink" Target="http://super-photoshop.ucoz.ru/images/kliparti/klipart_koshki_1.jpg" TargetMode="External"/><Relationship Id="rId16" Type="http://schemas.openxmlformats.org/officeDocument/2006/relationships/hyperlink" Target="http://super-photoshop.ucoz.ru/images/kliparti/klipart_koshki_1.jpg" TargetMode="External"/><Relationship Id="rId17" Type="http://schemas.openxmlformats.org/officeDocument/2006/relationships/hyperlink" Target="http://super-photoshop.ucoz.ru/images/kliparti/klipart_koshki_1.jpg" TargetMode="External"/><Relationship Id="rId18" Type="http://schemas.openxmlformats.org/officeDocument/2006/relationships/hyperlink" Target="http://super-photoshop.ucoz.ru/images/kliparti/klipart_koshki_1.jpg" TargetMode="External"/><Relationship Id="rId19" Type="http://schemas.openxmlformats.org/officeDocument/2006/relationships/hyperlink" Target="http://super-photoshop.ucoz.ru/images/kliparti/klipart_koshki_1.jpg" TargetMode="External"/><Relationship Id="rId20" Type="http://schemas.openxmlformats.org/officeDocument/2006/relationships/hyperlink" Target="http://www.photoshop-master.ru/adds/adds7089/1.jpg" TargetMode="External"/><Relationship Id="rId2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aae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 txBox="1"/>
          <p:nvPr/>
        </p:nvSpPr>
        <p:spPr>
          <a:xfrm>
            <a:off x="1763640" y="1197000"/>
            <a:ext cx="3529080" cy="1511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n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1" strike="noStrike">
                <a:ln cap="sq"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   </a:t>
            </a:r>
            <a:r>
              <a:rPr b="1" lang="en-US" sz="2400" spc="1" strike="noStrike">
                <a:ln cap="sq"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В гостях </a:t>
            </a:r>
            <a:endParaRPr b="1" lang="en-US" sz="2400" spc="1" strike="noStrike">
              <a:ln cap="sq"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35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1" strike="noStrike">
                <a:ln cap="sq"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у мудрого гнома</a:t>
            </a:r>
            <a:endParaRPr b="1" lang="en-US" sz="2400" spc="1" strike="noStrike">
              <a:ln cap="sq"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35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547640" y="2781360"/>
            <a:ext cx="41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9e00"/>
                </a:solidFill>
                <a:latin typeface="Arial"/>
              </a:rPr>
              <a:t>Игры по обучению грамоте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411280" y="4005360"/>
            <a:ext cx="302436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aae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468360" y="260280"/>
            <a:ext cx="8675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6000" spc="-1" strike="noStrike">
                <a:solidFill>
                  <a:srgbClr val="ffff5d"/>
                </a:solidFill>
                <a:latin typeface="Monotype Corsiva"/>
              </a:rPr>
              <a:t>В  гостях  у  мудрого  гнома</a:t>
            </a:r>
            <a:endParaRPr b="0" lang="en-US" sz="6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2166840" y="1395360"/>
            <a:ext cx="4810320" cy="406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900000" y="4653000"/>
            <a:ext cx="1193760" cy="15127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971640" y="2421000"/>
            <a:ext cx="1001520" cy="17287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404640"/>
            <a:ext cx="930240" cy="151164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2411280" y="981000"/>
            <a:ext cx="554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d6d100"/>
                </a:solidFill>
                <a:latin typeface="Arial"/>
              </a:rPr>
              <a:t>Слово в слове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 rot="10800000">
            <a:off x="2410920" y="2564280"/>
            <a:ext cx="64105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d6d100"/>
                </a:solidFill>
                <a:latin typeface="Arial"/>
              </a:rPr>
              <a:t>Найди спрятанное слово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340000" y="5300640"/>
            <a:ext cx="403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d6d100"/>
                </a:solidFill>
                <a:latin typeface="Arial"/>
              </a:rPr>
              <a:t>Кот-шутник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395280" y="3716280"/>
            <a:ext cx="2089080" cy="284184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1835280" y="189000"/>
            <a:ext cx="5545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ff5d"/>
                </a:solidFill>
                <a:latin typeface="Arial"/>
              </a:rPr>
              <a:t>Слово в слове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826920" y="1125360"/>
            <a:ext cx="93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До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403280" y="112536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рога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059280" y="1125360"/>
            <a:ext cx="158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рыба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284720" y="1125360"/>
            <a:ext cx="57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к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076720" y="1125360"/>
            <a:ext cx="7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бу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580000" y="112536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лыжник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900000" y="2133720"/>
            <a:ext cx="10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лес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692360" y="2133720"/>
            <a:ext cx="93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ка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987640" y="213372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уста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995640" y="2133720"/>
            <a:ext cx="5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л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076720" y="2133720"/>
            <a:ext cx="35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у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364000" y="2133720"/>
            <a:ext cx="15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точка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556000" y="3357720"/>
            <a:ext cx="3240000" cy="934920"/>
          </a:xfrm>
          <a:prstGeom prst="wedgeEllipseCallout">
            <a:avLst>
              <a:gd name="adj1" fmla="val -55486"/>
              <a:gd name="adj2" fmla="val 64259"/>
            </a:avLst>
          </a:prstGeom>
          <a:gradFill rotWithShape="0">
            <a:gsLst>
              <a:gs pos="0">
                <a:srgbClr val="75dbff"/>
              </a:gs>
              <a:gs pos="100000">
                <a:srgbClr val="ffffbd"/>
              </a:gs>
            </a:gsLst>
            <a:lin ang="13500000"/>
          </a:gradFill>
          <a:ln cap="sq"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Здорово!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" name="">
            <a:hlinkClick r:id="rId3" action="ppaction://hlinksldjump"/>
          </p:cNvPr>
          <p:cNvSpPr/>
          <p:nvPr/>
        </p:nvSpPr>
        <p:spPr>
          <a:xfrm>
            <a:off x="8172360" y="6093000"/>
            <a:ext cx="755640" cy="620640"/>
          </a:xfrm>
          <a:custGeom>
            <a:avLst/>
            <a:gdLst>
              <a:gd name="textAreaLeft" fmla="*/ 39960 w 755640"/>
              <a:gd name="textAreaRight" fmla="*/ 715680 w 75564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26296" h="21600">
                <a:moveTo>
                  <a:pt x="0" y="0"/>
                </a:moveTo>
                <a:lnTo>
                  <a:pt x="26296" y="0"/>
                </a:lnTo>
                <a:lnTo>
                  <a:pt x="26296" y="21600"/>
                </a:lnTo>
                <a:lnTo>
                  <a:pt x="0" y="21600"/>
                </a:lnTo>
                <a:close/>
              </a:path>
              <a:path fill="lightenLess" w="26296" h="21600">
                <a:moveTo>
                  <a:pt x="0" y="0"/>
                </a:moveTo>
                <a:lnTo>
                  <a:pt x="26296" y="0"/>
                </a:lnTo>
                <a:lnTo>
                  <a:pt x="24896" y="1400"/>
                </a:lnTo>
                <a:lnTo>
                  <a:pt x="1400" y="1400"/>
                </a:lnTo>
                <a:close/>
              </a:path>
              <a:path fill="darken" w="26296" h="21600">
                <a:moveTo>
                  <a:pt x="26296" y="0"/>
                </a:moveTo>
                <a:lnTo>
                  <a:pt x="26296" y="21600"/>
                </a:lnTo>
                <a:lnTo>
                  <a:pt x="24896" y="20200"/>
                </a:lnTo>
                <a:lnTo>
                  <a:pt x="24896" y="1400"/>
                </a:lnTo>
                <a:close/>
              </a:path>
              <a:path fill="darkenLess" w="26296" h="21600">
                <a:moveTo>
                  <a:pt x="262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96" y="20200"/>
                </a:lnTo>
                <a:close/>
              </a:path>
              <a:path fill="lighten" w="262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296" h="21600">
                <a:moveTo>
                  <a:pt x="13148" y="3837"/>
                </a:moveTo>
                <a:lnTo>
                  <a:pt x="15724" y="6448"/>
                </a:lnTo>
                <a:lnTo>
                  <a:pt x="15724" y="4707"/>
                </a:lnTo>
                <a:lnTo>
                  <a:pt x="17500" y="4707"/>
                </a:lnTo>
                <a:lnTo>
                  <a:pt x="17500" y="8224"/>
                </a:lnTo>
                <a:lnTo>
                  <a:pt x="20111" y="10800"/>
                </a:lnTo>
                <a:lnTo>
                  <a:pt x="18457" y="10800"/>
                </a:lnTo>
                <a:lnTo>
                  <a:pt x="18457" y="17989"/>
                </a:lnTo>
                <a:lnTo>
                  <a:pt x="7839" y="17989"/>
                </a:lnTo>
                <a:lnTo>
                  <a:pt x="7839" y="10800"/>
                </a:lnTo>
                <a:lnTo>
                  <a:pt x="6185" y="10800"/>
                </a:lnTo>
                <a:close/>
              </a:path>
              <a:path fill="darkenLess" w="26296" h="21600">
                <a:moveTo>
                  <a:pt x="15724" y="6448"/>
                </a:moveTo>
                <a:lnTo>
                  <a:pt x="15724" y="4707"/>
                </a:lnTo>
                <a:lnTo>
                  <a:pt x="17500" y="4707"/>
                </a:lnTo>
                <a:lnTo>
                  <a:pt x="17500" y="8224"/>
                </a:lnTo>
                <a:close/>
              </a:path>
              <a:path fill="darkenLess" w="26296" h="21600">
                <a:moveTo>
                  <a:pt x="12225" y="14299"/>
                </a:moveTo>
                <a:lnTo>
                  <a:pt x="14070" y="14299"/>
                </a:lnTo>
                <a:lnTo>
                  <a:pt x="14070" y="17989"/>
                </a:lnTo>
                <a:lnTo>
                  <a:pt x="18457" y="17989"/>
                </a:lnTo>
                <a:lnTo>
                  <a:pt x="18457" y="10800"/>
                </a:lnTo>
                <a:lnTo>
                  <a:pt x="7839" y="10800"/>
                </a:lnTo>
                <a:lnTo>
                  <a:pt x="7839" y="17989"/>
                </a:lnTo>
                <a:lnTo>
                  <a:pt x="12225" y="17989"/>
                </a:lnTo>
                <a:close/>
              </a:path>
            </a:pathLst>
          </a:custGeom>
          <a:solidFill>
            <a:srgbClr val="75d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dur="indefinite" fill="hold">
                      <p:stCondLst>
                        <p:cond delay="indefinite"/>
                      </p:stCondLst>
                      <p:childTnLst>
                        <p:par>
                          <p:cTn id="1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79b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dur="indefinite" fill="hold">
                      <p:stCondLst>
                        <p:cond delay="indefinite"/>
                      </p:stCondLst>
                      <p:childTnLst>
                        <p:par>
                          <p:cTn id="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dur="indefinite" fill="hold">
                      <p:stCondLst>
                        <p:cond delay="indefinite"/>
                      </p:stCondLst>
                      <p:childTnLst>
                        <p:par>
                          <p:cTn id="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79b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dur="indefinite" fill="hold">
                      <p:stCondLst>
                        <p:cond delay="indefinite"/>
                      </p:stCondLst>
                      <p:childTnLst>
                        <p:par>
                          <p:cTn id="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dur="indefinite" fill="hold">
                      <p:stCondLst>
                        <p:cond delay="indefinite"/>
                      </p:stCondLst>
                      <p:childTnLst>
                        <p:par>
                          <p:cTn id="3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79b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dur="indefinite" fill="hold">
                      <p:stCondLst>
                        <p:cond delay="indefinite"/>
                      </p:stCondLst>
                      <p:childTnLst>
                        <p:par>
                          <p:cTn id="3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dur="indefinite" fill="hold">
                      <p:stCondLst>
                        <p:cond delay="indefinite"/>
                      </p:stCondLst>
                      <p:childTnLst>
                        <p:par>
                          <p:cTn id="4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79b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dur="indefinite" fill="hold">
                      <p:stCondLst>
                        <p:cond delay="indefinite"/>
                      </p:stCondLst>
                      <p:childTnLst>
                        <p:par>
                          <p:cTn id="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dur="indefinite" fill="hold">
                      <p:stCondLst>
                        <p:cond delay="indefinite"/>
                      </p:stCondLst>
                      <p:childTnLst>
                        <p:par>
                          <p:cTn id="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2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79b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dur="indefinite" fill="hold">
                      <p:stCondLst>
                        <p:cond delay="indefinite"/>
                      </p:stCondLst>
                      <p:childTnLst>
                        <p:par>
                          <p:cTn id="5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dur="indefinite" fill="hold">
                      <p:stCondLst>
                        <p:cond delay="indefinite"/>
                      </p:stCondLst>
                      <p:childTnLst>
                        <p:par>
                          <p:cTn id="6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79b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dur="indefinite" fill="hold">
                      <p:stCondLst>
                        <p:cond delay="indefinite"/>
                      </p:stCondLst>
                      <p:childTnLst>
                        <p:par>
                          <p:cTn id="6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7236000" y="981000"/>
            <a:ext cx="1701720" cy="26082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250920" y="404640"/>
            <a:ext cx="756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ff5d"/>
                </a:solidFill>
                <a:latin typeface="Arial"/>
              </a:rPr>
              <a:t>Найди спрятанное слово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484360" y="429264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радуга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24000" y="4292640"/>
            <a:ext cx="23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шлгентро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995640" y="4292640"/>
            <a:ext cx="19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смитчв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653080" y="4292640"/>
            <a:ext cx="15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гроза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877080" y="4292640"/>
            <a:ext cx="8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ма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95280" y="429264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па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900000" y="4292640"/>
            <a:ext cx="15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ручка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195640" y="6491160"/>
            <a:ext cx="223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195640" y="4292640"/>
            <a:ext cx="30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ьитнббрыю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59280" y="4292640"/>
            <a:ext cx="20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букварь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877080" y="429264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пенал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8207280" y="4292640"/>
            <a:ext cx="93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цр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451640" y="429264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снег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50920" y="1700280"/>
            <a:ext cx="67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66cc"/>
                </a:solidFill>
                <a:latin typeface="Arial"/>
              </a:rPr>
              <a:t>Что обозначают эти слова?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24000" y="2565360"/>
            <a:ext cx="568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79bc"/>
                </a:solidFill>
                <a:latin typeface="Arial"/>
              </a:rPr>
              <a:t>Явления природы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50920" y="2565360"/>
            <a:ext cx="66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79bc"/>
                </a:solidFill>
                <a:latin typeface="Arial"/>
              </a:rPr>
              <a:t>Школьные принадлежности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59640" y="429264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к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rot="10620000">
            <a:off x="3350520" y="1266120"/>
            <a:ext cx="3516120" cy="1143000"/>
          </a:xfrm>
          <a:prstGeom prst="wedgeEllipseCallout">
            <a:avLst>
              <a:gd name="adj1" fmla="val -67791"/>
              <a:gd name="adj2" fmla="val 31157"/>
            </a:avLst>
          </a:prstGeom>
          <a:gradFill rotWithShape="0">
            <a:gsLst>
              <a:gs pos="0">
                <a:srgbClr val="75dbff"/>
              </a:gs>
              <a:gs pos="100000">
                <a:srgbClr val="ffffbd"/>
              </a:gs>
            </a:gsLst>
            <a:lin ang="2538000"/>
          </a:gradFill>
          <a:ln cap="sq"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Молодцы!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4" name="">
            <a:hlinkClick r:id="rId3" action="ppaction://hlinksldjump"/>
          </p:cNvPr>
          <p:cNvSpPr/>
          <p:nvPr/>
        </p:nvSpPr>
        <p:spPr>
          <a:xfrm>
            <a:off x="8172360" y="6093000"/>
            <a:ext cx="755640" cy="620640"/>
          </a:xfrm>
          <a:custGeom>
            <a:avLst/>
            <a:gdLst>
              <a:gd name="textAreaLeft" fmla="*/ 39960 w 755640"/>
              <a:gd name="textAreaRight" fmla="*/ 715680 w 75564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26296" h="21600">
                <a:moveTo>
                  <a:pt x="0" y="0"/>
                </a:moveTo>
                <a:lnTo>
                  <a:pt x="26296" y="0"/>
                </a:lnTo>
                <a:lnTo>
                  <a:pt x="26296" y="21600"/>
                </a:lnTo>
                <a:lnTo>
                  <a:pt x="0" y="21600"/>
                </a:lnTo>
                <a:close/>
              </a:path>
              <a:path fill="lightenLess" w="26296" h="21600">
                <a:moveTo>
                  <a:pt x="0" y="0"/>
                </a:moveTo>
                <a:lnTo>
                  <a:pt x="26296" y="0"/>
                </a:lnTo>
                <a:lnTo>
                  <a:pt x="24896" y="1400"/>
                </a:lnTo>
                <a:lnTo>
                  <a:pt x="1400" y="1400"/>
                </a:lnTo>
                <a:close/>
              </a:path>
              <a:path fill="darken" w="26296" h="21600">
                <a:moveTo>
                  <a:pt x="26296" y="0"/>
                </a:moveTo>
                <a:lnTo>
                  <a:pt x="26296" y="21600"/>
                </a:lnTo>
                <a:lnTo>
                  <a:pt x="24896" y="20200"/>
                </a:lnTo>
                <a:lnTo>
                  <a:pt x="24896" y="1400"/>
                </a:lnTo>
                <a:close/>
              </a:path>
              <a:path fill="darkenLess" w="26296" h="21600">
                <a:moveTo>
                  <a:pt x="262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96" y="20200"/>
                </a:lnTo>
                <a:close/>
              </a:path>
              <a:path fill="lighten" w="262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296" h="21600">
                <a:moveTo>
                  <a:pt x="13148" y="3837"/>
                </a:moveTo>
                <a:lnTo>
                  <a:pt x="15724" y="6448"/>
                </a:lnTo>
                <a:lnTo>
                  <a:pt x="15724" y="4707"/>
                </a:lnTo>
                <a:lnTo>
                  <a:pt x="17500" y="4707"/>
                </a:lnTo>
                <a:lnTo>
                  <a:pt x="17500" y="8224"/>
                </a:lnTo>
                <a:lnTo>
                  <a:pt x="20111" y="10800"/>
                </a:lnTo>
                <a:lnTo>
                  <a:pt x="18457" y="10800"/>
                </a:lnTo>
                <a:lnTo>
                  <a:pt x="18457" y="17989"/>
                </a:lnTo>
                <a:lnTo>
                  <a:pt x="7839" y="17989"/>
                </a:lnTo>
                <a:lnTo>
                  <a:pt x="7839" y="10800"/>
                </a:lnTo>
                <a:lnTo>
                  <a:pt x="6185" y="10800"/>
                </a:lnTo>
                <a:close/>
              </a:path>
              <a:path fill="darkenLess" w="26296" h="21600">
                <a:moveTo>
                  <a:pt x="15724" y="6448"/>
                </a:moveTo>
                <a:lnTo>
                  <a:pt x="15724" y="4707"/>
                </a:lnTo>
                <a:lnTo>
                  <a:pt x="17500" y="4707"/>
                </a:lnTo>
                <a:lnTo>
                  <a:pt x="17500" y="8224"/>
                </a:lnTo>
                <a:close/>
              </a:path>
              <a:path fill="darkenLess" w="26296" h="21600">
                <a:moveTo>
                  <a:pt x="12225" y="14299"/>
                </a:moveTo>
                <a:lnTo>
                  <a:pt x="14070" y="14299"/>
                </a:lnTo>
                <a:lnTo>
                  <a:pt x="14070" y="17989"/>
                </a:lnTo>
                <a:lnTo>
                  <a:pt x="18457" y="17989"/>
                </a:lnTo>
                <a:lnTo>
                  <a:pt x="18457" y="10800"/>
                </a:lnTo>
                <a:lnTo>
                  <a:pt x="7839" y="10800"/>
                </a:lnTo>
                <a:lnTo>
                  <a:pt x="7839" y="17989"/>
                </a:lnTo>
                <a:lnTo>
                  <a:pt x="12225" y="17989"/>
                </a:lnTo>
                <a:close/>
              </a:path>
            </a:pathLst>
          </a:custGeom>
          <a:solidFill>
            <a:srgbClr val="75d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dur="indefinite" fill="hold">
                      <p:stCondLst>
                        <p:cond delay="indefinite"/>
                      </p:stCondLst>
                      <p:childTnLst>
                        <p:par>
                          <p:cTn id="7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dur="indefinite" fill="hold">
                      <p:stCondLst>
                        <p:cond delay="indefinite"/>
                      </p:stCondLst>
                      <p:childTnLst>
                        <p:par>
                          <p:cTn id="8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79b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dur="indefinite" fill="hold">
                      <p:stCondLst>
                        <p:cond delay="indefinite"/>
                      </p:stCondLst>
                      <p:childTnLst>
                        <p:par>
                          <p:cTn id="8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79b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dur="indefinite" fill="hold">
                      <p:stCondLst>
                        <p:cond delay="indefinite"/>
                      </p:stCondLst>
                      <p:childTnLst>
                        <p:par>
                          <p:cTn id="9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4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79b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dur="indefinite" fill="hold">
                      <p:stCondLst>
                        <p:cond delay="indefinite"/>
                      </p:stCondLst>
                      <p:childTnLst>
                        <p:par>
                          <p:cTn id="9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dur="indefinite" fill="hold">
                      <p:stCondLst>
                        <p:cond delay="indefinite"/>
                      </p:stCondLst>
                      <p:childTnLst>
                        <p:par>
                          <p:cTn id="10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dur="indefinite" fill="hold">
                      <p:stCondLst>
                        <p:cond delay="indefinite"/>
                      </p:stCondLst>
                      <p:childTnLst>
                        <p:par>
                          <p:cTn id="10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dur="indefinite" fill="hold">
                      <p:stCondLst>
                        <p:cond delay="indefinite"/>
                      </p:stCondLst>
                      <p:childTnLst>
                        <p:par>
                          <p:cTn id="12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dur="indefinite" fill="hold">
                      <p:stCondLst>
                        <p:cond delay="indefinite"/>
                      </p:stCondLst>
                      <p:childTnLst>
                        <p:par>
                          <p:cTn id="14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79b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dur="indefinite" fill="hold">
                      <p:stCondLst>
                        <p:cond delay="indefinite"/>
                      </p:stCondLst>
                      <p:childTnLst>
                        <p:par>
                          <p:cTn id="1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79b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dur="indefinite" fill="hold">
                      <p:stCondLst>
                        <p:cond delay="indefinite"/>
                      </p:stCondLst>
                      <p:childTnLst>
                        <p:par>
                          <p:cTn id="15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79bc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dur="indefinite" fill="hold">
                      <p:stCondLst>
                        <p:cond delay="indefinite"/>
                      </p:stCondLst>
                      <p:childTnLst>
                        <p:par>
                          <p:cTn id="16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dur="indefinite" fill="hold">
                      <p:stCondLst>
                        <p:cond delay="indefinite"/>
                      </p:stCondLst>
                      <p:childTnLst>
                        <p:par>
                          <p:cTn id="16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dur="indefinite" fill="hold">
                      <p:stCondLst>
                        <p:cond delay="indefinite"/>
                      </p:stCondLst>
                      <p:childTnLst>
                        <p:par>
                          <p:cTn id="17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179280" y="3429000"/>
            <a:ext cx="2440080" cy="30956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2268360" y="189000"/>
            <a:ext cx="403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ff5d"/>
                </a:solidFill>
                <a:latin typeface="Arial"/>
              </a:rPr>
              <a:t>Кот-шутник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7380360" y="836640"/>
            <a:ext cx="1368360" cy="117792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900000" y="1052640"/>
            <a:ext cx="16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град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900000" y="1555920"/>
            <a:ext cx="14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крот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900000" y="2060640"/>
            <a:ext cx="15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сушки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900000" y="256392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лампа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900000" y="3068640"/>
            <a:ext cx="20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пилот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995640" y="1052640"/>
            <a:ext cx="2664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66cc"/>
                </a:solidFill>
                <a:latin typeface="Arial"/>
              </a:rPr>
              <a:t>рад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995640" y="1555920"/>
            <a:ext cx="16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66cc"/>
                </a:solidFill>
                <a:latin typeface="Arial"/>
              </a:rPr>
              <a:t>рот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995640" y="206064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66cc"/>
                </a:solidFill>
                <a:latin typeface="Arial"/>
              </a:rPr>
              <a:t>ушки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995640" y="2563920"/>
            <a:ext cx="28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66cc"/>
                </a:solidFill>
                <a:latin typeface="Arial"/>
              </a:rPr>
              <a:t>лапа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995640" y="3068640"/>
            <a:ext cx="208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66cc"/>
                </a:solidFill>
                <a:latin typeface="Arial"/>
              </a:rPr>
              <a:t>плот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268360" y="2997360"/>
            <a:ext cx="4537080" cy="1223640"/>
          </a:xfrm>
          <a:prstGeom prst="wedgeEllipseCallout">
            <a:avLst>
              <a:gd name="adj1" fmla="val -50138"/>
              <a:gd name="adj2" fmla="val 50129"/>
            </a:avLst>
          </a:prstGeom>
          <a:gradFill rotWithShape="0">
            <a:gsLst>
              <a:gs pos="0">
                <a:srgbClr val="75dbff"/>
              </a:gs>
              <a:gs pos="100000">
                <a:srgbClr val="ffffbd"/>
              </a:gs>
            </a:gsLst>
            <a:lin ang="13500000"/>
          </a:gradFill>
          <a:ln cap="sq"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Угадай, какое слово получилось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Убери одну букву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268360" y="3068640"/>
            <a:ext cx="4535640" cy="1224000"/>
          </a:xfrm>
          <a:prstGeom prst="wedgeEllipseCallout">
            <a:avLst>
              <a:gd name="adj1" fmla="val -48634"/>
              <a:gd name="adj2" fmla="val 47407"/>
            </a:avLst>
          </a:prstGeom>
          <a:gradFill rotWithShape="0">
            <a:gsLst>
              <a:gs pos="0">
                <a:srgbClr val="75dbff"/>
              </a:gs>
              <a:gs pos="100000">
                <a:srgbClr val="ffffbd"/>
              </a:gs>
            </a:gsLst>
            <a:lin ang="13500000"/>
          </a:gradFill>
          <a:ln cap="sq"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Догадайся, какое слово было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Добавь одну букву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03640" y="393372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усы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443640" y="3933720"/>
            <a:ext cx="23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66cc"/>
                </a:solidFill>
                <a:latin typeface="Arial"/>
              </a:rPr>
              <a:t>бусы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203640" y="4437000"/>
            <a:ext cx="129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укус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443640" y="443700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66cc"/>
                </a:solidFill>
                <a:latin typeface="Arial"/>
              </a:rPr>
              <a:t>уксус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203640" y="5013360"/>
            <a:ext cx="143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рубка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443640" y="5013360"/>
            <a:ext cx="201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66cc"/>
                </a:solidFill>
                <a:latin typeface="Arial"/>
              </a:rPr>
              <a:t>трубка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203640" y="5589720"/>
            <a:ext cx="172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дар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443640" y="5589720"/>
            <a:ext cx="165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66cc"/>
                </a:solidFill>
                <a:latin typeface="Arial"/>
              </a:rPr>
              <a:t>удар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3640" y="6165720"/>
            <a:ext cx="151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клад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443640" y="6165720"/>
            <a:ext cx="151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66cc"/>
                </a:solidFill>
                <a:latin typeface="Arial"/>
              </a:rPr>
              <a:t>склад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268360" y="2997360"/>
            <a:ext cx="4535640" cy="1296720"/>
          </a:xfrm>
          <a:prstGeom prst="wedgeEllipseCallout">
            <a:avLst>
              <a:gd name="adj1" fmla="val -50351"/>
              <a:gd name="adj2" fmla="val 42046"/>
            </a:avLst>
          </a:prstGeom>
          <a:gradFill rotWithShape="0">
            <a:gsLst>
              <a:gs pos="0">
                <a:srgbClr val="75dbff"/>
              </a:gs>
              <a:gs pos="100000">
                <a:srgbClr val="ffffbd"/>
              </a:gs>
            </a:gsLst>
            <a:lin ang="13500000"/>
          </a:gradFill>
          <a:ln cap="sq"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Молодцы!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Спасибо за работу!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1" name="">
            <a:hlinkClick r:id="rId4" action="ppaction://hlinksldjump"/>
          </p:cNvPr>
          <p:cNvSpPr/>
          <p:nvPr/>
        </p:nvSpPr>
        <p:spPr>
          <a:xfrm>
            <a:off x="8172360" y="6093000"/>
            <a:ext cx="755640" cy="620640"/>
          </a:xfrm>
          <a:custGeom>
            <a:avLst/>
            <a:gdLst>
              <a:gd name="textAreaLeft" fmla="*/ 39960 w 755640"/>
              <a:gd name="textAreaRight" fmla="*/ 715680 w 75564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26296" h="21600">
                <a:moveTo>
                  <a:pt x="0" y="0"/>
                </a:moveTo>
                <a:lnTo>
                  <a:pt x="26296" y="0"/>
                </a:lnTo>
                <a:lnTo>
                  <a:pt x="26296" y="21600"/>
                </a:lnTo>
                <a:lnTo>
                  <a:pt x="0" y="21600"/>
                </a:lnTo>
                <a:close/>
              </a:path>
              <a:path fill="lightenLess" w="26296" h="21600">
                <a:moveTo>
                  <a:pt x="0" y="0"/>
                </a:moveTo>
                <a:lnTo>
                  <a:pt x="26296" y="0"/>
                </a:lnTo>
                <a:lnTo>
                  <a:pt x="24896" y="1400"/>
                </a:lnTo>
                <a:lnTo>
                  <a:pt x="1400" y="1400"/>
                </a:lnTo>
                <a:close/>
              </a:path>
              <a:path fill="darken" w="26296" h="21600">
                <a:moveTo>
                  <a:pt x="26296" y="0"/>
                </a:moveTo>
                <a:lnTo>
                  <a:pt x="26296" y="21600"/>
                </a:lnTo>
                <a:lnTo>
                  <a:pt x="24896" y="20200"/>
                </a:lnTo>
                <a:lnTo>
                  <a:pt x="24896" y="1400"/>
                </a:lnTo>
                <a:close/>
              </a:path>
              <a:path fill="darkenLess" w="26296" h="21600">
                <a:moveTo>
                  <a:pt x="262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96" y="20200"/>
                </a:lnTo>
                <a:close/>
              </a:path>
              <a:path fill="lighten" w="262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296" h="21600">
                <a:moveTo>
                  <a:pt x="13148" y="3837"/>
                </a:moveTo>
                <a:lnTo>
                  <a:pt x="15724" y="6448"/>
                </a:lnTo>
                <a:lnTo>
                  <a:pt x="15724" y="4707"/>
                </a:lnTo>
                <a:lnTo>
                  <a:pt x="17500" y="4707"/>
                </a:lnTo>
                <a:lnTo>
                  <a:pt x="17500" y="8224"/>
                </a:lnTo>
                <a:lnTo>
                  <a:pt x="20111" y="10800"/>
                </a:lnTo>
                <a:lnTo>
                  <a:pt x="18457" y="10800"/>
                </a:lnTo>
                <a:lnTo>
                  <a:pt x="18457" y="17989"/>
                </a:lnTo>
                <a:lnTo>
                  <a:pt x="7839" y="17989"/>
                </a:lnTo>
                <a:lnTo>
                  <a:pt x="7839" y="10800"/>
                </a:lnTo>
                <a:lnTo>
                  <a:pt x="6185" y="10800"/>
                </a:lnTo>
                <a:close/>
              </a:path>
              <a:path fill="darkenLess" w="26296" h="21600">
                <a:moveTo>
                  <a:pt x="15724" y="6448"/>
                </a:moveTo>
                <a:lnTo>
                  <a:pt x="15724" y="4707"/>
                </a:lnTo>
                <a:lnTo>
                  <a:pt x="17500" y="4707"/>
                </a:lnTo>
                <a:lnTo>
                  <a:pt x="17500" y="8224"/>
                </a:lnTo>
                <a:close/>
              </a:path>
              <a:path fill="darkenLess" w="26296" h="21600">
                <a:moveTo>
                  <a:pt x="12225" y="14299"/>
                </a:moveTo>
                <a:lnTo>
                  <a:pt x="14070" y="14299"/>
                </a:lnTo>
                <a:lnTo>
                  <a:pt x="14070" y="17989"/>
                </a:lnTo>
                <a:lnTo>
                  <a:pt x="18457" y="17989"/>
                </a:lnTo>
                <a:lnTo>
                  <a:pt x="18457" y="10800"/>
                </a:lnTo>
                <a:lnTo>
                  <a:pt x="7839" y="10800"/>
                </a:lnTo>
                <a:lnTo>
                  <a:pt x="7839" y="17989"/>
                </a:lnTo>
                <a:lnTo>
                  <a:pt x="12225" y="17989"/>
                </a:lnTo>
                <a:close/>
              </a:path>
            </a:pathLst>
          </a:custGeom>
          <a:solidFill>
            <a:srgbClr val="75d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dur="indefinite" fill="hold">
                      <p:stCondLst>
                        <p:cond delay="indefinite"/>
                      </p:stCondLst>
                      <p:childTnLst>
                        <p:par>
                          <p:cTn id="20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dur="indefinite" fill="hold">
                      <p:stCondLst>
                        <p:cond delay="indefinite"/>
                      </p:stCondLst>
                      <p:childTnLst>
                        <p:par>
                          <p:cTn id="2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8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dur="indefinite" fill="hold">
                      <p:stCondLst>
                        <p:cond delay="indefinite"/>
                      </p:stCondLst>
                      <p:childTnLst>
                        <p:par>
                          <p:cTn id="2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226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dur="indefinite" fill="hold">
                      <p:stCondLst>
                        <p:cond delay="indefinite"/>
                      </p:stCondLst>
                      <p:childTnLst>
                        <p:par>
                          <p:cTn id="22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dur="indefinite" fill="hold">
                      <p:stCondLst>
                        <p:cond delay="indefinite"/>
                      </p:stCondLst>
                      <p:childTnLst>
                        <p:par>
                          <p:cTn id="23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dur="indefinite" fill="hold">
                      <p:stCondLst>
                        <p:cond delay="indefinite"/>
                      </p:stCondLst>
                      <p:childTnLst>
                        <p:par>
                          <p:cTn id="24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250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dur="indefinite" fill="hold">
                      <p:stCondLst>
                        <p:cond delay="indefinite"/>
                      </p:stCondLst>
                      <p:childTnLst>
                        <p:par>
                          <p:cTn id="25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dur="indefinite" fill="hold">
                      <p:stCondLst>
                        <p:cond delay="indefinite"/>
                      </p:stCondLst>
                      <p:childTnLst>
                        <p:par>
                          <p:cTn id="25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dur="indefinite" fill="hold">
                      <p:stCondLst>
                        <p:cond delay="indefinite"/>
                      </p:stCondLst>
                      <p:childTnLst>
                        <p:par>
                          <p:cTn id="26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3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6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dur="indefinite" fill="hold">
                      <p:stCondLst>
                        <p:cond delay="indefinite"/>
                      </p:stCondLst>
                      <p:childTnLst>
                        <p:par>
                          <p:cTn id="26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274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dur="indefinite" fill="hold">
                      <p:stCondLst>
                        <p:cond delay="indefinite"/>
                      </p:stCondLst>
                      <p:childTnLst>
                        <p:par>
                          <p:cTn id="27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282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dur="indefinite" fill="hold">
                      <p:stCondLst>
                        <p:cond delay="indefinite"/>
                      </p:stCondLst>
                      <p:childTnLst>
                        <p:par>
                          <p:cTn id="28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8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8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290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dur="indefinite" fill="hold">
                      <p:stCondLst>
                        <p:cond delay="indefinite"/>
                      </p:stCondLst>
                      <p:childTnLst>
                        <p:par>
                          <p:cTn id="29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298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dur="indefinite" fill="hold">
                      <p:stCondLst>
                        <p:cond delay="indefinite"/>
                      </p:stCondLst>
                      <p:childTnLst>
                        <p:par>
                          <p:cTn id="30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0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306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309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395280" y="765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http://www.stihi.ru/pics/2010/06/19/3464.jpg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-  гном на 2 слайде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93840" y="1197000"/>
            <a:ext cx="814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http://</a:t>
            </a:r>
            <a:r>
              <a:rPr b="0" lang="ru-RU" sz="18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super-photoshop.ucoz.ru</a:t>
            </a:r>
            <a:r>
              <a:rPr b="0" lang="ru-RU" sz="1800" spc="-1" strike="noStrike" u="sng">
                <a:solidFill>
                  <a:srgbClr val="ccccff"/>
                </a:solidFill>
                <a:uFillTx/>
                <a:latin typeface="Arial"/>
                <a:hlinkClick r:id="rId5"/>
              </a:rPr>
              <a:t>/</a:t>
            </a:r>
            <a:r>
              <a:rPr b="0" lang="ru-RU" sz="1800" spc="-1" strike="noStrike" u="sng">
                <a:solidFill>
                  <a:srgbClr val="ccccff"/>
                </a:solidFill>
                <a:uFillTx/>
                <a:latin typeface="Arial"/>
                <a:hlinkClick r:id="rId6"/>
              </a:rPr>
              <a:t>images</a:t>
            </a:r>
            <a:r>
              <a:rPr b="0" lang="ru-RU" sz="1800" spc="-1" strike="noStrike" u="sng">
                <a:solidFill>
                  <a:srgbClr val="ccccff"/>
                </a:solidFill>
                <a:uFillTx/>
                <a:latin typeface="Arial"/>
                <a:hlinkClick r:id="rId7"/>
              </a:rPr>
              <a:t>/</a:t>
            </a:r>
            <a:r>
              <a:rPr b="0" lang="ru-RU" sz="1800" spc="-1" strike="noStrike" u="sng">
                <a:solidFill>
                  <a:srgbClr val="ccccff"/>
                </a:solidFill>
                <a:uFillTx/>
                <a:latin typeface="Arial"/>
                <a:hlinkClick r:id="rId8"/>
              </a:rPr>
              <a:t>kliparti</a:t>
            </a:r>
            <a:r>
              <a:rPr b="0" lang="ru-RU" sz="1800" spc="-1" strike="noStrike" u="sng">
                <a:solidFill>
                  <a:srgbClr val="ccccff"/>
                </a:solidFill>
                <a:uFillTx/>
                <a:latin typeface="Arial"/>
                <a:hlinkClick r:id="rId9"/>
              </a:rPr>
              <a:t>/</a:t>
            </a:r>
            <a:r>
              <a:rPr b="0" lang="ru-RU" sz="1800" spc="-1" strike="noStrike" u="sng">
                <a:solidFill>
                  <a:srgbClr val="ccccff"/>
                </a:solidFill>
                <a:uFillTx/>
                <a:latin typeface="Arial"/>
                <a:hlinkClick r:id="rId10"/>
              </a:rPr>
              <a:t>myltiki</a:t>
            </a:r>
            <a:r>
              <a:rPr b="0" lang="ru-RU" sz="1800" spc="-1" strike="noStrike" u="sng">
                <a:solidFill>
                  <a:srgbClr val="ccccff"/>
                </a:solidFill>
                <a:uFillTx/>
                <a:latin typeface="Arial"/>
                <a:hlinkClick r:id="rId11"/>
              </a:rPr>
              <a:t>/</a:t>
            </a:r>
            <a:r>
              <a:rPr b="0" lang="ru-RU" sz="1800" spc="-1" strike="noStrike" u="sng">
                <a:solidFill>
                  <a:srgbClr val="ccccff"/>
                </a:solidFill>
                <a:uFillTx/>
                <a:latin typeface="Arial"/>
                <a:hlinkClick r:id="rId12"/>
              </a:rPr>
              <a:t>klipart_gnomi.jpg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- гномы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5280" y="1628640"/>
            <a:ext cx="84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 u="sng">
                <a:solidFill>
                  <a:srgbClr val="ccccff"/>
                </a:solidFill>
                <a:uFillTx/>
                <a:latin typeface="Arial"/>
                <a:hlinkClick r:id="rId13"/>
              </a:rPr>
              <a:t>http://</a:t>
            </a:r>
            <a:r>
              <a:rPr b="0" lang="ru-RU" sz="1800" spc="-1" strike="noStrike" u="sng">
                <a:solidFill>
                  <a:srgbClr val="ccccff"/>
                </a:solidFill>
                <a:uFillTx/>
                <a:latin typeface="Arial"/>
                <a:hlinkClick r:id="rId14"/>
              </a:rPr>
              <a:t>super-photoshop.ucoz.ru</a:t>
            </a:r>
            <a:r>
              <a:rPr b="0" lang="ru-RU" sz="1800" spc="-1" strike="noStrike" u="sng">
                <a:solidFill>
                  <a:srgbClr val="ccccff"/>
                </a:solidFill>
                <a:uFillTx/>
                <a:latin typeface="Arial"/>
                <a:hlinkClick r:id="rId15"/>
              </a:rPr>
              <a:t>/</a:t>
            </a:r>
            <a:r>
              <a:rPr b="0" lang="ru-RU" sz="1800" spc="-1" strike="noStrike" u="sng">
                <a:solidFill>
                  <a:srgbClr val="ccccff"/>
                </a:solidFill>
                <a:uFillTx/>
                <a:latin typeface="Arial"/>
                <a:hlinkClick r:id="rId16"/>
              </a:rPr>
              <a:t>images</a:t>
            </a:r>
            <a:r>
              <a:rPr b="0" lang="ru-RU" sz="1800" spc="-1" strike="noStrike" u="sng">
                <a:solidFill>
                  <a:srgbClr val="ccccff"/>
                </a:solidFill>
                <a:uFillTx/>
                <a:latin typeface="Arial"/>
                <a:hlinkClick r:id="rId17"/>
              </a:rPr>
              <a:t>/</a:t>
            </a:r>
            <a:r>
              <a:rPr b="0" lang="ru-RU" sz="1800" spc="-1" strike="noStrike" u="sng">
                <a:solidFill>
                  <a:srgbClr val="ccccff"/>
                </a:solidFill>
                <a:uFillTx/>
                <a:latin typeface="Arial"/>
                <a:hlinkClick r:id="rId18"/>
              </a:rPr>
              <a:t>kliparti</a:t>
            </a:r>
            <a:r>
              <a:rPr b="0" lang="ru-RU" sz="1800" spc="-1" strike="noStrike" u="sng">
                <a:solidFill>
                  <a:srgbClr val="ccccff"/>
                </a:solidFill>
                <a:uFillTx/>
                <a:latin typeface="Arial"/>
                <a:hlinkClick r:id="rId19"/>
              </a:rPr>
              <a:t>/klipart_koshki_1.jpg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-котенок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843280" y="0"/>
            <a:ext cx="34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Источники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95280" y="2060640"/>
            <a:ext cx="820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 u="sng">
                <a:solidFill>
                  <a:srgbClr val="ccccff"/>
                </a:solidFill>
                <a:uFillTx/>
                <a:latin typeface="Arial"/>
                <a:hlinkClick r:id="rId20"/>
              </a:rPr>
              <a:t>http://www.photoshop-master.ru/adds/adds7089/1.jpg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- рамка на 1 слайде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5280" y="2492280"/>
            <a:ext cx="748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Материал взят из книги Н.Н Масимук «Игры по обучению грамоте и чтению» Москва «ВАКО» 2006 г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5T11:07:20Z</dcterms:created>
  <dc:creator>User</dc:creator>
  <dc:description/>
  <dc:language>en-US</dc:language>
  <cp:lastModifiedBy>User</cp:lastModifiedBy>
  <dcterms:modified xsi:type="dcterms:W3CDTF">2011-07-24T15:24:54Z</dcterms:modified>
  <cp:revision>7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