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1039-2FD3-415F-A46B-91820C5AF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9140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7720" y="4307040"/>
            <a:ext cx="769140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0C2C-09D3-4B44-8BAB-295BBD8F2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7720" y="430704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79000" y="430704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3DD6-FB05-416A-971B-E4639AB6B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8360" y="236232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39000" y="236232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7720" y="430704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8360" y="430704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39000" y="430704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9A17-2102-42AB-AEC0-8C8CC1EA8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5D494-C33D-44B4-990A-2DA7F63A4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691400" cy="37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3C3FA-50BD-4087-A6A7-672A0C00A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9140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ACC73-7EE3-4BE5-AADB-2116E2691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4692E-973C-4240-AD8A-266C13289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EF119-2D1A-4F7C-A819-9CA7ED981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3400" y="833040"/>
            <a:ext cx="7778880" cy="46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3F75D-3BC1-49D1-B8D4-6D56B3524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7720" y="430704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2EFDD-8E6D-472A-9949-E99DE7C3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691400" cy="37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C02C-B9E3-47BA-ACAD-4DF827624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79000" y="430704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CB345-8E53-4F60-9EF2-7C071115F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7720" y="4307040"/>
            <a:ext cx="769140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4B1C1-A105-4760-B516-0FFACD6E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9140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7720" y="4307040"/>
            <a:ext cx="769140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51D7E-1F99-4A62-B985-DE6818DDE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7720" y="430704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79000" y="430704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2F9A9-1F82-4959-A422-539E2AFE5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8360" y="236232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39000" y="236232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7720" y="430704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8360" y="430704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39000" y="430704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B95AC-7DA7-4D84-8604-5E31A6BBD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9140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F7D2-E7D6-4C76-9D9C-B2D89D624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25C8-1EB4-4401-9E6B-403F7C085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16D4-A7D9-447D-9B55-5CDC109D3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3400" y="833040"/>
            <a:ext cx="7778880" cy="46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9AD3-54B3-4305-A8CC-9B9F76929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7720" y="430704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596C-F865-43C6-9AA5-92133BBE1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79000" y="430704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1582-7190-4A42-B9C9-4260CEB0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307040"/>
            <a:ext cx="769140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4E02-0900-473E-A4BB-84E156DF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aae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18320" cy="6856560"/>
            <a:chOff x="0" y="0"/>
            <a:chExt cx="7618320" cy="68565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198960" cy="6856560"/>
              <a:chOff x="0" y="0"/>
              <a:chExt cx="3198960" cy="685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0320" cy="68565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1760" cy="116532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240" y="1981080"/>
              <a:ext cx="7390080" cy="317520"/>
              <a:chOff x="228240" y="1981080"/>
              <a:chExt cx="7390080" cy="3175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08840" cy="3160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7880" y="1981080"/>
                <a:ext cx="392040" cy="3175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7720" y="2362320"/>
            <a:ext cx="769140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2904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5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57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34B16B4-7FCC-4CDE-B5EE-1CB4257CDA9C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aae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5840" cy="6856560"/>
            <a:chOff x="0" y="0"/>
            <a:chExt cx="5865840" cy="685656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0560" cy="685656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0040" cy="1903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5480" cy="317520"/>
            <a:chOff x="3632040" y="4889520"/>
            <a:chExt cx="4875480" cy="31752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4560" cy="3157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58840" cy="3175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2904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5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3366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160"/>
            <a:ext cx="5857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CFCB296-DF71-4940-A300-B483401D60DE}" type="slidenum">
              <a:rPr b="1" lang="ru-RU" sz="26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5160" y="1269720"/>
            <a:ext cx="767088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743040" indent="0" algn="ctr">
              <a:spcBef>
                <a:spcPts val="60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 algn="ctr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 algn="ctr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6.xml"/><Relationship Id="rId3" Type="http://schemas.openxmlformats.org/officeDocument/2006/relationships/image" Target="../media/image4.png"/><Relationship Id="rId4" Type="http://schemas.openxmlformats.org/officeDocument/2006/relationships/slide" Target="slide5.xml"/><Relationship Id="rId5" Type="http://schemas.openxmlformats.org/officeDocument/2006/relationships/image" Target="../media/image5.png"/><Relationship Id="rId6" Type="http://schemas.openxmlformats.org/officeDocument/2006/relationships/slide" Target="slide4.xm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stihi.ru/pics/2010/06/19/3464.jpg" TargetMode="External"/><Relationship Id="rId3" Type="http://schemas.openxmlformats.org/officeDocument/2006/relationships/hyperlink" Target="http://super-photoshop.ucoz.ru/images/kliparti/myltiki/klipart_gnomi.jpg" TargetMode="External"/><Relationship Id="rId4" Type="http://schemas.openxmlformats.org/officeDocument/2006/relationships/hyperlink" Target="http://super-photoshop.ucoz.ru/images/kliparti/myltiki/klipart_gnomi.jpg" TargetMode="External"/><Relationship Id="rId5" Type="http://schemas.openxmlformats.org/officeDocument/2006/relationships/hyperlink" Target="http://super-photoshop.ucoz.ru/images/kliparti/myltiki/klipart_gnomi.jpg" TargetMode="External"/><Relationship Id="rId6" Type="http://schemas.openxmlformats.org/officeDocument/2006/relationships/hyperlink" Target="http://super-photoshop.ucoz.ru/images/kliparti/myltiki/klipart_gnomi.jpg" TargetMode="External"/><Relationship Id="rId7" Type="http://schemas.openxmlformats.org/officeDocument/2006/relationships/hyperlink" Target="http://super-photoshop.ucoz.ru/images/kliparti/myltiki/klipart_gnomi.jpg" TargetMode="External"/><Relationship Id="rId8" Type="http://schemas.openxmlformats.org/officeDocument/2006/relationships/hyperlink" Target="http://super-photoshop.ucoz.ru/images/kliparti/myltiki/klipart_gnomi.jpg" TargetMode="External"/><Relationship Id="rId9" Type="http://schemas.openxmlformats.org/officeDocument/2006/relationships/hyperlink" Target="http://super-photoshop.ucoz.ru/images/kliparti/myltiki/klipart_gnomi.jpg" TargetMode="External"/><Relationship Id="rId10" Type="http://schemas.openxmlformats.org/officeDocument/2006/relationships/hyperlink" Target="http://super-photoshop.ucoz.ru/images/kliparti/myltiki/klipart_gnomi.jpg" TargetMode="External"/><Relationship Id="rId11" Type="http://schemas.openxmlformats.org/officeDocument/2006/relationships/hyperlink" Target="http://super-photoshop.ucoz.ru/images/kliparti/myltiki/klipart_gnomi.jpg" TargetMode="External"/><Relationship Id="rId12" Type="http://schemas.openxmlformats.org/officeDocument/2006/relationships/hyperlink" Target="http://super-photoshop.ucoz.ru/images/kliparti/myltiki/klipart_gnomi.jpg" TargetMode="External"/><Relationship Id="rId13" Type="http://schemas.openxmlformats.org/officeDocument/2006/relationships/hyperlink" Target="http://super-photoshop.ucoz.ru/images/kliparti/klipart_koshki_1.jpg" TargetMode="External"/><Relationship Id="rId14" Type="http://schemas.openxmlformats.org/officeDocument/2006/relationships/hyperlink" Target="http://super-photoshop.ucoz.ru/images/kliparti/klipart_koshki_1.jpg" TargetMode="External"/><Relationship Id="rId15" Type="http://schemas.openxmlformats.org/officeDocument/2006/relationships/hyperlink" Target="http://super-photoshop.ucoz.ru/images/kliparti/klipart_koshki_1.jpg" TargetMode="External"/><Relationship Id="rId16" Type="http://schemas.openxmlformats.org/officeDocument/2006/relationships/hyperlink" Target="http://super-photoshop.ucoz.ru/images/kliparti/klipart_koshki_1.jpg" TargetMode="External"/><Relationship Id="rId17" Type="http://schemas.openxmlformats.org/officeDocument/2006/relationships/hyperlink" Target="http://super-photoshop.ucoz.ru/images/kliparti/klipart_koshki_1.jpg" TargetMode="External"/><Relationship Id="rId18" Type="http://schemas.openxmlformats.org/officeDocument/2006/relationships/hyperlink" Target="http://super-photoshop.ucoz.ru/images/kliparti/klipart_koshki_1.jpg" TargetMode="External"/><Relationship Id="rId19" Type="http://schemas.openxmlformats.org/officeDocument/2006/relationships/hyperlink" Target="http://super-photoshop.ucoz.ru/images/kliparti/klipart_koshki_1.jpg" TargetMode="External"/><Relationship Id="rId20" Type="http://schemas.openxmlformats.org/officeDocument/2006/relationships/hyperlink" Target="http://www.photoshop-master.ru/adds/adds7089/1.jpg" TargetMode="External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aae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1763640" y="1197000"/>
            <a:ext cx="3529080" cy="1511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n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   </a:t>
            </a:r>
            <a:r>
              <a:rPr b="1" lang="en-US" sz="24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 гостях </a:t>
            </a:r>
            <a:endParaRPr b="1" lang="en-US" sz="24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35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 мудрого гнома</a:t>
            </a:r>
            <a:endParaRPr b="1" lang="en-US" sz="24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35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47640" y="278136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9e00"/>
                </a:solidFill>
                <a:latin typeface="Arial"/>
              </a:rPr>
              <a:t>Игры по обучению грамот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411280" y="4005360"/>
            <a:ext cx="30243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aae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68360" y="260280"/>
            <a:ext cx="867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6000" spc="-1" strike="noStrike">
                <a:solidFill>
                  <a:srgbClr val="ffff5d"/>
                </a:solidFill>
                <a:latin typeface="Monotype Corsiva"/>
              </a:rPr>
              <a:t>В  гостях  у  мудрого  гнома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166840" y="1395360"/>
            <a:ext cx="4810320" cy="40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900000" y="4653000"/>
            <a:ext cx="1193760" cy="1512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971640" y="2421000"/>
            <a:ext cx="1001520" cy="17287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404640"/>
            <a:ext cx="930240" cy="1511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411280" y="981000"/>
            <a:ext cx="554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d6d100"/>
                </a:solidFill>
                <a:latin typeface="Arial"/>
              </a:rPr>
              <a:t>Слово в слове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 rot="10800000">
            <a:off x="2410920" y="2564280"/>
            <a:ext cx="6410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d6d100"/>
                </a:solidFill>
                <a:latin typeface="Arial"/>
              </a:rPr>
              <a:t>Найди спрятанное слово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340000" y="5300640"/>
            <a:ext cx="40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d6d100"/>
                </a:solidFill>
                <a:latin typeface="Arial"/>
              </a:rPr>
              <a:t>Кот-шутник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95280" y="3716280"/>
            <a:ext cx="2089080" cy="28418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835280" y="189000"/>
            <a:ext cx="55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5d"/>
                </a:solidFill>
                <a:latin typeface="Arial"/>
              </a:rPr>
              <a:t>Слово в слове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26920" y="112536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До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403280" y="112536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рога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59280" y="1125360"/>
            <a:ext cx="158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рыба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284720" y="1125360"/>
            <a:ext cx="5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к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076720" y="112536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бу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80000" y="1125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лыжник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00000" y="213372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лес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92360" y="213372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ка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987640" y="213372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уста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95640" y="2133720"/>
            <a:ext cx="5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л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76720" y="2133720"/>
            <a:ext cx="3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у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64000" y="213372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точка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56000" y="3357720"/>
            <a:ext cx="3240000" cy="934920"/>
          </a:xfrm>
          <a:prstGeom prst="wedgeEllipseCallout">
            <a:avLst>
              <a:gd name="adj1" fmla="val -55486"/>
              <a:gd name="adj2" fmla="val 64259"/>
            </a:avLst>
          </a:prstGeom>
          <a:gradFill rotWithShape="0">
            <a:gsLst>
              <a:gs pos="0">
                <a:srgbClr val="75dbff"/>
              </a:gs>
              <a:gs pos="100000">
                <a:srgbClr val="ffffbd"/>
              </a:gs>
            </a:gsLst>
            <a:lin ang="13500000"/>
          </a:gra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Здорово!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>
            <a:hlinkClick r:id="rId3" action="ppaction://hlinksldjump"/>
          </p:cNvPr>
          <p:cNvSpPr/>
          <p:nvPr/>
        </p:nvSpPr>
        <p:spPr>
          <a:xfrm>
            <a:off x="8172360" y="6093000"/>
            <a:ext cx="755640" cy="620640"/>
          </a:xfrm>
          <a:custGeom>
            <a:avLst/>
            <a:gdLst>
              <a:gd name="textAreaLeft" fmla="*/ 39960 w 755640"/>
              <a:gd name="textAreaRight" fmla="*/ 715680 w 755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6296" h="21600">
                <a:moveTo>
                  <a:pt x="0" y="0"/>
                </a:moveTo>
                <a:lnTo>
                  <a:pt x="26296" y="0"/>
                </a:lnTo>
                <a:lnTo>
                  <a:pt x="26296" y="21600"/>
                </a:lnTo>
                <a:lnTo>
                  <a:pt x="0" y="21600"/>
                </a:lnTo>
                <a:close/>
              </a:path>
              <a:path fill="lightenLess" w="26296" h="21600">
                <a:moveTo>
                  <a:pt x="0" y="0"/>
                </a:moveTo>
                <a:lnTo>
                  <a:pt x="26296" y="0"/>
                </a:lnTo>
                <a:lnTo>
                  <a:pt x="24896" y="1400"/>
                </a:lnTo>
                <a:lnTo>
                  <a:pt x="1400" y="1400"/>
                </a:lnTo>
                <a:close/>
              </a:path>
              <a:path fill="darken" w="26296" h="21600">
                <a:moveTo>
                  <a:pt x="26296" y="0"/>
                </a:moveTo>
                <a:lnTo>
                  <a:pt x="26296" y="21600"/>
                </a:lnTo>
                <a:lnTo>
                  <a:pt x="24896" y="20200"/>
                </a:lnTo>
                <a:lnTo>
                  <a:pt x="24896" y="1400"/>
                </a:lnTo>
                <a:close/>
              </a:path>
              <a:path fill="darkenLess" w="26296" h="21600">
                <a:moveTo>
                  <a:pt x="262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96" y="20200"/>
                </a:lnTo>
                <a:close/>
              </a:path>
              <a:path fill="lighten" w="262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96" h="21600">
                <a:moveTo>
                  <a:pt x="13148" y="3837"/>
                </a:moveTo>
                <a:lnTo>
                  <a:pt x="15724" y="6448"/>
                </a:lnTo>
                <a:lnTo>
                  <a:pt x="15724" y="4707"/>
                </a:lnTo>
                <a:lnTo>
                  <a:pt x="17500" y="4707"/>
                </a:lnTo>
                <a:lnTo>
                  <a:pt x="17500" y="8224"/>
                </a:lnTo>
                <a:lnTo>
                  <a:pt x="20111" y="10800"/>
                </a:lnTo>
                <a:lnTo>
                  <a:pt x="18457" y="10800"/>
                </a:lnTo>
                <a:lnTo>
                  <a:pt x="18457" y="17989"/>
                </a:lnTo>
                <a:lnTo>
                  <a:pt x="7839" y="17989"/>
                </a:lnTo>
                <a:lnTo>
                  <a:pt x="7839" y="10800"/>
                </a:lnTo>
                <a:lnTo>
                  <a:pt x="6185" y="10800"/>
                </a:lnTo>
                <a:close/>
              </a:path>
              <a:path fill="darkenLess" w="26296" h="21600">
                <a:moveTo>
                  <a:pt x="15724" y="6448"/>
                </a:moveTo>
                <a:lnTo>
                  <a:pt x="15724" y="4707"/>
                </a:lnTo>
                <a:lnTo>
                  <a:pt x="17500" y="4707"/>
                </a:lnTo>
                <a:lnTo>
                  <a:pt x="17500" y="8224"/>
                </a:lnTo>
                <a:close/>
              </a:path>
              <a:path fill="darkenLess" w="26296" h="21600">
                <a:moveTo>
                  <a:pt x="12225" y="14299"/>
                </a:moveTo>
                <a:lnTo>
                  <a:pt x="14070" y="14299"/>
                </a:lnTo>
                <a:lnTo>
                  <a:pt x="14070" y="17989"/>
                </a:lnTo>
                <a:lnTo>
                  <a:pt x="18457" y="17989"/>
                </a:lnTo>
                <a:lnTo>
                  <a:pt x="18457" y="10800"/>
                </a:lnTo>
                <a:lnTo>
                  <a:pt x="7839" y="10800"/>
                </a:lnTo>
                <a:lnTo>
                  <a:pt x="7839" y="17989"/>
                </a:lnTo>
                <a:lnTo>
                  <a:pt x="12225" y="17989"/>
                </a:lnTo>
                <a:close/>
              </a:path>
            </a:pathLst>
          </a:custGeom>
          <a:solidFill>
            <a:srgbClr val="75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79b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79b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79b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79b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79b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dur="indefinite" fill="hold">
                      <p:stCondLst>
                        <p:cond delay="indefinite"/>
                      </p:stCondLst>
                      <p:childTnLst>
                        <p:par>
                          <p:cTn id="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79b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7236000" y="981000"/>
            <a:ext cx="1701720" cy="26082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50920" y="404640"/>
            <a:ext cx="756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5d"/>
                </a:solidFill>
                <a:latin typeface="Arial"/>
              </a:rPr>
              <a:t>Найди спрятанное слово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484360" y="42926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радуга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4000" y="429264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шлгентро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95640" y="429264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смитчв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653080" y="429264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гроза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77080" y="429264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ма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5280" y="429264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па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00000" y="429264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ручка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95640" y="6491160"/>
            <a:ext cx="22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95640" y="429264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ьитнббрыю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59280" y="429264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букварь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77080" y="42926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пенал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207280" y="429264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цр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451640" y="429264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снег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0920" y="170028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cc"/>
                </a:solidFill>
                <a:latin typeface="Arial"/>
              </a:rPr>
              <a:t>Что обозначают эти слова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4000" y="2565360"/>
            <a:ext cx="56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79bc"/>
                </a:solidFill>
                <a:latin typeface="Arial"/>
              </a:rPr>
              <a:t>Явления природы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256536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79bc"/>
                </a:solidFill>
                <a:latin typeface="Arial"/>
              </a:rPr>
              <a:t>Школьные принадлежности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59640" y="429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к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10620000">
            <a:off x="3350520" y="1266120"/>
            <a:ext cx="3516120" cy="1143000"/>
          </a:xfrm>
          <a:prstGeom prst="wedgeEllipseCallout">
            <a:avLst>
              <a:gd name="adj1" fmla="val -67791"/>
              <a:gd name="adj2" fmla="val 31157"/>
            </a:avLst>
          </a:prstGeom>
          <a:gradFill rotWithShape="0">
            <a:gsLst>
              <a:gs pos="0">
                <a:srgbClr val="75dbff"/>
              </a:gs>
              <a:gs pos="100000">
                <a:srgbClr val="ffffbd"/>
              </a:gs>
            </a:gsLst>
            <a:lin ang="2538000"/>
          </a:gra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Молодцы!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">
            <a:hlinkClick r:id="rId3" action="ppaction://hlinksldjump"/>
          </p:cNvPr>
          <p:cNvSpPr/>
          <p:nvPr/>
        </p:nvSpPr>
        <p:spPr>
          <a:xfrm>
            <a:off x="8172360" y="6093000"/>
            <a:ext cx="755640" cy="620640"/>
          </a:xfrm>
          <a:custGeom>
            <a:avLst/>
            <a:gdLst>
              <a:gd name="textAreaLeft" fmla="*/ 39960 w 755640"/>
              <a:gd name="textAreaRight" fmla="*/ 715680 w 755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6296" h="21600">
                <a:moveTo>
                  <a:pt x="0" y="0"/>
                </a:moveTo>
                <a:lnTo>
                  <a:pt x="26296" y="0"/>
                </a:lnTo>
                <a:lnTo>
                  <a:pt x="26296" y="21600"/>
                </a:lnTo>
                <a:lnTo>
                  <a:pt x="0" y="21600"/>
                </a:lnTo>
                <a:close/>
              </a:path>
              <a:path fill="lightenLess" w="26296" h="21600">
                <a:moveTo>
                  <a:pt x="0" y="0"/>
                </a:moveTo>
                <a:lnTo>
                  <a:pt x="26296" y="0"/>
                </a:lnTo>
                <a:lnTo>
                  <a:pt x="24896" y="1400"/>
                </a:lnTo>
                <a:lnTo>
                  <a:pt x="1400" y="1400"/>
                </a:lnTo>
                <a:close/>
              </a:path>
              <a:path fill="darken" w="26296" h="21600">
                <a:moveTo>
                  <a:pt x="26296" y="0"/>
                </a:moveTo>
                <a:lnTo>
                  <a:pt x="26296" y="21600"/>
                </a:lnTo>
                <a:lnTo>
                  <a:pt x="24896" y="20200"/>
                </a:lnTo>
                <a:lnTo>
                  <a:pt x="24896" y="1400"/>
                </a:lnTo>
                <a:close/>
              </a:path>
              <a:path fill="darkenLess" w="26296" h="21600">
                <a:moveTo>
                  <a:pt x="262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96" y="20200"/>
                </a:lnTo>
                <a:close/>
              </a:path>
              <a:path fill="lighten" w="262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96" h="21600">
                <a:moveTo>
                  <a:pt x="13148" y="3837"/>
                </a:moveTo>
                <a:lnTo>
                  <a:pt x="15724" y="6448"/>
                </a:lnTo>
                <a:lnTo>
                  <a:pt x="15724" y="4707"/>
                </a:lnTo>
                <a:lnTo>
                  <a:pt x="17500" y="4707"/>
                </a:lnTo>
                <a:lnTo>
                  <a:pt x="17500" y="8224"/>
                </a:lnTo>
                <a:lnTo>
                  <a:pt x="20111" y="10800"/>
                </a:lnTo>
                <a:lnTo>
                  <a:pt x="18457" y="10800"/>
                </a:lnTo>
                <a:lnTo>
                  <a:pt x="18457" y="17989"/>
                </a:lnTo>
                <a:lnTo>
                  <a:pt x="7839" y="17989"/>
                </a:lnTo>
                <a:lnTo>
                  <a:pt x="7839" y="10800"/>
                </a:lnTo>
                <a:lnTo>
                  <a:pt x="6185" y="10800"/>
                </a:lnTo>
                <a:close/>
              </a:path>
              <a:path fill="darkenLess" w="26296" h="21600">
                <a:moveTo>
                  <a:pt x="15724" y="6448"/>
                </a:moveTo>
                <a:lnTo>
                  <a:pt x="15724" y="4707"/>
                </a:lnTo>
                <a:lnTo>
                  <a:pt x="17500" y="4707"/>
                </a:lnTo>
                <a:lnTo>
                  <a:pt x="17500" y="8224"/>
                </a:lnTo>
                <a:close/>
              </a:path>
              <a:path fill="darkenLess" w="26296" h="21600">
                <a:moveTo>
                  <a:pt x="12225" y="14299"/>
                </a:moveTo>
                <a:lnTo>
                  <a:pt x="14070" y="14299"/>
                </a:lnTo>
                <a:lnTo>
                  <a:pt x="14070" y="17989"/>
                </a:lnTo>
                <a:lnTo>
                  <a:pt x="18457" y="17989"/>
                </a:lnTo>
                <a:lnTo>
                  <a:pt x="18457" y="10800"/>
                </a:lnTo>
                <a:lnTo>
                  <a:pt x="7839" y="10800"/>
                </a:lnTo>
                <a:lnTo>
                  <a:pt x="7839" y="17989"/>
                </a:lnTo>
                <a:lnTo>
                  <a:pt x="12225" y="17989"/>
                </a:lnTo>
                <a:close/>
              </a:path>
            </a:pathLst>
          </a:custGeom>
          <a:solidFill>
            <a:srgbClr val="75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dur="indefinite" fill="hold">
                      <p:stCondLst>
                        <p:cond delay="indefinite"/>
                      </p:stCondLst>
                      <p:childTnLst>
                        <p:par>
                          <p:cTn id="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79b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dur="indefinite" fill="hold">
                      <p:stCondLst>
                        <p:cond delay="indefinite"/>
                      </p:stCondLst>
                      <p:childTnLst>
                        <p:par>
                          <p:cTn id="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79b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dur="indefinite" fill="hold">
                      <p:stCondLst>
                        <p:cond delay="indefinite"/>
                      </p:stCondLst>
                      <p:childTnLst>
                        <p:par>
                          <p:cTn id="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79b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dur="indefinite" fill="hold">
                      <p:stCondLst>
                        <p:cond delay="indefinite"/>
                      </p:stCondLst>
                      <p:childTnLst>
                        <p:par>
                          <p:cTn id="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dur="indefinite" fill="hold">
                      <p:stCondLst>
                        <p:cond delay="indefinite"/>
                      </p:stCondLst>
                      <p:childTnLst>
                        <p:par>
                          <p:cTn id="1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dur="indefinite" fill="hold">
                      <p:stCondLst>
                        <p:cond delay="indefinite"/>
                      </p:stCondLst>
                      <p:childTnLst>
                        <p:par>
                          <p:cTn id="1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dur="indefinite" fill="hold">
                      <p:stCondLst>
                        <p:cond delay="indefinite"/>
                      </p:stCondLst>
                      <p:childTnLst>
                        <p:par>
                          <p:cTn id="1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dur="indefinite" fill="hold">
                      <p:stCondLst>
                        <p:cond delay="indefinite"/>
                      </p:stCondLst>
                      <p:childTnLst>
                        <p:par>
                          <p:cTn id="1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79b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dur="indefinite" fill="hold">
                      <p:stCondLst>
                        <p:cond delay="indefinite"/>
                      </p:stCondLst>
                      <p:childTnLst>
                        <p:par>
                          <p:cTn id="1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79b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dur="indefinite" fill="hold">
                      <p:stCondLst>
                        <p:cond delay="indefinite"/>
                      </p:stCondLst>
                      <p:childTnLst>
                        <p:par>
                          <p:cTn id="1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79b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dur="indefinite" fill="hold">
                      <p:stCondLst>
                        <p:cond delay="indefinite"/>
                      </p:stCondLst>
                      <p:childTnLst>
                        <p:par>
                          <p:cTn id="1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dur="indefinite" fill="hold">
                      <p:stCondLst>
                        <p:cond delay="indefinite"/>
                      </p:stCondLst>
                      <p:childTnLst>
                        <p:par>
                          <p:cTn id="1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dur="indefinite" fill="hold">
                      <p:stCondLst>
                        <p:cond delay="indefinite"/>
                      </p:stCondLst>
                      <p:childTnLst>
                        <p:par>
                          <p:cTn id="1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79280" y="3429000"/>
            <a:ext cx="2440080" cy="30956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2268360" y="189000"/>
            <a:ext cx="40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5d"/>
                </a:solidFill>
                <a:latin typeface="Arial"/>
              </a:rPr>
              <a:t>Кот-шутник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7380360" y="836640"/>
            <a:ext cx="1368360" cy="11779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900000" y="105264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град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00000" y="155592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кро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00000" y="206064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сушки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00000" y="256392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лампа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00000" y="306864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пило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95640" y="1052640"/>
            <a:ext cx="266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cc"/>
                </a:solidFill>
                <a:latin typeface="Arial"/>
              </a:rPr>
              <a:t>рад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95640" y="155592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cc"/>
                </a:solidFill>
                <a:latin typeface="Arial"/>
              </a:rPr>
              <a:t>ро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95640" y="206064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cc"/>
                </a:solidFill>
                <a:latin typeface="Arial"/>
              </a:rPr>
              <a:t>ушки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95640" y="256392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cc"/>
                </a:solidFill>
                <a:latin typeface="Arial"/>
              </a:rPr>
              <a:t>лапа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95640" y="306864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cc"/>
                </a:solidFill>
                <a:latin typeface="Arial"/>
              </a:rPr>
              <a:t>пло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68360" y="2997360"/>
            <a:ext cx="4537080" cy="1223640"/>
          </a:xfrm>
          <a:prstGeom prst="wedgeEllipseCallout">
            <a:avLst>
              <a:gd name="adj1" fmla="val -50138"/>
              <a:gd name="adj2" fmla="val 50129"/>
            </a:avLst>
          </a:prstGeom>
          <a:gradFill rotWithShape="0">
            <a:gsLst>
              <a:gs pos="0">
                <a:srgbClr val="75dbff"/>
              </a:gs>
              <a:gs pos="100000">
                <a:srgbClr val="ffffbd"/>
              </a:gs>
            </a:gsLst>
            <a:lin ang="13500000"/>
          </a:gra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Угадай, какое слово получилось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Убери одну букву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68360" y="3068640"/>
            <a:ext cx="4535640" cy="1224000"/>
          </a:xfrm>
          <a:prstGeom prst="wedgeEllipseCallout">
            <a:avLst>
              <a:gd name="adj1" fmla="val -48634"/>
              <a:gd name="adj2" fmla="val 47407"/>
            </a:avLst>
          </a:prstGeom>
          <a:gradFill rotWithShape="0">
            <a:gsLst>
              <a:gs pos="0">
                <a:srgbClr val="75dbff"/>
              </a:gs>
              <a:gs pos="100000">
                <a:srgbClr val="ffffbd"/>
              </a:gs>
            </a:gsLst>
            <a:lin ang="13500000"/>
          </a:gra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Догадайся, какое слово было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Добавь одну букву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393372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ус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443640" y="393372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cc"/>
                </a:solidFill>
                <a:latin typeface="Arial"/>
              </a:rPr>
              <a:t>бус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03640" y="443700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укус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43640" y="443700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cc"/>
                </a:solidFill>
                <a:latin typeface="Arial"/>
              </a:rPr>
              <a:t>уксус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03640" y="501336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рубка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443640" y="501336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cc"/>
                </a:solidFill>
                <a:latin typeface="Arial"/>
              </a:rPr>
              <a:t>трубка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03640" y="558972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дар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443640" y="558972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cc"/>
                </a:solidFill>
                <a:latin typeface="Arial"/>
              </a:rPr>
              <a:t>удар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3640" y="616572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клад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443640" y="6165720"/>
            <a:ext cx="15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cc"/>
                </a:solidFill>
                <a:latin typeface="Arial"/>
              </a:rPr>
              <a:t>склад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68360" y="2997360"/>
            <a:ext cx="4535640" cy="1296720"/>
          </a:xfrm>
          <a:prstGeom prst="wedgeEllipseCallout">
            <a:avLst>
              <a:gd name="adj1" fmla="val -50351"/>
              <a:gd name="adj2" fmla="val 42046"/>
            </a:avLst>
          </a:prstGeom>
          <a:gradFill rotWithShape="0">
            <a:gsLst>
              <a:gs pos="0">
                <a:srgbClr val="75dbff"/>
              </a:gs>
              <a:gs pos="100000">
                <a:srgbClr val="ffffbd"/>
              </a:gs>
            </a:gsLst>
            <a:lin ang="13500000"/>
          </a:gra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Молодцы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Спасибо за работу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">
            <a:hlinkClick r:id="rId4" action="ppaction://hlinksldjump"/>
          </p:cNvPr>
          <p:cNvSpPr/>
          <p:nvPr/>
        </p:nvSpPr>
        <p:spPr>
          <a:xfrm>
            <a:off x="8172360" y="6093000"/>
            <a:ext cx="755640" cy="620640"/>
          </a:xfrm>
          <a:custGeom>
            <a:avLst/>
            <a:gdLst>
              <a:gd name="textAreaLeft" fmla="*/ 39960 w 755640"/>
              <a:gd name="textAreaRight" fmla="*/ 715680 w 755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6296" h="21600">
                <a:moveTo>
                  <a:pt x="0" y="0"/>
                </a:moveTo>
                <a:lnTo>
                  <a:pt x="26296" y="0"/>
                </a:lnTo>
                <a:lnTo>
                  <a:pt x="26296" y="21600"/>
                </a:lnTo>
                <a:lnTo>
                  <a:pt x="0" y="21600"/>
                </a:lnTo>
                <a:close/>
              </a:path>
              <a:path fill="lightenLess" w="26296" h="21600">
                <a:moveTo>
                  <a:pt x="0" y="0"/>
                </a:moveTo>
                <a:lnTo>
                  <a:pt x="26296" y="0"/>
                </a:lnTo>
                <a:lnTo>
                  <a:pt x="24896" y="1400"/>
                </a:lnTo>
                <a:lnTo>
                  <a:pt x="1400" y="1400"/>
                </a:lnTo>
                <a:close/>
              </a:path>
              <a:path fill="darken" w="26296" h="21600">
                <a:moveTo>
                  <a:pt x="26296" y="0"/>
                </a:moveTo>
                <a:lnTo>
                  <a:pt x="26296" y="21600"/>
                </a:lnTo>
                <a:lnTo>
                  <a:pt x="24896" y="20200"/>
                </a:lnTo>
                <a:lnTo>
                  <a:pt x="24896" y="1400"/>
                </a:lnTo>
                <a:close/>
              </a:path>
              <a:path fill="darkenLess" w="26296" h="21600">
                <a:moveTo>
                  <a:pt x="262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96" y="20200"/>
                </a:lnTo>
                <a:close/>
              </a:path>
              <a:path fill="lighten" w="262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96" h="21600">
                <a:moveTo>
                  <a:pt x="13148" y="3837"/>
                </a:moveTo>
                <a:lnTo>
                  <a:pt x="15724" y="6448"/>
                </a:lnTo>
                <a:lnTo>
                  <a:pt x="15724" y="4707"/>
                </a:lnTo>
                <a:lnTo>
                  <a:pt x="17500" y="4707"/>
                </a:lnTo>
                <a:lnTo>
                  <a:pt x="17500" y="8224"/>
                </a:lnTo>
                <a:lnTo>
                  <a:pt x="20111" y="10800"/>
                </a:lnTo>
                <a:lnTo>
                  <a:pt x="18457" y="10800"/>
                </a:lnTo>
                <a:lnTo>
                  <a:pt x="18457" y="17989"/>
                </a:lnTo>
                <a:lnTo>
                  <a:pt x="7839" y="17989"/>
                </a:lnTo>
                <a:lnTo>
                  <a:pt x="7839" y="10800"/>
                </a:lnTo>
                <a:lnTo>
                  <a:pt x="6185" y="10800"/>
                </a:lnTo>
                <a:close/>
              </a:path>
              <a:path fill="darkenLess" w="26296" h="21600">
                <a:moveTo>
                  <a:pt x="15724" y="6448"/>
                </a:moveTo>
                <a:lnTo>
                  <a:pt x="15724" y="4707"/>
                </a:lnTo>
                <a:lnTo>
                  <a:pt x="17500" y="4707"/>
                </a:lnTo>
                <a:lnTo>
                  <a:pt x="17500" y="8224"/>
                </a:lnTo>
                <a:close/>
              </a:path>
              <a:path fill="darkenLess" w="26296" h="21600">
                <a:moveTo>
                  <a:pt x="12225" y="14299"/>
                </a:moveTo>
                <a:lnTo>
                  <a:pt x="14070" y="14299"/>
                </a:lnTo>
                <a:lnTo>
                  <a:pt x="14070" y="17989"/>
                </a:lnTo>
                <a:lnTo>
                  <a:pt x="18457" y="17989"/>
                </a:lnTo>
                <a:lnTo>
                  <a:pt x="18457" y="10800"/>
                </a:lnTo>
                <a:lnTo>
                  <a:pt x="7839" y="10800"/>
                </a:lnTo>
                <a:lnTo>
                  <a:pt x="7839" y="17989"/>
                </a:lnTo>
                <a:lnTo>
                  <a:pt x="12225" y="17989"/>
                </a:lnTo>
                <a:close/>
              </a:path>
            </a:pathLst>
          </a:custGeom>
          <a:solidFill>
            <a:srgbClr val="75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dur="indefinite" fill="hold">
                      <p:stCondLst>
                        <p:cond delay="indefinite"/>
                      </p:stCondLst>
                      <p:childTnLst>
                        <p:par>
                          <p:cTn id="2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dur="indefinite" fill="hold">
                      <p:stCondLst>
                        <p:cond delay="indefinite"/>
                      </p:stCondLst>
                      <p:childTnLst>
                        <p:par>
                          <p:cTn id="2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dur="indefinite" fill="hold">
                      <p:stCondLst>
                        <p:cond delay="indefinite"/>
                      </p:stCondLst>
                      <p:childTnLst>
                        <p:par>
                          <p:cTn id="2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dur="indefinite" fill="hold">
                      <p:stCondLst>
                        <p:cond delay="indefinite"/>
                      </p:stCondLst>
                      <p:childTnLst>
                        <p:par>
                          <p:cTn id="2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dur="indefinite" fill="hold">
                      <p:stCondLst>
                        <p:cond delay="indefinite"/>
                      </p:stCondLst>
                      <p:childTnLst>
                        <p:par>
                          <p:cTn id="2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dur="indefinite" fill="hold">
                      <p:stCondLst>
                        <p:cond delay="indefinite"/>
                      </p:stCondLst>
                      <p:childTnLst>
                        <p:par>
                          <p:cTn id="2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dur="indefinite" fill="hold">
                      <p:stCondLst>
                        <p:cond delay="indefinite"/>
                      </p:stCondLst>
                      <p:childTnLst>
                        <p:par>
                          <p:cTn id="2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dur="indefinite" fill="hold">
                      <p:stCondLst>
                        <p:cond delay="indefinite"/>
                      </p:stCondLst>
                      <p:childTnLst>
                        <p:par>
                          <p:cTn id="2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dur="indefinite" fill="hold">
                      <p:stCondLst>
                        <p:cond delay="indefinite"/>
                      </p:stCondLst>
                      <p:childTnLst>
                        <p:par>
                          <p:cTn id="2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dur="indefinite" fill="hold">
                      <p:stCondLst>
                        <p:cond delay="indefinite"/>
                      </p:stCondLst>
                      <p:childTnLst>
                        <p:par>
                          <p:cTn id="2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dur="indefinite" fill="hold">
                      <p:stCondLst>
                        <p:cond delay="indefinite"/>
                      </p:stCondLst>
                      <p:childTnLst>
                        <p:par>
                          <p:cTn id="2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dur="indefinite" fill="hold">
                      <p:stCondLst>
                        <p:cond delay="indefinite"/>
                      </p:stCondLst>
                      <p:childTnLst>
                        <p:par>
                          <p:cTn id="2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dur="indefinite" fill="hold">
                      <p:stCondLst>
                        <p:cond delay="indefinite"/>
                      </p:stCondLst>
                      <p:childTnLst>
                        <p:par>
                          <p:cTn id="2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dur="indefinite" fill="hold">
                      <p:stCondLst>
                        <p:cond delay="indefinite"/>
                      </p:stCondLst>
                      <p:childTnLst>
                        <p:par>
                          <p:cTn id="3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95280" y="765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stihi.ru/pics/2010/06/19/3464.jpg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-  гном на 2 слайд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3840" y="1197000"/>
            <a:ext cx="814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super-photoshop.ucoz.ru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/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images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/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kliparti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9"/>
              </a:rPr>
              <a:t>/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10"/>
              </a:rPr>
              <a:t>myltiki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11"/>
              </a:rPr>
              <a:t>/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12"/>
              </a:rPr>
              <a:t>klipart_gnomi.jpg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- гном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5280" y="162864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13"/>
              </a:rPr>
              <a:t>http://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14"/>
              </a:rPr>
              <a:t>super-photoshop.ucoz.ru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15"/>
              </a:rPr>
              <a:t>/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16"/>
              </a:rPr>
              <a:t>images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17"/>
              </a:rPr>
              <a:t>/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18"/>
              </a:rPr>
              <a:t>kliparti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19"/>
              </a:rPr>
              <a:t>/klipart_koshki_1.jpg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-котено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843280" y="0"/>
            <a:ext cx="34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Источник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95280" y="206064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20"/>
              </a:rPr>
              <a:t>http://www.photoshop-master.ru/adds/adds7089/1.jpg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- рамка на 1 слайд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5280" y="249228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атериал взят из книги Н.Н Масимук «Игры по обучению грамоте и чтению» Москва «ВАКО» 2006 г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5T11:07:20Z</dcterms:created>
  <dc:creator>User</dc:creator>
  <dc:description/>
  <dc:language>en-US</dc:language>
  <cp:lastModifiedBy>User</cp:lastModifiedBy>
  <dcterms:modified xsi:type="dcterms:W3CDTF">2011-07-24T15:24:54Z</dcterms:modified>
  <cp:revision>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