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391-858B-4957-B76A-CCA657B8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0AA-FEE6-49DB-AAA8-BF043E3B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6EE-B360-4928-901E-E5B46E66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535-97C5-4E7F-8EA7-CE137480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C50D-2EA5-4EED-9215-EEEEDFCF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8990-9356-4570-A5ED-18ACD8D0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4597-8388-4846-A00E-CD50C6C5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25C5-98C9-4459-AA47-9A2D5288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220A-250B-4E11-8AF7-4FB2703F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FEEE-E28E-49C4-8967-A5558A57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B595-24A1-40E1-9441-B60FAA5E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78E-2C05-4839-8F9F-B9B8F6C2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F9B9-DAD2-40F8-B552-74C2FFD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0363-084A-4A0C-86D1-57F96A2C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0287-CB25-43C7-8099-0459C537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152B-A979-4B09-9877-A77FFB68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1E49-6BB5-4ECD-A9A2-88C5BF9E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D09-75D5-4945-95E5-98C83E21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B2A-3A19-4E5E-A4F7-7694AC01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CE4-7CE4-4C2B-98EA-7D88F537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CC3-EFEF-42AA-9CF8-7A2EAFEE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EB3-5316-45C2-B459-12B5AFCA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1CB-B610-4524-8BF9-CD2916F7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754-C801-4B1D-99FD-D4E7C31C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EA8-FFC1-40CA-8963-52FB59FF48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B169-61AE-438C-91A5-9F58E343A2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539640" y="549360"/>
            <a:ext cx="820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КОЛОНН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2050920" y="3068640"/>
            <a:ext cx="54579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ИМЕР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ЛГОРИТМ РИС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619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 Тумахович З.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ris38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ris39"/>
          <p:cNvPicPr/>
          <p:nvPr/>
        </p:nvPicPr>
        <p:blipFill>
          <a:blip r:embed="rId1"/>
          <a:stretch/>
        </p:blipFill>
        <p:spPr>
          <a:xfrm>
            <a:off x="324000" y="333360"/>
            <a:ext cx="88200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ris40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ris41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кк"/>
          <p:cNvPicPr/>
          <p:nvPr/>
        </p:nvPicPr>
        <p:blipFill>
          <a:blip r:embed="rId1"/>
          <a:stretch/>
        </p:blipFill>
        <p:spPr>
          <a:xfrm>
            <a:off x="395280" y="620640"/>
            <a:ext cx="4070520" cy="5545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00720" y="260280"/>
            <a:ext cx="4248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омнит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ионик (выпуклые яйцеобразные, сферические формы), бусинки (цилиндрики), каннелюры (полусферические вогнутые желобки). При верхнем освещении (а оно всегда в помещении есть) горизонтальные плоскости, находящиеся в тени (низ абаки в нашем случае), будут самыми темными, тени на наклоненных вовнутрь плоскостях (эхин капители или обратная пирамида) — более светлыми, тени на вертикальных плоскостях (ствол капители) — самыми светлыми (рис. 38, 39, 40, 41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ris42"/>
          <p:cNvPicPr/>
          <p:nvPr/>
        </p:nvPicPr>
        <p:blipFill>
          <a:blip r:embed="rId1"/>
          <a:stretch/>
        </p:blipFill>
        <p:spPr>
          <a:xfrm>
            <a:off x="324000" y="33336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ris45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ris48"/>
          <p:cNvPicPr/>
          <p:nvPr/>
        </p:nvPicPr>
        <p:blipFill>
          <a:blip r:embed="rId1"/>
          <a:stretch/>
        </p:blipFill>
        <p:spPr>
          <a:xfrm>
            <a:off x="755640" y="476280"/>
            <a:ext cx="77040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ris49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ris50"/>
          <p:cNvPicPr/>
          <p:nvPr/>
        </p:nvPicPr>
        <p:blipFill>
          <a:blip r:embed="rId1"/>
          <a:stretch/>
        </p:blipFill>
        <p:spPr>
          <a:xfrm>
            <a:off x="468360" y="189000"/>
            <a:ext cx="7920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932000" y="404640"/>
            <a:ext cx="4032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олонна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— архитектонический элемент. Вертикальная опора, состоящая из базы, круглого ствола и капител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Капитель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- верхняя часть колонны или пилястры, форма которой определяется ордеро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963960" cy="554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7_57"/>
          <p:cNvPicPr/>
          <p:nvPr/>
        </p:nvPicPr>
        <p:blipFill>
          <a:blip r:embed="rId2"/>
          <a:stretch/>
        </p:blipFill>
        <p:spPr>
          <a:xfrm>
            <a:off x="4408560" y="3068640"/>
            <a:ext cx="473544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ыбираем тип колонны с капителями и рисуе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cc3300"/>
                </a:solidFill>
                <a:latin typeface="Comic Sans MS"/>
              </a:rPr>
              <a:t>Желаю удачи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меры архитектурного строения колон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20cce2413e22"/>
          <p:cNvPicPr/>
          <p:nvPr/>
        </p:nvPicPr>
        <p:blipFill>
          <a:blip r:embed="rId1"/>
          <a:stretch/>
        </p:blipFill>
        <p:spPr>
          <a:xfrm>
            <a:off x="0" y="981000"/>
            <a:ext cx="869328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81094-0"/>
          <p:cNvPicPr/>
          <p:nvPr/>
        </p:nvPicPr>
        <p:blipFill>
          <a:blip r:embed="rId1"/>
          <a:stretch/>
        </p:blipFill>
        <p:spPr>
          <a:xfrm>
            <a:off x="684360" y="189000"/>
            <a:ext cx="8064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1716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ЛЕГЕНДА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городе Коринфе жила молодая и прекрасная девушка. Она была обручена, и до свадьбы оставалось совсем немного времени. Но свадьбе не суждено было состояться: девушка внезапно заболела. Вылечить ее не удалось, и вскоре по улицам Коринфа вместо веселой свадебной процессии двигалось в полном молчании траурное шествие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осле похорон кормилица девушки собрала все драгоценности ц безделушки покойной, сложила их в корзину, прикрыла крышкой и отнесла на могилу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ришла весна. Из земли пробились ростки аканфа. Сквозь плетеное дно они проникли в корзину, но тяжелая крышка не позволяла им расти вверх, и тогда тонкие завитки растения стали изгибаться по сторонам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лучайно в Некрополь зашел известный скульптор Каллимах. Обрамленная листьями корзина показалась ему такой прекрасной, что он перенес этот рисунок на капители колонн"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8" descr="10"/>
          <p:cNvPicPr/>
          <p:nvPr/>
        </p:nvPicPr>
        <p:blipFill>
          <a:blip r:embed="rId1"/>
          <a:stretch/>
        </p:blipFill>
        <p:spPr>
          <a:xfrm>
            <a:off x="4756320" y="260280"/>
            <a:ext cx="4019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02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att-45fa7daf9bee4inia"/>
          <p:cNvPicPr/>
          <p:nvPr/>
        </p:nvPicPr>
        <p:blipFill>
          <a:blip r:embed="rId1"/>
          <a:stretch/>
        </p:blipFill>
        <p:spPr>
          <a:xfrm>
            <a:off x="1476360" y="593640"/>
            <a:ext cx="6264360" cy="6264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лонна-стол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attach"/>
          <p:cNvPicPr/>
          <p:nvPr/>
        </p:nvPicPr>
        <p:blipFill>
          <a:blip r:embed="rId1"/>
          <a:stretch/>
        </p:blipFill>
        <p:spPr>
          <a:xfrm>
            <a:off x="3924360" y="2870280"/>
            <a:ext cx="4975200" cy="3730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tt-4607c26251edeust"/>
          <p:cNvPicPr/>
          <p:nvPr/>
        </p:nvPicPr>
        <p:blipFill>
          <a:blip r:embed="rId2"/>
          <a:stretch/>
        </p:blipFill>
        <p:spPr>
          <a:xfrm>
            <a:off x="324000" y="189000"/>
            <a:ext cx="4716360" cy="37954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24360" y="60912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меры древних капите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kanitel"/>
          <p:cNvPicPr/>
          <p:nvPr/>
        </p:nvPicPr>
        <p:blipFill>
          <a:blip r:embed="rId1"/>
          <a:stretch/>
        </p:blipFill>
        <p:spPr>
          <a:xfrm>
            <a:off x="971640" y="-243000"/>
            <a:ext cx="7473960" cy="8856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640" y="-171720"/>
            <a:ext cx="54007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Герб города Калу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6-10T08:08:05Z</dcterms:modified>
  <cp:revision>1</cp:revision>
  <dc:subject/>
  <dc:title>PowerPoint Presentation</dc:title>
</cp:coreProperties>
</file>