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EAD1-39A8-4E71-A456-DA3D564C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2B9-6FCF-4C6C-895E-F568E295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028-D962-46BB-8E97-FF8322C6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41D7-C00E-446B-8C4F-FC9D39DE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AEB5-DEA8-4312-ACF8-81CAD072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A977-1226-4BE2-9B2D-C4EF8650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5D95-A61C-4D0C-AF69-43CC9A44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1BA4-FB3D-49DB-81C1-EA788FD6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AB15-543B-4C7B-AD8F-EA2C1B9D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9F4C-9A8A-44C0-8487-7D9FEE30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E19C-D272-41F3-9CA4-6FBDAB1D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AFB5-B038-49A8-991B-D0680ED9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0A0A-E1FE-4B55-8827-9F017E63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750F-9987-4023-AD09-2C63A8DE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BF2C-B74A-4789-AB5A-1587C852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70CC-8C8E-4984-A55E-B6AE8A87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56AA-021D-4D29-892A-7CD8AE3F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4534-61E9-4516-A56F-552676F9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BA72-6B3A-4032-95D4-30344974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C9DD-F3FF-46EE-AA96-96CBD765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F293-1A83-41BF-9784-730DB3BC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903A-8281-4BAF-AFDF-E00CA9C2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A687-FDA2-46B3-925D-D7AD45B8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23B5-CF15-4E8F-A48F-FC2164E1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B659-CA0B-4F62-962A-1E28B2D923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CE0D-A52B-4741-81DF-BF60304909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539640" y="549360"/>
            <a:ext cx="820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КОЛОННА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2050920" y="3068640"/>
            <a:ext cx="54579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РИМЕР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АЛГОРИТМ РИС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619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ЧИТЕЛЬ Тумахович З.Г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ris38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ris39"/>
          <p:cNvPicPr/>
          <p:nvPr/>
        </p:nvPicPr>
        <p:blipFill>
          <a:blip r:embed="rId1"/>
          <a:stretch/>
        </p:blipFill>
        <p:spPr>
          <a:xfrm>
            <a:off x="324000" y="333360"/>
            <a:ext cx="882000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ris40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ris41"/>
          <p:cNvPicPr/>
          <p:nvPr/>
        </p:nvPicPr>
        <p:blipFill>
          <a:blip r:embed="rId1"/>
          <a:stretch/>
        </p:blipFill>
        <p:spPr>
          <a:xfrm>
            <a:off x="250920" y="333360"/>
            <a:ext cx="842472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кк"/>
          <p:cNvPicPr/>
          <p:nvPr/>
        </p:nvPicPr>
        <p:blipFill>
          <a:blip r:embed="rId1"/>
          <a:stretch/>
        </p:blipFill>
        <p:spPr>
          <a:xfrm>
            <a:off x="395280" y="620640"/>
            <a:ext cx="4070520" cy="55450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00720" y="260280"/>
            <a:ext cx="4248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Помнит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 ионик (выпуклые яйцеобразные, сферические формы), бусинки (цилиндрики), каннелюры (полусферические вогнутые желобки). При верхнем освещении (а оно всегда в помещении есть) горизонтальные плоскости, находящиеся в тени (низ абаки в нашем случае), будут самыми темными, тени на наклоненных вовнутрь плоскостях (эхин капители или обратная пирамида) — более светлыми, тени на вертикальных плоскостях (ствол капители) — самыми светлыми (рис. 38, 39, 40, 41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ris42"/>
          <p:cNvPicPr/>
          <p:nvPr/>
        </p:nvPicPr>
        <p:blipFill>
          <a:blip r:embed="rId1"/>
          <a:stretch/>
        </p:blipFill>
        <p:spPr>
          <a:xfrm>
            <a:off x="324000" y="33336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ris45"/>
          <p:cNvPicPr/>
          <p:nvPr/>
        </p:nvPicPr>
        <p:blipFill>
          <a:blip r:embed="rId1"/>
          <a:stretch/>
        </p:blipFill>
        <p:spPr>
          <a:xfrm>
            <a:off x="395280" y="260280"/>
            <a:ext cx="813744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ris48"/>
          <p:cNvPicPr/>
          <p:nvPr/>
        </p:nvPicPr>
        <p:blipFill>
          <a:blip r:embed="rId1"/>
          <a:stretch/>
        </p:blipFill>
        <p:spPr>
          <a:xfrm>
            <a:off x="755640" y="476280"/>
            <a:ext cx="77040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ris49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ris50"/>
          <p:cNvPicPr/>
          <p:nvPr/>
        </p:nvPicPr>
        <p:blipFill>
          <a:blip r:embed="rId1"/>
          <a:stretch/>
        </p:blipFill>
        <p:spPr>
          <a:xfrm>
            <a:off x="468360" y="189000"/>
            <a:ext cx="79200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932000" y="404640"/>
            <a:ext cx="40323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Колонна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— архитектонический элемент. Вертикальная опора, состоящая из базы, круглого ствола и капители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Капитель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- верхняя часть колонны или пилястры, форма которой определяется ордером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963960" cy="5549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7_57"/>
          <p:cNvPicPr/>
          <p:nvPr/>
        </p:nvPicPr>
        <p:blipFill>
          <a:blip r:embed="rId2"/>
          <a:stretch/>
        </p:blipFill>
        <p:spPr>
          <a:xfrm>
            <a:off x="4408560" y="3068640"/>
            <a:ext cx="473544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ыбираем тип колонны с капителями и рисуем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ru-RU" sz="6000" spc="-1" strike="noStrike">
                <a:solidFill>
                  <a:srgbClr val="cc3300"/>
                </a:solidFill>
                <a:latin typeface="Comic Sans MS"/>
              </a:rPr>
              <a:t>Желаю удачи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имеры архитектурного строения колонн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4" descr="20cce2413e22"/>
          <p:cNvPicPr/>
          <p:nvPr/>
        </p:nvPicPr>
        <p:blipFill>
          <a:blip r:embed="rId1"/>
          <a:stretch/>
        </p:blipFill>
        <p:spPr>
          <a:xfrm>
            <a:off x="0" y="981000"/>
            <a:ext cx="869328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81094-0"/>
          <p:cNvPicPr/>
          <p:nvPr/>
        </p:nvPicPr>
        <p:blipFill>
          <a:blip r:embed="rId1"/>
          <a:stretch/>
        </p:blipFill>
        <p:spPr>
          <a:xfrm>
            <a:off x="684360" y="189000"/>
            <a:ext cx="8064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1716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ЛЕГЕНДА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"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 городе Коринфе жила молодая и прекрасная девушка. Она была обручена, и до свадьбы оставалось совсем немного времени. Но свадьбе не суждено было состояться: девушка внезапно заболела. Вылечить ее не удалось, и вскоре по улицам Коринфа вместо веселой свадебной процессии двигалось в полном молчании траурное шествие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После похорон кормилица девушки собрала все драгоценности ц безделушки покойной, сложила их в корзину, прикрыла крышкой и отнесла на могилу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Пришла весна. Из земли пробились ростки аканфа. Сквозь плетеное дно они проникли в корзину, но тяжелая крышка не позволяла им расти вверх, и тогда тонкие завитки растения стали изгибаться по сторонам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Случайно в Некрополь зашел известный скульптор Каллимах. Обрамленная листьями корзина показалась ему такой прекрасной, что он перенес этот рисунок на капители колонн"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8" descr="10"/>
          <p:cNvPicPr/>
          <p:nvPr/>
        </p:nvPicPr>
        <p:blipFill>
          <a:blip r:embed="rId1"/>
          <a:stretch/>
        </p:blipFill>
        <p:spPr>
          <a:xfrm>
            <a:off x="4756320" y="260280"/>
            <a:ext cx="40194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020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att-45fa7daf9bee4inia"/>
          <p:cNvPicPr/>
          <p:nvPr/>
        </p:nvPicPr>
        <p:blipFill>
          <a:blip r:embed="rId1"/>
          <a:stretch/>
        </p:blipFill>
        <p:spPr>
          <a:xfrm>
            <a:off x="1476360" y="593640"/>
            <a:ext cx="6264360" cy="62643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лонна-столп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attach"/>
          <p:cNvPicPr/>
          <p:nvPr/>
        </p:nvPicPr>
        <p:blipFill>
          <a:blip r:embed="rId1"/>
          <a:stretch/>
        </p:blipFill>
        <p:spPr>
          <a:xfrm>
            <a:off x="3924360" y="2870280"/>
            <a:ext cx="4975200" cy="3730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tt-4607c26251edeust"/>
          <p:cNvPicPr/>
          <p:nvPr/>
        </p:nvPicPr>
        <p:blipFill>
          <a:blip r:embed="rId2"/>
          <a:stretch/>
        </p:blipFill>
        <p:spPr>
          <a:xfrm>
            <a:off x="324000" y="189000"/>
            <a:ext cx="4716360" cy="37954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24360" y="609120"/>
            <a:ext cx="316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меры древних капител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kanitel"/>
          <p:cNvPicPr/>
          <p:nvPr/>
        </p:nvPicPr>
        <p:blipFill>
          <a:blip r:embed="rId1"/>
          <a:stretch/>
        </p:blipFill>
        <p:spPr>
          <a:xfrm>
            <a:off x="971640" y="-243000"/>
            <a:ext cx="7473960" cy="88567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640" y="-171720"/>
            <a:ext cx="540072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Герб города Калуг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6-10T08:08:05Z</dcterms:modified>
  <cp:revision>1</cp:revision>
  <dc:subject/>
  <dc:title>PowerPoint Presentation</dc:title>
</cp:coreProperties>
</file>