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1F9B1-98FC-4433-8676-A352856F3A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DBEE3-61AD-4B79-A771-B8C1C753D3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A6B98-37F9-4DD8-A6BE-08F5E9EB81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2DC70-F8B3-4C70-9F18-2448F76C3B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DD7FA-5005-4813-ABBD-D53A954BC7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07D57-C56E-4387-A3D3-DCB607EF6D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29358-877A-4256-809D-0E4CD855E4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CE3F7-6E89-4E34-9229-855F26B9C8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861B9-7BB1-4A5B-8C2C-D2E303BFF7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3A0FE-A1D5-4D8B-A3AC-B00AD5FC60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2256C-5B6A-4A8E-866D-8BAED971F8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82A6-C550-42AE-850E-8BFFD95A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3892-C01E-4AB4-B998-04C6F070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6FD-81D3-4D31-AB3A-98EE0446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75AF-A996-4C6F-AAC0-4915C769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F884-715C-4B21-B3F5-9FD2E954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B995-35F7-47A0-96AA-9F88ED23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CEF5-3BAE-4333-A981-06C1CC2A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6590-DD6E-4ED0-AF29-D23C60FB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AC18-E003-48F7-A16D-1E98C377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882F-B439-412A-888F-C2D3EB2A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CA89-2695-4DDF-BED5-9113469A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94FF-7E06-47A8-A6D4-E9427157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72E980-E109-4F69-837B-CB3B66B5F39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129680" cy="7559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идактическая игра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Подбери лепест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450040" y="5813280"/>
            <a:ext cx="467964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олаева Ирина Анатольевна МБОУ школы №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895320" y="2351160"/>
            <a:ext cx="500868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129680" cy="7559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800360" y="3105000"/>
            <a:ext cx="705456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12968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и задач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431640" y="1944720"/>
            <a:ext cx="9144000" cy="48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обогащение словарного запаса дете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учить правильно называть изображение на картинк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учить работать с символами, правильно употреблять в речи глаголы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развивать память, мышление, внимани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расширять кругозор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 воспитывать любовь и уважение к окружающей сред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12968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исание игр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гра на развитие памяти, внимания, мышления, речи. Предназначена для того, чтобы ненавязчиво решать возникающие трудности в развитие речи ребёнка. Игру можно использовать во время индивидуальной работы, а так же небольшими группами. Возраст детей: 4-7 ле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12968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17440" y="1079640"/>
            <a:ext cx="7485120" cy="34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изготовления игры понадобятся: плотный картон — для осно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езаем прямоугольники нужного размера и лепестки к н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863640" y="3672000"/>
            <a:ext cx="5256000" cy="34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-49320" y="0"/>
            <a:ext cx="10130040" cy="7559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76360" y="2097000"/>
            <a:ext cx="87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клеиваем карточки самоклеющейся бумаг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3765600" y="3384720"/>
            <a:ext cx="494676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12968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863640" y="360360"/>
            <a:ext cx="8928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аем с основой, к которой в последствие будем подставлять лепестки. В центр прямоугольника приклеиваем картинку с символом, означающим какое-либо действие: летает, ходит, плавает, полза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1224000" y="3503520"/>
            <a:ext cx="508140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129680" cy="7559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клеиваем вырезанные картинки на лепест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3181320" y="3230640"/>
            <a:ext cx="502596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129680" cy="7559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а начинается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44360" y="1800360"/>
            <a:ext cx="410364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дагог поясняет ребёнку, что обозначают символы на прямоугольниках, ребёнок повторя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ёнок узнает символ в прямоугольни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ирает лепестки, изображения которых могут выполнять заданные дей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4638600" y="2063880"/>
            <a:ext cx="5153040" cy="39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129680" cy="7559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287280" y="262080"/>
            <a:ext cx="4535640" cy="3193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3"/>
          <a:stretch/>
        </p:blipFill>
        <p:spPr>
          <a:xfrm>
            <a:off x="5472000" y="3959280"/>
            <a:ext cx="4167360" cy="3263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4"/>
          <a:stretch/>
        </p:blipFill>
        <p:spPr>
          <a:xfrm>
            <a:off x="5397480" y="3994200"/>
            <a:ext cx="4167360" cy="326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4T17:07:38Z</dcterms:created>
  <dc:creator/>
  <dc:description/>
  <dc:language>en-US</dc:language>
  <cp:lastModifiedBy>Дмитрий Каленюк</cp:lastModifiedBy>
  <dcterms:modified xsi:type="dcterms:W3CDTF">2017-06-03T17:11:44Z</dcterms:modified>
  <cp:revision>5</cp:revision>
  <dc:subject/>
  <dc:title>Дидактическая игра «Подбери лепесток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6050000000000010243100207f6000400038000</vt:lpwstr>
  </property>
</Properties>
</file>