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18110-C8B4-4D55-BA68-6EBFAFFC18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F0D82-98F5-44A8-B182-79DA25B934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BFD4E-4E5E-444B-9DBC-C7D7ACDB5F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0DAD0-11E2-44DB-BAFF-EDEBF93332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3BE56-630F-4527-A7AA-369C23E8F2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52262-5A5F-473A-B650-51882928BF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9ABD5-4EE5-4E63-BAD5-3E15436145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71A07-9E75-4954-8C79-1829E84765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E0759-559E-494A-88E6-78F67EBCFE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FBFB9-321C-46DC-B315-27CCB38130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5B51A-9AAC-4E8C-B219-1A5DE1717F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6E69-CBED-408D-B800-1D396D43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D12A-1E06-4089-943A-BC0A6B36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BE9E-270E-43D5-8A8A-DBFBBDA5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EA37-8ACF-4783-99C2-3360C7A6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15E3-4728-4B11-BDA7-BDE6617F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912A-4A68-44D7-8DDE-00176558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5234-B0DF-44F1-B41E-3578C20E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9B22-1D58-442F-AE77-196BCB3A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0C9E-211D-47FC-8B79-6F47A1E3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E113-FBFC-4DC5-AC24-6D25958F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6399-4D4E-47FB-B204-A7F6D424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31B6-5D6E-4CA8-A605-A70C2D48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6C7042-A453-4892-B253-A70DA312C5D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129680" cy="7559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идактическая игра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Подбери лепест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450040" y="5813280"/>
            <a:ext cx="467964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олаева Ирина Анатольевна МБОУ школы №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895320" y="2351160"/>
            <a:ext cx="500868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129680" cy="7559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800360" y="3105000"/>
            <a:ext cx="705456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12968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и задач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431640" y="1944720"/>
            <a:ext cx="9144000" cy="48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обогащение словарного запаса дете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учить правильно называть изображение на картинк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учить работать с символами, правильно употреблять в речи глаголы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развивать память, мышление, внимани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расширять кругозор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 воспитывать любовь и уважение к окружающей сред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12968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исание игр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гра на развитие памяти, внимания, мышления, речи. Предназначена для того, чтобы ненавязчиво решать возникающие трудности в развитие речи ребёнка. Игру можно использовать во время индивидуальной работы, а так же небольшими группами. Возраст детей: 4-7 ле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12968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17440" y="1079640"/>
            <a:ext cx="7485120" cy="34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изготовления игры понадобятся: плотный картон — для осно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езаем прямоугольники нужного размера и лепестки к н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863640" y="3672000"/>
            <a:ext cx="5256000" cy="34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-49320" y="0"/>
            <a:ext cx="10130040" cy="7559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76360" y="2097000"/>
            <a:ext cx="87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клеиваем карточки самоклеющейся бумаг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3765600" y="3384720"/>
            <a:ext cx="494676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12968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863640" y="360360"/>
            <a:ext cx="8928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аем с основой, к которой в последствие будем подставлять лепестки. В центр прямоугольника приклеиваем картинку с символом, означающим какое-либо действие: летает, ходит, плавает, полза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1224000" y="3503520"/>
            <a:ext cx="508140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129680" cy="7559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клеиваем вырезанные картинки на лепест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3181320" y="3230640"/>
            <a:ext cx="502596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129680" cy="7559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а начинается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44360" y="1800360"/>
            <a:ext cx="410364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дагог поясняет ребёнку, что обозначают символы на прямоугольниках, ребёнок повторя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ёнок узнает символ в прямоугольни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ирает лепестки, изображения которых могут выполнять заданные дей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4638600" y="2063880"/>
            <a:ext cx="5153040" cy="39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129680" cy="7559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287280" y="262080"/>
            <a:ext cx="4535640" cy="3193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3"/>
          <a:stretch/>
        </p:blipFill>
        <p:spPr>
          <a:xfrm>
            <a:off x="5472000" y="3959280"/>
            <a:ext cx="4167360" cy="3263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4"/>
          <a:stretch/>
        </p:blipFill>
        <p:spPr>
          <a:xfrm>
            <a:off x="5397480" y="3994200"/>
            <a:ext cx="4167360" cy="326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4T17:07:38Z</dcterms:created>
  <dc:creator/>
  <dc:description/>
  <dc:language>en-US</dc:language>
  <cp:lastModifiedBy>Дмитрий Каленюк</cp:lastModifiedBy>
  <dcterms:modified xsi:type="dcterms:W3CDTF">2017-06-03T17:11:44Z</dcterms:modified>
  <cp:revision>5</cp:revision>
  <dc:subject/>
  <dc:title>Дидактическая игра «Подбери лепесток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6050000000000010243100207f6000400038000</vt:lpwstr>
  </property>
</Properties>
</file>