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FDF-BA99-475C-9612-A7198E84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B11-D5B6-430C-9648-64290B7D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792-AC15-4819-94DC-3F86BC73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D15-A0EE-4C40-ACD7-2A502CE3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490-C402-42DE-91C7-F9CF8B3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F5D-87E1-427B-9B5B-DDFC4FE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1B4-7B05-4CF9-A99B-F21E81C6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6A5-9EE3-4D05-8627-5747459A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B85-C86D-453E-A8ED-01C01C2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EE8-2D31-4D64-B90A-546BBCE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BC6-F9B9-41DE-8898-DFB687C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861-5B00-4538-BB8B-83E10E8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0E0-7C76-421A-A597-7F172947F1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ffcd"/>
                </a:solidFill>
                <a:latin typeface="Arial"/>
              </a:rPr>
              <a:t>«Здоровьесберегающая технология раннего обучения дошкольников чтению по методике Н. А. Зайцева в решении задач преемственности дошкольного и начального общего образования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34920">
            <a:solidFill>
              <a:srgbClr val="11d56a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d56a"/>
                </a:solidFill>
                <a:latin typeface="Arial"/>
              </a:rPr>
              <a:t>Ахметова Л.М. – воспитатель МБДОУ « Детский сад № 32», г. Лениногорс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3" descr="1364_3972.jpg"/>
          <p:cNvPicPr/>
          <p:nvPr/>
        </p:nvPicPr>
        <p:blipFill>
          <a:blip r:embed="rId1"/>
          <a:stretch/>
        </p:blipFill>
        <p:spPr>
          <a:xfrm>
            <a:off x="5054760" y="2209680"/>
            <a:ext cx="355572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PP_17"/>
          <p:cNvPicPr/>
          <p:nvPr/>
        </p:nvPicPr>
        <p:blipFill>
          <a:blip r:embed="rId2"/>
          <a:stretch/>
        </p:blipFill>
        <p:spPr>
          <a:xfrm>
            <a:off x="762120" y="2743200"/>
            <a:ext cx="3886200" cy="25909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47ffd1"/>
                </a:solidFill>
                <a:latin typeface="Monotype Corsiva"/>
                <a:ea typeface="Arial"/>
              </a:rPr>
              <a:t>Склад - это наиболее упрощенная составляющая  слова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981080"/>
          <a:ext cx="8541000" cy="2133720"/>
        </p:xfrm>
        <a:graphic>
          <a:graphicData uri="http://schemas.openxmlformats.org/drawingml/2006/table">
            <a:tbl>
              <a:tblPr/>
              <a:tblGrid>
                <a:gridCol w="4270320"/>
                <a:gridCol w="427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ЛА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СКАЧ</a:t>
                      </a:r>
                      <a:r>
                        <a:rPr b="1" lang="ru-RU" sz="3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- С- КА - Ч</a:t>
                      </a:r>
                      <a:r>
                        <a:rPr b="1" lang="ru-RU" sz="3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СКОЛЬЗ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- С- КО - ЛЬ - З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СП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 – С – ПЯ - 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В.Ф.Шаталов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Picture 6" descr="http://pedsovet.su/_pu/55/27989212.jpg"/>
          <p:cNvPicPr/>
          <p:nvPr/>
        </p:nvPicPr>
        <p:blipFill>
          <a:blip r:embed="rId1"/>
          <a:stretch/>
        </p:blipFill>
        <p:spPr>
          <a:xfrm>
            <a:off x="228600" y="2286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8ea68b5760dc.jpg"/>
          <p:cNvPicPr/>
          <p:nvPr/>
        </p:nvPicPr>
        <p:blipFill>
          <a:blip r:embed="rId2"/>
          <a:stretch/>
        </p:blipFill>
        <p:spPr>
          <a:xfrm>
            <a:off x="2081160" y="1828800"/>
            <a:ext cx="7062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d1"/>
                </a:solidFill>
                <a:latin typeface="Arial"/>
              </a:rPr>
              <a:t>Какие бывают кубики Н.А.Зайцева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 размер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е (для твердых склад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енькие (для мягких склад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о цвету и напол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элемент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олотые» -  глас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елезные» - звон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еревянные» - глух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Бело-зеленые» - знаки препин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5" descr="02labdqcu1243232013.jpg"/>
          <p:cNvPicPr/>
          <p:nvPr/>
        </p:nvPicPr>
        <p:blipFill>
          <a:blip r:embed="rId1"/>
          <a:stretch/>
        </p:blipFill>
        <p:spPr>
          <a:xfrm>
            <a:off x="380880" y="10666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01labdqcu1243232013.jpg"/>
          <p:cNvPicPr/>
          <p:nvPr/>
        </p:nvPicPr>
        <p:blipFill>
          <a:blip r:embed="rId2"/>
          <a:stretch/>
        </p:blipFill>
        <p:spPr>
          <a:xfrm>
            <a:off x="5105520" y="342900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2a7"/>
                </a:solidFill>
                <a:latin typeface="Bookman Old Style"/>
              </a:rPr>
              <a:t>Дидактические принципы методики Н.А.Зайцев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- От общего к частному и от частного к обще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знакомятся сразу со всей таблицей и кубиками, на которых смоделирован весь 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т конкретно-образного через наглядно-действенное к словесно-логическо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еспечение наглядности с использованием различных каналов восприятия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го, слухового,     такти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истемная подача матер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- Учет физиологии восприятия учебной информаци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одача информации с четко заданным ритмом  усиливает  ее восприятие  мозг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ffd1"/>
                </a:solidFill>
                <a:latin typeface="Arial"/>
              </a:rPr>
              <a:t>Авторские дидактические пособия:</a:t>
            </a:r>
            <a:br>
              <a:rPr sz="3200"/>
            </a:br>
            <a:r>
              <a:rPr b="0" lang="ru-RU" sz="3200" spc="-1" strike="noStrike">
                <a:solidFill>
                  <a:srgbClr val="47ffd1"/>
                </a:solidFill>
                <a:latin typeface="Arial"/>
              </a:rPr>
              <a:t>                      </a:t>
            </a:r>
            <a:br>
              <a:rPr sz="3200"/>
            </a:br>
            <a:r>
              <a:rPr b="0" lang="ru-RU" sz="3200" spc="-1" strike="noStrike">
                <a:solidFill>
                  <a:srgbClr val="47ffd1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47ffd1"/>
                </a:solidFill>
                <a:latin typeface="Arial"/>
              </a:rPr>
              <a:t>«Прищепки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6" descr="DPP_2"/>
          <p:cNvPicPr/>
          <p:nvPr/>
        </p:nvPicPr>
        <p:blipFill>
          <a:blip r:embed="rId1"/>
          <a:stretch/>
        </p:blipFill>
        <p:spPr>
          <a:xfrm>
            <a:off x="227160" y="1523880"/>
            <a:ext cx="4192560" cy="27766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6" name="Рисунок 5" descr="SAM_0904.JPG"/>
          <p:cNvPicPr/>
          <p:nvPr/>
        </p:nvPicPr>
        <p:blipFill>
          <a:blip r:embed="rId2"/>
          <a:stretch/>
        </p:blipFill>
        <p:spPr>
          <a:xfrm>
            <a:off x="4114800" y="35812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763880" cy="297180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78" name="Прямоугольник 3"/>
          <p:cNvSpPr/>
          <p:nvPr/>
        </p:nvSpPr>
        <p:spPr>
          <a:xfrm>
            <a:off x="228600" y="3962520"/>
            <a:ext cx="41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Расставь треугольники по числам и прочитай плака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638680" y="106668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Подпи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названия  посу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362480" cy="28702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4578480" y="304920"/>
            <a:ext cx="39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Складовое лот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419720" y="426708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Разрезные овощ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«Доброе солнышк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Содержимое 6" descr="SAM_0892.JPG"/>
          <p:cNvPicPr/>
          <p:nvPr/>
        </p:nvPicPr>
        <p:blipFill>
          <a:blip r:embed="rId1"/>
          <a:stretch/>
        </p:blipFill>
        <p:spPr>
          <a:xfrm>
            <a:off x="228600" y="304920"/>
            <a:ext cx="399888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914640" cy="26827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85" name="Рисунок 6" descr="SAM_1110.JPG"/>
          <p:cNvPicPr/>
          <p:nvPr/>
        </p:nvPicPr>
        <p:blipFill>
          <a:blip r:embed="rId3"/>
          <a:stretch/>
        </p:blipFill>
        <p:spPr>
          <a:xfrm>
            <a:off x="304920" y="3505320"/>
            <a:ext cx="3555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Arial"/>
              </a:rPr>
              <a:t>Дидактические игры, приемы и упражнения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«Какие слова  спрятались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2514600" y="6172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«Произнеси и запиши скороговорк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9" descr="SAM_1106.JPG"/>
          <p:cNvPicPr/>
          <p:nvPr/>
        </p:nvPicPr>
        <p:blipFill>
          <a:blip r:embed="rId1"/>
          <a:stretch/>
        </p:blipFill>
        <p:spPr>
          <a:xfrm>
            <a:off x="4497480" y="1143000"/>
            <a:ext cx="421488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2" descr="SAM_1100.JPG"/>
          <p:cNvPicPr/>
          <p:nvPr/>
        </p:nvPicPr>
        <p:blipFill>
          <a:blip r:embed="rId2"/>
          <a:stretch/>
        </p:blipFill>
        <p:spPr>
          <a:xfrm>
            <a:off x="457200" y="320040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s://im2-tub-ru.yandex.net/i?id=04db9ffab9d279a9accfb8db08a75852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04920" y="160020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e2a7"/>
                </a:solidFill>
                <a:latin typeface="Arial"/>
              </a:rPr>
              <a:t>«…Школьное обучение никогда не начинается с пустого места, а всегда опирается на определенную стадию развития, проделанную ребенком ранее."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e2a7"/>
                </a:solidFill>
                <a:latin typeface="Arial"/>
              </a:rPr>
              <a:t>                                  </a:t>
            </a:r>
            <a:r>
              <a:rPr b="1" i="1" lang="ru-RU" sz="3200" spc="-1" strike="noStrike">
                <a:solidFill>
                  <a:srgbClr val="00e2a7"/>
                </a:solidFill>
                <a:latin typeface="Arial"/>
              </a:rPr>
              <a:t>В. А. Сухомлинск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ffcd"/>
                </a:solidFill>
                <a:latin typeface="Arial"/>
              </a:rPr>
              <a:t>Виды готовности ребенка </a:t>
            </a:r>
            <a:br>
              <a:rPr sz="3200"/>
            </a:br>
            <a:r>
              <a:rPr b="1" lang="ru-RU" sz="3200" spc="-1" strike="noStrike">
                <a:solidFill>
                  <a:srgbClr val="3cffcd"/>
                </a:solidFill>
                <a:latin typeface="Arial"/>
              </a:rPr>
              <a:t>к бучению в школе: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олог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Автор методики –</a:t>
            </a:r>
            <a:br>
              <a:rPr sz="3200"/>
            </a:br>
            <a:r>
              <a:rPr b="1" lang="ru-RU" sz="3200" spc="-1" strike="noStrike">
                <a:solidFill>
                  <a:srgbClr val="23b36e"/>
                </a:solidFill>
                <a:latin typeface="Arial"/>
              </a:rPr>
              <a:t>Зайцев Николай Александрович</a:t>
            </a:r>
            <a:r>
              <a:rPr b="0" lang="ru-RU" sz="3200" spc="-1" strike="noStrike">
                <a:solidFill>
                  <a:srgbClr val="23b3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йский педагог-нова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фесс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адемик «Академии творческой педагог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 С-Петер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«Не учить ребенка читать и писать,                                                                       а сделать так, чтобы чт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ошло в жизнь малыша спокой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 естественн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.А. Зай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Рисунок 6" descr="zaycev30001.jpg"/>
          <p:cNvPicPr/>
          <p:nvPr/>
        </p:nvPicPr>
        <p:blipFill>
          <a:blip r:embed="rId1"/>
          <a:stretch/>
        </p:blipFill>
        <p:spPr>
          <a:xfrm>
            <a:off x="609480" y="3006720"/>
            <a:ext cx="28958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d1"/>
                </a:solidFill>
                <a:latin typeface="Arial"/>
              </a:rPr>
              <a:t>Основные положения методики Н.А.Зайцева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вратить чтение в увлекательную иг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ь не буквам в отдельности, а склад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чтению лежит через обучение пись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2a7"/>
                </a:solidFill>
                <a:latin typeface="Bookman Old Style"/>
              </a:rPr>
              <a:t>Актуальность методики Н.А.Зайцева –</a:t>
            </a:r>
            <a:br>
              <a:rPr sz="2800"/>
            </a:br>
            <a:r>
              <a:rPr b="1" lang="ru-RU" sz="2800" spc="-1" strike="noStrike">
                <a:solidFill>
                  <a:srgbClr val="00e2a7"/>
                </a:solidFill>
                <a:latin typeface="Bookman Old Style"/>
              </a:rPr>
              <a:t>Здоровьесберегающая технология </a:t>
            </a:r>
            <a:br>
              <a:rPr sz="2800"/>
            </a:br>
            <a:r>
              <a:rPr b="1" lang="ru-RU" sz="2800" spc="-1" strike="noStrike">
                <a:solidFill>
                  <a:srgbClr val="00e2a7"/>
                </a:solidFill>
                <a:latin typeface="Bookman Old Style"/>
              </a:rPr>
              <a:t>соответствующая требованиям ФГОС ДО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61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 проводятся в игровой и соревновательной фор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ется сохранность здоровь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гательная активность на занятиях отвечает физиологической потребности ребенка в движ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53964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 подается в интеграции с познавательным развитием, художественно-эстетическим развитием, художественной литературой, физическим развит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8840" y="76212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            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47ffd1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Ф. Базарный: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140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ы, кубики определенного цвета и размера охраняют и развивают остроту з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лады с расстояния в несколько метров видны и доступны восприятию для слабовидя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ые переводы взгляда с одного склада на другой, смена режимов ближнего и дальнего зрения позволяют избегать напряжения и утомления глаз и тренировать глазные мыш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28600" y="152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2a7"/>
                </a:solidFill>
                <a:latin typeface="Bookman Old Style"/>
              </a:rPr>
              <a:t>Целесообразность метод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990360"/>
            <a:ext cx="854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Arial"/>
              </a:rPr>
              <a:t>- Свободное перемещение детей по группе во время занят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7ffd1"/>
                </a:solidFill>
                <a:latin typeface="Arial"/>
              </a:rPr>
              <a:t>- Вытягивание позвоночника при работе с таблицами, расположенными на высоте около двух метров позволяют избегать нарушений осан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8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7ffd1"/>
                </a:solidFill>
                <a:latin typeface="Monotype Corsiva"/>
                <a:ea typeface="Arial"/>
              </a:rPr>
              <a:t>Складовой принцип  - </a:t>
            </a:r>
            <a:r>
              <a:rPr b="0" lang="ru-RU" sz="3600" spc="-1" strike="noStrike">
                <a:solidFill>
                  <a:srgbClr val="47ffd1"/>
                </a:solidFill>
                <a:latin typeface="Monotype Corsiva"/>
                <a:ea typeface="Arial"/>
              </a:rPr>
              <a:t>  </a:t>
            </a:r>
            <a:r>
              <a:rPr b="1" lang="ru-RU" sz="3200" spc="-1" strike="noStrike">
                <a:solidFill>
                  <a:srgbClr val="47ffd1"/>
                </a:solidFill>
                <a:latin typeface="Monotype Corsiva"/>
                <a:ea typeface="Arial"/>
              </a:rPr>
              <a:t>основа обучения детей чтению  </a:t>
            </a:r>
            <a:br>
              <a:rPr sz="3200"/>
            </a:br>
            <a:r>
              <a:rPr b="1" lang="ru-RU" sz="3200" spc="-1" strike="noStrike">
                <a:solidFill>
                  <a:srgbClr val="47ffd1"/>
                </a:solidFill>
                <a:latin typeface="Monotype Corsiva"/>
                <a:ea typeface="Arial"/>
              </a:rPr>
              <a:t>                           по методике  Н.А.Зайцева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10666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Склад -альтернатива сло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Склад - это наиболее упроще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составляющая  слов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пара из согласной с глас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пара из согласной с мягким знак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пара из согласной с твердым зна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Arial"/>
              </a:rPr>
              <a:t>одна бук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7ffd1"/>
                </a:solidFill>
                <a:latin typeface="Arial"/>
              </a:rPr>
              <a:t>В.Ф.Базарный: «… Мы, как и Н.А. Зайцев рекомендуем отказаться от вербально-фонемного принципа овладения чтением, как технологии, закрепощающей ребенка и негативно отражающейся на его психомоторном развитии и здоровье.»</a:t>
            </a:r>
            <a:r>
              <a:rPr b="1" lang="ru-RU" sz="3200" spc="-1" strike="noStrike">
                <a:solidFill>
                  <a:srgbClr val="47ffd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C:\Users\1\Desktop\ку\01labk7hb1235820796.jpg"/>
          <p:cNvPicPr/>
          <p:nvPr/>
        </p:nvPicPr>
        <p:blipFill>
          <a:blip r:embed="rId1"/>
          <a:stretch/>
        </p:blipFill>
        <p:spPr>
          <a:xfrm>
            <a:off x="6683400" y="1143000"/>
            <a:ext cx="192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-2016</cp:lastModifiedBy>
  <dcterms:modified xsi:type="dcterms:W3CDTF">2017-06-10T18:34:51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