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21D-831A-4D52-A133-EB8CAB31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AAF0-8CA4-4DE1-B767-D4A9FFFB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82C-060E-493E-BF8E-13EAE585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BF0-B247-4BEF-9EFE-63E9F975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662-1A4B-4D48-B89D-FD46ADCE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1C7F-2C6D-45BF-9851-0F5A1B3D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7EEC-F022-4053-8E34-7A3AFDF0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0BE-F3B4-4C35-8A00-1B2948B2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175-3E28-43AE-9761-53BB68C5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B813-5C20-43E4-8F93-1D2A2436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574-E959-4640-9CC5-D8C4D3BA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BF4-1B47-41EF-9CAF-35B3021F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FEEA-4FFD-4BC6-911B-775859F12D7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ffcd"/>
                </a:solidFill>
                <a:latin typeface="Arial"/>
              </a:rPr>
              <a:t>«Здоровьесберегающая технология раннего обучения дошкольников чтению по методике Н. А. Зайцева в решении задач преемственности дошкольного и начального общего образования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34920">
            <a:solidFill>
              <a:srgbClr val="11d56a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d56a"/>
                </a:solidFill>
                <a:latin typeface="Arial"/>
              </a:rPr>
              <a:t>Ахметова Л.М. – воспитатель МБДОУ « Детский сад № 32», г. Лениногорс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3" descr="1364_3972.jpg"/>
          <p:cNvPicPr/>
          <p:nvPr/>
        </p:nvPicPr>
        <p:blipFill>
          <a:blip r:embed="rId1"/>
          <a:stretch/>
        </p:blipFill>
        <p:spPr>
          <a:xfrm>
            <a:off x="5054760" y="2209680"/>
            <a:ext cx="3555720" cy="2667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DPP_17"/>
          <p:cNvPicPr/>
          <p:nvPr/>
        </p:nvPicPr>
        <p:blipFill>
          <a:blip r:embed="rId2"/>
          <a:stretch/>
        </p:blipFill>
        <p:spPr>
          <a:xfrm>
            <a:off x="762120" y="2743200"/>
            <a:ext cx="3886200" cy="259092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10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47ffd1"/>
                </a:solidFill>
                <a:latin typeface="Monotype Corsiva"/>
                <a:ea typeface="Arial"/>
              </a:rPr>
              <a:t>Склад - это наиболее упрощенная составляющая  слова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1981080"/>
          <a:ext cx="8541000" cy="2133720"/>
        </p:xfrm>
        <a:graphic>
          <a:graphicData uri="http://schemas.openxmlformats.org/drawingml/2006/table">
            <a:tbl>
              <a:tblPr/>
              <a:tblGrid>
                <a:gridCol w="4270320"/>
                <a:gridCol w="4270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ЛА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ВСКАЧ</a:t>
                      </a:r>
                      <a:r>
                        <a:rPr b="1" lang="ru-RU" sz="3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В- С- КА - Ч</a:t>
                      </a:r>
                      <a:r>
                        <a:rPr b="1" lang="ru-RU" sz="3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ВСКОЛЬЗ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В- С- КО - ЛЬ - З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ВСПЯ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В – С – ПЯ - 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47ffd1"/>
                </a:solidFill>
                <a:latin typeface="Arial"/>
              </a:rPr>
              <a:t>В.Ф.Шаталов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6" name="Picture 6" descr="http://pedsovet.su/_pu/55/27989212.jpg"/>
          <p:cNvPicPr/>
          <p:nvPr/>
        </p:nvPicPr>
        <p:blipFill>
          <a:blip r:embed="rId1"/>
          <a:stretch/>
        </p:blipFill>
        <p:spPr>
          <a:xfrm>
            <a:off x="228600" y="22860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8ea68b5760dc.jpg"/>
          <p:cNvPicPr/>
          <p:nvPr/>
        </p:nvPicPr>
        <p:blipFill>
          <a:blip r:embed="rId2"/>
          <a:stretch/>
        </p:blipFill>
        <p:spPr>
          <a:xfrm>
            <a:off x="2081160" y="1828800"/>
            <a:ext cx="7062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7ffd1"/>
                </a:solidFill>
                <a:latin typeface="Arial"/>
              </a:rPr>
              <a:t>Какие бывают кубики Н.А.Зайцева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228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                                                             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о размер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шие (для твердых склад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ленькие (для мягких склад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о цвету и наполн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элемента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олотые» -  глас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Железные» - звон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еревянные» - глух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Бело-зеленые» - знаки препин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Рисунок 5" descr="02labdqcu1243232013.jpg"/>
          <p:cNvPicPr/>
          <p:nvPr/>
        </p:nvPicPr>
        <p:blipFill>
          <a:blip r:embed="rId1"/>
          <a:stretch/>
        </p:blipFill>
        <p:spPr>
          <a:xfrm>
            <a:off x="380880" y="10666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01labdqcu1243232013.jpg"/>
          <p:cNvPicPr/>
          <p:nvPr/>
        </p:nvPicPr>
        <p:blipFill>
          <a:blip r:embed="rId2"/>
          <a:stretch/>
        </p:blipFill>
        <p:spPr>
          <a:xfrm>
            <a:off x="5105520" y="342900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e2a7"/>
                </a:solidFill>
                <a:latin typeface="Bookman Old Style"/>
              </a:rPr>
              <a:t>Дидактические принципы методики Н.А.Зайцева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- От общего к частному и от частного к общем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щиеся знакомятся сразу со всей таблицей и кубиками, на которых смоделирован весь 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т конкретно-образного через наглядно-действенное к словесно-логическом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беспечение наглядности с использованием различных каналов восприятия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рительного, слухового,     тактиль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Системная подача материа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- Учет физиологии восприятия учебной информации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«Подача информации с четко заданным ритмом  усиливает  ее восприятие  мозго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4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10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ffd1"/>
                </a:solidFill>
                <a:latin typeface="Arial"/>
              </a:rPr>
              <a:t>Авторские дидактические пособия:</a:t>
            </a:r>
            <a:br>
              <a:rPr sz="3200"/>
            </a:br>
            <a:r>
              <a:rPr b="0" lang="ru-RU" sz="3200" spc="-1" strike="noStrike">
                <a:solidFill>
                  <a:srgbClr val="47ffd1"/>
                </a:solidFill>
                <a:latin typeface="Arial"/>
              </a:rPr>
              <a:t>                      </a:t>
            </a:r>
            <a:br>
              <a:rPr sz="3200"/>
            </a:br>
            <a:r>
              <a:rPr b="0" lang="ru-RU" sz="3200" spc="-1" strike="noStrike">
                <a:solidFill>
                  <a:srgbClr val="47ffd1"/>
                </a:solidFill>
                <a:latin typeface="Arial"/>
              </a:rPr>
              <a:t>                                  </a:t>
            </a:r>
            <a:r>
              <a:rPr b="1" lang="ru-RU" sz="3200" spc="-1" strike="noStrike">
                <a:solidFill>
                  <a:srgbClr val="47ffd1"/>
                </a:solidFill>
                <a:latin typeface="Arial"/>
              </a:rPr>
              <a:t>«Прищепки»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5" name="Picture 6" descr="DPP_2"/>
          <p:cNvPicPr/>
          <p:nvPr/>
        </p:nvPicPr>
        <p:blipFill>
          <a:blip r:embed="rId1"/>
          <a:stretch/>
        </p:blipFill>
        <p:spPr>
          <a:xfrm>
            <a:off x="227160" y="1523880"/>
            <a:ext cx="4192560" cy="277668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pic>
        <p:nvPicPr>
          <p:cNvPr id="76" name="Рисунок 5" descr="SAM_0904.JPG"/>
          <p:cNvPicPr/>
          <p:nvPr/>
        </p:nvPicPr>
        <p:blipFill>
          <a:blip r:embed="rId2"/>
          <a:stretch/>
        </p:blipFill>
        <p:spPr>
          <a:xfrm>
            <a:off x="4114800" y="358128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763880" cy="297180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sp>
        <p:nvSpPr>
          <p:cNvPr id="78" name="Прямоугольник 3"/>
          <p:cNvSpPr/>
          <p:nvPr/>
        </p:nvSpPr>
        <p:spPr>
          <a:xfrm>
            <a:off x="228600" y="3962520"/>
            <a:ext cx="411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«Расставь треугольники по числам и прочитай плака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5638680" y="1066680"/>
            <a:ext cx="2743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«Подпи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названия  посуд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4343400" y="3581280"/>
            <a:ext cx="4362480" cy="287028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4578480" y="304920"/>
            <a:ext cx="39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«Складовое лот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419720" y="4267080"/>
            <a:ext cx="4495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«Разрезные овощ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«Доброе солнышк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Содержимое 6" descr="SAM_0892.JPG"/>
          <p:cNvPicPr/>
          <p:nvPr/>
        </p:nvPicPr>
        <p:blipFill>
          <a:blip r:embed="rId1"/>
          <a:stretch/>
        </p:blipFill>
        <p:spPr>
          <a:xfrm>
            <a:off x="228600" y="304920"/>
            <a:ext cx="3998880" cy="266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914640" cy="268272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pic>
        <p:nvPicPr>
          <p:cNvPr id="85" name="Рисунок 6" descr="SAM_1110.JPG"/>
          <p:cNvPicPr/>
          <p:nvPr/>
        </p:nvPicPr>
        <p:blipFill>
          <a:blip r:embed="rId3"/>
          <a:stretch/>
        </p:blipFill>
        <p:spPr>
          <a:xfrm>
            <a:off x="304920" y="3505320"/>
            <a:ext cx="3555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10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ffd1"/>
                </a:solidFill>
                <a:latin typeface="Arial"/>
              </a:rPr>
              <a:t>Дидактические игры, приемы и упражнения: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0" y="1600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ffd1"/>
                </a:solidFill>
                <a:latin typeface="Arial"/>
              </a:rPr>
              <a:t>«Какие слова  спрятались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2514600" y="6172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ffd1"/>
                </a:solidFill>
                <a:latin typeface="Arial"/>
              </a:rPr>
              <a:t>«Произнеси и запиши скороговорк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Рисунок 9" descr="SAM_1106.JPG"/>
          <p:cNvPicPr/>
          <p:nvPr/>
        </p:nvPicPr>
        <p:blipFill>
          <a:blip r:embed="rId1"/>
          <a:stretch/>
        </p:blipFill>
        <p:spPr>
          <a:xfrm>
            <a:off x="4497480" y="1143000"/>
            <a:ext cx="4214880" cy="28195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2" descr="SAM_1100.JPG"/>
          <p:cNvPicPr/>
          <p:nvPr/>
        </p:nvPicPr>
        <p:blipFill>
          <a:blip r:embed="rId2"/>
          <a:stretch/>
        </p:blipFill>
        <p:spPr>
          <a:xfrm>
            <a:off x="457200" y="3200400"/>
            <a:ext cx="3860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s://im2-tub-ru.yandex.net/i?id=04db9ffab9d279a9accfb8db08a75852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304920" y="1600200"/>
            <a:ext cx="8534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e2a7"/>
                </a:solidFill>
                <a:latin typeface="Arial"/>
              </a:rPr>
              <a:t>«…Школьное обучение никогда не начинается с пустого места, а всегда опирается на определенную стадию развития, проделанную ребенком ранее." 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e2a7"/>
                </a:solidFill>
                <a:latin typeface="Arial"/>
              </a:rPr>
              <a:t>                                  </a:t>
            </a:r>
            <a:r>
              <a:rPr b="1" i="1" lang="ru-RU" sz="3200" spc="-1" strike="noStrike">
                <a:solidFill>
                  <a:srgbClr val="00e2a7"/>
                </a:solidFill>
                <a:latin typeface="Arial"/>
              </a:rPr>
              <a:t>В. А. Сухомлински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ffcd"/>
                </a:solidFill>
                <a:latin typeface="Arial"/>
              </a:rPr>
              <a:t>Виды готовности ребенка </a:t>
            </a:r>
            <a:br>
              <a:rPr sz="3200"/>
            </a:br>
            <a:r>
              <a:rPr b="1" lang="ru-RU" sz="3200" spc="-1" strike="noStrike">
                <a:solidFill>
                  <a:srgbClr val="3cffcd"/>
                </a:solidFill>
                <a:latin typeface="Arial"/>
              </a:rPr>
              <a:t>к бучению в школе: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логическ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иолог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аль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Автор методики –</a:t>
            </a:r>
            <a:br>
              <a:rPr sz="3200"/>
            </a:br>
            <a:r>
              <a:rPr b="1" lang="ru-RU" sz="3200" spc="-1" strike="noStrike">
                <a:solidFill>
                  <a:srgbClr val="23b36e"/>
                </a:solidFill>
                <a:latin typeface="Arial"/>
              </a:rPr>
              <a:t>Зайцев Николай Александрович</a:t>
            </a:r>
            <a:r>
              <a:rPr b="0" lang="ru-RU" sz="3200" spc="-1" strike="noStrike">
                <a:solidFill>
                  <a:srgbClr val="23b36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1680" y="114300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сийский педагог-новато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фессо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кадемик «Академии творческой педагогик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 С-Петербу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«Не учить ребенка читать и писать,                                                                       а сделать так, чтобы чт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вошло в жизнь малыша спокой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                                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и естественн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Н.А. Зайц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Рисунок 6" descr="zaycev30001.jpg"/>
          <p:cNvPicPr/>
          <p:nvPr/>
        </p:nvPicPr>
        <p:blipFill>
          <a:blip r:embed="rId1"/>
          <a:stretch/>
        </p:blipFill>
        <p:spPr>
          <a:xfrm>
            <a:off x="609480" y="3006720"/>
            <a:ext cx="289584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d1"/>
                </a:solidFill>
                <a:latin typeface="Arial"/>
              </a:rPr>
              <a:t>Основные положения методики Н.А.Зайцева: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вратить чтение в увлекательную игр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ь не буквам в отдельности, а склад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чтению лежит через обучение пись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e2a7"/>
                </a:solidFill>
                <a:latin typeface="Bookman Old Style"/>
              </a:rPr>
              <a:t>Актуальность методики Н.А.Зайцева –</a:t>
            </a:r>
            <a:br>
              <a:rPr sz="2800"/>
            </a:br>
            <a:r>
              <a:rPr b="1" lang="ru-RU" sz="2800" spc="-1" strike="noStrike">
                <a:solidFill>
                  <a:srgbClr val="00e2a7"/>
                </a:solidFill>
                <a:latin typeface="Bookman Old Style"/>
              </a:rPr>
              <a:t>Здоровьесберегающая технология </a:t>
            </a:r>
            <a:br>
              <a:rPr sz="2800"/>
            </a:br>
            <a:r>
              <a:rPr b="1" lang="ru-RU" sz="2800" spc="-1" strike="noStrike">
                <a:solidFill>
                  <a:srgbClr val="00e2a7"/>
                </a:solidFill>
                <a:latin typeface="Bookman Old Style"/>
              </a:rPr>
              <a:t>соответствующая требованиям ФГОС ДО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613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9640" indent="-53964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ятия проводятся в игровой и соревновательной фор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53964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ивается сохранность здоровья воспитан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53964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игательная активность на занятиях отвечает физиологической потребности ребенка в движе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53964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 подается в интеграции с познавательным развитием, художественно-эстетическим развитием, художественной литературой, физическим развитие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8840" y="762120"/>
            <a:ext cx="5334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47ffd1"/>
                </a:solidFill>
                <a:latin typeface="Arial"/>
              </a:rPr>
              <a:t>               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7ffd1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47ffd1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Ф. Базарный: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91404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блицы, кубики определенного цвета и размера охраняют и развивают остроту зр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лады с расстояния в несколько метров видны и доступны восприятию для слабовидящих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оянные переводы взгляда с одного склада на другой, смена режимов ближнего и дальнего зрения позволяют избегать напряжения и утомления глаз и тренировать глазные мышц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228600" y="15228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2a7"/>
                </a:solidFill>
                <a:latin typeface="Bookman Old Style"/>
              </a:rPr>
              <a:t>Целесообразность метод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520" y="990360"/>
            <a:ext cx="854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ffd1"/>
                </a:solidFill>
                <a:latin typeface="Arial"/>
              </a:rPr>
              <a:t>- Свободное перемещение детей по группе во время занят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ffd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7ffd1"/>
                </a:solidFill>
                <a:latin typeface="Arial"/>
              </a:rPr>
              <a:t>- Вытягивание позвоночника при работе с таблицами, расположенными на высоте около двух метров позволяют избегать нарушений осан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58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47ffd1"/>
                </a:solidFill>
                <a:latin typeface="Monotype Corsiva"/>
                <a:ea typeface="Arial"/>
              </a:rPr>
              <a:t>Складовой принцип  - </a:t>
            </a:r>
            <a:r>
              <a:rPr b="0" lang="ru-RU" sz="3600" spc="-1" strike="noStrike">
                <a:solidFill>
                  <a:srgbClr val="47ffd1"/>
                </a:solidFill>
                <a:latin typeface="Monotype Corsiva"/>
                <a:ea typeface="Arial"/>
              </a:rPr>
              <a:t>  </a:t>
            </a:r>
            <a:r>
              <a:rPr b="1" lang="ru-RU" sz="3200" spc="-1" strike="noStrike">
                <a:solidFill>
                  <a:srgbClr val="47ffd1"/>
                </a:solidFill>
                <a:latin typeface="Monotype Corsiva"/>
                <a:ea typeface="Arial"/>
              </a:rPr>
              <a:t>основа обучения детей чтению  </a:t>
            </a:r>
            <a:br>
              <a:rPr sz="3200"/>
            </a:br>
            <a:r>
              <a:rPr b="1" lang="ru-RU" sz="3200" spc="-1" strike="noStrike">
                <a:solidFill>
                  <a:srgbClr val="47ffd1"/>
                </a:solidFill>
                <a:latin typeface="Monotype Corsiva"/>
                <a:ea typeface="Arial"/>
              </a:rPr>
              <a:t>                           по методике  Н.А.Зайцева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1680" y="1066680"/>
            <a:ext cx="8540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  <a:ea typeface="Arial"/>
              </a:rPr>
              <a:t>Склад -альтернатива слог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Arial"/>
              </a:rPr>
              <a:t>Склад - это наиболее упрощен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Arial"/>
              </a:rPr>
              <a:t>составляющая  слова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Arial"/>
              </a:rPr>
              <a:t>пара из согласной с гласн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Arial"/>
              </a:rPr>
              <a:t>пара из согласной с мягким знак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Arial"/>
              </a:rPr>
              <a:t>пара из согласной с твердым зна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Arial"/>
              </a:rPr>
              <a:t>одна бук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7ffd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7ffd1"/>
                </a:solidFill>
                <a:latin typeface="Arial"/>
              </a:rPr>
              <a:t>В.Ф.Базарный: «… Мы, как и Н.А. Зайцев рекомендуем отказаться от вербально-фонемного принципа овладения чтением, как технологии, закрепощающей ребенка и негативно отражающейся на его психомоторном развитии и здоровье.»</a:t>
            </a:r>
            <a:r>
              <a:rPr b="1" lang="ru-RU" sz="3200" spc="-1" strike="noStrike">
                <a:solidFill>
                  <a:srgbClr val="47ffd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C:\Users\1\Desktop\ку\01labk7hb1235820796.jpg"/>
          <p:cNvPicPr/>
          <p:nvPr/>
        </p:nvPicPr>
        <p:blipFill>
          <a:blip r:embed="rId1"/>
          <a:stretch/>
        </p:blipFill>
        <p:spPr>
          <a:xfrm>
            <a:off x="6683400" y="1143000"/>
            <a:ext cx="1927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на-2016</cp:lastModifiedBy>
  <dcterms:modified xsi:type="dcterms:W3CDTF">2017-06-10T18:34:51Z</dcterms:modified>
  <cp:revision>1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