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7BB-E988-4A30-AEFD-2AA40F3D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A71-5738-46EC-A11C-C46A147D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9A2-6FC2-4CFE-A5EA-D07E1771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8F0-ED0F-46F6-9928-FE6BA693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F8A0-F4DF-4F00-94A8-DA1373F4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0626-01A1-44DA-B864-E5A20809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3E70-9808-4C89-8F92-E6C81759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EDAB-C173-41C8-9385-A21D4DDC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A4A5-A3AC-44F5-BF0F-EE6CAEE3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2845-5339-41B6-A250-8C166663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BA5C-7964-4AEF-A5D4-BEA41ED2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A29-A1F3-4880-9FDF-A54E8A58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AB10-2957-47B8-B473-C1EA7C07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E922-867D-4E1B-94DB-BFD85CED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B613-04D0-4400-9298-CC24A426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ABB8-FEEC-4954-9FB2-CFF9EDF2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0E91-B8E2-4501-B02B-15AD0ACA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A582-8238-4806-B516-62973A1C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9A7-4F58-4D8D-BB51-C9C11240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190-CF38-4944-9554-9306FEE0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3835-901F-480E-93F5-CCBF6F61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FCFA-6AC1-4E86-AC80-1868EA66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EA74-ED8C-4865-8415-33207A62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F35F-4A64-4D51-AB45-984934AE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3372-F4C9-425E-9477-F90F443F9E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CB21-1C4B-45FD-9E88-1FD002E77C45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ектная деятельность дошкольников в соответствии с ФГОС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396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оспитатель МАДОУ «Детский сад № 8» Энгельсского муниципального райо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Чеботарева Светлана Юрьев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адачи проектной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деятельност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Младший возрас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2205000"/>
            <a:ext cx="3683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хождение детей в проблемную игровую ситуацию (ведущая роль педагога)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ктивизация желания искать пути разрешения проблемной ситуации (вместе с педагогом)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формирование начальных предпосылок поисковой деятельности (практические опыты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тарший возрас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84360" y="2204640"/>
            <a:ext cx="33829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формирование предпосылок поисковой деятельности, интеллектуальной инициативы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азвитие умения определять возможные методы решения проблемы с помощью взрослого, а затем и самостоятельно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формирование умения применять данные методы, способствующие решению поставленной задачи, с использованием различных вариантов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азвитие желания пользоваться специальной терминологией, ведение конструктивной беседы в процессе совместной исследовательской деятельности.  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     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сновные принципы ФГОС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.4. Основные принципы дошкольного образования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3) содействие и сотрудничество детей и взрослых, признание ребенка полноценным участником (субъектом) образовательных отношений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4) поддержка инициативы детей в различных видах деятельност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5) сотрудничество Организации с семьей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7) формирование познавательных интересов и познавательных действий ребенка в различных видах деятельност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ребования к структуре ООП ДО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2.1. Программа определяет содержание и организацию образовательной деятельности на уровне дошкольного образова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рограмма обеспечивает развитие личности детей дошкольного возраста в различных видах общения и деятельности с учетом их возрастных, индивидуальных психологических и физиологических особенностей и должна быть направлена на решение задач Стандарт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2.4. Программа направлена на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оздание условий развития ребенка, открывающих возможности для его позитивной социализации, его личностного развития, развития инициативы и творческих способностей на основе сотрудничества со взрослыми и сверстниками и соответствующим возрасту видам деятельност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Требования к условиям реализации ООП ДО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... создание социальной ситуации развития для участников образовательных отношений, включая создание образовательной среды, которая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3) способствует профессиональному развитию педагогических работников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4) создает условия для развивающего вариативного дошкольного образования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5) обеспечивает открытость дошкольного образования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6) создает условия для участия родителей (законных представителей) в образовательной деятельност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оект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 - 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это специально организованный взрослым и выполняемый детьми комплекс действий, завершающийся созданием творческих рабо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Метод проектов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 система обучения, при которой дети приобретают знания в процессе планирования и выполнения постоянно усложняющихся практических заданий - проектов. Метод проектов всегда предполагает решение воспитанниками какой-то 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облемы</a:t>
            </a: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етод проектов описывает комплекс действий ребенка и способы (техники) организации педагогом этих действий, то есть является 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едагогической технологие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539640" y="692280"/>
            <a:ext cx="3311640" cy="64908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Физкультурно-оздоровительное развит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Прямоугольник 2"/>
          <p:cNvSpPr/>
          <p:nvPr/>
        </p:nvSpPr>
        <p:spPr>
          <a:xfrm>
            <a:off x="539640" y="1700280"/>
            <a:ext cx="3311640" cy="72072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Познавательно-речевое развит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Прямоугольник 6"/>
          <p:cNvSpPr/>
          <p:nvPr/>
        </p:nvSpPr>
        <p:spPr>
          <a:xfrm>
            <a:off x="539640" y="2852640"/>
            <a:ext cx="3311640" cy="72072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Художественно-эстетическое развит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Прямоугольник 7"/>
          <p:cNvSpPr/>
          <p:nvPr/>
        </p:nvSpPr>
        <p:spPr>
          <a:xfrm>
            <a:off x="539640" y="4437000"/>
            <a:ext cx="3311640" cy="72072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Социально-личностное развит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Правая фигурная скобка 8"/>
          <p:cNvSpPr/>
          <p:nvPr/>
        </p:nvSpPr>
        <p:spPr>
          <a:xfrm>
            <a:off x="3995640" y="549360"/>
            <a:ext cx="1081080" cy="4751280"/>
          </a:xfrm>
          <a:custGeom>
            <a:avLst/>
            <a:gdLst>
              <a:gd name="textAreaLeft" fmla="*/ 0 w 1081080"/>
              <a:gd name="textAreaRight" fmla="*/ 390240 w 1081080"/>
              <a:gd name="textAreaTop" fmla="*/ 28080 h 4751280"/>
              <a:gd name="textAreaBottom" fmla="*/ 472320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5"/>
                  <a:pt x="10800" y="410"/>
                </a:cubicBezTo>
                <a:lnTo>
                  <a:pt x="10800" y="10390"/>
                </a:lnTo>
                <a:cubicBezTo>
                  <a:pt x="10800" y="10595"/>
                  <a:pt x="16200" y="10800"/>
                  <a:pt x="21600" y="10800"/>
                </a:cubicBezTo>
                <a:cubicBezTo>
                  <a:pt x="16200" y="10800"/>
                  <a:pt x="10800" y="11005"/>
                  <a:pt x="10800" y="11210"/>
                </a:cubicBezTo>
                <a:lnTo>
                  <a:pt x="10800" y="21190"/>
                </a:lnTo>
                <a:cubicBezTo>
                  <a:pt x="10800" y="2139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2b3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Прямоугольник 10"/>
          <p:cNvSpPr/>
          <p:nvPr/>
        </p:nvSpPr>
        <p:spPr>
          <a:xfrm>
            <a:off x="5076720" y="2421000"/>
            <a:ext cx="2590920" cy="100800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Проектная деятельнос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3"/>
          <p:cNvSpPr/>
          <p:nvPr/>
        </p:nvSpPr>
        <p:spPr>
          <a:xfrm>
            <a:off x="1042920" y="549360"/>
            <a:ext cx="5977080" cy="93492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Дошкольное образовательное учрежден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08" name="Прямая со стрелкой 5"/>
          <p:cNvCxnSpPr/>
          <p:nvPr/>
        </p:nvCxnSpPr>
        <p:spPr>
          <a:xfrm flipH="1">
            <a:off x="1618920" y="1484280"/>
            <a:ext cx="1658160" cy="165816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cxnSp>
        <p:nvCxnSpPr>
          <p:cNvPr id="209" name="Прямая со стрелкой 7"/>
          <p:cNvCxnSpPr/>
          <p:nvPr/>
        </p:nvCxnSpPr>
        <p:spPr>
          <a:xfrm>
            <a:off x="4787640" y="1484280"/>
            <a:ext cx="1585080" cy="165816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sp>
        <p:nvSpPr>
          <p:cNvPr id="210" name="Прямоугольник 8"/>
          <p:cNvSpPr/>
          <p:nvPr/>
        </p:nvSpPr>
        <p:spPr>
          <a:xfrm>
            <a:off x="250920" y="3284640"/>
            <a:ext cx="2952720" cy="86508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Передача знаний, трансляция информац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4140360" y="3284640"/>
            <a:ext cx="3095640" cy="86508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Практическая направленнос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12" name="Прямая со стрелкой 9"/>
          <p:cNvCxnSpPr>
            <a:stCxn id="211" idx="2"/>
          </p:cNvCxnSpPr>
          <p:nvPr/>
        </p:nvCxnSpPr>
        <p:spPr>
          <a:xfrm>
            <a:off x="5687640" y="4149720"/>
            <a:ext cx="1080" cy="28800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sp>
        <p:nvSpPr>
          <p:cNvPr id="213" name="Прямоугольник 10"/>
          <p:cNvSpPr/>
          <p:nvPr/>
        </p:nvSpPr>
        <p:spPr>
          <a:xfrm>
            <a:off x="4356000" y="4508640"/>
            <a:ext cx="2808360" cy="28872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рассужда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14" name="Прямая со стрелкой 12"/>
          <p:cNvCxnSpPr>
            <a:stCxn id="213" idx="2"/>
            <a:endCxn id="213" idx="2"/>
          </p:cNvCxnSpPr>
          <p:nvPr/>
        </p:nvCxnSpPr>
        <p:spPr>
          <a:xfrm>
            <a:off x="5758920" y="4797000"/>
            <a:ext cx="1080" cy="108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cxnSp>
        <p:nvCxnSpPr>
          <p:cNvPr id="215" name="Прямая со стрелкой 15"/>
          <p:cNvCxnSpPr>
            <a:stCxn id="213" idx="2"/>
          </p:cNvCxnSpPr>
          <p:nvPr/>
        </p:nvCxnSpPr>
        <p:spPr>
          <a:xfrm>
            <a:off x="5758920" y="4797360"/>
            <a:ext cx="1080" cy="28800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sp>
        <p:nvSpPr>
          <p:cNvPr id="216" name="Прямоугольник 16"/>
          <p:cNvSpPr/>
          <p:nvPr/>
        </p:nvSpPr>
        <p:spPr>
          <a:xfrm>
            <a:off x="4427640" y="5084640"/>
            <a:ext cx="2592360" cy="28908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планирова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17" name="Прямая со стрелкой 18"/>
          <p:cNvCxnSpPr>
            <a:stCxn id="216" idx="2"/>
          </p:cNvCxnSpPr>
          <p:nvPr/>
        </p:nvCxnSpPr>
        <p:spPr>
          <a:xfrm flipH="1">
            <a:off x="5723640" y="5373720"/>
            <a:ext cx="1080" cy="21672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sp>
        <p:nvSpPr>
          <p:cNvPr id="218" name="Прямоугольник 19"/>
          <p:cNvSpPr/>
          <p:nvPr/>
        </p:nvSpPr>
        <p:spPr>
          <a:xfrm>
            <a:off x="4427640" y="5589720"/>
            <a:ext cx="2592360" cy="28728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прогнозирова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19" name="Прямая со стрелкой 21"/>
          <p:cNvCxnSpPr>
            <a:stCxn id="218" idx="2"/>
          </p:cNvCxnSpPr>
          <p:nvPr/>
        </p:nvCxnSpPr>
        <p:spPr>
          <a:xfrm>
            <a:off x="5724000" y="5877000"/>
            <a:ext cx="1080" cy="21672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sp>
        <p:nvSpPr>
          <p:cNvPr id="220" name="Прямоугольник 22"/>
          <p:cNvSpPr/>
          <p:nvPr/>
        </p:nvSpPr>
        <p:spPr>
          <a:xfrm>
            <a:off x="4427640" y="6093000"/>
            <a:ext cx="2592360" cy="28872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экспериментирова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21" name="Прямая со стрелкой 24"/>
          <p:cNvCxnSpPr>
            <a:stCxn id="210" idx="2"/>
          </p:cNvCxnSpPr>
          <p:nvPr/>
        </p:nvCxnSpPr>
        <p:spPr>
          <a:xfrm>
            <a:off x="1726920" y="4149720"/>
            <a:ext cx="1080" cy="28800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sp>
        <p:nvSpPr>
          <p:cNvPr id="222" name="Прямоугольник 25"/>
          <p:cNvSpPr/>
          <p:nvPr/>
        </p:nvSpPr>
        <p:spPr>
          <a:xfrm>
            <a:off x="395280" y="4508640"/>
            <a:ext cx="2664000" cy="28872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слуша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23" name="Прямая со стрелкой 27"/>
          <p:cNvCxnSpPr>
            <a:stCxn id="222" idx="2"/>
          </p:cNvCxnSpPr>
          <p:nvPr/>
        </p:nvCxnSpPr>
        <p:spPr>
          <a:xfrm flipH="1">
            <a:off x="1726560" y="4797360"/>
            <a:ext cx="1080" cy="28800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sp>
        <p:nvSpPr>
          <p:cNvPr id="224" name="Прямоугольник 28"/>
          <p:cNvSpPr/>
          <p:nvPr/>
        </p:nvSpPr>
        <p:spPr>
          <a:xfrm>
            <a:off x="468360" y="5157720"/>
            <a:ext cx="2590920" cy="32400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повторя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 проектной деятельност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.развивать навыки работы в групп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2. выполнять различные роли, 3.взаимодействовать с другими людьми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4.выявлять проблемы и самостоятельно искать пути их решения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5.принимать осознанные решения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Этапы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блем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ектирование или планировани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иск информаци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дук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езентац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03:43:10Z</dcterms:created>
  <dc:creator>Sam</dc:creator>
  <dc:description/>
  <dc:language>en-US</dc:language>
  <cp:lastModifiedBy>user</cp:lastModifiedBy>
  <dcterms:modified xsi:type="dcterms:W3CDTF">2017-06-10T03:03:08Z</dcterms:modified>
  <cp:revision>12</cp:revision>
  <dc:subject/>
  <dc:title>Экологическая проектная деятельность как одна из форм музейной педагогики</dc:title>
</cp:coreProperties>
</file>