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9CC-2F61-47DF-9A73-67FB80D7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5EF-D0C8-4D64-97DC-3E1230BE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23F-7026-463C-8825-5612B5CD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B2E-DF8F-45E2-89C1-02CB066C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C960-6DF4-4E90-B6FE-74C30AB7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3A65-E56D-4C6B-A455-AC8C575B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4AD3-69DC-4682-B369-D67593C8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CF67-9A52-4ADD-9517-ABE255E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2FA5-E1ED-44FC-9CE5-40633B52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AEE-58FE-42D0-9A1D-3BEBEB9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AF5D-4B8F-40A6-B344-4C00C77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11F-659A-4D55-B38E-1AA6ECE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596-0BB8-4A68-82D2-40C890D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EC63-E816-41D5-BDC4-BAF0E25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9400-B402-4195-8EA5-A79F163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F1F1-A838-47B0-AED6-611C4C59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AD3F-608A-45BC-9853-78F84C8D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64B-6C96-4EF4-824F-2C9C8A71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9C2-0A19-40E2-9332-7EDA036D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23E-C161-4A3A-8E2F-C44BC684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F2B-2CA3-4A51-BE9A-033A49FD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932-3C64-43A4-B7CB-C42725A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5E5-5647-4E28-8D45-5F8A4C7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532-C5C0-4C87-8D5A-9B251CB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9CE-94F2-462E-8F7D-F103497F4B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F3AA-AD96-45D7-9B42-B9A256018C0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ектная деятельность дошкольников в соответствии с ФГ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396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спитатель МАДОУ «Детский сад № 8» Энгельсского муниципального райо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еботарева Светлана Юрье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чи проектной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еятель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ладший возра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2205000"/>
            <a:ext cx="3683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хождение детей в проблемную игровую ситуацию (ведущая роль педагога)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ктивизация желания искать пути разрешения проблемной ситуации (вместе с педагогом)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формирование начальных предпосылок поисковой деятельности (практические опыт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арший возра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84360" y="2204640"/>
            <a:ext cx="3382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формирование предпосылок поисковой деятельности, интеллектуальной инициативы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азвитие умения определять возможные методы решения проблемы с помощью взрослого, а затем и самостоятельно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  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    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принципы ФГО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4. Основные принципы дошкольного образова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) содействие и сотрудничество детей и взрослых, признание ребенка полноценным участником (субъектом) образовательных отношени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) поддержка инициативы детей в различных видах деятельност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) сотрудничество Организации с семье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7) формирование познавательных интересов и познавательных действий ребенка в различных видах деятельност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ребования к структуре ООП Д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1. Программа определяет содержание и организацию образовательной деятельности на уровне дошкольного образ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грамма обеспечивает развитие личности детей дошкольного возраста в различных видах общения и деятельности с учетом их возрастных, индивидуальных психологических и физиологических особенностей и должна быть направлена на решение задач Стандар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4. Программа направлена на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здание условий развития ребенка, открывающих возможности для его позитивной социализации, его личностного развития, развития инициативы и творческих способностей на основе сотрудничества со взрослыми и сверстниками и соответствующим возрасту видам деятельност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Требования к условиям реализации ООП ДО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.. создание социальной ситуации развития для участников образовательных отношений, включая создание образовательной среды, котора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) способствует профессиональному развитию педагогических работ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) создает условия для развивающего вариативного дошкольного образова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) обеспечивает открытость дошкольного образова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) создает условия для участия родителей (законных представителей) в образовательной 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ект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- 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то специально организованный взрослым и выполняемый детьми комплекс действий, завершающийся созданием творческих рабо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етод проектов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система обучения, при которой дети приобретают знания в процессе планирования и выполнения постоянно усложняющихся практических заданий - проектов. Метод проектов всегда предполагает решение воспитанниками какой-то 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блемы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тод проектов описывает комплекс действий ребенка и способы (техники) организации педагогом этих действий, то есть является 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едагогической технологи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39640" y="692280"/>
            <a:ext cx="3311640" cy="649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Физкультурно-оздоровительн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539640" y="1700280"/>
            <a:ext cx="3311640" cy="720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ознавательно-речев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539640" y="2852640"/>
            <a:ext cx="3311640" cy="720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Художественно-эстетическ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539640" y="4437000"/>
            <a:ext cx="3311640" cy="720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Социально-личностное развит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Правая фигурная скобка 8"/>
          <p:cNvSpPr/>
          <p:nvPr/>
        </p:nvSpPr>
        <p:spPr>
          <a:xfrm>
            <a:off x="3995640" y="549360"/>
            <a:ext cx="1081080" cy="4751280"/>
          </a:xfrm>
          <a:custGeom>
            <a:avLst/>
            <a:gdLst>
              <a:gd name="textAreaLeft" fmla="*/ 0 w 1081080"/>
              <a:gd name="textAreaRight" fmla="*/ 390240 w 1081080"/>
              <a:gd name="textAreaTop" fmla="*/ 28080 h 4751280"/>
              <a:gd name="textAreaBottom" fmla="*/ 472320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10"/>
                </a:cubicBezTo>
                <a:lnTo>
                  <a:pt x="10800" y="10390"/>
                </a:lnTo>
                <a:cubicBezTo>
                  <a:pt x="10800" y="10595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10"/>
                </a:cubicBezTo>
                <a:lnTo>
                  <a:pt x="10800" y="21190"/>
                </a:lnTo>
                <a:cubicBezTo>
                  <a:pt x="10800" y="213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2b3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5076720" y="2421000"/>
            <a:ext cx="2590920" cy="100800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роектная деятель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1042920" y="549360"/>
            <a:ext cx="5977080" cy="9349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Дошкольное образовательное учрежд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8" name="Прямая со стрелкой 5"/>
          <p:cNvCxnSpPr/>
          <p:nvPr/>
        </p:nvCxnSpPr>
        <p:spPr>
          <a:xfrm flipH="1">
            <a:off x="1618920" y="1484280"/>
            <a:ext cx="1658160" cy="165816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09" name="Прямая со стрелкой 7"/>
          <p:cNvCxnSpPr/>
          <p:nvPr/>
        </p:nvCxnSpPr>
        <p:spPr>
          <a:xfrm>
            <a:off x="4787640" y="1484280"/>
            <a:ext cx="1585080" cy="165816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0" name="Прямоугольник 8"/>
          <p:cNvSpPr/>
          <p:nvPr/>
        </p:nvSpPr>
        <p:spPr>
          <a:xfrm>
            <a:off x="250920" y="3284640"/>
            <a:ext cx="2952720" cy="865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ередача знаний, трансляция информац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4140360" y="3284640"/>
            <a:ext cx="3095640" cy="865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рактическая направлен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2" name="Прямая со стрелкой 9"/>
          <p:cNvCxnSpPr>
            <a:stCxn id="211" idx="2"/>
          </p:cNvCxnSpPr>
          <p:nvPr/>
        </p:nvCxnSpPr>
        <p:spPr>
          <a:xfrm>
            <a:off x="5687640" y="414972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3" name="Прямоугольник 10"/>
          <p:cNvSpPr/>
          <p:nvPr/>
        </p:nvSpPr>
        <p:spPr>
          <a:xfrm>
            <a:off x="4356000" y="4508640"/>
            <a:ext cx="2808360" cy="288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рассужд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4" name="Прямая со стрелкой 12"/>
          <p:cNvCxnSpPr>
            <a:stCxn id="213" idx="2"/>
            <a:endCxn id="213" idx="2"/>
          </p:cNvCxnSpPr>
          <p:nvPr/>
        </p:nvCxnSpPr>
        <p:spPr>
          <a:xfrm>
            <a:off x="5758920" y="4797000"/>
            <a:ext cx="1080" cy="108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cxnSp>
        <p:nvCxnSpPr>
          <p:cNvPr id="215" name="Прямая со стрелкой 15"/>
          <p:cNvCxnSpPr>
            <a:stCxn id="213" idx="2"/>
          </p:cNvCxnSpPr>
          <p:nvPr/>
        </p:nvCxnSpPr>
        <p:spPr>
          <a:xfrm>
            <a:off x="5758920" y="479736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6" name="Прямоугольник 16"/>
          <p:cNvSpPr/>
          <p:nvPr/>
        </p:nvSpPr>
        <p:spPr>
          <a:xfrm>
            <a:off x="4427640" y="5084640"/>
            <a:ext cx="2592360" cy="2890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ланиро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7" name="Прямая со стрелкой 18"/>
          <p:cNvCxnSpPr>
            <a:stCxn id="216" idx="2"/>
          </p:cNvCxnSpPr>
          <p:nvPr/>
        </p:nvCxnSpPr>
        <p:spPr>
          <a:xfrm flipH="1">
            <a:off x="5723640" y="5373720"/>
            <a:ext cx="1080" cy="21672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18" name="Прямоугольник 19"/>
          <p:cNvSpPr/>
          <p:nvPr/>
        </p:nvSpPr>
        <p:spPr>
          <a:xfrm>
            <a:off x="4427640" y="5589720"/>
            <a:ext cx="2592360" cy="28728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рогнозиро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9" name="Прямая со стрелкой 21"/>
          <p:cNvCxnSpPr>
            <a:stCxn id="218" idx="2"/>
          </p:cNvCxnSpPr>
          <p:nvPr/>
        </p:nvCxnSpPr>
        <p:spPr>
          <a:xfrm>
            <a:off x="5724000" y="5877000"/>
            <a:ext cx="1080" cy="21672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20" name="Прямоугольник 22"/>
          <p:cNvSpPr/>
          <p:nvPr/>
        </p:nvSpPr>
        <p:spPr>
          <a:xfrm>
            <a:off x="4427640" y="6093000"/>
            <a:ext cx="2592360" cy="288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экспериментиро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21" name="Прямая со стрелкой 24"/>
          <p:cNvCxnSpPr>
            <a:stCxn id="210" idx="2"/>
          </p:cNvCxnSpPr>
          <p:nvPr/>
        </p:nvCxnSpPr>
        <p:spPr>
          <a:xfrm>
            <a:off x="1726920" y="414972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22" name="Прямоугольник 25"/>
          <p:cNvSpPr/>
          <p:nvPr/>
        </p:nvSpPr>
        <p:spPr>
          <a:xfrm>
            <a:off x="395280" y="4508640"/>
            <a:ext cx="2664000" cy="28872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слуш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23" name="Прямая со стрелкой 27"/>
          <p:cNvCxnSpPr>
            <a:stCxn id="222" idx="2"/>
          </p:cNvCxnSpPr>
          <p:nvPr/>
        </p:nvCxnSpPr>
        <p:spPr>
          <a:xfrm flipH="1">
            <a:off x="1726560" y="4797360"/>
            <a:ext cx="1080" cy="288000"/>
          </a:xfrm>
          <a:prstGeom prst="straightConnector1">
            <a:avLst/>
          </a:prstGeom>
          <a:ln w="9360">
            <a:solidFill>
              <a:srgbClr val="d2b37c"/>
            </a:solidFill>
            <a:miter/>
            <a:tailEnd len="med" type="arrow" w="med"/>
          </a:ln>
        </p:spPr>
      </p:cxnSp>
      <p:sp>
        <p:nvSpPr>
          <p:cNvPr id="224" name="Прямоугольник 28"/>
          <p:cNvSpPr/>
          <p:nvPr/>
        </p:nvSpPr>
        <p:spPr>
          <a:xfrm>
            <a:off x="468360" y="5157720"/>
            <a:ext cx="2590920" cy="324000"/>
          </a:xfrm>
          <a:prstGeom prst="rect">
            <a:avLst/>
          </a:prstGeom>
          <a:solidFill>
            <a:srgbClr val="d5b781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6059"/>
                </a:solidFill>
                <a:latin typeface="Arial"/>
              </a:rPr>
              <a:t>повторя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ной де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развивать навыки работы в групп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 выполнять различные роли, 3.взаимодействовать с другими людьм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выявлять проблемы и самостоятельно искать пути их решен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принимать осознанные реш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апы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лем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ектирование или планирован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дук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03:43:10Z</dcterms:created>
  <dc:creator>Sam</dc:creator>
  <dc:description/>
  <dc:language>en-US</dc:language>
  <cp:lastModifiedBy>user</cp:lastModifiedBy>
  <dcterms:modified xsi:type="dcterms:W3CDTF">2017-06-10T03:03:08Z</dcterms:modified>
  <cp:revision>12</cp:revision>
  <dc:subject/>
  <dc:title>Экологическая проектная деятельность как одна из форм музейной педагогики</dc:title>
</cp:coreProperties>
</file>