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DD5-ECAC-4356-9880-6645CB5A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509-A2B5-4DCD-B572-BEBDA90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871-D7CD-4690-85BD-BF08A111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464-3433-42BF-A57C-5E61ACC4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CFFC-7725-4A10-A31E-19056A03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CA64-87CC-47A9-828C-07E10D9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7985-1067-4D15-ABC1-3F6EE74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A8AA-C827-4904-A8FA-3D300D2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D7A-D71A-4875-88C4-329C3571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DCBA-92D0-49DD-9EA1-2551280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18A9-84F0-46B1-972E-72C7C6F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31B-290F-4A4C-AF1B-0CCC94E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3F41-C5F6-4F78-B91C-A3EFD63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2B5-5BC5-4468-8DD1-D9AC3DD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5EE9-47D8-4D6C-8529-E49948A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BC5-7B93-4067-9FD7-0673F754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2A4-443E-499B-BEAD-E2EDDAF6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8D54-5CD4-4CF0-B42B-D3CA342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8BE5-66E7-48BF-830E-1CBBE82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EBBF-FD24-437D-AFA7-BAB8918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0122-29B5-4824-A3B5-235E620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7B7B-3FBF-485C-898B-0E03E32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B7C-A3DB-4F1C-8B64-1738FEF1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73CB-0864-4E5D-A4CC-587A583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1CB3-CB23-4C60-B292-D7A8938C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3B93-A32F-4995-A068-385AA2D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EF07-A63A-4772-922B-909B50C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DD02-F4A3-43D9-AA55-687A4E1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3980-0B73-4584-84D6-D01D6DC1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0552-AD6B-4473-8879-A077FD89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0AF-29CB-4572-8424-42B4E8CB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7D7-2B54-4680-B67E-3882709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6AE-8A55-4F6F-B842-36A6930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09C-0C94-45E2-A375-8D253DD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8DC-D746-45F6-B88F-F06C7DD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C2D-1BB2-461A-93FE-8A638BA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A79587-3C0C-4002-A794-ADC2723ADEE4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0E394D-C9A9-4358-87F8-0B136CBD7859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12608E-F7EF-41FE-A289-CCBE23F83756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елёная улиц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агерь дневного прибывания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БОУ ООШ №2 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5640" y="1556640"/>
            <a:ext cx="726444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етний лагерь дневного прибывания «Зелёная улица»  ГБОУ ООШ №2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0" name="Picture 2" descr="G:\DCIM\100MEDIA\IMAG1271.jpg"/>
          <p:cNvPicPr/>
          <p:nvPr/>
        </p:nvPicPr>
        <p:blipFill>
          <a:blip r:embed="rId1"/>
          <a:stretch/>
        </p:blipFill>
        <p:spPr>
          <a:xfrm>
            <a:off x="323640" y="0"/>
            <a:ext cx="6336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10 июня </a:t>
            </a:r>
            <a:br>
              <a:rPr sz="3800"/>
            </a:b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«День безопасности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817200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Правила поведения у водоёмов в летний период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седа с детьми в форме фронтальной беседы. Задачи: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накомить с правилами поведения на воде. Учить применять полученные знания на практике. Побуждать детей составлять описательные рассказы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приводя примеры из своей жизни. Воспитывать культуру поведения на пляже. Воспитывать внимание и осторожность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 algn="ctr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олевая игра «Поведение в экстремальных ситуациях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ь: помочь выработать линию поведения в экстремальных ситуациях. С помощью различных сценок моделируются ситуации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наглядно показывающие как нужно или не нужно вести себя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 algn="ctr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кторина «Знай правила и соблюдай!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ь: выявить уровень усвоенного материала воспитанниками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вено «зелёные пионеры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«Сегодня  с утра нас распределили на два-звена.» Мы назвали  своё звено «ЗЕЛЁНЫЕ ПИОНЕРЫ». Мы определили свои должности ! У нас были такие должности «Медсестра,СМИ,чистюля,спортсмены.» Ещё нам расказали про пушинку и колючку . Пушинка обозначает хорошие дела и за них ставят звёздочку , Колючка обозначает,, Если ты плохо себя ведёшь, кричишь, не слушаешь звеньевого, то ты  попал в  « Колючку» И тебе ставят кляксу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5-конечная звезда 3"/>
          <p:cNvSpPr/>
          <p:nvPr/>
        </p:nvSpPr>
        <p:spPr>
          <a:xfrm>
            <a:off x="6516360" y="4509000"/>
            <a:ext cx="1223640" cy="4316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36" name="Пятно 1 4"/>
          <p:cNvSpPr/>
          <p:nvPr/>
        </p:nvSpPr>
        <p:spPr>
          <a:xfrm>
            <a:off x="4788000" y="5949360"/>
            <a:ext cx="647640" cy="575640"/>
          </a:xfrm>
          <a:prstGeom prst="irregularSeal1">
            <a:avLst/>
          </a:prstGeom>
          <a:solidFill>
            <a:srgbClr val="00206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Колюч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Пятно 2 4"/>
          <p:cNvSpPr/>
          <p:nvPr/>
        </p:nvSpPr>
        <p:spPr>
          <a:xfrm rot="2900400">
            <a:off x="1247760" y="555480"/>
            <a:ext cx="7415280" cy="6199920"/>
          </a:xfrm>
          <a:prstGeom prst="irregularSeal2">
            <a:avLst/>
          </a:prstGeom>
          <a:solidFill>
            <a:srgbClr val="00b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9" name="Picture 2" descr="C:\Users\лорол\Desktop\Фото Зелёная улица\IMAG1244.jpg"/>
          <p:cNvPicPr/>
          <p:nvPr/>
        </p:nvPicPr>
        <p:blipFill>
          <a:blip r:embed="rId1"/>
          <a:stretch/>
        </p:blipFill>
        <p:spPr>
          <a:xfrm>
            <a:off x="3420000" y="2061000"/>
            <a:ext cx="2376000" cy="288936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право 6"/>
          <p:cNvSpPr/>
          <p:nvPr/>
        </p:nvSpPr>
        <p:spPr>
          <a:xfrm rot="20428800">
            <a:off x="678240" y="4349160"/>
            <a:ext cx="3659400" cy="484200"/>
          </a:xfrm>
          <a:prstGeom prst="rightArrow">
            <a:avLst>
              <a:gd name="adj1" fmla="val 0"/>
              <a:gd name="adj2" fmla="val 50000"/>
            </a:avLst>
          </a:prstGeom>
          <a:solidFill>
            <a:srgbClr val="ff00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95640" y="5373360"/>
            <a:ext cx="3024000" cy="1151640"/>
          </a:xfrm>
          <a:prstGeom prst="rect">
            <a:avLst/>
          </a:prstGeom>
          <a:solidFill>
            <a:schemeClr val="bg1"/>
          </a:solidFill>
          <a:ln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Фиалковский Никита локти на столе !!!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ак делать нельз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ffc000"/>
                </a:solidFill>
                <a:latin typeface="Trebuchet MS"/>
              </a:rPr>
              <a:t>Звено «жёлтое яблоко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при распределении наше звено получило название «Жёлтое яблоко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очень старались сегодня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даже никто не попал в «колючку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Кирилл попал  в «пушинку» - он хорошо себя проявил . Сегодня очень вкусный был завтрак и обед. За обедом все сидели очень тихо. Наверно потому что еда была очень вкусной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красиво оформлена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пасибо нашем поварам за т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что вкусно варят нам!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Улыбающееся лицо 3"/>
          <p:cNvSpPr/>
          <p:nvPr/>
        </p:nvSpPr>
        <p:spPr>
          <a:xfrm>
            <a:off x="5868000" y="4581000"/>
            <a:ext cx="575640" cy="5756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ушин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Облако 2"/>
          <p:cNvSpPr/>
          <p:nvPr/>
        </p:nvSpPr>
        <p:spPr>
          <a:xfrm>
            <a:off x="539640" y="1529280"/>
            <a:ext cx="7056360" cy="5328360"/>
          </a:xfrm>
          <a:prstGeom prst="cloud">
            <a:avLst/>
          </a:prstGeom>
          <a:solidFill>
            <a:srgbClr val="00b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7" name="Picture 2" descr="C:\Users\лорол\Desktop\Фото Зелёная улица\IMAG1269.jpg"/>
          <p:cNvPicPr/>
          <p:nvPr/>
        </p:nvPicPr>
        <p:blipFill>
          <a:blip r:embed="rId1"/>
          <a:stretch/>
        </p:blipFill>
        <p:spPr>
          <a:xfrm>
            <a:off x="1547640" y="2709000"/>
            <a:ext cx="4896360" cy="2927880"/>
          </a:xfrm>
          <a:prstGeom prst="rect">
            <a:avLst/>
          </a:prstGeom>
          <a:ln w="0">
            <a:noFill/>
          </a:ln>
        </p:spPr>
      </p:pic>
      <p:sp>
        <p:nvSpPr>
          <p:cNvPr id="148" name="Выноска-облако 4"/>
          <p:cNvSpPr/>
          <p:nvPr/>
        </p:nvSpPr>
        <p:spPr>
          <a:xfrm>
            <a:off x="4500000" y="1268640"/>
            <a:ext cx="4643640" cy="244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айков Кирилл дал больше ответов на викторине и заработал много жетонов и не тольк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73</TotalTime>
  <Application>LibreOffice/7.4.7.2$Linux_X86_64 LibreOffice_project/40$Build-2</Application>
  <AppVersion>15.0000</AppVersion>
  <Words>263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0T06:18:56Z</dcterms:created>
  <dc:creator>лорол</dc:creator>
  <dc:description/>
  <dc:language>en-US</dc:language>
  <cp:lastModifiedBy>лорол</cp:lastModifiedBy>
  <dcterms:modified xsi:type="dcterms:W3CDTF">2017-06-10T10:45:19Z</dcterms:modified>
  <cp:revision>22</cp:revision>
  <dc:subject/>
  <dc:title>Зелёная ул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