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A02-24BF-4A0E-8A3C-3FDB08E5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BF9-45C9-4A63-97B8-3691BAA0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279-4C3D-41A3-9BAA-5114ADC6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564-9CEA-4466-82A3-188BD979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0475-F3D8-454C-B54A-03DBA16F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8AC8-C7A6-428F-A2A8-E79E5F01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B3CA-FACD-49B8-A741-B76B4C39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133-DFF7-4333-898B-B5F83873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B8D-B72F-4781-83C5-9B20FE13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B15-AD22-4CC0-BB1E-EFC5FEB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0E81-3F94-4780-9A07-4E8DED5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738-DC1D-4279-9EA4-59C42706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2218-8EC1-438B-9576-CE10C17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5FD1-AF8C-452D-B06F-0CF7177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A998-23EF-4A9D-93BD-A0C6D209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EFB0-1E4A-483C-A022-2C81EF6A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19B5-4E77-4841-99E7-CAE7E6EF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0D86-0489-4CA4-BBE9-1331A89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5607-4FDE-4925-BFD6-68CA663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0214-8D40-4B04-87D4-457F8C03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E863-A8AB-44A4-9E88-E827236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5E56-B1BC-4563-AA00-D2033404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23C-9A86-4ED2-BC22-FE15A7F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040E-4B03-4D71-910E-74B9BAAD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53F9-6F47-4795-932A-C9EC103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8B25-AAAE-404F-A8EE-023A5E1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7DD4-13E7-4764-B7E7-8100BC3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2F53-C8BD-41B3-805C-AB85C9D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9511-12E1-49BC-96D6-FA37633C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CDD0-4B2A-49E0-B6A8-1F38547E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ACC-BEE2-4E1D-89B9-E0E9290B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487-C179-4A33-9B88-034B2C0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5A3-1BFA-4641-AD4E-D571879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076-85B0-49C5-832F-55EB964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8C1-B45A-424E-9571-9755FBD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518-C914-4960-8C3A-CD3D4C3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2441FC-3DB0-4309-B2D7-52246EFA0109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BA6C59-5AED-4DD1-82A4-2791E6DA15CE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2d05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92d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E89EE8-B800-4D9A-B68D-AED3EA3119BC}" type="slidenum">
              <a:rPr b="0" lang="ru-RU" sz="1100" spc="-1" strike="noStrike">
                <a:solidFill>
                  <a:srgbClr val="92d05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елёная улиц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агерь дневного прибывания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БОУ ООШ №2 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5640" y="1556640"/>
            <a:ext cx="726444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етний лагерь дневного прибывания «Зелёная улица»  ГБОУ ООШ №2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.г.т. Смышляевка.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0" name="Picture 2" descr="G:\DCIM\100MEDIA\IMAG1271.jpg"/>
          <p:cNvPicPr/>
          <p:nvPr/>
        </p:nvPicPr>
        <p:blipFill>
          <a:blip r:embed="rId1"/>
          <a:stretch/>
        </p:blipFill>
        <p:spPr>
          <a:xfrm>
            <a:off x="323640" y="0"/>
            <a:ext cx="6336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10 июня </a:t>
            </a:r>
            <a:br>
              <a:rPr sz="3800"/>
            </a:br>
            <a:r>
              <a:rPr b="1" lang="ru-RU" sz="3800" spc="-1" strike="noStrike" cap="all">
                <a:solidFill>
                  <a:srgbClr val="00b050"/>
                </a:solidFill>
                <a:latin typeface="Trebuchet MS"/>
              </a:rPr>
              <a:t>«День безопасности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9560"/>
            <a:ext cx="817200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Правила поведения у водоёмов в летний период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седа с детьми в форме фронтальной беседы. Задачи: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знакомить с правилами поведения на воде. Учить применять полученные знания на практике. Побуждать детей составлять описательные рассказы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приводя примеры из своей жизни. Воспитывать культуру поведения на пляже. Воспитывать внимание и осторожность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 algn="ctr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олевая игра «Поведение в экстремальных ситуациях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ль: помочь выработать линию поведения в экстремальных ситуациях. С помощью различных сценок моделируются ситуации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наглядно показывающие как нужно или не нужно вести себя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 algn="ctr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икторина «Знай правила и соблюдай!»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ль: выявить уровень усвоенного материала воспитанниками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Звено «зелёные пионеры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«Сегодня  с утра нас распределили на два-звена.» Мы назвали  своё звено «ЗЕЛЁНЫЕ ПИОНЕРЫ». Мы определили свои должности ! У нас были такие должности «Медсестра,СМИ,чистюля,спортсмены.» Ещё нам расказали про пушинку и колючку . Пушинка обозначает хорошие дела и за них ставят звёздочку , Колючка обозначает,, Если ты плохо себя ведёшь, кричишь, не слушаешь звеньевого, то ты  попал в  « Колючку» И тебе ставят кляксу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5-конечная звезда 3"/>
          <p:cNvSpPr/>
          <p:nvPr/>
        </p:nvSpPr>
        <p:spPr>
          <a:xfrm>
            <a:off x="6516360" y="4509000"/>
            <a:ext cx="1223640" cy="43164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36" name="Пятно 1 4"/>
          <p:cNvSpPr/>
          <p:nvPr/>
        </p:nvSpPr>
        <p:spPr>
          <a:xfrm>
            <a:off x="4788000" y="5949360"/>
            <a:ext cx="647640" cy="575640"/>
          </a:xfrm>
          <a:prstGeom prst="irregularSeal1">
            <a:avLst/>
          </a:prstGeom>
          <a:solidFill>
            <a:srgbClr val="00206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Колюч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Пятно 2 4"/>
          <p:cNvSpPr/>
          <p:nvPr/>
        </p:nvSpPr>
        <p:spPr>
          <a:xfrm rot="2900400">
            <a:off x="1247760" y="555480"/>
            <a:ext cx="7415280" cy="6199920"/>
          </a:xfrm>
          <a:prstGeom prst="irregularSeal2">
            <a:avLst/>
          </a:prstGeom>
          <a:solidFill>
            <a:srgbClr val="00b05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9" name="Picture 2" descr="C:\Users\лорол\Desktop\Фото Зелёная улица\IMAG1244.jpg"/>
          <p:cNvPicPr/>
          <p:nvPr/>
        </p:nvPicPr>
        <p:blipFill>
          <a:blip r:embed="rId1"/>
          <a:stretch/>
        </p:blipFill>
        <p:spPr>
          <a:xfrm>
            <a:off x="3420000" y="2061000"/>
            <a:ext cx="2376000" cy="288936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право 6"/>
          <p:cNvSpPr/>
          <p:nvPr/>
        </p:nvSpPr>
        <p:spPr>
          <a:xfrm rot="20428800">
            <a:off x="678240" y="4349160"/>
            <a:ext cx="3659400" cy="484200"/>
          </a:xfrm>
          <a:prstGeom prst="rightArrow">
            <a:avLst>
              <a:gd name="adj1" fmla="val 0"/>
              <a:gd name="adj2" fmla="val 50000"/>
            </a:avLst>
          </a:prstGeom>
          <a:solidFill>
            <a:srgbClr val="ff00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395640" y="5373360"/>
            <a:ext cx="3024000" cy="1151640"/>
          </a:xfrm>
          <a:prstGeom prst="rect">
            <a:avLst/>
          </a:prstGeom>
          <a:solidFill>
            <a:schemeClr val="bg1"/>
          </a:solidFill>
          <a:ln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Фиалковский Никита локти на столе !!!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ак делать нельз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ffc000"/>
                </a:solidFill>
                <a:latin typeface="Trebuchet MS"/>
              </a:rPr>
              <a:t>Звено «жёлтое яблоко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»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при распределении наше звено получило название «Жёлтое яблоко»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ы очень старались сегодня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даже никто не попал в «колючку»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Кирилл попал  в «пушинку» - он хорошо себя проявил . Сегодня очень вкусный был завтрак и обед. За обедом все сидели очень тихо. Наверно потому что еда была очень вкусной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9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красиво оформлена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пасибо нашем поварам за т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что вкусно варят нам!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Улыбающееся лицо 3"/>
          <p:cNvSpPr/>
          <p:nvPr/>
        </p:nvSpPr>
        <p:spPr>
          <a:xfrm>
            <a:off x="5868000" y="4581000"/>
            <a:ext cx="575640" cy="5756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ушин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Облако 2"/>
          <p:cNvSpPr/>
          <p:nvPr/>
        </p:nvSpPr>
        <p:spPr>
          <a:xfrm>
            <a:off x="539640" y="1529280"/>
            <a:ext cx="7056360" cy="5328360"/>
          </a:xfrm>
          <a:prstGeom prst="cloud">
            <a:avLst/>
          </a:prstGeom>
          <a:solidFill>
            <a:srgbClr val="00b05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7" name="Picture 2" descr="C:\Users\лорол\Desktop\Фото Зелёная улица\IMAG1269.jpg"/>
          <p:cNvPicPr/>
          <p:nvPr/>
        </p:nvPicPr>
        <p:blipFill>
          <a:blip r:embed="rId1"/>
          <a:stretch/>
        </p:blipFill>
        <p:spPr>
          <a:xfrm>
            <a:off x="1547640" y="2709000"/>
            <a:ext cx="4896360" cy="2927880"/>
          </a:xfrm>
          <a:prstGeom prst="rect">
            <a:avLst/>
          </a:prstGeom>
          <a:ln w="0">
            <a:noFill/>
          </a:ln>
        </p:spPr>
      </p:pic>
      <p:sp>
        <p:nvSpPr>
          <p:cNvPr id="148" name="Выноска-облако 4"/>
          <p:cNvSpPr/>
          <p:nvPr/>
        </p:nvSpPr>
        <p:spPr>
          <a:xfrm>
            <a:off x="4500000" y="1268640"/>
            <a:ext cx="4643640" cy="2448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>
            <a:solidFill>
              <a:srgbClr val="0082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айков Кирилл дал больше ответов на викторине и заработал много жетонов и не тольк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зящная">
  <a:themeElements>
    <a:clrScheme name="Другая 1">
      <a:dk1>
        <a:srgbClr val="000000"/>
      </a:dk1>
      <a:lt1>
        <a:srgbClr val="ffffff"/>
      </a:lt1>
      <a:dk2>
        <a:srgbClr val="92d050"/>
      </a:dk2>
      <a:lt2>
        <a:srgbClr val="f4e7ed"/>
      </a:lt2>
      <a:accent1>
        <a:srgbClr val="00b050"/>
      </a:accent1>
      <a:accent2>
        <a:srgbClr val="ac66bb"/>
      </a:accent2>
      <a:accent3>
        <a:srgbClr val="de6c36"/>
      </a:accent3>
      <a:accent4>
        <a:srgbClr val="f9b639"/>
      </a:accent4>
      <a:accent5>
        <a:srgbClr val="00b050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73</TotalTime>
  <Application>LibreOffice/7.4.7.2$Linux_X86_64 LibreOffice_project/40$Build-2</Application>
  <AppVersion>15.0000</AppVersion>
  <Words>263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0T06:18:56Z</dcterms:created>
  <dc:creator>лорол</dc:creator>
  <dc:description/>
  <dc:language>en-US</dc:language>
  <cp:lastModifiedBy>лорол</cp:lastModifiedBy>
  <dcterms:modified xsi:type="dcterms:W3CDTF">2017-06-10T10:45:19Z</dcterms:modified>
  <cp:revision>22</cp:revision>
  <dc:subject/>
  <dc:title>Зелёная ули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