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61C-D4E8-4BE9-AAFF-8CAED0FF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6CB-DF20-49D9-B6BB-5D24B37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0FC-6A9B-44A1-A36E-11CD8A7A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203-6750-4E1E-8CD6-58CCCB38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BF6-D010-4837-BBCA-C18E67E7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50B-C4D6-42F3-B4B5-335FDDC6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728-C7A4-415C-BB03-4FE2538B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97B-2199-4C37-B2F2-76CCF5CE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465-A7CC-4033-AB07-381F388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C97-13B8-4200-B354-78FE781E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FBC-C77C-4EC5-AD3F-596C950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8E4-9027-428C-A1A7-23CB752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6A26-1D64-438E-8D46-FDF5F71BA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82/Road_of_life_17_k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"ДОРОГА ЖИЗНИ</a:t>
            </a:r>
            <a:br>
              <a:rPr sz="6000"/>
            </a:b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в блокадном Ленинграде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6760" y="259920"/>
            <a:ext cx="83581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Помните!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Через Века, через года!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 Помните!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О тех кто уже не придет, никогда!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 Помните!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В горле сдержите стоны, горькие стоны!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Памяти павших будьте достойны!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Unicode MS"/>
              </a:rPr>
              <a:t>Вечно достой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22160" y="107172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ю подготов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ин Дмитрий, ученик 4 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ерко О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ЛИЦЕЙ № 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80010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сть разные дороги –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гистральные, городские, деревенские, разбитые и ухоженные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сть даже гоночные и кольцевые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но была и есть одна дорога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а которой -  жизнь ленинградцев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не вспомнить о ней нельз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642960" y="4357800"/>
            <a:ext cx="81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сентября 1941 год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итлеровцы захватили у истока Невы город Шлиссельбург, окружив Ленинград с суш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ась 871-дневная блокада Ленинград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условиях блокады единственной возможной транспортной коммуникацией, связывающей Ленинград с тылом, если не считать воздушный путь, была Лад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850752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началу Великой Отечественной войны Ладожское озеро было мало освоено, слабо изучено, на нем не было необходимого озерного флота, отстойных бухт и никакого пристанского хозя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96720" y="-4084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56360" y="6381720"/>
            <a:ext cx="716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14200" y="484920"/>
            <a:ext cx="4214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еты авиации, артиллерийские обстрелы, отсутствие электроэнергии и топлива приводили к тому, что системы жизнеобеспечения города прекратили свою работу. Ленинградцам приходилось прилагать огромные усилия, чтобы выжить. На этом снимке мы видим женщин, которые стоят в очереди за водой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Блокада Ленинграда (36 фотографий), photo:30"/>
          <p:cNvPicPr/>
          <p:nvPr/>
        </p:nvPicPr>
        <p:blipFill>
          <a:blip r:embed="rId1"/>
          <a:stretch/>
        </p:blipFill>
        <p:spPr>
          <a:xfrm>
            <a:off x="5643720" y="2714760"/>
            <a:ext cx="2887560" cy="388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Блокада Ленинграда (36 фотографий), photo:28"/>
          <p:cNvPicPr/>
          <p:nvPr/>
        </p:nvPicPr>
        <p:blipFill>
          <a:blip r:embed="rId2"/>
          <a:stretch/>
        </p:blipFill>
        <p:spPr>
          <a:xfrm>
            <a:off x="4714920" y="285840"/>
            <a:ext cx="38116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Блокада Ленинграда (36 фотографий), photo:25"/>
          <p:cNvPicPr/>
          <p:nvPr/>
        </p:nvPicPr>
        <p:blipFill>
          <a:blip r:embed="rId1"/>
          <a:stretch/>
        </p:blipFill>
        <p:spPr>
          <a:xfrm>
            <a:off x="1692360" y="2857680"/>
            <a:ext cx="6191280" cy="3593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28760" y="156240"/>
            <a:ext cx="84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Гужевой транспорт на Дороге жизн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овая дорога, хотя и не могла снабдить город всем необходимым и к тому же находилась под постоянным обстрелом немецкой артиллерии и подвергалась налетам с воздуха, зимой 1941/42 го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сомнения, спасла население Ленинграда от вымир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2360" y="-48024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213840"/>
            <a:ext cx="8858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колько сотен тысячи людей было эвакуировано из города через Ладожское  озеро по известной "Дороге Жизни"  - единственному маршруту, который соединил осажденный город с материком.  В течение теплых сезонов     были налажены понтонные переправы к       материку, а зимой нагруженные людьми грузовики скользили по льду Ладожского озера под постоянной вражеской бомбардиров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Дорога Жизни"/>
          <p:cNvPicPr/>
          <p:nvPr/>
        </p:nvPicPr>
        <p:blipFill>
          <a:blip r:embed="rId1"/>
          <a:stretch/>
        </p:blipFill>
        <p:spPr>
          <a:xfrm>
            <a:off x="2000160" y="2714760"/>
            <a:ext cx="54007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213840"/>
            <a:ext cx="892980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временем, город жил несмотря ни на что. Сокровища Эрмитажа и пригородных дворцов Петродворца, Пушкина были частично эвакуированы, а частично скрыты в подвалах Эрмитажа и Исаакиевского со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е продолжили их изу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й Шостакович написал свою Седьмую "Ленинградскую" симфонию. Партитура была направлена в осажденный город, где состоялась ее премь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Блокада Ленинграда (36 фотографий), photo:21"/>
          <p:cNvPicPr/>
          <p:nvPr/>
        </p:nvPicPr>
        <p:blipFill>
          <a:blip r:embed="rId1"/>
          <a:stretch/>
        </p:blipFill>
        <p:spPr>
          <a:xfrm>
            <a:off x="1928880" y="3071880"/>
            <a:ext cx="489744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82440" y="-50893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499680"/>
            <a:ext cx="814716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январе 1943 блокада была прорвана советскими войсками, а годом позже - 27 января 1944г. - была полностью сня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Блокада Ленинграда (36 фотографий), photo:34"/>
          <p:cNvPicPr/>
          <p:nvPr/>
        </p:nvPicPr>
        <p:blipFill>
          <a:blip r:embed="rId1"/>
          <a:stretch/>
        </p:blipFill>
        <p:spPr>
          <a:xfrm>
            <a:off x="1692360" y="2492280"/>
            <a:ext cx="6191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678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тни тысяч погибших лежат в братских могилах на кладбищах Санкт-Петербурга. Пискаревское мемориальное кладбище, где захоронено почти 500 тысяч людей, стало одним из наиболее значительных национальных военных памя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68360" y="2261520"/>
            <a:ext cx="316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на Дороге жизни установлено 7 монументов, 46 памятных столбов вдоль шоссе и 56 столбов вдоль железной доро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80px-Road_of_life_17_k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421000"/>
            <a:ext cx="3291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7:49:38Z</dcterms:created>
  <dc:creator>user</dc:creator>
  <dc:description/>
  <dc:language>en-US</dc:language>
  <cp:lastModifiedBy>Лицей 15</cp:lastModifiedBy>
  <dcterms:modified xsi:type="dcterms:W3CDTF">2017-06-11T20:58:14Z</dcterms:modified>
  <cp:revision>13</cp:revision>
  <dc:subject/>
  <dc:title>"ДОРОГА ЖИЗНИ" Есть разные дороги - магистральные, городские, деревенские, разбитые и ухоженные, есть даже гоночные и кольцевые, но была и есть одна дорога, цена которой -  жизнь ленинградцев, и не вспомнить о ней нельзя.    8 сентября 1941 года гитлеровцы захватили у истока Невы город Шлиссельбург, окружив Ленинград с суши. Началась 871-дневная блокада Ленинграда.</dc:title>
</cp:coreProperties>
</file>