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128C-E591-4A6A-986E-2152C7F0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691F-05F1-4809-8D57-B3A17723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5C00-46B2-44C1-ADD5-BD1A7604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039-5ADA-410B-9B1F-53090B32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4D1-3F18-4111-9630-618864B4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00A-6594-493B-A79B-CA79BDFA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0C6-1C5E-4C9D-82F0-E5BF1C99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B4E-3DE1-4118-AC2B-A8C03F88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080-6820-44B5-9051-E97195FE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AF1-B349-48BB-80AF-AB6EA21E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584-8EF2-4763-924C-5B806985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8E9-25C6-4E05-BF3B-A7E39515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1C72-E59B-4042-8369-980747AA3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82/Road_of_life_17_km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"ДОРОГА ЖИЗНИ</a:t>
            </a:r>
            <a:br>
              <a:rPr sz="6000"/>
            </a:b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в блокадном Ленинграде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6760" y="259920"/>
            <a:ext cx="835812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Unicode MS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 Unicode MS"/>
              </a:rPr>
              <a:t>Помните!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 Unicode MS"/>
              </a:rPr>
              <a:t>Через Века, через года!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 Unicode MS"/>
              </a:rPr>
              <a:t> Помните!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 Unicode MS"/>
              </a:rPr>
              <a:t>О тех кто уже не придет, никогда!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 Unicode MS"/>
              </a:rPr>
              <a:t> Помните!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 Unicode MS"/>
              </a:rPr>
              <a:t>В горле сдержите стоны, горькие стоны!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 Unicode MS"/>
              </a:rPr>
              <a:t>Памяти павших будьте достойны!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 Unicode MS"/>
              </a:rPr>
              <a:t>Вечно достой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22160" y="107172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ю подготов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тин Дмитрий, ученик 4 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Берко О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ЛИЦЕЙ № 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Сарато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600" y="0"/>
            <a:ext cx="800100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сть разные дороги –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агистральные, городские, деревенские, разбитые и ухоженные,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сть даже гоночные и кольцевые,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но была и есть одна дорога,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а которой -  жизнь ленинградцев,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не вспомнить о ней нельз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642960" y="4357800"/>
            <a:ext cx="814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 сентября 1941 года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итлеровцы захватили у истока Невы город Шлиссельбург, окружив Ленинград с суш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ась 871-дневная блокада Ленинград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условиях блокады единственной возможной транспортной коммуникацией, связывающей Ленинград с тылом, если не считать воздушный путь, была Лад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3789000"/>
            <a:ext cx="850752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началу Великой Отечественной войны Ладожское озеро было мало освоено, слабо изучено, на нем не было необходимого озерного флота, отстойных бухт и никакого пристанского хозя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96720" y="-40842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56360" y="6381720"/>
            <a:ext cx="716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14200" y="484920"/>
            <a:ext cx="4214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еты авиации, артиллерийские обстрелы, отсутствие электроэнергии и топлива приводили к тому, что системы жизнеобеспечения города прекратили свою работу. Ленинградцам приходилось прилагать огромные усилия, чтобы выжить. На этом снимке мы видим женщин, которые стоят в очереди за водой.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Блокада Ленинграда (36 фотографий), photo:30"/>
          <p:cNvPicPr/>
          <p:nvPr/>
        </p:nvPicPr>
        <p:blipFill>
          <a:blip r:embed="rId1"/>
          <a:stretch/>
        </p:blipFill>
        <p:spPr>
          <a:xfrm>
            <a:off x="5643720" y="2714760"/>
            <a:ext cx="2887560" cy="388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Блокада Ленинграда (36 фотографий), photo:28"/>
          <p:cNvPicPr/>
          <p:nvPr/>
        </p:nvPicPr>
        <p:blipFill>
          <a:blip r:embed="rId2"/>
          <a:stretch/>
        </p:blipFill>
        <p:spPr>
          <a:xfrm>
            <a:off x="4714920" y="285840"/>
            <a:ext cx="38116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Блокада Ленинграда (36 фотографий), photo:25"/>
          <p:cNvPicPr/>
          <p:nvPr/>
        </p:nvPicPr>
        <p:blipFill>
          <a:blip r:embed="rId1"/>
          <a:stretch/>
        </p:blipFill>
        <p:spPr>
          <a:xfrm>
            <a:off x="1692360" y="2857680"/>
            <a:ext cx="6191280" cy="3593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428760" y="156240"/>
            <a:ext cx="8429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Гужевой транспорт на Дороге жизн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довая дорога, хотя и не могла снабдить город всем необходимым и к тому же находилась под постоянным обстрелом немецкой артиллерии и подвергалась налетам с воздуха, зимой 1941/42 года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сомнения, спасла население Ленинграда от вымир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252360" y="-48024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213840"/>
            <a:ext cx="8858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колько сотен тысячи людей было эвакуировано из города через Ладожское  озеро по известной "Дороге Жизни"  - единственному маршруту, который соединил осажденный город с материком.  В течение теплых сезонов     были налажены понтонные переправы к       материку, а зимой нагруженные людьми грузовики скользили по льду Ладожского озера под постоянной вражеской бомбардиров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Дорога Жизни"/>
          <p:cNvPicPr/>
          <p:nvPr/>
        </p:nvPicPr>
        <p:blipFill>
          <a:blip r:embed="rId1"/>
          <a:stretch/>
        </p:blipFill>
        <p:spPr>
          <a:xfrm>
            <a:off x="2000160" y="2714760"/>
            <a:ext cx="54007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213840"/>
            <a:ext cx="8929800" cy="29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 временем, город жил несмотря ни на что. Сокровища Эрмитажа и пригородных дворцов Петродворца, Пушкина были частично эвакуированы, а частично скрыты в подвалах Эрмитажа и Исаакиевского соб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ые продолжили их изу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митрий Шостакович написал свою Седьмую "Ленинградскую" симфонию. Партитура была направлена в осажденный город, где состоялась ее премь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Блокада Ленинграда (36 фотографий), photo:21"/>
          <p:cNvPicPr/>
          <p:nvPr/>
        </p:nvPicPr>
        <p:blipFill>
          <a:blip r:embed="rId1"/>
          <a:stretch/>
        </p:blipFill>
        <p:spPr>
          <a:xfrm>
            <a:off x="1928880" y="3071880"/>
            <a:ext cx="489744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82440" y="-50893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499680"/>
            <a:ext cx="814716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январе 1943 блокада была прорвана советскими войсками, а годом позже - 27 января 1944г. - была полностью сня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Блокада Ленинграда (36 фотографий), photo:34"/>
          <p:cNvPicPr/>
          <p:nvPr/>
        </p:nvPicPr>
        <p:blipFill>
          <a:blip r:embed="rId1"/>
          <a:stretch/>
        </p:blipFill>
        <p:spPr>
          <a:xfrm>
            <a:off x="1692360" y="2492280"/>
            <a:ext cx="6191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67888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тни тысяч погибших лежат в братских могилах на кладбищах Санкт-Петербурга. Пискаревское мемориальное кладбище, где захоронено почти 500 тысяч людей, стало одним из наиболее значительных национальных военных памят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68360" y="2261520"/>
            <a:ext cx="316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на Дороге жизни установлено 7 монументов, 46 памятных столбов вдоль шоссе и 56 столбов вдоль железной доро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180px-Road_of_life_17_k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2421000"/>
            <a:ext cx="32911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7:49:38Z</dcterms:created>
  <dc:creator>user</dc:creator>
  <dc:description/>
  <dc:language>en-US</dc:language>
  <cp:lastModifiedBy>Лицей 15</cp:lastModifiedBy>
  <dcterms:modified xsi:type="dcterms:W3CDTF">2017-06-11T20:58:14Z</dcterms:modified>
  <cp:revision>13</cp:revision>
  <dc:subject/>
  <dc:title>"ДОРОГА ЖИЗНИ" Есть разные дороги - магистральные, городские, деревенские, разбитые и ухоженные, есть даже гоночные и кольцевые, но была и есть одна дорога, цена которой -  жизнь ленинградцев, и не вспомнить о ней нельзя.    8 сентября 1941 года гитлеровцы захватили у истока Невы город Шлиссельбург, окружив Ленинград с суши. Началась 871-дневная блокада Ленинграда.</dc:title>
</cp:coreProperties>
</file>