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EEB-9539-41D5-8769-F1B58A32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5C9-7C52-4DE1-B73E-C2116B18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8F6-04C4-49B7-99BA-EAD607B9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81F-BB5E-4105-81EE-A93AF892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3F5-924D-41D9-8F8F-0AE0B572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77F-30E3-42D2-9E53-40E7806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3DC-D8E7-43E5-A713-4164472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680-24BA-4DBD-8852-17B0BBC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5F0-ACDC-4ED6-BC4D-D5520BF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5FB-E4B6-4D4C-87EF-3400740C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F0D-DBFC-4414-8794-8C7CC53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B27-D5DF-48C7-A84F-C8B2747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0047ff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270-B62A-46FB-847D-72F118F8A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400" y="713880"/>
            <a:ext cx="61722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ПРОЕКТ</a:t>
            </a:r>
            <a:br>
              <a:rPr sz="40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 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бука дорожного движ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000" y="4076280"/>
            <a:ext cx="6172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ок реализаци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 проект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тисова Анастасия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МБДОУ «Детского сада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Звёздоч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еализ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этап: ПОДГОТОВ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09. по 30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этап: ОСНО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10. по 30.0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этап: ЗАКЛЮЧИТЕЛЬ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1.05. по 25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иру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организации деятельности по предупреждению дорожно-транспортных происшествий с деть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родителями причастности к формированию у ребенка безопасного повед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 детьми правил дорожного движения и безопасного поведения на дороге и в транспор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епление материальной базы для работы по этой пробле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учение научно-методической и психолого-педагогической литературы с использованием Интернет-ресурсов по теме про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группы единомышленников по данной пробл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бор методик для диагностики уровня информированност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кетирование родителей с целью заинтересованности данной пробле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готовление дорожных знаков, костюмов совместно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Анастасия\Desktop\CAM00011.jpg"/>
          <p:cNvPicPr/>
          <p:nvPr/>
        </p:nvPicPr>
        <p:blipFill>
          <a:blip r:embed="rId1"/>
          <a:stretch/>
        </p:blipFill>
        <p:spPr>
          <a:xfrm>
            <a:off x="2357280" y="285840"/>
            <a:ext cx="460872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 rot="662400">
            <a:off x="4905000" y="2644920"/>
            <a:ext cx="3822840" cy="382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 rot="20691000">
            <a:off x="415800" y="2825640"/>
            <a:ext cx="3465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И ЭФФЕКТИВ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 правил безопасности дорожного движения в качестве пешехода и пассажира транспортного средст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ость представления о важности безопасного поведения, соблюдения необходимых норм и правил в общественных местах, на улице и в транспор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ость представления о нормах культурной жизни и закрепление на практике правил пове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авильно оценивать ситуацию и принимать обдуманное 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898560"/>
          <a:ext cx="8229600" cy="5761080"/>
        </p:xfrm>
        <a:graphic>
          <a:graphicData uri="http://schemas.openxmlformats.org/drawingml/2006/table">
            <a:tbl>
              <a:tblPr/>
              <a:tblGrid>
                <a:gridCol w="6472440"/>
                <a:gridCol w="17571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влечение родителей к изготовлению атрибутов для меропри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художественной литературой по П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щение представления Тамбовской филармонии совместно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в группе уголка по безопасному дорожному движению с макетами различных видов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сультация для родителей «Легко ли научить ребенка правильно вести себя на дорогу?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лечение для детей «Путешествие в страну дорожных зна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тавка поделок и рисунков «Азбука дорожного движ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сультация «Знай, помни, соблюдай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суг для детей «Мой друг – светофор»,  «Я – культурный пассажи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я к светоф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альбома «Всё о безопасности на дорог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 – ма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РГАНИЗАЦИИ ДЕЯТЕЛЬНОСТИ ПО ФОРМИРОВАНИЮ БЕЗОПАСНОГО ПОВЕДЕНИЯ ДЕТЕЙ НА ДОРО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художественной литературой по ПДД (чтение рассказов, заучивание стих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южетно-ролевые и дидактические игры на тему дорожного движения  в повседнев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детей и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щение мероприятий вместе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и развлекатель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художе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 rot="20931000">
            <a:off x="274680" y="407520"/>
            <a:ext cx="45435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 rot="690600">
            <a:off x="4882680" y="3556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 rot="921000">
            <a:off x="4664160" y="3774960"/>
            <a:ext cx="4214880" cy="257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 rot="21132600">
            <a:off x="320400" y="363852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тоговое мероприятие: проведение викторины «Азбука дорожного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ческое обследование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ровень заинтересованност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ботка и оформление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4495680" cy="30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 rot="21077400">
            <a:off x="323640" y="2623680"/>
            <a:ext cx="3875040" cy="370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Анастасия\Desktop\CAM00028.jpg"/>
          <p:cNvPicPr/>
          <p:nvPr/>
        </p:nvPicPr>
        <p:blipFill>
          <a:blip r:embed="rId3"/>
          <a:stretch/>
        </p:blipFill>
        <p:spPr>
          <a:xfrm rot="615000">
            <a:off x="4705200" y="2743200"/>
            <a:ext cx="39150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оградить детей от опасности, надо как можно раньше начать готовить их к встрече с улицей, городским движением, приучать обращаться к старшим за помощью, а также и самим правильно и своевременно реагировать на сложившуюся ситуацию. Чем раньше удастся познакомить ребенка с правилами дорожного движения, сформировать у него навыки культуры поведения в транспорте, на улице, тем меньше вероятности нежелательных происшествий с ним на дорог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ая диаграмма уровня знаний по правилам дорожного движени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ледовано 26 дет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тябрь                                        М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428760" y="3143160"/>
          <a:ext cx="3857400" cy="32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3143160"/>
                    <a:ext cx="38574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4786200" y="3143160"/>
          <a:ext cx="4038840" cy="32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143160"/>
                    <a:ext cx="403884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заинтересованности родителей воспитанников данной пробле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785880" y="1928880"/>
          <a:ext cx="771516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928880"/>
                    <a:ext cx="771516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В ходе реализации проекта были созданы условия для достижения поставленной цели и задач. Система работы по  предупреждению происшествий с детьми на дороге обеспечила формирование у детей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знаний правил дорожного движения и безопасного поведения на дороге и в транспорте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. Проект является эффективным, т.к. оптимизирует образовательный процесс, малозатратный и выполним без дополнительных средст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ИЕ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РЕБОВАННОСТЬ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можно использовать в подготовительной группе детского сада, объединениях дополнительного образования, группах предшкольной подготовки, а также педагогами и специалистами дошкольных образовательных учрежд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Рассказо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М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 С.Ю. Про правила дорожного движения. – М.,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по правилам дорожного движения / Сост. Н.А. Извекова, А.Ф. Медведева, Л.Б. Полякова; Под ред. Е.А. Романовой, А.Б. Малюшкина. – М.: ТЦ Сфера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дорожного движения для детей дошкольного возраста/ Сост. Н.А. Извекова, А.Ф. Медведева, Л.Б. Полякова, А.Н. Федотова; Под ред. Е.А. Романовой, А.Б. Малюшкина. – М.: ТЦ Сфера,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зиевская Л. Ты и дорога. – М., «Литература»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рыгина Т. А. Осторожные сказки6 Безопасность для малышей- М. : Книголюб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н. Светофор.- М.: Издательство «Детская литература», 1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doshvozras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webkniga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tskijsad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moidetsad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it-n.ru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ww.pedsovet.or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характеристик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дагогический проект долгосроч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ализов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считан на подготовитель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зрастную групп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проекта: досугово – познавательны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реальность такова, что дороги и транспорт являются неотъемлемой частью нашей жиз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 утверждает, что примерно десять процентов ДТП происходит с участием детей, которые не знают правил дорожного движения или нарушают их, не осознавая последствий свое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важная роль в предупреждении детского дорожно-транспортного травматизма должна принадлежать детскому дошкольному учреждению. Именно педагоги должны стать первыми учителями ребенка в воспитании его, как дисциплинированного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шех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обудить развить и повысить у детей старшего возраста стремление к получению практических навыков пешеходного безопасного движен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необходимых условий для предупреждения дорожно-транспортных происшествий с детьми в пределах ДО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44360" y="4000680"/>
            <a:ext cx="2355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214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ить и обобщить знания детей о правилах безопасности дорожного движения в качестве пешехода и пассажира транспортного сре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епить материальную базу для работы по данной пробле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изировать работу с родителями детей старшего возраста по улучшению знаний о правилах дорожного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способность к овладению детьми элементарными правилами безопасного поведения в экстремальны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 детей представления о важности соблюдения правил дорожного дви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зн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работы детского сада по формированию безопасного поведения детей на дороге и в транспорте, представленная в проекте, отражает творческие подходы к решению данной проблемы, представляет целенаправленную, спланированную работу всего коллектив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6760"/>
            <a:ext cx="7972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Участники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музыкальный  руков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ь по из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педагог-псих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воспитатель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зической куль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род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дети подготови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P1050847"/>
          <p:cNvPicPr/>
          <p:nvPr/>
        </p:nvPicPr>
        <p:blipFill>
          <a:blip r:embed="rId1"/>
          <a:stretch/>
        </p:blipFill>
        <p:spPr>
          <a:xfrm>
            <a:off x="5143680" y="2643120"/>
            <a:ext cx="38160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23:39Z</dcterms:created>
  <dc:creator>Анастасия</dc:creator>
  <dc:description/>
  <dc:language>en-US</dc:language>
  <cp:lastModifiedBy>user</cp:lastModifiedBy>
  <dcterms:modified xsi:type="dcterms:W3CDTF">2017-06-11T08:14:57Z</dcterms:modified>
  <cp:revision>56</cp:revision>
  <dc:subject/>
  <dc:title>Слайд 1</dc:title>
</cp:coreProperties>
</file>