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2F2-2067-4139-9214-C64656DA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109-9BF5-4969-9480-1EF77904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210-C092-4DC4-9E47-49D9F63D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DA1-7CDD-49B0-808D-65E07C5F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FEA-05D4-485B-A2F5-C58356AD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B9E-94F7-4BF7-A6D9-13E99895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135-9347-4855-9CD8-391C2BAC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D7F-E259-40AE-A40D-D3BE7936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265-75EC-4251-959C-89B3546D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246-5FDA-4B63-8B91-BF7E0669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6C7-E9C6-4D03-838A-2BC582C4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16B-234F-478A-97E1-07A100EE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0047ff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CBE9-D9A9-401C-904B-DBBEF94A3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400" y="713880"/>
            <a:ext cx="61722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ИЙ ПРОЕКТ</a:t>
            </a:r>
            <a:br>
              <a:rPr sz="40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 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бука дорожного движени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000" y="4076280"/>
            <a:ext cx="61722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ок реализации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учебный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втор проект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тисова Анастасия Никола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МБДОУ «Детского сада №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Звёздоч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реализ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этап: ПОДГОТОВИ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 1.09. по 30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этап: ОСНОВ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 1.10. по 30.0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этап: ЗАКЛЮЧИТЕЛЬ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 1.05. по 25.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ируемый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организации деятельности по предупреждению дорожно-транспортных происшествий с деть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знание родителями причастности к формированию у ребенка безопасного повед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 детьми правил дорожного движения и безопасного поведения на дороге и в транспор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епление материальной базы для работы по этой пробле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учение научно-методической и психолого-педагогической литературы с использованием Интернет-ресурсов по теме проек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ие группы единомышленников по данной проблем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бор методик для диагностики уровня информированности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кетирование родителей с целью заинтересованности данной проблем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готовление дорожных знаков, костюмов совместно с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Users\Анастасия\Desktop\CAM00011.jpg"/>
          <p:cNvPicPr/>
          <p:nvPr/>
        </p:nvPicPr>
        <p:blipFill>
          <a:blip r:embed="rId1"/>
          <a:stretch/>
        </p:blipFill>
        <p:spPr>
          <a:xfrm>
            <a:off x="2357280" y="285840"/>
            <a:ext cx="4608720" cy="357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 rot="662400">
            <a:off x="4905000" y="2644920"/>
            <a:ext cx="3822840" cy="3824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 rot="20691000">
            <a:off x="415800" y="2825640"/>
            <a:ext cx="34657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ИИ ЭФФЕКТИВ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 правил безопасности дорожного движения в качестве пешехода и пассажира транспортного средст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ность представления о важности безопасного поведения, соблюдения необходимых норм и правил в общественных местах, на улице и в транспорт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ость представления о нормах культурной жизни и закрепление на практике правил пове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правильно оценивать ситуацию и принимать обдуманное реш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0040" y="898560"/>
          <a:ext cx="8229600" cy="5761080"/>
        </p:xfrm>
        <a:graphic>
          <a:graphicData uri="http://schemas.openxmlformats.org/drawingml/2006/table">
            <a:tbl>
              <a:tblPr/>
              <a:tblGrid>
                <a:gridCol w="6472440"/>
                <a:gridCol w="175716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влечение родителей к изготовлению атрибутов для мероприя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с художественной литературой по П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ещение представления Тамбовской филармонии совместно с родител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ние в группе уголка по безопасному дорожному движению с макетами различных видов транспо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сультация для родителей «Легко ли научить ребенка правильно вести себя на дорогу?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лечение для детей «Путешествие в страну дорожных знак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ставка поделок и рисунков «Азбука дорожного движ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сультация «Знай, помни, соблюдай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суг для детей «Мой друг – светофор»,  «Я – культурный пассажи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я к светофо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формление альбома «Всё о безопасности на дорог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 – ма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ОРГАНИЗАЦИИ ДЕЯТЕЛЬНОСТИ ПО ФОРМИРОВАНИЮ БЕЗОПАСНОГО ПОВЕДЕНИЯ ДЕТЕЙ НА ДОРОГ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художественной литературой по ПДД (чтение рассказов, заучивание стих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южетно-ролевые и дидактические игры на тему дорожного движения  в повседнев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ая деятельность детей и взрос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щение мероприятий вместе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ые и развлекатель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художествен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 rot="20931000">
            <a:off x="274680" y="407520"/>
            <a:ext cx="4543560" cy="328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 rot="690600">
            <a:off x="4882680" y="35568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 rot="921000">
            <a:off x="4664160" y="3774960"/>
            <a:ext cx="4214880" cy="257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 rot="21132600">
            <a:off x="320400" y="3638520"/>
            <a:ext cx="450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тоговое мероприятие: проведение викторины «Азбука дорожного дви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агностическое обследование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ровень заинтересованност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работка и оформление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428920" y="642960"/>
            <a:ext cx="4495680" cy="30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 rot="21077400">
            <a:off x="323640" y="2623680"/>
            <a:ext cx="3875040" cy="370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Анастасия\Desktop\CAM00028.jpg"/>
          <p:cNvPicPr/>
          <p:nvPr/>
        </p:nvPicPr>
        <p:blipFill>
          <a:blip r:embed="rId3"/>
          <a:stretch/>
        </p:blipFill>
        <p:spPr>
          <a:xfrm rot="615000">
            <a:off x="4705200" y="2743200"/>
            <a:ext cx="39150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оградить детей от опасности, надо как можно раньше начать готовить их к встрече с улицей, городским движением, приучать обращаться к старшим за помощью, а также и самим правильно и своевременно реагировать на сложившуюся ситуацию. Чем раньше удастся познакомить ребенка с правилами дорожного движения, сформировать у него навыки культуры поведения в транспорте, на улице, тем меньше вероятности нежелательных происшествий с ним на дорог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льная диаграмма уровня знаний по правилам дорожного движения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ледовано 26 дет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тябрь                                        М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428760" y="3143160"/>
          <a:ext cx="3857400" cy="32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3143160"/>
                    <a:ext cx="385740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4786200" y="3143160"/>
          <a:ext cx="4038840" cy="32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3143160"/>
                    <a:ext cx="403884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ень заинтересованности родителей воспитанников данной проблем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785880" y="1928880"/>
          <a:ext cx="771516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928880"/>
                    <a:ext cx="771516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В ходе реализации проекта были созданы условия для достижения поставленной цели и задач. Система работы по  предупреждению происшествий с детьми на дороге обеспечила формирование у детей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знаний правил дорожного движения и безопасного поведения на дороге и в транспорте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. Проект является эффективным, т.к. оптимизирует образовательный процесс, малозатратный и выполним без дополнительных средст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ИЕ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РЕБОВАННОСТЬ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можно использовать в подготовительной группе детского сада, объединениях дополнительного образования, группах предшкольной подготовки, а также педагогами и специалистами дошкольных образовательных учрежд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Рассказо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МЫЕ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ков С.Ю. Про правила дорожного движения. – М., 2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я по правилам дорожного движения / Сост. Н.А. Извекова, А.Ф. Медведева, Л.Б. Полякова; Под ред. Е.А. Романовой, А.Б. Малюшкина. – М.: ТЦ Сфера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дорожного движения для детей дошкольного возраста/ Сост. Н.А. Извекова, А.Ф. Медведева, Л.Б. Полякова, А.Н. Федотова; Под ред. Е.А. Романовой, А.Б. Малюшкина. – М.: ТЦ Сфера, 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зиевская Л. Ты и дорога. – М., «Литература»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рыгина Т. А. Осторожные сказки6 Безопасность для малышей- М. : Книголюб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н. Светофор.- М.: Издательство «Детская литература», 1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doshvozrast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.webkniga.ru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tskijsad.ru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.moidetsad.ru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.it-n.ru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.pedsovet.or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характеристики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дагогический проект долгосроч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ализова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считан на подготовительн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зрастную групп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проекта: досугово – познавательны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реальность такова, что дороги и транспорт являются неотъемлемой частью нашей жиз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ка утверждает, что примерно десять процентов ДТП происходит с участием детей, которые не знают правил дорожного движения или нарушают их, не осознавая последствий своего повед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ому важная роль в предупреждении детского дорожно-транспортного травматизма должна принадлежать детскому дошкольному учреждению. Именно педагоги должны стать первыми учителями ребенка в воспитании его, как дисциплинированного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шех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обудить развить и повысить у детей старшего возраста стремление к получению практических навыков пешеходного безопасного движени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необходимых условий для предупреждения дорожно-транспортных происшествий с детьми в пределах ДО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44360" y="4000680"/>
            <a:ext cx="2355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214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ить и обобщить знания детей о правилах безопасности дорожного движения в качестве пешехода и пассажира транспортного сред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епить материальную базу для работы по данной проблем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тимизировать работу с родителями детей старшего возраста по улучшению знаний о правилах дорожного 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способность к овладению детьми элементарными правилами безопасного поведения в экстремальных ситуац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у детей представления о важности соблюдения правил дорожного движ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изна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работы детского сада по формированию безопасного поведения детей на дороге и в транспорте, представленная в проекте, отражает творческие подходы к решению данной проблемы, представляет целенаправленную, спланированную работу всего коллектива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56760"/>
            <a:ext cx="79725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Участники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воспитат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музыкальный  руково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воспитатель по из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педагог-психо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воспитатель п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изической культ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роди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дети подготовитель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P1050847"/>
          <p:cNvPicPr/>
          <p:nvPr/>
        </p:nvPicPr>
        <p:blipFill>
          <a:blip r:embed="rId1"/>
          <a:stretch/>
        </p:blipFill>
        <p:spPr>
          <a:xfrm>
            <a:off x="5143680" y="2643120"/>
            <a:ext cx="38160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5:23:39Z</dcterms:created>
  <dc:creator>Анастасия</dc:creator>
  <dc:description/>
  <dc:language>en-US</dc:language>
  <cp:lastModifiedBy>user</cp:lastModifiedBy>
  <dcterms:modified xsi:type="dcterms:W3CDTF">2017-06-11T08:14:57Z</dcterms:modified>
  <cp:revision>56</cp:revision>
  <dc:subject/>
  <dc:title>Слайд 1</dc:title>
</cp:coreProperties>
</file>