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EF6-F7A2-41C0-B46B-A7BFADB40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D518-DF6C-4707-A3A3-06D79ADBD8D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2D7-1BDC-4795-AF83-E56C9B4A730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157C-7768-43E8-89A6-15340D2D123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D6C-11DD-4B46-986C-6B05992D123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D83-E633-45F0-9D9D-CDCE1EFF7C2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5E3-69FA-4319-9167-67BEB1D62A5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3E8-F707-4C7D-AA97-A25B5B94906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0D0-C8BF-4AE9-810B-67B554DA5DA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74D-61BF-46F6-B709-7FB6E9CE279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EBE-C772-42F5-A80E-20BB99C5862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464-B813-430C-9911-4C3938CF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1AD-1F3B-4050-8EB7-64481A4E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775-7E76-47EF-83F2-3C856F79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D44-0EED-4AB2-ABC7-212438D0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2A20-7C06-4D21-9D33-0F7CAC5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4345-0C06-4962-ABE5-FF6E9D8F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E2D-4F29-4315-B920-73554EBB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4DC0-7684-4BAA-908E-E1322CF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3B6-236D-4466-AAFB-8418EB7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5E72-01E9-46FA-AE60-5A8416F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C4B-E27A-4BB8-BF8C-3967188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345-0D6B-4113-B6A3-B3DCF207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F74D-AF6C-4BCA-9A5F-3FBA4ED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DCC4-430A-4E33-AF23-74B43DD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74DC-5151-4D4E-A947-D010B54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B57-2735-49B5-87D7-B5B3EE02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97C-739C-4AE2-9723-13A5C0E4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E51-679D-4322-A186-B143145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1EB-F00C-4454-B7BF-BDF178F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B1D-686A-4B1D-8A99-1BB16F3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896-E495-446A-A40B-77966A0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516-3BBA-44F6-A743-01EE746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682-2FCE-4876-9AFF-11F1363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B5F-C60A-4EFE-A405-A215ACC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484B-122B-48D6-B5D1-9554D69A861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8E7-7520-4959-905B-F18FF930B71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82"/>
            </a:gs>
            <a:gs pos="100000">
              <a:srgbClr val="ffe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-146160" y="938160"/>
            <a:ext cx="8936280" cy="4140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214720" y="4292640"/>
            <a:ext cx="4500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5614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рошь готова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817" b="23558"/>
          <a:stretch/>
        </p:blipFill>
        <p:spPr>
          <a:xfrm>
            <a:off x="324000" y="1628640"/>
            <a:ext cx="597528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оси георгиевскую ленточку правильно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rcRect l="0" t="15759" r="44104" b="54177"/>
          <a:stretch/>
        </p:blipFill>
        <p:spPr>
          <a:xfrm>
            <a:off x="0" y="1268280"/>
            <a:ext cx="7129440" cy="2664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rcRect l="55974" t="17269" r="2161" b="54177"/>
          <a:stretch/>
        </p:blipFill>
        <p:spPr>
          <a:xfrm>
            <a:off x="4067280" y="4065480"/>
            <a:ext cx="4680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D:\danye\syna\Рабочий стол\Мамочка\donetskkievua-9may95.jpg"/>
          <p:cNvPicPr/>
          <p:nvPr/>
        </p:nvPicPr>
        <p:blipFill>
          <a:blip r:embed="rId1"/>
          <a:stretch/>
        </p:blipFill>
        <p:spPr>
          <a:xfrm>
            <a:off x="826920" y="260280"/>
            <a:ext cx="51357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anye\syna\Рабочий стол\Мамочка\Georgiy.jpg"/>
          <p:cNvPicPr/>
          <p:nvPr/>
        </p:nvPicPr>
        <p:blipFill>
          <a:blip r:embed="rId1"/>
          <a:stretch/>
        </p:blipFill>
        <p:spPr>
          <a:xfrm>
            <a:off x="250920" y="0"/>
            <a:ext cx="548964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Заголовок 1"/>
          <p:cNvSpPr/>
          <p:nvPr/>
        </p:nvSpPr>
        <p:spPr>
          <a:xfrm>
            <a:off x="5722920" y="1628640"/>
            <a:ext cx="3421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вятой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Георгий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Победоносец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49440" y="2362320"/>
            <a:ext cx="4894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Георгиевская лента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– это лента от ордена св. Георгия, утверждённого в начале 18-ого века как орден за доблесть, проявленную в реальном бою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7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7487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e103"/>
                </a:solidFill>
                <a:latin typeface="Arial"/>
                <a:ea typeface="Arial"/>
              </a:rPr>
              <a:t>Цвета ленты — чёрный и жёлто-оранжевый — означают «дым и пламя» и являются знаком личной доблести солдата на поле бо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000160" cy="174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2000160" cy="1744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tretch/>
        </p:blipFill>
        <p:spPr>
          <a:xfrm>
            <a:off x="4211640" y="692280"/>
            <a:ext cx="2000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137" descr=""/>
          <p:cNvPicPr/>
          <p:nvPr/>
        </p:nvPicPr>
        <p:blipFill>
          <a:blip r:embed="rId1"/>
          <a:srcRect l="7713" t="4955" r="3835" b="10362"/>
          <a:stretch/>
        </p:blipFill>
        <p:spPr>
          <a:xfrm>
            <a:off x="250920" y="1720800"/>
            <a:ext cx="7273800" cy="48992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Орден Славы трех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тепеней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anye\syna\Рабочий стол\Мамочка\07-05-07.jpg"/>
          <p:cNvPicPr/>
          <p:nvPr/>
        </p:nvPicPr>
        <p:blipFill>
          <a:blip r:embed="rId1"/>
          <a:stretch/>
        </p:blipFill>
        <p:spPr>
          <a:xfrm>
            <a:off x="324000" y="260280"/>
            <a:ext cx="4470120" cy="65977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716000" y="2852280"/>
            <a:ext cx="4427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103"/>
                </a:solidFill>
                <a:latin typeface="Arial"/>
                <a:ea typeface="Arial"/>
              </a:rPr>
              <a:t>В канун празднования </a:t>
            </a:r>
            <a:br>
              <a:rPr sz="3200"/>
            </a:br>
            <a:r>
              <a:rPr b="1" i="1" lang="en-US" sz="3200" spc="-1" strike="noStrike">
                <a:solidFill>
                  <a:srgbClr val="ffe103"/>
                </a:solidFill>
                <a:latin typeface="Arial"/>
                <a:ea typeface="Arial"/>
              </a:rPr>
              <a:t>Дня Победы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2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Брошь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ко Дню Победы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Rectangle 138" descr=""/>
          <p:cNvPicPr/>
          <p:nvPr/>
        </p:nvPicPr>
        <p:blipFill>
          <a:blip r:embed="rId1"/>
          <a:srcRect l="2166" t="10349" r="-722" b="8359"/>
          <a:stretch/>
        </p:blipFill>
        <p:spPr>
          <a:xfrm>
            <a:off x="395280" y="2413080"/>
            <a:ext cx="8244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4200" y="372960"/>
            <a:ext cx="5437440" cy="36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312264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1426853607_tutdizain.com_7035" descr="Брошь к 9 мая. Мастер-класс"/>
          <p:cNvPicPr/>
          <p:nvPr/>
        </p:nvPicPr>
        <p:blipFill>
          <a:blip r:embed="rId1"/>
          <a:srcRect l="13" t="26655" r="0" b="0"/>
          <a:stretch/>
        </p:blipFill>
        <p:spPr>
          <a:xfrm>
            <a:off x="179280" y="404640"/>
            <a:ext cx="5184720" cy="32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Брошь к 9 мая. Мастер-класс"/>
          <p:cNvPicPr/>
          <p:nvPr/>
        </p:nvPicPr>
        <p:blipFill>
          <a:blip r:embed="rId2">
            <a:lum contrast="12000"/>
          </a:blip>
          <a:srcRect l="0" t="6542" r="22265" b="28093"/>
          <a:stretch/>
        </p:blipFill>
        <p:spPr>
          <a:xfrm>
            <a:off x="4390920" y="3860640"/>
            <a:ext cx="4753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11181" t="10504" r="7144" b="22712"/>
          <a:stretch/>
        </p:blipFill>
        <p:spPr>
          <a:xfrm>
            <a:off x="3348000" y="333360"/>
            <a:ext cx="3095640" cy="2444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Брошь к 9 мая. Мастер-класс"/>
          <p:cNvPicPr/>
          <p:nvPr/>
        </p:nvPicPr>
        <p:blipFill>
          <a:blip r:embed="rId2"/>
          <a:srcRect l="8639" t="4769" r="31822" b="51516"/>
          <a:stretch/>
        </p:blipFill>
        <p:spPr>
          <a:xfrm>
            <a:off x="0" y="3068640"/>
            <a:ext cx="4968720" cy="28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Брошь к 9 мая. Мастер-класс"/>
          <p:cNvPicPr/>
          <p:nvPr/>
        </p:nvPicPr>
        <p:blipFill>
          <a:blip r:embed="rId3"/>
          <a:srcRect l="0" t="0" r="31160" b="42428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user</cp:lastModifiedBy>
  <dcterms:modified xsi:type="dcterms:W3CDTF">2017-04-19T16:00:45Z</dcterms:modified>
  <cp:revision>13</cp:revision>
  <dc:subject/>
  <dc:title>Слайд 1</dc:title>
</cp:coreProperties>
</file>