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0B4-0C4C-46C2-9B9C-D166587A7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12B-00BB-4274-A80B-48761DF7720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2EB4-341A-4FC9-9376-B56C4D6225E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A712-2730-420B-AED7-4C9848F7320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B188-D078-4088-86F8-B27B382DE77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6C2A-50FF-433C-90E0-BA17B533B49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67F-51FB-41C0-B069-34C334B9451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2B0D-22AD-4763-843E-EBC7A4766A3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0A61-0D71-417E-B07C-8A959C0038F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2EAE-6DB6-4355-AF8A-847037E1F84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ED3-2CA1-439D-8634-BDC3F8FF6D2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F37-0D6F-4AA0-AAB3-D27B2D8B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331-293C-494F-8DBF-62193438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3A6-E005-4913-BC3A-89059A88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B9E-D8AB-4E3A-88E7-8FD44289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3483-64CD-4573-BEE2-8023540C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80F8-D4F2-4307-BA37-D42B6925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5243-2663-48AA-A5C0-2A85FBCE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CA2-11C3-4ADC-A957-CC91EDE8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315-26EE-429A-99B1-A255498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2C7-8D69-4739-AE1C-DC25FC23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3E10-B810-429A-A255-DC03E49B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A2C-D2ED-48E1-AAC2-110D30B4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8D46-4D28-4FB2-94A4-708E506B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B112-2059-4590-8E70-3801D6C9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DC4B-838D-4B34-AE28-3DCF9693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A917-F979-4B77-962C-B8092648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966B-3B3F-4A0A-88AC-7D3BB119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F53-F787-4947-A115-E97650D6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CC2-29B2-4DF4-AF77-339C8F56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5B6-5163-4C09-AA75-1F338082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D6F-BB0C-4803-89E0-70E8B4EA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B6B-206A-43C1-8D43-624A50F8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EC2-FD29-48A8-B890-6CAF2B4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43A-587D-40C2-A808-3F97CAC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8139-DB3E-4EB0-ABFF-3701CC6094A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8804-26AB-484B-BD53-1C70B6FCB9D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82"/>
            </a:gs>
            <a:gs pos="100000">
              <a:srgbClr val="ffe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-146160" y="938160"/>
            <a:ext cx="8936280" cy="4140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2214720" y="4292640"/>
            <a:ext cx="4500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56149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рошь готова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817" b="23558"/>
          <a:stretch/>
        </p:blipFill>
        <p:spPr>
          <a:xfrm>
            <a:off x="324000" y="1628640"/>
            <a:ext cx="597528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оси георгиевскую ленточку правильно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rcRect l="0" t="15759" r="44104" b="54177"/>
          <a:stretch/>
        </p:blipFill>
        <p:spPr>
          <a:xfrm>
            <a:off x="0" y="1268280"/>
            <a:ext cx="7129440" cy="2664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rcRect l="55974" t="17269" r="2161" b="54177"/>
          <a:stretch/>
        </p:blipFill>
        <p:spPr>
          <a:xfrm>
            <a:off x="4067280" y="4065480"/>
            <a:ext cx="46800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D:\danye\syna\Рабочий стол\Мамочка\donetskkievua-9may95.jpg"/>
          <p:cNvPicPr/>
          <p:nvPr/>
        </p:nvPicPr>
        <p:blipFill>
          <a:blip r:embed="rId1"/>
          <a:stretch/>
        </p:blipFill>
        <p:spPr>
          <a:xfrm>
            <a:off x="826920" y="260280"/>
            <a:ext cx="51357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danye\syna\Рабочий стол\Мамочка\Georgiy.jpg"/>
          <p:cNvPicPr/>
          <p:nvPr/>
        </p:nvPicPr>
        <p:blipFill>
          <a:blip r:embed="rId1"/>
          <a:stretch/>
        </p:blipFill>
        <p:spPr>
          <a:xfrm>
            <a:off x="250920" y="0"/>
            <a:ext cx="548964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Заголовок 1"/>
          <p:cNvSpPr/>
          <p:nvPr/>
        </p:nvSpPr>
        <p:spPr>
          <a:xfrm>
            <a:off x="5722920" y="1628640"/>
            <a:ext cx="3421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Святой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Георгий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Победоносец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49440" y="2362320"/>
            <a:ext cx="48942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Георгиевская лента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– это лента от ордена св. Георгия, утверждённого в начале 18-ого века как орден за доблесть, проявленную в реальном бою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7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7487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e103"/>
                </a:solidFill>
                <a:latin typeface="Arial"/>
                <a:ea typeface="Arial"/>
              </a:rPr>
              <a:t>Цвета ленты — чёрный и жёлто-оранжевый — означают «дым и пламя» и являются знаком личной доблести солдата на поле бо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000160" cy="174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2195640" y="692280"/>
            <a:ext cx="2000160" cy="1744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3"/>
          <a:stretch/>
        </p:blipFill>
        <p:spPr>
          <a:xfrm>
            <a:off x="4211640" y="692280"/>
            <a:ext cx="2000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137" descr=""/>
          <p:cNvPicPr/>
          <p:nvPr/>
        </p:nvPicPr>
        <p:blipFill>
          <a:blip r:embed="rId1"/>
          <a:srcRect l="7713" t="4955" r="3835" b="10362"/>
          <a:stretch/>
        </p:blipFill>
        <p:spPr>
          <a:xfrm>
            <a:off x="250920" y="1720800"/>
            <a:ext cx="7273800" cy="48992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Орден Славы трех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степеней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danye\syna\Рабочий стол\Мамочка\07-05-07.jpg"/>
          <p:cNvPicPr/>
          <p:nvPr/>
        </p:nvPicPr>
        <p:blipFill>
          <a:blip r:embed="rId1"/>
          <a:stretch/>
        </p:blipFill>
        <p:spPr>
          <a:xfrm>
            <a:off x="324000" y="260280"/>
            <a:ext cx="4470120" cy="65977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716000" y="2852280"/>
            <a:ext cx="4427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e103"/>
                </a:solidFill>
                <a:latin typeface="Arial"/>
                <a:ea typeface="Arial"/>
              </a:rPr>
              <a:t>В канун празднования </a:t>
            </a:r>
            <a:br>
              <a:rPr sz="3200"/>
            </a:br>
            <a:r>
              <a:rPr b="1" i="1" lang="en-US" sz="3200" spc="-1" strike="noStrike">
                <a:solidFill>
                  <a:srgbClr val="ffe103"/>
                </a:solidFill>
                <a:latin typeface="Arial"/>
                <a:ea typeface="Arial"/>
              </a:rPr>
              <a:t>Дня Победы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2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Брошь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ко Дню Победы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Rectangle 138" descr=""/>
          <p:cNvPicPr/>
          <p:nvPr/>
        </p:nvPicPr>
        <p:blipFill>
          <a:blip r:embed="rId1"/>
          <a:srcRect l="2166" t="10349" r="-722" b="8359"/>
          <a:stretch/>
        </p:blipFill>
        <p:spPr>
          <a:xfrm>
            <a:off x="395280" y="2413080"/>
            <a:ext cx="8244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4200" y="372960"/>
            <a:ext cx="5437440" cy="36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103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312264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5" name="1426853607_tutdizain.com_7035" descr="Брошь к 9 мая. Мастер-класс"/>
          <p:cNvPicPr/>
          <p:nvPr/>
        </p:nvPicPr>
        <p:blipFill>
          <a:blip r:embed="rId1"/>
          <a:srcRect l="13" t="26655" r="0" b="0"/>
          <a:stretch/>
        </p:blipFill>
        <p:spPr>
          <a:xfrm>
            <a:off x="179280" y="404640"/>
            <a:ext cx="5184720" cy="3241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Брошь к 9 мая. Мастер-класс"/>
          <p:cNvPicPr/>
          <p:nvPr/>
        </p:nvPicPr>
        <p:blipFill>
          <a:blip r:embed="rId2">
            <a:lum contrast="12000"/>
          </a:blip>
          <a:srcRect l="0" t="6542" r="22265" b="28093"/>
          <a:stretch/>
        </p:blipFill>
        <p:spPr>
          <a:xfrm>
            <a:off x="4390920" y="3860640"/>
            <a:ext cx="4753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rcRect l="11181" t="10504" r="7144" b="22712"/>
          <a:stretch/>
        </p:blipFill>
        <p:spPr>
          <a:xfrm>
            <a:off x="3348000" y="333360"/>
            <a:ext cx="3095640" cy="2444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Брошь к 9 мая. Мастер-класс"/>
          <p:cNvPicPr/>
          <p:nvPr/>
        </p:nvPicPr>
        <p:blipFill>
          <a:blip r:embed="rId2"/>
          <a:srcRect l="8639" t="4769" r="31822" b="51516"/>
          <a:stretch/>
        </p:blipFill>
        <p:spPr>
          <a:xfrm>
            <a:off x="0" y="3068640"/>
            <a:ext cx="4968720" cy="2852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Брошь к 9 мая. Мастер-класс"/>
          <p:cNvPicPr/>
          <p:nvPr/>
        </p:nvPicPr>
        <p:blipFill>
          <a:blip r:embed="rId3"/>
          <a:srcRect l="0" t="0" r="31160" b="42428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48:35Z</dcterms:created>
  <dc:creator>ДАНКОВ</dc:creator>
  <dc:description/>
  <dc:language>en-US</dc:language>
  <cp:lastModifiedBy>user</cp:lastModifiedBy>
  <dcterms:modified xsi:type="dcterms:W3CDTF">2017-04-19T16:00:45Z</dcterms:modified>
  <cp:revision>13</cp:revision>
  <dc:subject/>
  <dc:title>Слайд 1</dc:title>
</cp:coreProperties>
</file>