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848-8532-4919-A676-427DFCF4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400-D398-4BA2-B78B-837A2973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8FF-9E01-44C6-8DA1-8DEBF345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C29-B8B1-4471-88AB-0E9990FF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7520-F2FD-4142-8512-DC8AF494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C398-9E40-4DE6-BC18-1F908E92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DFF0-112F-4F6A-9B85-D59DEE0B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771A-057B-4937-89DB-98E09EF7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AF59-FF12-4739-8AC5-387888ED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3067-7F1F-4149-85B8-F8C54C4F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E52D-730F-491E-91F2-AC47CDB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DBB-C1E4-4B45-B73E-94E312E2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2E85-365D-4997-90AD-612150E6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B49E-05EE-4C8D-931E-BA2FBC18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2EA1-29B2-48F3-B927-C89CFE45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065B-8D41-4C14-920B-1D4EF482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B2D6-C234-42A0-8DB6-436EA7D1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D662-B7FE-431D-949E-D047E54C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7D83-1108-46B7-92F8-298F794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0836-3A5D-4959-895E-1E5972AE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D433-87D9-4BA1-BF63-B09F4DF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1BD9-F903-4D33-84FB-D9B5D1E4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A1A-7288-45DB-ACD9-5D49020D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C24F-E165-4636-A2AD-74536E86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DDAF-D70E-4309-A40D-4185B759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30D1-37E8-4E81-9E5F-200558D5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559A-F23C-4230-B125-CB205A5F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F8EC-13A7-4339-AD7F-C9F46B5C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CC48-5EC9-4F25-8F82-3B9F541D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6223C-5AE7-44E0-B811-C3587145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957-7F1B-4263-B458-E5167D35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5F6-63BF-41CB-8A2C-5342AB28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F93-5D8D-4612-A844-C4578258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238-E91C-4A52-AB2F-D541A775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FB8-2BE4-4C67-89E6-85FBB64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6A6-1394-427F-86D3-518C4837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CF35-8919-4F5D-A8D8-C7ACF5766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A41-803E-4C5B-99A5-B6A3C07E06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3FC0-0E8B-43B1-8B70-94183A3BC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Игромоделиров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Объект 3" descr=""/>
          <p:cNvPicPr/>
          <p:nvPr/>
        </p:nvPicPr>
        <p:blipFill>
          <a:blip r:embed="rId1"/>
          <a:stretch/>
        </p:blipFill>
        <p:spPr>
          <a:xfrm>
            <a:off x="2914560" y="1163520"/>
            <a:ext cx="374832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зовите писателя, придумавшего сказочных персонажей Винтик и Шпунти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ие композиторы прославили Россию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 называется праздник проводов русской зим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ую одежду носили русские женщин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000" y="7650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рафаны, душегрейки, сапожки, полушалки, шуш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Объект 6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4901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ую обувь носили русские крестьян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ое национальное дерево России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зовите полюбившийся во всём мире сувенир земли русской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Назовите великую русскую рек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640" y="22050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пойте второй куплет Гимна Российской Федер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9640" y="33336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Когда была основана Москв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9640" y="515736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 1147 году - по летопис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2060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то обозначают цвета Российского флаг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2276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зовите города воинской слав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ревний народный круговой массовый обрядовый танец, содержащий в себе элементы драматического действ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рифмованные строки, в которых дано иносказательное изображение предметов и явлен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нимательный рассказ о необыкновенных событиях и приключения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зовите великих русских писател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ой весёлый и жизнерадостный детский писатель-сказочник родился в день Смех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13:46:02Z</dcterms:created>
  <dc:creator>Зима</dc:creator>
  <dc:description/>
  <dc:language>en-US</dc:language>
  <cp:lastModifiedBy>Хомячек</cp:lastModifiedBy>
  <dcterms:modified xsi:type="dcterms:W3CDTF">2017-06-11T18:40:12Z</dcterms:modified>
  <cp:revision>14</cp:revision>
  <dc:subject/>
  <dc:title>Игромоделирование</dc:title>
</cp:coreProperties>
</file>