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2BC-A101-451D-BAF2-E93C6C91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6A2-B10F-4479-ADCB-D5B427BF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863-B83C-405A-82B1-1F4DDD47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5FC-84A7-49EF-AD2F-84BDA383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C0CA-881B-4F30-B2ED-A6951464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95FB-CF0C-45DC-966E-063E5768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BAD5-49C0-4DAB-987C-9FB11E21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1CC7-8E9E-43A1-9C44-0680C211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481A-80D5-401D-A821-CCC1E07E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9ACC-D6A5-49EC-BFA7-A095B4E4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897B-0114-48B7-89F7-0A202005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D98-E7B8-4451-A82A-5900575D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A8D6-C0C4-487D-8D30-A0BA144D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8811-52B2-4389-A26D-4E519B57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11E3-5158-4A81-95E8-B7888348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73F8-D58B-41F2-B971-64566793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74EF-F8FD-429A-82FD-C0022F9A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415DB-7078-4BB1-B78F-C50DAFEE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DC895-7B5D-4702-B29A-7AD0A022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95799-2851-4943-BE68-C0133677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0ADEF-5BAE-4D15-9924-327FC96E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31ED7-D207-4C9E-A9DD-FC624195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168-CEF9-4F6A-A554-31305CBE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A471B-038F-4531-8EAF-68084612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A96F0-78CC-4E20-970D-E1CAB2CA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EF403-2B11-4362-A7E9-089D327A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A348F-D19E-4540-BC65-63D1D927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6C295-E071-478B-9798-6D4C5550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434EC-1BBB-4A82-B5BC-AE94F8D8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D0DC4-D3EF-432D-9EDC-FCF7448C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E33-B486-4199-BDAF-710A25E8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9AA-004B-4AA0-B518-212C4587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A08-F629-482B-A653-7223E8A1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83A-660A-46C0-9216-1DDB928E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FAF-0362-479C-9322-0885C0D4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128-4755-4008-BCC1-435A9A0F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BD1E-E150-4428-B58F-2C61DDA2CB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FBBC-A16F-4982-AEC9-0E7EA98E02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B461-00CC-4E71-A237-0409957BA1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Игромоделиров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Объект 3" descr=""/>
          <p:cNvPicPr/>
          <p:nvPr/>
        </p:nvPicPr>
        <p:blipFill>
          <a:blip r:embed="rId1"/>
          <a:stretch/>
        </p:blipFill>
        <p:spPr>
          <a:xfrm>
            <a:off x="2914560" y="1163520"/>
            <a:ext cx="3748320" cy="4962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азовите писателя, придумавшего сказочных персонажей Винтик и Шпунти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кие композиторы прославили Россию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63528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к называется праздник проводов русской зимы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63528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кую одежду носили русские женщины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68000" y="765000"/>
            <a:ext cx="821844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арафаны, душегрейки, сапожки, полушалки, шушу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Объект 6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49016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кую обувь носили русские крестьяне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2421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ое национальное дерево России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азовите полюбившийся во всём мире сувенир земли русской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Назовите великую русскую рек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9640" y="22050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пойте второй куплет Гимна Российской Федер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9640" y="333360"/>
            <a:ext cx="822960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Когда была основана Москв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9640" y="515736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В 1147 году - по летопис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5280" y="2060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то обозначают цвета Российского флаг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2276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азовите города воинской слав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ревний народный круговой массовый обрядовый танец, содержащий в себе элементы драматического действ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рифмованные строки, в которых дано иносказательное изображение предметов и явлен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нимательный рассказ о необыкновенных событиях и приключения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азовите великих русских писател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кой весёлый и жизнерадостный детский писатель-сказочник родился в день Смех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13:46:02Z</dcterms:created>
  <dc:creator>Зима</dc:creator>
  <dc:description/>
  <dc:language>en-US</dc:language>
  <cp:lastModifiedBy>Хомячек</cp:lastModifiedBy>
  <dcterms:modified xsi:type="dcterms:W3CDTF">2017-06-11T18:40:12Z</dcterms:modified>
  <cp:revision>14</cp:revision>
  <dc:subject/>
  <dc:title>Игромоделирование</dc:title>
</cp:coreProperties>
</file>