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B3BB-3B10-4519-908D-D835BBAB6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8F69-4764-4D06-8065-23F263D1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32D1-AF74-44CA-AAC7-D69452B72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F9FA-DC55-452B-9962-268C23D89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2BF8E-636A-4858-9428-8706118AA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AE1EC-316A-47A9-9679-F3164288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C41280-E746-4BA6-85F3-1586B613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B9FDCD-A4AF-4A73-B8EC-29B407C0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557C1D-829F-4B2D-B7BE-60031A6A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29936E-63BE-477D-A22E-9C2206A3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06541A-E165-45F5-AED8-0D9EB4EF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9A32-1D14-437B-9E7B-38EEBE26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7A854F-A8C7-418E-8569-630CF377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34E88B-38D1-456F-8FC9-DB79332B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046F34-F3DA-4A96-8F0E-22AA142D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0C3C52-0DA1-40D3-93C8-659226EE9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CF52CD-2C40-4D26-80EE-96697DFA4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F1D7-F8A9-48C4-9E22-4C009206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1291-E4F4-4234-9560-06CEEC9A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F696-BE46-484E-9F5B-15126F23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FE71-E190-4235-B6D0-759AB918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19A2-5A54-473A-997E-0F1FCD36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9E9C-FA05-47A2-BC47-D44B4293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A7D4-C6EF-42E1-8AF2-52AA895C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63DC-4CE9-4B79-9EC8-2B74EF885A69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0FAE-3027-40C3-B49C-2A20BF51B570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mages.yandex.ru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752472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лассическая музыка в мобильном телефоне</a:t>
            </a:r>
            <a:br>
              <a:rPr sz="4400"/>
            </a:br>
            <a:br>
              <a:rPr sz="44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следовательский проек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4" descr="http://www.nn.ru/data/forum/images/2010-05/22882787-jpg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7520" y="3279600"/>
            <a:ext cx="5059440" cy="3181680"/>
          </a:xfrm>
          <a:prstGeom prst="rect">
            <a:avLst/>
          </a:prstGeom>
          <a:ln w="0">
            <a:noFill/>
          </a:ln>
        </p:spPr>
      </p:pic>
      <p:sp>
        <p:nvSpPr>
          <p:cNvPr id="84" name="Скругленный прямоугольник 1"/>
          <p:cNvSpPr/>
          <p:nvPr/>
        </p:nvSpPr>
        <p:spPr>
          <a:xfrm>
            <a:off x="5470560" y="3141720"/>
            <a:ext cx="3672000" cy="165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полнил:                                                                                        Ученик 7 класса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гомедов Магомед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5" name="Скругленный прямоугольник 2"/>
          <p:cNvSpPr/>
          <p:nvPr/>
        </p:nvSpPr>
        <p:spPr>
          <a:xfrm>
            <a:off x="5472000" y="5072040"/>
            <a:ext cx="3670560" cy="1785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пуляризация классической музыки через мобильный телефон.           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«За» и «против»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grpSp>
        <p:nvGrpSpPr>
          <p:cNvPr id="133" name="Скругленный прямоугольник 3"/>
          <p:cNvGrpSpPr/>
          <p:nvPr/>
        </p:nvGrpSpPr>
        <p:grpSpPr>
          <a:xfrm>
            <a:off x="158760" y="4780080"/>
            <a:ext cx="8826480" cy="1547640"/>
            <a:chOff x="158760" y="4780080"/>
            <a:chExt cx="8826480" cy="1547640"/>
          </a:xfrm>
        </p:grpSpPr>
        <p:pic>
          <p:nvPicPr>
            <p:cNvPr id="134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158760" y="4780080"/>
              <a:ext cx="8826480" cy="15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254160" y="4870440"/>
              <a:ext cx="863568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2060"/>
                  </a:solidFill>
                  <a:latin typeface="Arial"/>
                </a:rPr>
                <a:t>Классическую музыку действительно лучше слушать и воспринимать в концертных залах, но привлечь внимание, сделать ее более   популярной, поддержать интерес  к ней  поможет мобильный телефон. </a:t>
              </a:r>
              <a:endParaRPr b="0" lang="en-US" sz="2200" spc="-1" strike="noStrike">
                <a:solidFill>
                  <a:srgbClr val="205ff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205ff6"/>
                </a:solidFill>
                <a:latin typeface="Arial"/>
              </a:endParaRPr>
            </a:p>
          </p:txBody>
        </p:sp>
      </p:grpSp>
      <p:pic>
        <p:nvPicPr>
          <p:cNvPr id="136" name="Picture 9" descr="D:\Рисунок2.jpg"/>
          <p:cNvPicPr/>
          <p:nvPr/>
        </p:nvPicPr>
        <p:blipFill>
          <a:blip r:embed="rId2"/>
          <a:stretch/>
        </p:blipFill>
        <p:spPr>
          <a:xfrm>
            <a:off x="826920" y="1473120"/>
            <a:ext cx="4391280" cy="2946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D:\Рисунок3.jpg"/>
          <p:cNvPicPr/>
          <p:nvPr/>
        </p:nvPicPr>
        <p:blipFill>
          <a:blip r:embed="rId3"/>
          <a:stretch/>
        </p:blipFill>
        <p:spPr>
          <a:xfrm>
            <a:off x="6156360" y="1479600"/>
            <a:ext cx="267660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Рейтинг самых популярных классических мелод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900000" y="1341360"/>
          <a:ext cx="7775640" cy="5243760"/>
        </p:xfrm>
        <a:graphic>
          <a:graphicData uri="http://schemas.openxmlformats.org/drawingml/2006/table">
            <a:tbl>
              <a:tblPr/>
              <a:tblGrid>
                <a:gridCol w="1055880"/>
                <a:gridCol w="5208480"/>
                <a:gridCol w="1511280"/>
              </a:tblGrid>
              <a:tr h="736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узыкальное произведение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Количество выборов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57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. 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Р. Вагнер «Полет Валькирий»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4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571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. 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Ж. Бизе «Хабанера» 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2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53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. 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. Паганини «Каприс №24» 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0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60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. 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А. Вивальди Концерт соль минор оp. 8 № 2 «L’estate» (Лето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0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71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. 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.А. Моцарт «Рондо в турецком стиле»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8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365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. 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Л. Бетховен Cоната для фортепиано № 14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о диез минор, оp. 27 № 2, «Лунная».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7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7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. 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Бах «Токката и фуга» ре минор 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6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553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. 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Бах «Шутка»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4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7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. 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.А. Римский – Корсаков «Полет шмеля»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4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553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.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.А. Моцарт «Маленькая ночная серенада»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4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7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1. 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Бетховен «К Элизе»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1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Количество школьников, проявляющих интерес к классической музыке до и после эксперимента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42" name="Диаграмма 1" descr=""/>
          <p:cNvPicPr/>
          <p:nvPr/>
        </p:nvPicPr>
        <p:blipFill>
          <a:blip r:embed="rId1"/>
          <a:stretch/>
        </p:blipFill>
        <p:spPr>
          <a:xfrm>
            <a:off x="1476360" y="3213000"/>
            <a:ext cx="669600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ыво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874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Результаты сравнения данных показывают эффективность  популяризации классической музыки среди подростков   через    рингтоны мобильного телефона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зультаты опроса школьников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«Как ты относишься к классической музыке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8360" y="5445000"/>
            <a:ext cx="8002440" cy="10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Количество человек, принявших участие в опросе - 121  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88" name="Диаграмма 1" descr=""/>
          <p:cNvPicPr/>
          <p:nvPr/>
        </p:nvPicPr>
        <p:blipFill>
          <a:blip r:embed="rId1"/>
          <a:stretch/>
        </p:blipFill>
        <p:spPr>
          <a:xfrm>
            <a:off x="1468440" y="1620720"/>
            <a:ext cx="715176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53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Что такое классическая музык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50920" y="1844280"/>
            <a:ext cx="8229600" cy="37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205ff6"/>
                </a:solidFill>
                <a:latin typeface="Arial"/>
              </a:rPr>
              <a:t>«…музыка, упорядоченная по своей природе и обладающая такими качествами, как ясность и гармоничность».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Музыкальный словарь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05ff6"/>
                </a:solidFill>
                <a:latin typeface="Arial"/>
              </a:rPr>
              <a:t>«Классическая музыка выписана нам из Вселенной, вечности, необъятности пространства и радости стройной гармонии планет»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Михаил Казинник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лассические мелодии и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ингтон телефона 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Опрос школьников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3" name="Диаграмма 3" descr=""/>
          <p:cNvPicPr/>
          <p:nvPr/>
        </p:nvPicPr>
        <p:blipFill>
          <a:blip r:embed="rId1"/>
          <a:stretch/>
        </p:blipFill>
        <p:spPr>
          <a:xfrm>
            <a:off x="900000" y="2276640"/>
            <a:ext cx="6919920" cy="37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лассические мелодии и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рингтон телефона 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94920" y="220500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5ff6"/>
                </a:solidFill>
                <a:latin typeface="Arial"/>
              </a:rPr>
              <a:t>Рингтон</a:t>
            </a: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 (ringtone) - звонок в мобильном телефоне. Происходит от ring-звонить, tone – тон (тональность)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лассические мелодии и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рингтон телефона 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11280" y="3952800"/>
            <a:ext cx="8075520" cy="19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В 2002 году появились телефоны, позволяющие закачивать полифонические мелодии по ссылке в Интернете.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3700440" y="1547640"/>
            <a:ext cx="256068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7" descr=""/>
          <p:cNvPicPr/>
          <p:nvPr/>
        </p:nvPicPr>
        <p:blipFill>
          <a:blip r:embed="rId1"/>
          <a:stretch/>
        </p:blipFill>
        <p:spPr>
          <a:xfrm>
            <a:off x="368280" y="1268280"/>
            <a:ext cx="3181320" cy="28101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лассические мелодии и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рингтон телефона 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Скругленный прямоугольник 5"/>
          <p:cNvGrpSpPr/>
          <p:nvPr/>
        </p:nvGrpSpPr>
        <p:grpSpPr>
          <a:xfrm>
            <a:off x="4700520" y="1609560"/>
            <a:ext cx="4138560" cy="1176480"/>
            <a:chOff x="4700520" y="1609560"/>
            <a:chExt cx="4138560" cy="1176480"/>
          </a:xfrm>
        </p:grpSpPr>
        <p:pic>
          <p:nvPicPr>
            <p:cNvPr id="105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4700520" y="1609560"/>
              <a:ext cx="413856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4772160" y="1684440"/>
              <a:ext cx="3992400" cy="10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22268"/>
                  </a:solidFill>
                  <a:latin typeface="Arial"/>
                </a:rPr>
                <a:t>Звукозаписывающая компания «Мелодия»  имеет  самую большую   фонотеку в мире.</a:t>
              </a: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</p:grpSp>
      <p:grpSp>
        <p:nvGrpSpPr>
          <p:cNvPr id="107" name="Скругленный прямоугольник 8"/>
          <p:cNvGrpSpPr/>
          <p:nvPr/>
        </p:nvGrpSpPr>
        <p:grpSpPr>
          <a:xfrm>
            <a:off x="4022640" y="2981160"/>
            <a:ext cx="4810320" cy="1908360"/>
            <a:chOff x="4022640" y="2981160"/>
            <a:chExt cx="4810320" cy="1908360"/>
          </a:xfrm>
        </p:grpSpPr>
        <p:pic>
          <p:nvPicPr>
            <p:cNvPr id="108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022640" y="2981160"/>
              <a:ext cx="4810320" cy="19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4130640" y="3087720"/>
              <a:ext cx="4591080" cy="16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22268"/>
                  </a:solidFill>
                  <a:latin typeface="Arial"/>
                </a:rPr>
                <a:t>С 2013 года включилась  в технологии современного мультимедийного бизнеса, благодаря чему в телефонах российских абонентов начнёт звучать классическая музыка.</a:t>
              </a: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</p:grpSp>
      <p:grpSp>
        <p:nvGrpSpPr>
          <p:cNvPr id="110" name="Скругленный прямоугольник 9"/>
          <p:cNvGrpSpPr/>
          <p:nvPr/>
        </p:nvGrpSpPr>
        <p:grpSpPr>
          <a:xfrm>
            <a:off x="2828880" y="5065560"/>
            <a:ext cx="6040440" cy="1474920"/>
            <a:chOff x="2828880" y="5065560"/>
            <a:chExt cx="6040440" cy="1474920"/>
          </a:xfrm>
        </p:grpSpPr>
        <p:pic>
          <p:nvPicPr>
            <p:cNvPr id="111" name="Скругленный прямоугольник 9" descr=""/>
            <p:cNvPicPr/>
            <p:nvPr/>
          </p:nvPicPr>
          <p:blipFill>
            <a:blip r:embed="rId4"/>
            <a:stretch/>
          </p:blipFill>
          <p:spPr>
            <a:xfrm>
              <a:off x="2828880" y="5065560"/>
              <a:ext cx="6040440" cy="14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2914560" y="5156280"/>
              <a:ext cx="5864400" cy="12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22268"/>
                  </a:solidFill>
                  <a:latin typeface="Arial"/>
                </a:rPr>
                <a:t>В каталог   войдут 30-секундные отрывки шедевров мировой классики в исполнении выдающихся мастеров — Святослава Рихтера, Ван Клиберна, симфонического оркестра под управлением Евгения Светланова.</a:t>
              </a: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8" descr=""/>
          <p:cNvPicPr/>
          <p:nvPr/>
        </p:nvPicPr>
        <p:blipFill>
          <a:blip r:embed="rId1"/>
          <a:stretch/>
        </p:blipFill>
        <p:spPr>
          <a:xfrm>
            <a:off x="5540400" y="3060720"/>
            <a:ext cx="3551040" cy="2717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7" descr=""/>
          <p:cNvPicPr/>
          <p:nvPr/>
        </p:nvPicPr>
        <p:blipFill>
          <a:blip r:embed="rId2"/>
          <a:stretch/>
        </p:blipFill>
        <p:spPr>
          <a:xfrm>
            <a:off x="395280" y="3289320"/>
            <a:ext cx="3767040" cy="2590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пуляризация классической музыки через мобильный телефон.                 «За» и «против»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Горизонтальный свиток 4"/>
          <p:cNvGrpSpPr/>
          <p:nvPr/>
        </p:nvGrpSpPr>
        <p:grpSpPr>
          <a:xfrm>
            <a:off x="5772240" y="5735520"/>
            <a:ext cx="3274920" cy="1067040"/>
            <a:chOff x="5772240" y="5735520"/>
            <a:chExt cx="3274920" cy="1067040"/>
          </a:xfrm>
        </p:grpSpPr>
        <p:pic>
          <p:nvPicPr>
            <p:cNvPr id="117" name="Горизонтальный свиток 4" descr=""/>
            <p:cNvPicPr/>
            <p:nvPr/>
          </p:nvPicPr>
          <p:blipFill>
            <a:blip r:embed="rId3"/>
            <a:stretch/>
          </p:blipFill>
          <p:spPr>
            <a:xfrm>
              <a:off x="5772240" y="5735520"/>
              <a:ext cx="327492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5919840" y="5881680"/>
              <a:ext cx="304632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Arial"/>
                </a:rPr>
                <a:t>Мстислав Ростропович</a:t>
              </a: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</p:grpSp>
      <p:grpSp>
        <p:nvGrpSpPr>
          <p:cNvPr id="119" name="Овальная выноска 5"/>
          <p:cNvGrpSpPr/>
          <p:nvPr/>
        </p:nvGrpSpPr>
        <p:grpSpPr>
          <a:xfrm>
            <a:off x="4627440" y="1987560"/>
            <a:ext cx="4608720" cy="1468440"/>
            <a:chOff x="4627440" y="1987560"/>
            <a:chExt cx="4608720" cy="1468440"/>
          </a:xfrm>
        </p:grpSpPr>
        <p:pic>
          <p:nvPicPr>
            <p:cNvPr id="120" name="Овальная выноска 5" descr=""/>
            <p:cNvPicPr/>
            <p:nvPr/>
          </p:nvPicPr>
          <p:blipFill>
            <a:blip r:embed="rId4"/>
            <a:stretch/>
          </p:blipFill>
          <p:spPr>
            <a:xfrm>
              <a:off x="4627440" y="1987560"/>
              <a:ext cx="4608720" cy="14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313240" y="2189160"/>
              <a:ext cx="3233880" cy="8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2060"/>
                  </a:solidFill>
                  <a:latin typeface="Arial"/>
                </a:rPr>
                <a:t>«Популяризировать классическую музыку нужно в таком виде, в котором она производит впечатление!»</a:t>
              </a:r>
              <a:endParaRPr b="0" lang="en-US" sz="1600" spc="-1" strike="noStrike">
                <a:solidFill>
                  <a:srgbClr val="205ff6"/>
                </a:solidFill>
                <a:latin typeface="Arial"/>
              </a:endParaRPr>
            </a:p>
          </p:txBody>
        </p:sp>
      </p:grpSp>
      <p:grpSp>
        <p:nvGrpSpPr>
          <p:cNvPr id="122" name="Горизонтальный свиток 7"/>
          <p:cNvGrpSpPr/>
          <p:nvPr/>
        </p:nvGrpSpPr>
        <p:grpSpPr>
          <a:xfrm>
            <a:off x="244440" y="5761080"/>
            <a:ext cx="3273480" cy="1066680"/>
            <a:chOff x="244440" y="5761080"/>
            <a:chExt cx="3273480" cy="1066680"/>
          </a:xfrm>
        </p:grpSpPr>
        <p:pic>
          <p:nvPicPr>
            <p:cNvPr id="123" name="Горизонтальный свиток 7" descr=""/>
            <p:cNvPicPr/>
            <p:nvPr/>
          </p:nvPicPr>
          <p:blipFill>
            <a:blip r:embed="rId5"/>
            <a:stretch/>
          </p:blipFill>
          <p:spPr>
            <a:xfrm>
              <a:off x="244440" y="5761080"/>
              <a:ext cx="327348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390600" y="5907240"/>
              <a:ext cx="304632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Arial"/>
                </a:rPr>
                <a:t>Юрий Башмет</a:t>
              </a: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</p:grpSp>
      <p:grpSp>
        <p:nvGrpSpPr>
          <p:cNvPr id="125" name="Овальная выноска 8"/>
          <p:cNvGrpSpPr/>
          <p:nvPr/>
        </p:nvGrpSpPr>
        <p:grpSpPr>
          <a:xfrm>
            <a:off x="244440" y="1359000"/>
            <a:ext cx="4559400" cy="2182680"/>
            <a:chOff x="244440" y="1359000"/>
            <a:chExt cx="4559400" cy="2182680"/>
          </a:xfrm>
        </p:grpSpPr>
        <p:pic>
          <p:nvPicPr>
            <p:cNvPr id="126" name="Овальная выноска 8" descr=""/>
            <p:cNvPicPr/>
            <p:nvPr/>
          </p:nvPicPr>
          <p:blipFill>
            <a:blip r:embed="rId6"/>
            <a:stretch/>
          </p:blipFill>
          <p:spPr>
            <a:xfrm>
              <a:off x="244440" y="1359000"/>
              <a:ext cx="4559400" cy="21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923760" y="1655640"/>
              <a:ext cx="320220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05ff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2060"/>
                  </a:solidFill>
                  <a:latin typeface="Arial"/>
                </a:rPr>
                <a:t>«Произведение становится шлягером потому, что автору удается сфокусировать в сжатой и доступной форме что-то самое главное, существенное для человека».</a:t>
              </a:r>
              <a:r>
                <a:rPr b="0" lang="ru-RU" sz="1800" spc="-1" strike="noStrike">
                  <a:solidFill>
                    <a:srgbClr val="00206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пуляризация классической музыки через мобильный телефон.           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«За» и «против»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Результаты опроса «Как ты относишься к классической музыке в мобильном телефоне?»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30" name="Диаграмма 1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6481800" cy="35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08:08:56Z</dcterms:created>
  <dc:creator>111</dc:creator>
  <dc:description/>
  <dc:language>en-US</dc:language>
  <cp:lastModifiedBy>школа</cp:lastModifiedBy>
  <dcterms:modified xsi:type="dcterms:W3CDTF">2017-06-11T06:32:28Z</dcterms:modified>
  <cp:revision>71</cp:revision>
  <dc:subject/>
  <dc:title>Слайд застав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21049</vt:lpwstr>
  </property>
</Properties>
</file>