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902-D12C-4DF2-8BB5-B4D5A53C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543-FCA6-49C2-9D41-9C137B7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268-9540-435F-A6CE-E1B6C1D8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462-DC7E-448B-967E-D7014C7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A3A6E-1EAF-4F9B-BE97-D97B5A8C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10850-5DF6-4884-A02D-0E15EE8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F71B5-CBD8-43E5-A9C3-B979381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346D-41A6-411E-B1B6-859DE94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C4B0B-446F-4461-878C-0FAFE5A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85BD9-38B2-43C1-B2EB-05469C9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1B5C-8505-4E84-9ECD-DB62E8D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29A-58C1-4D4A-8B78-B8B75D1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E0C50-E59D-432D-A07E-C61ACF9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5B8BA-B4A3-4D0F-9A33-9DB77BE2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9498-B09A-47A2-BA35-79AE09C3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0024-0237-4934-AD04-61CFCF07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0E26F-D8EB-4364-8F1E-3E223D6B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58C-1703-49EE-8DA0-E80EE6B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AEF-E420-4C04-A02F-57511790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550-36EA-48A8-8803-1AB3CF6B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571-C68B-40CF-850D-1B84434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BB0-FDB4-4614-9981-1420C37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11B-C372-45A8-A4E2-95D64757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DAB-1013-46BC-A9AF-27EDBDD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5CEF-8BA0-448C-9CE4-DDCE79BB876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098-B7B7-4CCF-AD99-A96E7EACE45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524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ассическая музыка в мобильном телефоне</a:t>
            </a: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ий про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http://www.nn.ru/data/forum/images/2010-05/22882787-jp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7520" y="3279600"/>
            <a:ext cx="5059440" cy="318168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"/>
          <p:cNvSpPr/>
          <p:nvPr/>
        </p:nvSpPr>
        <p:spPr>
          <a:xfrm>
            <a:off x="5470560" y="3141720"/>
            <a:ext cx="3672000" cy="16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:                                                                                        Ученик 7 класс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гомедов Магомед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Скругленный прямоугольник 2"/>
          <p:cNvSpPr/>
          <p:nvPr/>
        </p:nvSpPr>
        <p:spPr>
          <a:xfrm>
            <a:off x="5472000" y="5072040"/>
            <a:ext cx="36705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«За» и «против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33" name="Скругленный прямоугольник 3"/>
          <p:cNvGrpSpPr/>
          <p:nvPr/>
        </p:nvGrpSpPr>
        <p:grpSpPr>
          <a:xfrm>
            <a:off x="158760" y="4780080"/>
            <a:ext cx="8826480" cy="1547640"/>
            <a:chOff x="158760" y="4780080"/>
            <a:chExt cx="8826480" cy="15476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8760" y="4780080"/>
              <a:ext cx="882648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54160" y="4870440"/>
              <a:ext cx="863568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060"/>
                  </a:solidFill>
                  <a:latin typeface="Arial"/>
                </a:rPr>
                <a:t>Классическую музыку действительно лучше слушать и воспринимать в концертных залах, но привлечь внимание, сделать ее более   популярной, поддержать интерес  к ней  поможет мобильный телефон. </a:t>
              </a:r>
              <a:endParaRPr b="0" lang="en-US" sz="22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pic>
        <p:nvPicPr>
          <p:cNvPr id="136" name="Picture 9" descr="D:\Рисунок2.jpg"/>
          <p:cNvPicPr/>
          <p:nvPr/>
        </p:nvPicPr>
        <p:blipFill>
          <a:blip r:embed="rId2"/>
          <a:stretch/>
        </p:blipFill>
        <p:spPr>
          <a:xfrm>
            <a:off x="826920" y="1473120"/>
            <a:ext cx="4391280" cy="294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:\Рисунок3.jpg"/>
          <p:cNvPicPr/>
          <p:nvPr/>
        </p:nvPicPr>
        <p:blipFill>
          <a:blip r:embed="rId3"/>
          <a:stretch/>
        </p:blipFill>
        <p:spPr>
          <a:xfrm>
            <a:off x="6156360" y="1479600"/>
            <a:ext cx="2676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йтинг самых популярных классических мелод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0000" y="1341360"/>
          <a:ext cx="7775640" cy="5243760"/>
        </p:xfrm>
        <a:graphic>
          <a:graphicData uri="http://schemas.openxmlformats.org/drawingml/2006/table">
            <a:tbl>
              <a:tblPr/>
              <a:tblGrid>
                <a:gridCol w="1055880"/>
                <a:gridCol w="5208480"/>
                <a:gridCol w="1511280"/>
              </a:tblGrid>
              <a:tr h="736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узыкальное произведен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ичество выборов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. Вагнер «Полет Валькирий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. Бизе «Хабанера»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. Паганини «Каприс №24»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. Вивальди Концерт соль минор оp. 8 № 2 «L’estate» (Лето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.А. Моцарт «Рондо в турецком стиле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. Бетховен Cоната для фортепиано № 14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о диез минор, оp. 27 № 2, «Лунная»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ах «Токката и фуга» ре минор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ах «Шутка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.А. Римский – Корсаков «Полет шмеля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5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.А. Моцарт «Маленькая ночная серенада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. 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тховен «К Элизе»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Количество школьников, проявляющих интерес к классической музыке до и после эксперимент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2" name="Диаграмма 1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6696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74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Результаты сравнения данных показывают эффективность  популяризации классической музыки среди подростков   через    рингтоны мобильного телефона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опроса школьнико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«Как ты относишься к классической музы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8360" y="5445000"/>
            <a:ext cx="800244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Количество человек, принявших участие в опросе - 121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Диаграмма 1" descr=""/>
          <p:cNvPicPr/>
          <p:nvPr/>
        </p:nvPicPr>
        <p:blipFill>
          <a:blip r:embed="rId1"/>
          <a:stretch/>
        </p:blipFill>
        <p:spPr>
          <a:xfrm>
            <a:off x="1468440" y="1620720"/>
            <a:ext cx="71517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классическая музы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1844280"/>
            <a:ext cx="82296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«…музыка, упорядоченная по своей природе и обладающая такими качествами, как ясность и гармоничность»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узыкальный словар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«Классическая музыка выписана нам из Вселенной, вечности, необъятности пространства и радости стройной гармонии планет»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ихаил Казинник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Опрос школьников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Диаграмма 3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6919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4920" y="2205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Рингтон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(ringtone) - звонок в мобильном телефоне. Происходит от ring-звонить, tone – тон (тональность)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3952800"/>
            <a:ext cx="8075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В 2002 году появились телефоны, позволяющие закачивать полифонические мелодии по ссылке в Интернете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700440" y="1547640"/>
            <a:ext cx="2560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"/>
          <p:cNvPicPr/>
          <p:nvPr/>
        </p:nvPicPr>
        <p:blipFill>
          <a:blip r:embed="rId1"/>
          <a:stretch/>
        </p:blipFill>
        <p:spPr>
          <a:xfrm>
            <a:off x="368280" y="1268280"/>
            <a:ext cx="3181320" cy="2810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ические мелодии 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нгтон телефона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Скругленный прямоугольник 5"/>
          <p:cNvGrpSpPr/>
          <p:nvPr/>
        </p:nvGrpSpPr>
        <p:grpSpPr>
          <a:xfrm>
            <a:off x="4700520" y="1609560"/>
            <a:ext cx="4138560" cy="1176480"/>
            <a:chOff x="4700520" y="1609560"/>
            <a:chExt cx="4138560" cy="1176480"/>
          </a:xfrm>
        </p:grpSpPr>
        <p:pic>
          <p:nvPicPr>
            <p:cNvPr id="105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700520" y="1609560"/>
              <a:ext cx="41385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772160" y="1684440"/>
              <a:ext cx="39924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Звукозаписывающая компания «Мелодия»  имеет  самую большую   фонотеку в мире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8"/>
          <p:cNvGrpSpPr/>
          <p:nvPr/>
        </p:nvGrpSpPr>
        <p:grpSpPr>
          <a:xfrm>
            <a:off x="4022640" y="2981160"/>
            <a:ext cx="4810320" cy="1908360"/>
            <a:chOff x="4022640" y="2981160"/>
            <a:chExt cx="4810320" cy="1908360"/>
          </a:xfrm>
        </p:grpSpPr>
        <p:pic>
          <p:nvPicPr>
            <p:cNvPr id="10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022640" y="2981160"/>
              <a:ext cx="48103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130640" y="3087720"/>
              <a:ext cx="459108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С 2013 года включилась  в технологии современного мультимедийного бизнеса, благодаря чему в телефонах российских абонентов начнёт звучать классическая музыка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9"/>
          <p:cNvGrpSpPr/>
          <p:nvPr/>
        </p:nvGrpSpPr>
        <p:grpSpPr>
          <a:xfrm>
            <a:off x="2828880" y="5065560"/>
            <a:ext cx="6040440" cy="1474920"/>
            <a:chOff x="2828880" y="5065560"/>
            <a:chExt cx="6040440" cy="1474920"/>
          </a:xfrm>
        </p:grpSpPr>
        <p:pic>
          <p:nvPicPr>
            <p:cNvPr id="111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2828880" y="5065560"/>
              <a:ext cx="60404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914560" y="5156280"/>
              <a:ext cx="586440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22268"/>
                  </a:solidFill>
                  <a:latin typeface="Arial"/>
                </a:rPr>
                <a:t>В каталог   войдут 30-секундные отрывки шедевров мировой классики в исполнении выдающихся мастеров — Святослава Рихтера, Ван Клиберна, симфонического оркестра под управлением Евгения Светланова.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8" descr=""/>
          <p:cNvPicPr/>
          <p:nvPr/>
        </p:nvPicPr>
        <p:blipFill>
          <a:blip r:embed="rId1"/>
          <a:stretch/>
        </p:blipFill>
        <p:spPr>
          <a:xfrm>
            <a:off x="5540400" y="3060720"/>
            <a:ext cx="3551040" cy="27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2"/>
          <a:stretch/>
        </p:blipFill>
        <p:spPr>
          <a:xfrm>
            <a:off x="395280" y="3289320"/>
            <a:ext cx="376704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     «За» и «против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Горизонтальный свиток 4"/>
          <p:cNvGrpSpPr/>
          <p:nvPr/>
        </p:nvGrpSpPr>
        <p:grpSpPr>
          <a:xfrm>
            <a:off x="5772240" y="5735520"/>
            <a:ext cx="3274920" cy="1067040"/>
            <a:chOff x="5772240" y="5735520"/>
            <a:chExt cx="3274920" cy="1067040"/>
          </a:xfrm>
        </p:grpSpPr>
        <p:pic>
          <p:nvPicPr>
            <p:cNvPr id="117" name="Горизонт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5772240" y="5735520"/>
              <a:ext cx="3274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919840" y="5881680"/>
              <a:ext cx="3046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Мстислав Ростропович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19" name="Овальная выноска 5"/>
          <p:cNvGrpSpPr/>
          <p:nvPr/>
        </p:nvGrpSpPr>
        <p:grpSpPr>
          <a:xfrm>
            <a:off x="4627440" y="1987560"/>
            <a:ext cx="4608720" cy="1468440"/>
            <a:chOff x="4627440" y="1987560"/>
            <a:chExt cx="4608720" cy="1468440"/>
          </a:xfrm>
        </p:grpSpPr>
        <p:pic>
          <p:nvPicPr>
            <p:cNvPr id="120" name="Овальная выноска 5" descr=""/>
            <p:cNvPicPr/>
            <p:nvPr/>
          </p:nvPicPr>
          <p:blipFill>
            <a:blip r:embed="rId4"/>
            <a:stretch/>
          </p:blipFill>
          <p:spPr>
            <a:xfrm>
              <a:off x="4627440" y="1987560"/>
              <a:ext cx="46087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13240" y="2189160"/>
              <a:ext cx="323388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Arial"/>
                </a:rPr>
                <a:t>«Популяризировать классическую музыку нужно в таком виде, в котором она производит впечатление!»</a:t>
              </a:r>
              <a:endParaRPr b="0" lang="en-US" sz="16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22" name="Горизонтальный свиток 7"/>
          <p:cNvGrpSpPr/>
          <p:nvPr/>
        </p:nvGrpSpPr>
        <p:grpSpPr>
          <a:xfrm>
            <a:off x="244440" y="5761080"/>
            <a:ext cx="3273480" cy="1066680"/>
            <a:chOff x="244440" y="5761080"/>
            <a:chExt cx="3273480" cy="1066680"/>
          </a:xfrm>
        </p:grpSpPr>
        <p:pic>
          <p:nvPicPr>
            <p:cNvPr id="123" name="Горизонтальный свиток 7" descr=""/>
            <p:cNvPicPr/>
            <p:nvPr/>
          </p:nvPicPr>
          <p:blipFill>
            <a:blip r:embed="rId5"/>
            <a:stretch/>
          </p:blipFill>
          <p:spPr>
            <a:xfrm>
              <a:off x="244440" y="5761080"/>
              <a:ext cx="3273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90600" y="5907240"/>
              <a:ext cx="3046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Юрий Башмет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  <p:grpSp>
        <p:nvGrpSpPr>
          <p:cNvPr id="125" name="Овальная выноска 8"/>
          <p:cNvGrpSpPr/>
          <p:nvPr/>
        </p:nvGrpSpPr>
        <p:grpSpPr>
          <a:xfrm>
            <a:off x="244440" y="1359000"/>
            <a:ext cx="4559400" cy="2182680"/>
            <a:chOff x="244440" y="1359000"/>
            <a:chExt cx="4559400" cy="2182680"/>
          </a:xfrm>
        </p:grpSpPr>
        <p:pic>
          <p:nvPicPr>
            <p:cNvPr id="126" name="Овальная выноска 8" descr=""/>
            <p:cNvPicPr/>
            <p:nvPr/>
          </p:nvPicPr>
          <p:blipFill>
            <a:blip r:embed="rId6"/>
            <a:stretch/>
          </p:blipFill>
          <p:spPr>
            <a:xfrm>
              <a:off x="244440" y="1359000"/>
              <a:ext cx="455940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23760" y="1655640"/>
              <a:ext cx="32022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Arial"/>
                </a:rPr>
                <a:t>«Произведение становится шлягером потому, что автору удается сфокусировать в сжатой и доступной форме что-то самое главное, существенное для человека».</a:t>
              </a: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яризация классической музыки через мобильный телефон.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«За» и «против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Результаты опроса «Как ты относишься к классической музыке в мобильном телефоне?»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0" name="Диаграмма 1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64818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08:56Z</dcterms:created>
  <dc:creator>111</dc:creator>
  <dc:description/>
  <dc:language>en-US</dc:language>
  <cp:lastModifiedBy>школа</cp:lastModifiedBy>
  <dcterms:modified xsi:type="dcterms:W3CDTF">2017-06-11T06:32:28Z</dcterms:modified>
  <cp:revision>71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