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9.jpeg" ContentType="image/jpe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92E-40F1-47F7-AD26-8E747D61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3ED-1098-4ECA-AA82-DC2A0FC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6C7-FE9E-4E80-9248-558609CC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858-1E26-47AF-90F5-628003BA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8C4-80DD-49AF-B8A9-0E071948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BD22-9449-434F-861D-51E677A3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4CF-8280-4276-B7E9-1673283F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585B-4BD2-4C8D-AB14-F0607AFC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306E-19B6-48CF-A932-BCCD37A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EB9A-47A7-4DAD-A5A0-E176230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A64-8AC9-49DC-9960-8412ED1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E4B-C4BD-48CF-B2D2-7084407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A32-9EB2-4FC0-8293-16B0186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1BED-344C-4DA8-B2D9-6FB1426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BBF4-6146-42DD-A52B-2295739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297-3A83-44DB-8782-E705D94E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BC32-6D29-4578-80AF-A290123E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819-B0B6-462A-A60C-B6150FBC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4F1-5CAF-4ACA-B192-E32AC621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7DF-1E55-4BB1-A68E-75A381BA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F6B-2982-4013-8777-12040E3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C4F-7E3D-4263-9E6F-8B86178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A5-8724-4C56-91FA-B193E8B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669-41D0-4B25-AB68-9EDA6647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B6C8-5DB7-47A9-BA7A-736B0A4BA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3A22-CD2D-4F11-97CF-A3590BF40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ffff"/>
                </a:solidFill>
                <a:latin typeface="Tahoma"/>
              </a:rPr>
              <a:t>My pets.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et’s remember Present Perfect 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rite sentences using </a:t>
            </a: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already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or </a:t>
            </a: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just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sample: Don’t forget to feed you hamster. I’ve just f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forget to take your puppy for a wa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forget to clean the parrot’s c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like to buy a good watchd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forget to take your cat to the v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time to relax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hop like a rabb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jump like a fr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run like a do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fly like a bir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wim like a f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be like a good chi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still as you w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2160360" cy="23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Choose the correct variant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 Diamond and Prim wer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Cats  b) rabbits   c) do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 Diamond and Prim became famous of their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Habits   b) masters  c) kindnes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 Diamond was.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Lord Byron’s pet  b) Isaac Newton’s pet  c) Charles Dicken’s pe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4 Diamond is well-known because he onc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Spoiled his masters works  b) asked a lot of ques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) Made a lot of very important discover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5 Prim was 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Charlie Chaplin’s pet  b) Lord Byron’s pet  c) Isaac Newton’s pe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6) Prim is famous because he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) Translated poems into many languages  b) was a great poet  c) was master’s beloved p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 for your work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d the cl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keep the ru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co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ime to school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lesson is over. Good-bye, boys and girl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411280" cy="35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Цели и задачи урока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уализация грамматических навыков по времен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лексических навы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внимания и памя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нировка навыка чтения с полным пониманием прочитанно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нировка навыков в монологической реч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et’s remember English sounds and word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i:] feed, please, t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i]  fish, kitten, g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p] puppy, parrot,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f]  fish, feed, for, g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w] walk, wash,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ae] catch, cat, bl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k]  clever, kind, talk, 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30328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028000" y="4437000"/>
            <a:ext cx="9716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56360" y="4581360"/>
            <a:ext cx="1428840" cy="10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rrange the words in pairs. You must say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xsample: A cow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s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 ca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at              a chic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ig              a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heep          a k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oat            a kit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og             a pigl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ouse         a la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uck            a pu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en             a du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15160" y="321300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1152720" cy="94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804000" y="44370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788000" y="3933720"/>
            <a:ext cx="1492200" cy="1028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932360" y="2492280"/>
            <a:ext cx="1384200" cy="1206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932360" y="5516640"/>
            <a:ext cx="939960" cy="120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16720" y="1700280"/>
            <a:ext cx="201600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We should take care of animals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 animals properl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n up their cag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 and brash the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 with the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to the ve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 to animal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6048720" cy="432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6336000" cy="504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5113440" cy="6165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5616720" cy="4608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e shou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1:32:00Z</dcterms:created>
  <dc:creator>Завражновы</dc:creator>
  <dc:description/>
  <dc:language>en-US</dc:language>
  <cp:lastModifiedBy>Завражновы</cp:lastModifiedBy>
  <dcterms:modified xsi:type="dcterms:W3CDTF">2010-12-13T19:39:24Z</dcterms:modified>
  <cp:revision>7</cp:revision>
  <dc:subject/>
  <dc:title>My pets.</dc:title>
</cp:coreProperties>
</file>