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7.wmf" ContentType="image/x-wmf"/>
  <Override PartName="/ppt/media/image16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9.jpeg" ContentType="image/jpe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D08-BC7F-427A-9D0F-1C25FDD6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01F-23E7-4C70-B621-9DB81B4D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E07-634F-4753-B073-C82252DF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548-FDFF-48D0-B3C7-0238DF09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12F5-C101-4B3F-9756-90AAB888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6AD7-071A-4873-8305-3B574F4A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D34B-215E-4094-A9E4-083742DE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4007-FBD8-421D-9C24-C33BC856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CA27-A417-46DC-B31A-6BBD0F26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9468-0DC1-4B7F-8749-DA1D264C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5A7C-1C38-4C1B-A48C-7FE19D1B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D13-F95D-47F0-BF21-6320CD99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529F-C472-49E8-B5A8-4E52511B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45CB-6E45-4FCD-B0FB-88B1A5F9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2AD3-2608-4F31-837D-497DFD2A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2CE4-881E-4CCA-B240-96755EE3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BA20-59A3-4EB8-9D1A-83268700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318-ECD7-46FC-A102-13114AFE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D25-3FC0-404A-B07A-399ED8AD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2F1-F3E6-413C-AAB5-B49CD1C4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FFE-7E50-4C4A-A7E9-1E796AA5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BD1-2397-4053-A2DA-0BEC61E0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BCB-0C8C-496A-A45E-FCC17446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DD6-4C66-493F-A058-FCF46CF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9633-7FEC-43EF-BBC5-18B98AEBC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834D-C925-44C5-ABDE-A55F84FA0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5ffff"/>
                </a:solidFill>
                <a:latin typeface="Tahoma"/>
              </a:rPr>
              <a:t>My pets.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et’s remember Present Perfect 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write sentences using </a:t>
            </a: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already 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or </a:t>
            </a: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just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xsample: Don’t forget to feed you hamster. I’ve just fe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forget to take your puppy for a wal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forget to clean the parrot’s c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you like to buy a good watchdo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forget to take your cat to the v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time to relax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hop like a rabb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jump like a fro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run like a do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fly like a bir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wim like a fis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be like a good chi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still as you wis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732720" y="620640"/>
            <a:ext cx="2160360" cy="23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Choose the correct variant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915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1 Diamond and Prim wer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) Cats  b) rabbits   c) dog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2 Diamond and Prim became famous of their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) Habits   b) masters  c) kindnes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3 Diamond was.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) Lord Byron’s pet  b) Isaac Newton’s pet  c) Charles Dicken’s pe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4 Diamond is well-known because he onc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) Spoiled his masters works  b) asked a lot of ques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) Made a lot of very important discoveri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5 Prim was 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) Charlie Chaplin’s pet  b) Lord Byron’s pet  c) Isaac Newton’s pe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6) Prim is famous because he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) Translated poems into many languages  b) was a great poet  c) was master’s beloved pe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ank you for your work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d the cl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keep the ru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co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ime to school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lesson is over. Good-bye, boys and girl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732720" y="1413000"/>
            <a:ext cx="2411280" cy="35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Цели и задачи урока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уализация грамматических навыков по времен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лексических навы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внимания и памя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нировка навыка чтения с полным пониманием прочитанног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нировка навыков в монологической реч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et’s remember English sounds and words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i:] feed, please, te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i]  fish, kitten, g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p] puppy, parrot, p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f]  fish, feed, for, g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w] walk, wash,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ae] catch, cat, bl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k]  clever, kind, talk, t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2303280" cy="1582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028000" y="4437000"/>
            <a:ext cx="971640" cy="131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156360" y="4581360"/>
            <a:ext cx="1428840" cy="100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Arrange the words in pairs. You must say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Exsample: A cow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as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a ca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at              a chic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ig              a m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heep          a k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oat            a kit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og             a pigl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ouse         a lam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uck            a pup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en             a du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715160" y="321300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443640" y="3357720"/>
            <a:ext cx="1152720" cy="944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804000" y="44370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788000" y="3933720"/>
            <a:ext cx="1492200" cy="1028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932360" y="2492280"/>
            <a:ext cx="1384200" cy="1206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932360" y="5516640"/>
            <a:ext cx="939960" cy="120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516720" y="1700280"/>
            <a:ext cx="201600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We should take care of animals    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d animals properly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n up their cage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h and brash the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y with the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to the ve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lk to animal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68360" y="1484280"/>
            <a:ext cx="6048720" cy="432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We shou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6336000" cy="5040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We shou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5113440" cy="6165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We shou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987640" y="1413000"/>
            <a:ext cx="5616720" cy="4608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We shou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1:32:00Z</dcterms:created>
  <dc:creator>Завражновы</dc:creator>
  <dc:description/>
  <dc:language>en-US</dc:language>
  <cp:lastModifiedBy>Завражновы</cp:lastModifiedBy>
  <dcterms:modified xsi:type="dcterms:W3CDTF">2010-12-13T19:39:24Z</dcterms:modified>
  <cp:revision>7</cp:revision>
  <dc:subject/>
  <dc:title>My pets.</dc:title>
</cp:coreProperties>
</file>