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bomb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93A-D6B6-493E-A4B1-A7CAE0B68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7A04-FBEE-4B8D-8BEA-CE60DC3A6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826-5C97-45C0-AFE9-15A5F1BB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C87-AF4B-4DA8-9515-DDBF7901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BBE-513C-41E5-8C23-5D5A9145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A58-CF87-4E1D-B38E-54EE9C15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58C-9F77-4C33-9378-7B10AFC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A27-EB61-4739-A5B8-F8C5B8E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F25-8098-4D9C-8C12-73D641B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CD4-D783-44DA-85A1-2165CF33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298-E886-4B63-911C-469DC30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F8F-5EE8-4C17-AFBE-03022B3A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762-8A98-4153-9ABF-15C68AD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916-9181-4F86-A99B-89EBD69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4C7B-4448-4404-9788-2F1228660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4803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                                               детский сад «Сказ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 суток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дошкольного возра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дырева Л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строгожск -201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3205.jpeg"/>
          <p:cNvPicPr/>
          <p:nvPr/>
        </p:nvPicPr>
        <p:blipFill>
          <a:blip r:embed="rId2"/>
          <a:stretch/>
        </p:blipFill>
        <p:spPr>
          <a:xfrm>
            <a:off x="2268360" y="2133720"/>
            <a:ext cx="3775320" cy="4464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47640" y="8416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свой укреп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вся мо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быть режим у дн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49673_html_m7802000.jpg"/>
          <p:cNvPicPr/>
          <p:nvPr/>
        </p:nvPicPr>
        <p:blipFill>
          <a:blip r:embed="rId2"/>
          <a:stretch/>
        </p:blipFill>
        <p:spPr>
          <a:xfrm>
            <a:off x="0" y="1125360"/>
            <a:ext cx="738036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2050920" y="981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оснулось в небе солнц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ло к нам в око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шок горланит мудр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ещая: «Это…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загруженное.jpg"/>
          <p:cNvPicPr/>
          <p:nvPr/>
        </p:nvPicPr>
        <p:blipFill>
          <a:blip r:embed="rId2"/>
          <a:stretch/>
        </p:blipFill>
        <p:spPr>
          <a:xfrm>
            <a:off x="1835280" y="2492280"/>
            <a:ext cx="511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2700360" y="1052640"/>
            <a:ext cx="485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ярко освети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, всё позолоти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сияет и блес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лениться не вел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)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c49b96c36047_png(1).jpg"/>
          <p:cNvPicPr/>
          <p:nvPr/>
        </p:nvPicPr>
        <p:blipFill>
          <a:blip r:embed="rId2"/>
          <a:stretch/>
        </p:blipFill>
        <p:spPr>
          <a:xfrm>
            <a:off x="1835280" y="2708280"/>
            <a:ext cx="48956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763640" y="404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шел. Садится сол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рак медленно краде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гайте лампы, свечи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темный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ч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main_351763_original.jpg"/>
          <p:cNvPicPr/>
          <p:nvPr/>
        </p:nvPicPr>
        <p:blipFill>
          <a:blip r:embed="rId2"/>
          <a:stretch/>
        </p:blipFill>
        <p:spPr>
          <a:xfrm>
            <a:off x="1763640" y="2205000"/>
            <a:ext cx="5257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2987640" y="836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ездочки г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чке струйки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в окно луна гляди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м деткам спать вели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чь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1383945145_www.radionetplus.ru-14.jpg"/>
          <p:cNvPicPr/>
          <p:nvPr/>
        </p:nvPicPr>
        <p:blipFill>
          <a:blip r:embed="rId2"/>
          <a:stretch/>
        </p:blipFill>
        <p:spPr>
          <a:xfrm>
            <a:off x="1476360" y="2936880"/>
            <a:ext cx="55468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mg-fotki.yandex.ru/get/5908/kur-valentina.13d/0_8e761_7069918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571680" y="214200"/>
            <a:ext cx="318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Сут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85840" y="2000160"/>
            <a:ext cx="50022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просыпае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2714760"/>
            <a:ext cx="37098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гуля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-1000080" y="3429000"/>
            <a:ext cx="93841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вся семья собирается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-278640" y="4143240"/>
            <a:ext cx="44737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сп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http://cdn-write.demandstudios.com/upload/2000/400/10/5/2415.gif"/>
          <p:cNvPicPr/>
          <p:nvPr/>
        </p:nvPicPr>
        <p:blipFill>
          <a:blip r:embed="rId2"/>
          <a:stretch/>
        </p:blipFill>
        <p:spPr>
          <a:xfrm>
            <a:off x="4857840" y="785880"/>
            <a:ext cx="4286160" cy="353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img-fotki.yandex.ru/get/5906/enik2217.36/0_65388_4a71c88b_XL"/>
          <p:cNvPicPr/>
          <p:nvPr/>
        </p:nvPicPr>
        <p:blipFill>
          <a:blip r:embed="rId3"/>
          <a:stretch/>
        </p:blipFill>
        <p:spPr>
          <a:xfrm>
            <a:off x="5214960" y="428760"/>
            <a:ext cx="4714920" cy="337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s11.radikal.ru/i184/1008/bb/ecd1e74c8d02.png"/>
          <p:cNvPicPr/>
          <p:nvPr/>
        </p:nvPicPr>
        <p:blipFill>
          <a:blip r:embed="rId4"/>
          <a:stretch/>
        </p:blipFill>
        <p:spPr>
          <a:xfrm>
            <a:off x="7102440" y="4000680"/>
            <a:ext cx="2041560" cy="2857320"/>
          </a:xfrm>
          <a:prstGeom prst="rect">
            <a:avLst/>
          </a:prstGeom>
          <a:ln w="0">
            <a:noFill/>
          </a:ln>
        </p:spPr>
      </p:pic>
      <p:sp>
        <p:nvSpPr>
          <p:cNvPr id="103" name="Улыбающееся лицо 12"/>
          <p:cNvSpPr/>
          <p:nvPr/>
        </p:nvSpPr>
        <p:spPr>
          <a:xfrm>
            <a:off x="214200" y="5572080"/>
            <a:ext cx="357480" cy="3571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олния 14"/>
          <p:cNvSpPr/>
          <p:nvPr/>
        </p:nvSpPr>
        <p:spPr>
          <a:xfrm>
            <a:off x="714240" y="5643720"/>
            <a:ext cx="357480" cy="285480"/>
          </a:xfrm>
          <a:prstGeom prst="lightningBol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знания детей о последовательности частей су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ь детей различать части суток(утро, день, вечер, ночь), закрепить названия, последовательность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огащать словарь детей: «сутки», «утро», «день», «вечер»,ноч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vremy_sutok_dly_detey.jpg"/>
          <p:cNvPicPr/>
          <p:nvPr/>
        </p:nvPicPr>
        <p:blipFill>
          <a:blip r:embed="rId2"/>
          <a:stretch/>
        </p:blipFill>
        <p:spPr>
          <a:xfrm>
            <a:off x="1979640" y="1989000"/>
            <a:ext cx="5060880" cy="4645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771640" y="69228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Вам объяснить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части день делить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по часа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ня увидеть сам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2_01.jpg"/>
          <p:cNvPicPr/>
          <p:nvPr/>
        </p:nvPicPr>
        <p:blipFill>
          <a:blip r:embed="rId2"/>
          <a:stretch/>
        </p:blipFill>
        <p:spPr>
          <a:xfrm>
            <a:off x="0" y="1700280"/>
            <a:ext cx="7740720" cy="5157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-87840" y="836640"/>
            <a:ext cx="280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Утр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56000" y="404640"/>
            <a:ext cx="65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солнышко встает, за окошком рассвет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йся, детвора, на зарядку всем пор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95280" y="476280"/>
            <a:ext cx="236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День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763640" y="26028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улице светло, время полдника пришл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улять, играть идем, много дел бывает дне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" descr="b741b9f52f4fa0562a5d0f97a8f42e16.jpg"/>
          <p:cNvPicPr/>
          <p:nvPr/>
        </p:nvPicPr>
        <p:blipFill>
          <a:blip r:embed="rId2"/>
          <a:stretch/>
        </p:blipFill>
        <p:spPr>
          <a:xfrm>
            <a:off x="0" y="1916280"/>
            <a:ext cx="7642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69214410fc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96060164_Risunok__31_.jpg"/>
          <p:cNvPicPr/>
          <p:nvPr/>
        </p:nvPicPr>
        <p:blipFill>
          <a:blip r:embed="rId2"/>
          <a:stretch/>
        </p:blipFill>
        <p:spPr>
          <a:xfrm>
            <a:off x="250920" y="2104920"/>
            <a:ext cx="721980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476360" y="476280"/>
            <a:ext cx="68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солнышко садится, это вечер к нам стучит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вернется в дом, соберетс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-421200" y="692280"/>
            <a:ext cx="323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Веч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омой 5">
            <a:hlinkClick r:id="rId3" action="ppaction://hlinksldjump"/>
          </p:cNvPr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1383945145_www.radionetplus.ru-14.jpg"/>
          <p:cNvPicPr/>
          <p:nvPr/>
        </p:nvPicPr>
        <p:blipFill>
          <a:blip r:embed="rId2"/>
          <a:stretch/>
        </p:blipFill>
        <p:spPr>
          <a:xfrm>
            <a:off x="539640" y="1773360"/>
            <a:ext cx="6843960" cy="48369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908000" y="33336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кончился давно. На дворе совсем темн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приходит. Нам она доброго желает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493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Ночь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img10.jpg"/>
          <p:cNvPicPr/>
          <p:nvPr/>
        </p:nvPicPr>
        <p:blipFill>
          <a:blip r:embed="rId2"/>
          <a:stretch/>
        </p:blipFill>
        <p:spPr>
          <a:xfrm>
            <a:off x="395280" y="836640"/>
            <a:ext cx="7013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8:50Z</dcterms:created>
  <dc:creator>Светлана</dc:creator>
  <dc:description/>
  <dc:language>en-US</dc:language>
  <cp:lastModifiedBy>user</cp:lastModifiedBy>
  <dcterms:modified xsi:type="dcterms:W3CDTF">2017-06-11T05:59:26Z</dcterms:modified>
  <cp:revision>46</cp:revision>
  <dc:subject/>
  <dc:title>Слайд 1</dc:title>
</cp:coreProperties>
</file>