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applause.wav" ContentType="audio/x-wav"/>
  <Override PartName="/ppt/media/bomb.wav" ContentType="audio/x-wav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061C-E1B2-4954-9BEE-F7533D754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563F-857D-4BE2-8D41-16734B98DA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516-3456-4850-A587-1331221E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582-B558-4DBB-8E22-B9A9BAF6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67F-2FD9-4844-9B68-C1BDE67B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12F-ACBD-4601-B28C-6791589A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F73-7D13-4A0A-8401-37834353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310-CB64-4FC0-80B2-9D3B7C43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D87-83D1-4A45-9196-F9F863BD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B05-E547-45B6-8C7E-34DABE0A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68C-32CB-4C0E-9E31-72902CB8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AB6-FE03-4EFC-8023-66EF021A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991-E746-46C7-B79F-69D2EE55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B15-265A-4EBF-9EDE-3B492232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F9AB-4E53-4093-9A7A-559E63013D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applause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648036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                                                детский сад «Сказ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и суток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дошкольного возрас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дырева Л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Острогожск -2016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" descr="3205.jpeg"/>
          <p:cNvPicPr/>
          <p:nvPr/>
        </p:nvPicPr>
        <p:blipFill>
          <a:blip r:embed="rId2"/>
          <a:stretch/>
        </p:blipFill>
        <p:spPr>
          <a:xfrm>
            <a:off x="2268360" y="2133720"/>
            <a:ext cx="3775320" cy="4464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1547640" y="841680"/>
            <a:ext cx="46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здоровье сохран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 свой укреп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 вся моя 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быть режим у дн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2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49673_html_m7802000.jpg"/>
          <p:cNvPicPr/>
          <p:nvPr/>
        </p:nvPicPr>
        <p:blipFill>
          <a:blip r:embed="rId2"/>
          <a:stretch/>
        </p:blipFill>
        <p:spPr>
          <a:xfrm>
            <a:off x="0" y="1125360"/>
            <a:ext cx="738036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2050920" y="9810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роснулось в небе солнц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лянуло к нам в оконц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ушок горланит мудр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ещая: «Это…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тр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загруженное.jpg"/>
          <p:cNvPicPr/>
          <p:nvPr/>
        </p:nvPicPr>
        <p:blipFill>
          <a:blip r:embed="rId2"/>
          <a:stretch/>
        </p:blipFill>
        <p:spPr>
          <a:xfrm>
            <a:off x="1835280" y="2492280"/>
            <a:ext cx="511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5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2700360" y="1052640"/>
            <a:ext cx="485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ярко осветил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ю, всё позолотил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сияет и блести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лениться не вел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нь)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c49b96c36047_png(1).jpg"/>
          <p:cNvPicPr/>
          <p:nvPr/>
        </p:nvPicPr>
        <p:blipFill>
          <a:blip r:embed="rId2"/>
          <a:stretch/>
        </p:blipFill>
        <p:spPr>
          <a:xfrm>
            <a:off x="1835280" y="2708280"/>
            <a:ext cx="48956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1763640" y="404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рошел. Садится солнц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рак медленно крадетс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игайте лампы, свечи —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ает темный..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ч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main_351763_original.jpg"/>
          <p:cNvPicPr/>
          <p:nvPr/>
        </p:nvPicPr>
        <p:blipFill>
          <a:blip r:embed="rId2"/>
          <a:stretch/>
        </p:blipFill>
        <p:spPr>
          <a:xfrm>
            <a:off x="1763640" y="2205000"/>
            <a:ext cx="5257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5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2987640" y="836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 звездочки горя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чке струйки говоря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м в окно луна гляди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м деткам спать вели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чь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1383945145_www.radionetplus.ru-14.jpg"/>
          <p:cNvPicPr/>
          <p:nvPr/>
        </p:nvPicPr>
        <p:blipFill>
          <a:blip r:embed="rId2"/>
          <a:stretch/>
        </p:blipFill>
        <p:spPr>
          <a:xfrm>
            <a:off x="1476360" y="2936880"/>
            <a:ext cx="55468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img-fotki.yandex.ru/get/5908/kur-valentina.13d/0_8e761_7069918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571680" y="214200"/>
            <a:ext cx="318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Monotype Corsiva"/>
              </a:rPr>
              <a:t>Сутки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85840" y="2000160"/>
            <a:ext cx="5002200" cy="1312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мы просыпаемся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285840" y="2714760"/>
            <a:ext cx="3709800" cy="1312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мы гуля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-1000080" y="3429000"/>
            <a:ext cx="9384120" cy="703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вся семья собирается до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-278640" y="4143240"/>
            <a:ext cx="4473720" cy="703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мы сп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http://cdn-write.demandstudios.com/upload/2000/400/10/5/2415.gif"/>
          <p:cNvPicPr/>
          <p:nvPr/>
        </p:nvPicPr>
        <p:blipFill>
          <a:blip r:embed="rId2"/>
          <a:stretch/>
        </p:blipFill>
        <p:spPr>
          <a:xfrm>
            <a:off x="4857840" y="785880"/>
            <a:ext cx="4286160" cy="3537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http://img-fotki.yandex.ru/get/5906/enik2217.36/0_65388_4a71c88b_XL"/>
          <p:cNvPicPr/>
          <p:nvPr/>
        </p:nvPicPr>
        <p:blipFill>
          <a:blip r:embed="rId3"/>
          <a:stretch/>
        </p:blipFill>
        <p:spPr>
          <a:xfrm>
            <a:off x="5214960" y="428760"/>
            <a:ext cx="4714920" cy="337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http://s11.radikal.ru/i184/1008/bb/ecd1e74c8d02.png"/>
          <p:cNvPicPr/>
          <p:nvPr/>
        </p:nvPicPr>
        <p:blipFill>
          <a:blip r:embed="rId4"/>
          <a:stretch/>
        </p:blipFill>
        <p:spPr>
          <a:xfrm>
            <a:off x="7102440" y="4000680"/>
            <a:ext cx="2041560" cy="2857320"/>
          </a:xfrm>
          <a:prstGeom prst="rect">
            <a:avLst/>
          </a:prstGeom>
          <a:ln w="0">
            <a:noFill/>
          </a:ln>
        </p:spPr>
      </p:pic>
      <p:sp>
        <p:nvSpPr>
          <p:cNvPr id="103" name="Улыбающееся лицо 12"/>
          <p:cNvSpPr/>
          <p:nvPr/>
        </p:nvSpPr>
        <p:spPr>
          <a:xfrm>
            <a:off x="214200" y="5572080"/>
            <a:ext cx="357480" cy="357120"/>
          </a:xfrm>
          <a:prstGeom prst="smileyFace">
            <a:avLst>
              <a:gd name="adj" fmla="val 928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олния 14"/>
          <p:cNvSpPr/>
          <p:nvPr/>
        </p:nvSpPr>
        <p:spPr>
          <a:xfrm>
            <a:off x="714240" y="5643720"/>
            <a:ext cx="357480" cy="285480"/>
          </a:xfrm>
          <a:prstGeom prst="lightningBol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ть знания детей о последовательности частей сут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чить детей различать части суток(утро, день, вечер, ночь), закрепить названия, последовательность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богащать словарь детей: «сутки», «утро», «день», «вечер»,ноч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vremy_sutok_dly_detey.jpg"/>
          <p:cNvPicPr/>
          <p:nvPr/>
        </p:nvPicPr>
        <p:blipFill>
          <a:blip r:embed="rId2"/>
          <a:stretch/>
        </p:blipFill>
        <p:spPr>
          <a:xfrm>
            <a:off x="1979640" y="1989000"/>
            <a:ext cx="5060880" cy="4645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771640" y="69228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чу Вам объяснить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 части день делить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может по часам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ня увидеть сам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2_01.jpg"/>
          <p:cNvPicPr/>
          <p:nvPr/>
        </p:nvPicPr>
        <p:blipFill>
          <a:blip r:embed="rId2"/>
          <a:stretch/>
        </p:blipFill>
        <p:spPr>
          <a:xfrm>
            <a:off x="0" y="1700280"/>
            <a:ext cx="7740720" cy="5157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-87840" y="836640"/>
            <a:ext cx="28018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Утр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556000" y="404640"/>
            <a:ext cx="65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 солнышко встает, за окошком рассвете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ыпайся, детвора, на зарядку всем пора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395280" y="476280"/>
            <a:ext cx="236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День</a:t>
            </a: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1763640" y="260280"/>
            <a:ext cx="71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а улице светло, время полдника пришло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гулять, играть идем, много дел бывает днем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7" descr="b741b9f52f4fa0562a5d0f97a8f42e16.jpg"/>
          <p:cNvPicPr/>
          <p:nvPr/>
        </p:nvPicPr>
        <p:blipFill>
          <a:blip r:embed="rId2"/>
          <a:stretch/>
        </p:blipFill>
        <p:spPr>
          <a:xfrm>
            <a:off x="0" y="1916280"/>
            <a:ext cx="7642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369214410fcf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6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96060164_Risunok__31_.jpg"/>
          <p:cNvPicPr/>
          <p:nvPr/>
        </p:nvPicPr>
        <p:blipFill>
          <a:blip r:embed="rId2"/>
          <a:stretch/>
        </p:blipFill>
        <p:spPr>
          <a:xfrm>
            <a:off x="250920" y="2104920"/>
            <a:ext cx="7219800" cy="4753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1476360" y="476280"/>
            <a:ext cx="680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и солнышко садится, это вечер к нам стучится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семья вернется в дом, соберется за ст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-421200" y="692280"/>
            <a:ext cx="323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Вече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правляющая кнопка: домой 5">
            <a:hlinkClick r:id="rId3" action="ppaction://hlinksldjump"/>
          </p:cNvPr>
          <p:cNvSpPr/>
          <p:nvPr/>
        </p:nvSpPr>
        <p:spPr>
          <a:xfrm>
            <a:off x="8358120" y="61437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1383945145_www.radionetplus.ru-14.jpg"/>
          <p:cNvPicPr/>
          <p:nvPr/>
        </p:nvPicPr>
        <p:blipFill>
          <a:blip r:embed="rId2"/>
          <a:stretch/>
        </p:blipFill>
        <p:spPr>
          <a:xfrm>
            <a:off x="539640" y="1773360"/>
            <a:ext cx="6843960" cy="48369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1908000" y="33336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закончился давно. На дворе совсем темно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 приходит. Нам она доброго желает 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0" y="549360"/>
            <a:ext cx="237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Ночь</a:t>
            </a: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img0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img10.jpg"/>
          <p:cNvPicPr/>
          <p:nvPr/>
        </p:nvPicPr>
        <p:blipFill>
          <a:blip r:embed="rId2"/>
          <a:stretch/>
        </p:blipFill>
        <p:spPr>
          <a:xfrm>
            <a:off x="395280" y="836640"/>
            <a:ext cx="701352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5:08:50Z</dcterms:created>
  <dc:creator>Светлана</dc:creator>
  <dc:description/>
  <dc:language>en-US</dc:language>
  <cp:lastModifiedBy>user</cp:lastModifiedBy>
  <dcterms:modified xsi:type="dcterms:W3CDTF">2017-06-11T05:59:26Z</dcterms:modified>
  <cp:revision>46</cp:revision>
  <dc:subject/>
  <dc:title>Слайд 1</dc:title>
</cp:coreProperties>
</file>