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4.gif" ContentType="image/gif"/>
  <Override PartName="/ppt/media/image33.jpeg" ContentType="image/jpeg"/>
  <Override PartName="/ppt/media/image10.jpeg" ContentType="image/jpeg"/>
  <Override PartName="/ppt/media/image25.gif" ContentType="image/gif"/>
  <Override PartName="/ppt/media/image5.png" ContentType="image/png"/>
  <Override PartName="/ppt/media/image26.jpeg" ContentType="image/jpeg"/>
  <Override PartName="/ppt/media/image7.gif" ContentType="image/gif"/>
  <Override PartName="/ppt/media/image32.jpeg" ContentType="image/jpeg"/>
  <Override PartName="/ppt/media/image8.gif" ContentType="image/gif"/>
  <Override PartName="/ppt/media/image18.jpeg" ContentType="image/jpeg"/>
  <Override PartName="/ppt/media/image13.jpeg" ContentType="image/jpeg"/>
  <Override PartName="/ppt/media/image30.gif" ContentType="image/gif"/>
  <Override PartName="/ppt/media/image34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11.jpeg" ContentType="image/jpeg"/>
  <Override PartName="/ppt/media/image1.gif" ContentType="image/gif"/>
  <Override PartName="/ppt/media/image31.jpeg" ContentType="image/jpeg"/>
  <Override PartName="/ppt/media/image14.gif" ContentType="image/gif"/>
  <Override PartName="/ppt/media/image21.jpeg" ContentType="image/jpeg"/>
  <Override PartName="/ppt/media/image6.gif" ContentType="image/gif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182-F884-4645-A6F3-BAAB6B24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95B-3D3B-4C17-9F42-24345CC5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BF4-2AA1-4593-B489-44B61575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04A-7DC1-4011-BC01-5DE6C9F0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675-C43B-441E-BD2A-840E93A7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9F6-DCC7-43DA-AFFD-A868B2E6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67C-6D7A-4BA2-973B-E63400BF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921-3794-4BAD-8614-FC6F6388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0C8-0EC3-4C1E-9CFB-9C8DE855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0CF-DD61-4B3A-8336-66AB5925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E51-768B-497B-9A96-1D7868E4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8C7-F025-4EF7-A786-9A173E56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CBEB-04B6-49E7-88BD-999C9882E4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otki.yandex.ru/users/alexconcom/view/88119/?page=0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/pavel-egupov.2/0_69f8_3ca7311c_X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fotki.yandex.ru/users/infra-sound/view/221473/?page=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tatic.baza.farpost.ru/bulletins_images/9/9/2/992495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4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705440" cy="470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5280" y="260280"/>
            <a:ext cx="8209080" cy="12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утешествие по новогодней планет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1704960" cy="343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3640" y="393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78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e4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Варшава – столица Польши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56756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В новогодние праздники столица Польши превращается в настоящий балаг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День и ночь здесь проходят карнавальные шеств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276720" cy="2762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2146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969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34920" y="1592280"/>
            <a:ext cx="8209080" cy="5265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112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987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Италия. Сицилия. Соборная площадь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талия.  Сицилия. Соборная площа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60280"/>
            <a:ext cx="7272360" cy="446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342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овогодняя примета- если выбросишь старую вещь в окно, то в новом году приобретешь такую же новую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рвфы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Картинка 76 из 37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777528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793960"/>
            <a:ext cx="6335640" cy="4064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987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Германия. 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Счастливая примета – в новогоднюю ночь встретить трубочиста  и выпачкаться в саже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00280"/>
            <a:ext cx="8136000" cy="482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166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800200">
            <a:off x="250920" y="0"/>
            <a:ext cx="2916000" cy="2006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97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4.44444E-006 3.7037E-006 L 1.11649 0.9206 E">
                                      <p:cBhvr>
                                        <p:cTn id="50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1e61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Африка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7812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03640" cy="626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40464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воим посохом мор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стучал в окош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сем насыпала з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ебра в лукош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нце яркое взош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сияло сра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светилися в луч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 снегу алма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иний иней наряд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кружева и шал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се деревья и кус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ак и засверкал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8" name="" descr="кванза"/>
          <p:cNvPicPr/>
          <p:nvPr/>
        </p:nvPicPr>
        <p:blipFill>
          <a:blip r:embed="rId1"/>
          <a:stretch/>
        </p:blipFill>
        <p:spPr>
          <a:xfrm>
            <a:off x="900000" y="692280"/>
            <a:ext cx="755964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667560" cy="4800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95724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4871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1030320"/>
            <a:ext cx="6769080" cy="525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8728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22222E-006 -4.81481E-006 L -0.36233 0.01899 E">
                                      <p:cBhvr>
                                        <p:cTn id="62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70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8" name="Picture 2" descr="C:\Users\User\Desktop\даша птицы\слайды\санта.jpg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Япония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67280" y="3573360"/>
            <a:ext cx="1241280" cy="2503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35344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ина Ольга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3168720" cy="2211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2736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22222E-006 -4.81481E-006 L -0.36233 0.01899 E">
                                      <p:cBhvr>
                                        <p:cTn id="71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Ресурсы Интернета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realtors.com.ua/news/4237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iltelaiodipenelope.it/natale/gif/pae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fibromyalgie.xooit.com/t2033-ma-passion-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en.avatars.26l.com/avatar.bereich0_1377_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en.avatars.26l.com/avatar.bereich0_1377_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vietboom.com/forextrading/index.php?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dinka-ru.livejournal.com/194087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bbs.ganji.com/17-135642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nere.over-blog.com/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desktopwallpapers.ru/newyear/?part=1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polishnationalhome.co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epilog.fr/2008/03/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allday.ru/index.php?newsid=27885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sunhome.ru/cards/227/p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edenlove.centerblog.net/rub-Fonds-d-ecra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smile-card.ru/cat71_14.ht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lejeunefamily5.canalblog.com/archives/p5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turne.com.ua/tour-detail/-artex-94--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thestir.cafemom.com/food_party/114250/am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clubs.ya.ru/4611686018427436112/replies.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en.smiles.26l.com/smile.bereich0_123_120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mocxi.com/moc/lofiversion/index.php/.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radikal.ru/F/i035.radikal.ru/0712/0d/29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www.yaplakal.com/forum2/topic268688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зентация опубликована на сайте - viki.rdf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765000"/>
            <a:ext cx="403848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А волшебница зи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Приоделась ярк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В гости елку приве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Вместе с ней – подарк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889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61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464000" cy="5616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3640" y="620280"/>
            <a:ext cx="46800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коро встрет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раздничны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веселы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Ждет его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весь нар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В городах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и селах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692280"/>
            <a:ext cx="3538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сех мечтаний и надежд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Ждем мы воплощени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сех жела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 Новый г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ждем 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испол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4176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Новый Год - самый любимый праздник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Desktop\даша птицы\слайды\подар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780000" y="0"/>
            <a:ext cx="536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усть удачу Вам подарит Новый год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ложные решит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усть успех с собою принесе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частье и любовь в придач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1280" y="836640"/>
            <a:ext cx="7956360" cy="5549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6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87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Рождественская звезда-символ Польш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040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17:26:48Z</dcterms:created>
  <dc:creator>Дима</dc:creator>
  <dc:description/>
  <dc:language>en-US</dc:language>
  <cp:lastModifiedBy>Sam</cp:lastModifiedBy>
  <dcterms:modified xsi:type="dcterms:W3CDTF">2017-04-09T09:41:57Z</dcterms:modified>
  <cp:revision>94</cp:revision>
  <dc:subject/>
  <dc:title>Слайд 1</dc:title>
</cp:coreProperties>
</file>