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4.gif" ContentType="image/gif"/>
  <Override PartName="/ppt/media/image33.jpeg" ContentType="image/jpeg"/>
  <Override PartName="/ppt/media/image10.jpeg" ContentType="image/jpeg"/>
  <Override PartName="/ppt/media/image25.gif" ContentType="image/gif"/>
  <Override PartName="/ppt/media/image5.png" ContentType="image/png"/>
  <Override PartName="/ppt/media/image26.jpeg" ContentType="image/jpeg"/>
  <Override PartName="/ppt/media/image7.gif" ContentType="image/gif"/>
  <Override PartName="/ppt/media/image32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0.gif" ContentType="image/gif"/>
  <Override PartName="/ppt/media/image34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21.jpeg" ContentType="image/jpeg"/>
  <Override PartName="/ppt/media/image6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D4F-6058-42F1-ADDF-47A2DBF1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1CD-8BDA-42CE-84E0-1BDCE968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B7-80F9-4F1B-BC94-03F37B1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9C2-CB7C-420F-8F5A-1D0BDB4F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D42-AE51-4548-A56D-F904E03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8DE-206A-472E-A4B5-F8B403F3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B6D-3B60-41CD-A47A-681E86E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8DF-B767-4FC9-90DA-D4106FF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0F5-0651-4638-A1F5-B4A9C8B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E0B-329F-4787-89FE-E0E7086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7DE-C7C8-4C52-B636-8DABCE4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CC5-D25E-471A-8B43-5F1710D9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A04-ACFB-4F92-A2ED-192115DA7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alexconcom/view/88119/?page=0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/pavel-egupov.2/0_69f8_3ca7311c_X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ki.yandex.ru/users/infra-sound/view/221473/?page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tatic.baza.farpost.ru/bulletins_images/9/9/2/992495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4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05440" cy="470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260280"/>
            <a:ext cx="820908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ешествие по новогодней плане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78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Варшава – столица Польш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5675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новогодние праздники столица Польши превращается в настоящий балаг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День и ночь здесь проходят карнавальные ше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276720" cy="276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146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69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34920" y="1592280"/>
            <a:ext cx="8209080" cy="526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112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87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Италия. Сицилия. Соборная площадь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алия.  Сицилия. Соборная площа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60280"/>
            <a:ext cx="7272360" cy="446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342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овогодняя примета- если выбросишь старую вещь в окно, то в новом году приобретешь такую же новую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вфы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ртинка 76 из 3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777528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793960"/>
            <a:ext cx="6335640" cy="4064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987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Германия.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Счастливая примета – в новогоднюю ночь встретить трубочиста  и выпачкаться в саже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8136000" cy="482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166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800200">
            <a:off x="250920" y="0"/>
            <a:ext cx="2916000" cy="200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97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44444E-006 3.7037E-006 L 1.11649 0.9206 E">
                                      <p:cBhvr>
                                        <p:cTn id="50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1e61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Африк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812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626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40464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воим посохом мо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стучал в окош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м насыпала з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ебра в лукош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нце яркое взош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сияло сра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светилися в луч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снегу алма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иний иней наряд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кружева и ша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 деревья и ку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ак и засверка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" descr="кванза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667560" cy="480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95724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4871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1030320"/>
            <a:ext cx="6769080" cy="525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-4.81481E-006 L -0.36233 0.01899 E">
                                      <p:cBhvr>
                                        <p:cTn id="62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70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Picture 2" descr="C:\Users\User\Desktop\даша птицы\слайды\санта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Япони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67280" y="3573360"/>
            <a:ext cx="1241280" cy="2503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35344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ина Ольг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168720" cy="2211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736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-4.81481E-006 L -0.36233 0.01899 E">
                                      <p:cBhvr>
                                        <p:cTn id="71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Ресурсы Интернета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realtors.com.ua/news/4237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iltelaiodipenelope.it/natale/gif/pae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fibromyalgie.xooit.com/t2033-ma-passion-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avatars.26l.com/avatar.bereich0_1377_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avatars.26l.com/avatar.bereich0_1377_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vietboom.com/forextrading/index.php?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dinka-ru.livejournal.com/194087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bbs.ganji.com/17-135642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nere.over-blog.com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desktopwallpapers.ru/newyear/?part=1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polishnationalhome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epilog.fr/2008/03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allday.ru/index.php?newsid=27885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sunhome.ru/cards/227/p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denlove.centerblog.net/rub-Fonds-d-ecra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smile-card.ru/cat71_14.ht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lejeunefamily5.canalblog.com/archives/p5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turne.com.ua/tour-detail/-artex-94--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thestir.cafemom.com/food_party/114250/am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clubs.ya.ru/4611686018427436112/replies.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smiles.26l.com/smile.bereich0_123_120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mocxi.com/moc/lofiversion/index.php/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radikal.ru/F/i035.radikal.ru/0712/0d/29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yaplakal.com/forum2/topic268688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зентация опубликована на сайте - viki.rdf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765000"/>
            <a:ext cx="403848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А волшебница зи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Приоделась ярк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 гости елку прив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месте с ней – подар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889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61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464000" cy="5616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3640" y="620280"/>
            <a:ext cx="4680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коро встрет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раздничны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есел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Ждет его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есь на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 города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 сел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сех мечтаний и надежд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Ждем мы воплощен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сех жела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Новый г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ждем 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спол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Новый Год - самый любимый праздник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даша птицы\слайды\подар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780000" y="0"/>
            <a:ext cx="536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усть удачу Вам подарит Новый год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ложные решит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усть успех с собою принес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частье и любовь в придач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1280" y="836640"/>
            <a:ext cx="7956360" cy="554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87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ождественская звезда-символ Польш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0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7:26:48Z</dcterms:created>
  <dc:creator>Дима</dc:creator>
  <dc:description/>
  <dc:language>en-US</dc:language>
  <cp:lastModifiedBy>Sam</cp:lastModifiedBy>
  <dcterms:modified xsi:type="dcterms:W3CDTF">2017-04-09T09:41:57Z</dcterms:modified>
  <cp:revision>94</cp:revision>
  <dc:subject/>
  <dc:title>Слайд 1</dc:title>
</cp:coreProperties>
</file>