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19.wav" ContentType="audio/x-wav"/>
  <Override PartName="/ppt/media/image6.jpeg" ContentType="image/jpeg"/>
  <Override PartName="/ppt/media/image5.jpeg" ContentType="image/jpeg"/>
  <Override PartName="/ppt/media/image7.jpeg" ContentType="image/jpeg"/>
  <Override PartName="/ppt/media/10.wav" ContentType="audio/x-wav"/>
  <Override PartName="/ppt/media/image12.jpeg" ContentType="image/jpeg"/>
  <Override PartName="/ppt/media/24.wav" ContentType="audio/x-wav"/>
  <Override PartName="/ppt/media/image11.jpeg" ContentType="image/jpeg"/>
  <Override PartName="/ppt/media/image9.jpeg" ContentType="image/jpeg"/>
  <Override PartName="/ppt/media/%D1%81%D0%BA%D0%B0%D0%B7%D0%BA%D0%B0.wav" ContentType="audio/x-wav"/>
  <Override PartName="/ppt/media/image1.jpeg" ContentType="image/jpeg"/>
  <Override PartName="/ppt/media/40.wav" ContentType="audio/x-wav"/>
  <Override PartName="/ppt/media/%D0%B6%D0%B8%D0%BB%D0%B8%D0%B1%D1%8B%D0%BB%D0%B8.wav" ContentType="audio/x-wav"/>
  <Override PartName="/ppt/media/image3.jpeg" ContentType="image/jpeg"/>
  <Override PartName="/ppt/media/44.wav" ContentType="audio/x-wav"/>
  <Override PartName="/ppt/media/image2.jpeg" ContentType="image/jpeg"/>
  <Override PartName="/ppt/media/image4.jpeg" ContentType="image/jpeg"/>
  <Override PartName="/ppt/media/16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323-A43F-4CED-BAA9-982C605B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2FE-BB47-4698-BF13-069E4528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FD5-73C7-435E-B966-581D9CC1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5EF-D500-4A0B-930D-184B2CFF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BD39-D079-4427-91B1-8F02595E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DBF8-6E45-44A0-9E12-FEF1BA13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B56E-0823-45DF-A5F8-B7409AC6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F6C3-2946-46E8-AB85-C52E04EA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AB4C-37C4-43E3-9BD0-3C35C0E7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2141-0B0D-45D3-A766-50405B88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C42B-B960-4148-BEEA-561AEFF8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7CFF-92AD-453D-96F7-A666BBE9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7EE0-1D2B-46B1-A758-521929F7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6C91-59AF-4AD5-97C7-A1E5655F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B365-42D1-469A-90CA-AB5A46C1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A8B7-76D2-4359-AE4F-4210D3C3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ADAB-5F7F-4F55-95BB-571036CB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D7C-9733-4ED2-AA8D-61F4D050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696-F85C-46E4-B8CF-B44EBA02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F70-15EF-42C8-A5D8-BBECAD47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250D-3349-4B84-897F-12FE92B1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03C-F3A6-4D45-B7B8-B1D54A3D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3CF3-4BFB-40B8-BFBE-29762EF0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3AC-886C-4D8B-9D09-9B1CE885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C1D5-7B1D-4B0C-A53B-C156E41C63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8E6E-4899-4E1E-9729-CFAF807A5B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&#1089;&#1082;&#1072;&#1079;&#1082;&#1072;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16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19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24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16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40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44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&#1078;&#1080;&#1083;&#1080;&#1073;&#1099;&#1083;&#1080;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10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51868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ru-RU" sz="8800" spc="-1" strike="noStrike">
                <a:solidFill>
                  <a:srgbClr val="ffffb7"/>
                </a:solidFill>
                <a:latin typeface="Arial Black"/>
              </a:rPr>
              <a:t>Кот, петух и                    лиса</a:t>
            </a:r>
            <a:br>
              <a:rPr sz="88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сказ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-120600" y="0"/>
            <a:ext cx="9385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Петушок испугался и запел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«Несёт меня лиса за тёмные леса, за высокие горы! Котик-братик выручи меня!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Кот недалеко был, услых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Помчался за Лисой, отнял Петушка и принес дом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сканирование0012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59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На другой день собирается Кот на охоту и говорит Петушку: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«Смотри, Петя, не выглядывай в окошко, не слушай Лису. Я сегодня далеко на охоту пойду, кричать будешь – не услышу. А Лиса тебя унесет, съест и косточек не оставит».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Ушёл кот, а лиса уж тут как тут. Уселась под окошком и запела: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«Петушок, петушок, золотой гребешок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ыгляни в  окошко – дам тебе горошка»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етушок слушает и не высовывается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Лиса схитрила: «ТЫ чего, Петя, гордый стал? Смотри, сколько у меня гороха. Куда ж мне его девать?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5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-120600" y="0"/>
            <a:ext cx="9385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Петушок испугался и запел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«Несёт меня лиса за тёмные леса, за высокие горы! Котик-братик выручи меня!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Да только теперь не услышал его Кот. Унесла Лиса Петушка к себе домой и стала к обеду готовить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Приходит Кот домой, а Петушка нет. Погоревал да и решил – надо выручать Петуш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сканирование0009"/>
          <p:cNvPicPr/>
          <p:nvPr/>
        </p:nvPicPr>
        <p:blipFill>
          <a:blip r:embed="rId1"/>
          <a:stretch/>
        </p:blipFill>
        <p:spPr>
          <a:xfrm>
            <a:off x="1835280" y="0"/>
            <a:ext cx="548136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зял кот бубен и отправился к лисе. Да друзей взял. Встали все под окном и поют: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«Во кузице молодые кузнецы.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ни куют, приговаривают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ойдем, Дуня, во лесок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орвем Дуне лопушок»!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Лиса музыку услышала и велела Петушку выглянуть в окошко – посмотреть, кто там песни распевает под окно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копили"/>
          <p:cNvPicPr/>
          <p:nvPr/>
        </p:nvPicPr>
        <p:blipFill>
          <a:blip r:embed="rId1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сканирование0013"/>
          <p:cNvPicPr/>
          <p:nvPr/>
        </p:nvPicPr>
        <p:blipFill>
          <a:blip r:embed="rId1"/>
          <a:stretch/>
        </p:blipFill>
        <p:spPr>
          <a:xfrm>
            <a:off x="1074600" y="92160"/>
            <a:ext cx="6994800" cy="667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етушок выскочил на крыльцо, а кот схватил его да понёс домой, что было мочи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 тех пор Кот и Петушок опять вместе живут. А Лиса к ним больше не показывается.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85120" cy="592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Жили-были кот да петух.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т рано утром на охоту ходил, а Петя-Петушок оставался дом стеречь.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се в доме подметет, сядет и Кота ждет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сканирование0004"/>
          <p:cNvPicPr/>
          <p:nvPr/>
        </p:nvPicPr>
        <p:blipFill>
          <a:blip r:embed="rId1"/>
          <a:stretch/>
        </p:blipFill>
        <p:spPr>
          <a:xfrm>
            <a:off x="755640" y="-12600"/>
            <a:ext cx="763272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сканирование0014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755640" y="274680"/>
            <a:ext cx="75614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42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Бежала как-то мимо лиса, увидела петуха, села под окошко да и запела: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«Петушок, петушок, золотой гребешок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ыгляни в окошко-дам тебе горошка»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етушок выглянул, а она его – Цап! – схватила и унесла в лес.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468360" y="189000"/>
            <a:ext cx="8136000" cy="63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7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08:20:48Z</dcterms:created>
  <dc:creator>Леванович Мила</dc:creator>
  <dc:description/>
  <dc:language>en-US</dc:language>
  <cp:lastModifiedBy>Катерина</cp:lastModifiedBy>
  <dcterms:modified xsi:type="dcterms:W3CDTF">2017-06-11T07:39:41Z</dcterms:modified>
  <cp:revision>14</cp:revision>
  <dc:subject/>
  <dc:title>Кот, петух и лиса   сказка</dc:title>
</cp:coreProperties>
</file>