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19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media/10.wav" ContentType="audio/x-wav"/>
  <Override PartName="/ppt/media/image12.jpeg" ContentType="image/jpeg"/>
  <Override PartName="/ppt/media/24.wav" ContentType="audio/x-wav"/>
  <Override PartName="/ppt/media/image11.jpeg" ContentType="image/jpeg"/>
  <Override PartName="/ppt/media/image9.jpeg" ContentType="image/jpeg"/>
  <Override PartName="/ppt/media/%D1%81%D0%BA%D0%B0%D0%B7%D0%BA%D0%B0.wav" ContentType="audio/x-wav"/>
  <Override PartName="/ppt/media/image1.jpeg" ContentType="image/jpeg"/>
  <Override PartName="/ppt/media/40.wav" ContentType="audio/x-wav"/>
  <Override PartName="/ppt/media/%D0%B6%D0%B8%D0%BB%D0%B8%D0%B1%D1%8B%D0%BB%D0%B8.wav" ContentType="audio/x-wav"/>
  <Override PartName="/ppt/media/image3.jpeg" ContentType="image/jpeg"/>
  <Override PartName="/ppt/media/44.wav" ContentType="audio/x-wav"/>
  <Override PartName="/ppt/media/image2.jpeg" ContentType="image/jpeg"/>
  <Override PartName="/ppt/media/image4.jpeg" ContentType="image/jpeg"/>
  <Override PartName="/ppt/media/1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739-FCD5-449E-9D84-EE9253B5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103-C8BA-4BCD-BC5C-12960F7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978-EDE9-432A-A45A-0F1905A0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236-856B-4AEC-A581-67B4DE6D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A5A-67D4-481A-A216-2DDD153D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F831-21BB-4BE9-9C46-3BC6B95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75DF-75B7-46D6-AA0A-EDB21ABE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446-4480-4A30-94B4-568E07F5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B41D-4F32-49E8-8A65-AE0DA5B8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8CF7-1B39-40BC-A277-E370CD6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AC5-0616-4F34-9384-237C614E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AA4-12B1-4CA1-82BE-98D4A0E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4E78-8892-4818-906E-3E28327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BB34-5864-41D2-B0A2-A86C5A5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F8BF-0998-4830-8BF6-E6D542FD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FF79-53EC-4B7B-BD98-0A0968FF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612-E0D5-47DC-907F-094C202B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841-D812-4AFD-9FDE-FB2DD36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59D-54E3-4A80-B337-F2B6E1ED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A36-3A8F-45F6-8F21-F36CC5BA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4FF-FB84-4B88-83A5-CDED5B19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F35-BF8D-4CC5-87EE-FDA495D8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E0E-CC91-43E4-A154-22D62C3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320-D814-4683-877A-6455F5A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93DC-66B2-46E1-A1AA-5F090A8D0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B39A-C77E-4A1B-9E75-90C4E60320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&#1089;&#1082;&#1072;&#1079;&#1082;&#1072;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16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19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24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16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40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44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&#1078;&#1080;&#1083;&#1080;&#1073;&#1099;&#1083;&#1080;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10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51868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Кот, петух и                    лиса</a:t>
            </a:r>
            <a:br>
              <a:rPr sz="88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сказ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-120600" y="0"/>
            <a:ext cx="938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етушок испугался и запе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«Несёт меня лиса за тёмные леса, за высокие горы! Котик-братик выручи меня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Кот недалеко был, услых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омчался за Лисой, отнял Петушка и принес дом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сканирование0012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9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а другой день собирается Кот на охоту и говорит Петушку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Смотри, Петя, не выглядывай в окошко, не слушай Лису. Я сегодня далеко на охоту пойду, кричать будешь – не услышу. А Лиса тебя унесет, съест и косточек не оставит»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шёл кот, а лиса уж тут как тут. Уселась под окошком и запела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Петушок, петушок, золотой гребешок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ыгляни в  окошко – дам тебе горошка»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етушок слушает и не высовывается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иса схитрила: «ТЫ чего, Петя, гордый стал? Смотри, сколько у меня гороха. Куда ж мне его девать?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-120600" y="0"/>
            <a:ext cx="9385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етушок испугался и запе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«Несёт меня лиса за тёмные леса, за высокие горы! Котик-братик выручи меня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Да только теперь не услышал его Кот. Унесла Лиса Петушка к себе домой и стала к обеду готовит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"/>
              </a:rPr>
              <a:t>Приходит Кот домой, а Петушка нет. Погоревал да и решил – надо выручать Петуш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сканирование0009"/>
          <p:cNvPicPr/>
          <p:nvPr/>
        </p:nvPicPr>
        <p:blipFill>
          <a:blip r:embed="rId1"/>
          <a:stretch/>
        </p:blipFill>
        <p:spPr>
          <a:xfrm>
            <a:off x="1835280" y="0"/>
            <a:ext cx="548136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зял кот бубен и отправился к лисе. Да друзей взял. Встали все под окном и поют: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Во кузице молодые кузнецы.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ни куют, приговаривают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йдем, Дуня, во лесок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орвем Дуне лопушок»!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иса музыку услышала и велела Петушку выглянуть в окошко – посмотреть, кто там песни распевает под окн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опили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сканирование0013"/>
          <p:cNvPicPr/>
          <p:nvPr/>
        </p:nvPicPr>
        <p:blipFill>
          <a:blip r:embed="rId1"/>
          <a:stretch/>
        </p:blipFill>
        <p:spPr>
          <a:xfrm>
            <a:off x="1074600" y="92160"/>
            <a:ext cx="6994800" cy="66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етушок выскочил на крыльцо, а кот схватил его да понёс домой, что было мочи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 тех пор Кот и Петушок опять вместе живут. А Лиса к ним больше не показывается.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Жили-были кот да петух.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т рано утром на охоту ходил, а Петя-Петушок оставался дом стеречь.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се в доме подметет, сядет и Кота ждет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755640" y="-12600"/>
            <a:ext cx="763272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сканирование0014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755640" y="274680"/>
            <a:ext cx="75614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42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Бежала как-то мимо лиса, увидела петуха, села под окошко да и запела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Петушок, петушок, золотой гребешок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ыгляни в окошко-дам тебе горошка».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етушок выглянул, а она его – Цап! – схватила и унесла в лес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63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7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8:20:48Z</dcterms:created>
  <dc:creator>Леванович Мила</dc:creator>
  <dc:description/>
  <dc:language>en-US</dc:language>
  <cp:lastModifiedBy>Катерина</cp:lastModifiedBy>
  <dcterms:modified xsi:type="dcterms:W3CDTF">2017-06-11T07:39:41Z</dcterms:modified>
  <cp:revision>14</cp:revision>
  <dc:subject/>
  <dc:title>Кот, петух и лиса   сказка</dc:title>
</cp:coreProperties>
</file>