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83A-A0EB-4321-B1A0-94E7D460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541-ED23-4110-8625-55EE3F11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DC7-BB34-43F3-B25A-AEFBFFB7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3DE-DF89-4FBE-888A-D3AAF726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1DF-EDEF-4917-8840-4F9D6074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93C-BCBD-4732-9BAF-F5582C0F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26F-4067-4D23-8223-A7EA21C0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856-68E9-4B4F-BE09-11074D80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04D-BBA8-49EF-A8D6-9F5AC8B4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9B1-5D3B-4DDC-8A1A-5DBA54DE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176-447C-4FDF-A354-3B092524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DC7-1CA7-4B45-AC4C-4120604E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E21A-25B6-4C77-A07A-DABA5BFBB4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29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ное чтение  УМК «Школа 2100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клас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оград . 1923 год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дакция «Воробья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. Житков и С. 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  <a:ea typeface="BatangChe"/>
              </a:rPr>
              <a:t>Выполнила учитель начальных классов МОУ «СОШ №7 г.Ртищево Саратов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  <a:ea typeface="BatangChe"/>
              </a:rPr>
              <a:t>Пуговкина Е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иги уч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D:\леночка\картинки\как-задавать-вопросы.jpg"/>
          <p:cNvPicPr/>
          <p:nvPr/>
        </p:nvPicPr>
        <p:blipFill>
          <a:blip r:embed="rId1"/>
          <a:stretch/>
        </p:blipFill>
        <p:spPr>
          <a:xfrm>
            <a:off x="2414520" y="2043000"/>
            <a:ext cx="43149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5956200" cy="4648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оллектив - Русская летопись (7 Томов) (1921-1925) [PDF]"/>
          <p:cNvPicPr/>
          <p:nvPr/>
        </p:nvPicPr>
        <p:blipFill>
          <a:blip r:embed="rId2"/>
          <a:stretch/>
        </p:blipFill>
        <p:spPr>
          <a:xfrm>
            <a:off x="6629400" y="380880"/>
            <a:ext cx="2066760" cy="292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6095880" y="3324240"/>
            <a:ext cx="28861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ы для дет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а хх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1752480" cy="2730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30286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е детские журналы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1536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чьём разговоре мы присутствовали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такие Самуил Яковлевич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ис Степанович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109_50473"/>
          <p:cNvPicPr/>
          <p:nvPr/>
        </p:nvPicPr>
        <p:blipFill>
          <a:blip r:embed="rId1"/>
          <a:stretch/>
        </p:blipFill>
        <p:spPr>
          <a:xfrm>
            <a:off x="0" y="914400"/>
            <a:ext cx="2438280" cy="332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498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ри́с Степа́нович Житко́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30 августа (11 сентября) 1882 года, Новгород — 19 октября 1938 года, Москва) — русский и советский писатель, прозаик, педагог, путешественник и исследователь. Автор популярных приключенческих рассказов и повестей, произведений о животных и романа о революции 190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143160" y="2263680"/>
            <a:ext cx="2857680" cy="3198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296064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6326280" y="2819520"/>
            <a:ext cx="2817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ович Чуковский</a:t>
            </a: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колай Корнейчу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930400" y="1600200"/>
            <a:ext cx="32832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0" y="1752480"/>
            <a:ext cx="2857680" cy="28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6629400" y="2743200"/>
            <a:ext cx="19051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6" name="Oval 5"/>
          <p:cNvSpPr/>
          <p:nvPr/>
        </p:nvSpPr>
        <p:spPr>
          <a:xfrm>
            <a:off x="152280" y="1981080"/>
            <a:ext cx="4114800" cy="1447920"/>
          </a:xfrm>
          <a:prstGeom prst="ellipse">
            <a:avLst/>
          </a:prstGeom>
          <a:solidFill>
            <a:srgbClr val="ff99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.И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2514600" y="4038480"/>
            <a:ext cx="4114800" cy="1447920"/>
          </a:xfrm>
          <a:prstGeom prst="ellipse">
            <a:avLst/>
          </a:prstGeom>
          <a:solidFill>
            <a:srgbClr val="ff99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.С. Жи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4876920" y="1371600"/>
            <a:ext cx="4114800" cy="1447920"/>
          </a:xfrm>
          <a:prstGeom prst="ellipse">
            <a:avLst/>
          </a:prstGeom>
          <a:solidFill>
            <a:srgbClr val="ff99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.Я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3352680" y="5562720"/>
            <a:ext cx="2514600" cy="1143000"/>
          </a:xfrm>
          <a:prstGeom prst="upArrowCallout">
            <a:avLst>
              <a:gd name="adj1" fmla="val 55005"/>
              <a:gd name="adj2" fmla="val 55000"/>
              <a:gd name="adj3" fmla="val 16667"/>
              <a:gd name="adj4" fmla="val 66660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сал «морско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дл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457200" y="228600"/>
            <a:ext cx="3048120" cy="1676520"/>
          </a:xfrm>
          <a:prstGeom prst="downArrowCallout">
            <a:avLst>
              <a:gd name="adj1" fmla="val 45457"/>
              <a:gd name="adj2" fmla="val 45453"/>
              <a:gd name="adj3" fmla="val 16667"/>
              <a:gd name="adj4" fmla="val 6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друг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 решиться напис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5410080" y="228600"/>
            <a:ext cx="3048120" cy="1143000"/>
          </a:xfrm>
          <a:prstGeom prst="downArrowCallout">
            <a:avLst>
              <a:gd name="adj1" fmla="val 66675"/>
              <a:gd name="adj2" fmla="val 66669"/>
              <a:gd name="adj3" fmla="val 16667"/>
              <a:gd name="adj4" fmla="val 6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а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рнала «Вороб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>
            <a:off x="2666880" y="3505320"/>
            <a:ext cx="60984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H="1">
            <a:off x="5715000" y="3048120"/>
            <a:ext cx="12952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25:08Z</dcterms:created>
  <dc:creator>Мама</dc:creator>
  <dc:description/>
  <dc:language>en-US</dc:language>
  <cp:lastModifiedBy>User</cp:lastModifiedBy>
  <dcterms:modified xsi:type="dcterms:W3CDTF">2017-06-11T17:17:10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