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F44-3307-4C2F-AD75-E4594D2A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225-8A0A-4550-943A-88C7B76E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9C9-EDCF-43CD-92E0-12A0B342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703-5240-4D11-B765-7057F16A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C62-4C3D-4076-86A2-9C15236F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27EA-92CF-4ADD-8CB4-CC7A11A4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D7A-6FE7-4575-95F1-80366D4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FF6-71FD-4AFE-976B-11AA3C6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2227-C65D-4EB5-8D89-62905868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29F-3F1C-4D22-AAFA-7CDF15C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F35F-B293-4D3C-8BF9-8A6EF19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5EC-F870-4801-B0F2-DDBCF045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AB9-798D-490C-AE5A-AA7F891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AB3-DED7-4922-BA9D-6688F3D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828-6FBE-4F59-A417-A994A7A4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89DE-E29D-4296-AFBB-0AD63E12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430-22D8-461E-A957-C7C7A1C7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D97-D9B4-409D-BD57-8B25D5E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5A1-3B19-4F5A-AFA6-279C6CB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977-FED4-4A46-92D6-148DBD5A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DA3-D4B1-4D55-B5A5-FA6ABA5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ECC-6D67-4E34-96C4-9D6A027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97B-E097-4EDC-B1DB-D6D9B1E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948-9A10-468A-9661-72011E7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BF2-4E5F-4AEC-8E19-57B98DE2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D03-261C-4E4E-ACA5-C7DB8CE1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25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aae51"/>
                </a:solidFill>
                <a:latin typeface="Georgia"/>
              </a:rPr>
              <a:t>Home sweet home!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452680" cy="321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5940360" y="1628640"/>
          <a:ext cx="27813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628640"/>
                    <a:ext cx="2781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87640" y="2565360"/>
            <a:ext cx="26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332000" y="1700280"/>
            <a:ext cx="6624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50286"/>
                </a:solidFill>
                <a:latin typeface="Comic Sans MS"/>
              </a:rPr>
              <a:t>Our lesson is ov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50286"/>
                </a:solidFill>
                <a:latin typeface="Comic Sans MS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277920"/>
            <a:ext cx="82821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390c"/>
                </a:solidFill>
                <a:latin typeface="Comic Sans MS"/>
              </a:rPr>
              <a:t>Jim and Jill are in Simon’s house. Listen and guess which room Jim is in now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1546200"/>
            <a:ext cx="892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0c"/>
                </a:solidFill>
                <a:latin typeface="Comic Sans MS"/>
              </a:rPr>
              <a:t>Look at Pavel’s room and answer the questions.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48624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7640" y="1557360"/>
            <a:ext cx="403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1. Is there a sofa in Pavel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2. Is there a window in Pavel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3. Are there any pictures above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4. Is there a clock on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0c"/>
                </a:solidFill>
                <a:latin typeface="Comic Sans MS"/>
              </a:rPr>
              <a:t>Look at Dasha’s room and answer the questions.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22760" cy="489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39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1. Is there a table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2. Are there any armchairs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3. Is there a computer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6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7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4. Are there any chairs next to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8" action="ppaction://hlinksldjump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9" action="ppaction://hlinksldjump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6d18"/>
                </a:solidFill>
                <a:latin typeface="Comic Sans MS"/>
              </a:rPr>
              <a:t>Let’s help Miss Chatter to decorate her living room.</a:t>
            </a:r>
            <a:r>
              <a:rPr b="1" lang="en-US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3141360"/>
            <a:ext cx="8002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Comic Sans MS"/>
              </a:rPr>
              <a:t>There is a carpet in the middle of the room. There is a table on the carpet. There is a chair next to the table. There is a fireplace in the left corner of the room. There is a sofa between the door and the fireplace. There is a picture above the sofa. There is an armchair in the right corner of the room. There is a lamp next to the armchair. There is a shelf above the armchair. There is a TV next to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124000" y="1484280"/>
          <a:ext cx="518328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51832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Ye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Well don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32680" y="1128600"/>
            <a:ext cx="29232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156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Try again, pleas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Well don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Try again, pleas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32:04Z</dcterms:created>
  <dc:creator>я</dc:creator>
  <dc:description/>
  <dc:language>en-US</dc:language>
  <cp:lastModifiedBy>я</cp:lastModifiedBy>
  <dcterms:modified xsi:type="dcterms:W3CDTF">2009-11-04T18:11:42Z</dcterms:modified>
  <cp:revision>11</cp:revision>
  <dc:subject/>
  <dc:title>Слайд 1</dc:title>
</cp:coreProperties>
</file>