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A03-33DA-4366-8926-AA64879B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9515-E474-4D37-A3C2-C6DF8441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B73-4081-4EA3-9C72-807B8038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5A7-BDF4-482B-A2C8-2E1B1550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D597-2670-4AAD-9114-21538D08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F30C-BEC7-4973-9FBD-CEF44DB5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479C-87EC-4D8E-8AF7-B91A8E21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F844-9321-48E5-B1B7-BEA8A29D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BD12-C5AD-4505-9E99-5DE02DAA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5D59-B588-4019-A928-61DE0866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5E82-7ADF-4E44-87AA-4B746B1A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694-ED63-4679-8F19-7328A74A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2ABD-2171-440C-96FE-B56711A1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B7D5-0127-4701-BCCE-F24FB0FE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57E2-A3B8-4F01-8F9D-6BB127EB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119B-67FA-4B80-AFAE-7D375B03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BD65-70B1-4D16-8022-804DF5F2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918-E319-4CEA-A729-D498CFBB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FB5A-FA6D-4C80-ABD8-098A1702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02B-12D9-412C-B2B8-751F92E2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CBAC-659A-49B6-B246-ACB84BAE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20C-E566-4C37-BE64-B9798478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935-5F1E-4312-93B0-3BC926F1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410-832E-4E46-9008-C8B77A40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E616-A106-4023-9C7D-82045D571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0C40-BC5D-4AD4-B719-E15C3C74D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9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425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aae51"/>
                </a:solidFill>
                <a:latin typeface="Georgia"/>
              </a:rPr>
              <a:t>Home sweet home!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2452680" cy="321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5940360" y="1628640"/>
          <a:ext cx="278136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628640"/>
                    <a:ext cx="27813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987640" y="2565360"/>
            <a:ext cx="266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0" y="6480"/>
          <a:ext cx="9144000" cy="68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914400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332000" y="1700280"/>
            <a:ext cx="66247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50286"/>
                </a:solidFill>
                <a:latin typeface="Comic Sans MS"/>
              </a:rPr>
              <a:t>Our lesson is ov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50286"/>
                </a:solidFill>
                <a:latin typeface="Comic Sans MS"/>
              </a:rPr>
              <a:t>Thank you very much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6560" y="277920"/>
            <a:ext cx="828216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390c"/>
                </a:solidFill>
                <a:latin typeface="Comic Sans MS"/>
              </a:rPr>
              <a:t>Jim and Jill are in Simon’s house. Listen and guess which room Jim is in now.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8000" y="1546200"/>
            <a:ext cx="89280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0c"/>
                </a:solidFill>
                <a:latin typeface="Comic Sans MS"/>
              </a:rPr>
              <a:t>Look at Pavel’s room and answer the questions.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486240" cy="4897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27640" y="1557360"/>
            <a:ext cx="4032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d0a"/>
                </a:solidFill>
                <a:latin typeface="Comic Sans MS"/>
              </a:rPr>
              <a:t>1. Is there a sofa in Pavel’s ro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2" action="ppaction://hlinksldjump"/>
              </a:rPr>
              <a:t>Yes, there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3" action="ppaction://hlinksldjump"/>
              </a:rPr>
              <a:t>No, there is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d0a"/>
                </a:solidFill>
                <a:latin typeface="Comic Sans MS"/>
              </a:rPr>
              <a:t>2. Is there a window in Pavel’s ro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d0a"/>
                </a:solidFill>
                <a:latin typeface="Comic Sans MS"/>
              </a:rPr>
              <a:t>Yes, there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d0a"/>
                </a:solidFill>
                <a:latin typeface="Comic Sans MS"/>
              </a:rPr>
              <a:t>No, there is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d0a"/>
                </a:solidFill>
                <a:latin typeface="Comic Sans MS"/>
              </a:rPr>
              <a:t>3. Are there any pictures above the tabl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d0a"/>
                </a:solidFill>
                <a:latin typeface="Comic Sans MS"/>
              </a:rPr>
              <a:t>Yes, there 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d0a"/>
                </a:solidFill>
                <a:latin typeface="Comic Sans MS"/>
              </a:rPr>
              <a:t>No, there are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d0a"/>
                </a:solidFill>
                <a:latin typeface="Comic Sans MS"/>
              </a:rPr>
              <a:t>4. Is there a clock on the tabl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d0a"/>
                </a:solidFill>
                <a:latin typeface="Comic Sans MS"/>
              </a:rPr>
              <a:t>Yes, there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d0a"/>
                </a:solidFill>
                <a:latin typeface="Comic Sans MS"/>
              </a:rPr>
              <a:t>No, there is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0c"/>
                </a:solidFill>
                <a:latin typeface="Comic Sans MS"/>
              </a:rPr>
              <a:t>Look at Dasha’s room and answer the questions.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722760" cy="4896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00360" y="1628280"/>
            <a:ext cx="4392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90c"/>
                </a:solidFill>
                <a:latin typeface="Comic Sans MS"/>
              </a:rPr>
              <a:t>1. Is there a table in Dasha’s ro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2" action="ppaction://hlinksldjump"/>
              </a:rPr>
              <a:t>Yes, there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3" action="ppaction://hlinksldjump"/>
              </a:rPr>
              <a:t>No, there is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90c"/>
                </a:solidFill>
                <a:latin typeface="Comic Sans MS"/>
              </a:rPr>
              <a:t>2. Are there any armchairs in Dasha’s ro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4" action="ppaction://hlinksldjump"/>
              </a:rPr>
              <a:t>Yes, there 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5" action="ppaction://hlinksldjump"/>
              </a:rPr>
              <a:t>No, there are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90c"/>
                </a:solidFill>
                <a:latin typeface="Comic Sans MS"/>
              </a:rPr>
              <a:t>3. Is there a computer in Dasha’s ro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6" action="ppaction://hlinksldjump"/>
              </a:rPr>
              <a:t>Yes, there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7" action="ppaction://hlinksldjump"/>
              </a:rPr>
              <a:t>No, there is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90c"/>
                </a:solidFill>
                <a:latin typeface="Comic Sans MS"/>
              </a:rPr>
              <a:t>4. Are there any chairs next to the tabl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8" action="ppaction://hlinksldjump"/>
              </a:rPr>
              <a:t>Yes, there 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9" action="ppaction://hlinksldjump"/>
              </a:rPr>
              <a:t>No, there are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26d18"/>
                </a:solidFill>
                <a:latin typeface="Comic Sans MS"/>
              </a:rPr>
              <a:t>Let’s help Miss Chatter to decorate her living room.</a:t>
            </a:r>
            <a:r>
              <a:rPr b="1" lang="en-US" sz="28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3141360"/>
            <a:ext cx="8002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6d18"/>
                </a:solidFill>
                <a:latin typeface="Comic Sans MS"/>
              </a:rPr>
              <a:t>There is a carpet in the middle of the room. There is a table on the carpet. There is a chair next to the table. There is a fireplace in the left corner of the room. There is a sofa between the door and the fireplace. There is a picture above the sofa. There is an armchair in the right corner of the room. There is a lamp next to the armchair. There is a shelf above the armchair. There is a TV next to the wind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124000" y="1484280"/>
          <a:ext cx="518328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84280"/>
                    <a:ext cx="518328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90756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0000"/>
                </a:solidFill>
                <a:uFillTx/>
                <a:latin typeface="Comic Sans MS"/>
                <a:hlinkClick r:id="rId1" action="ppaction://hlinksldjump"/>
              </a:rPr>
              <a:t>Yes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0000"/>
                </a:solidFill>
                <a:uFillTx/>
                <a:latin typeface="Comic Sans MS"/>
                <a:hlinkClick r:id="rId2" action="ppaction://hlinksldjump"/>
              </a:rPr>
              <a:t>Well done!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032680" y="1128600"/>
            <a:ext cx="29232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156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0000"/>
                </a:solidFill>
                <a:uFillTx/>
                <a:latin typeface="Comic Sans MS"/>
                <a:hlinkClick r:id="rId1" action="ppaction://hlinksldjump"/>
              </a:rPr>
              <a:t>NO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0000"/>
                </a:solidFill>
                <a:uFillTx/>
                <a:latin typeface="Comic Sans MS"/>
                <a:hlinkClick r:id="rId2" action="ppaction://hlinksldjump"/>
              </a:rPr>
              <a:t>Try again, please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Well done!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NO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Try again, please!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32:04Z</dcterms:created>
  <dc:creator>я</dc:creator>
  <dc:description/>
  <dc:language>en-US</dc:language>
  <cp:lastModifiedBy>я</cp:lastModifiedBy>
  <dcterms:modified xsi:type="dcterms:W3CDTF">2009-11-04T18:11:42Z</dcterms:modified>
  <cp:revision>11</cp:revision>
  <dc:subject/>
  <dc:title>Слайд 1</dc:title>
</cp:coreProperties>
</file>