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%D1%84%D0%B0%D0%BD%D1%84%D0%B0%D1%80%D1%8B.wav" ContentType="audio/x-wav"/>
  <Override PartName="/ppt/media/%D1%81%D0%BC%D0%B5%D1%85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99D-72E5-4F1B-8EFC-047A9A8F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E79-321D-497F-B8AF-79AF930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464-0755-413F-9CBA-77FC1864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483-DEAA-456A-9841-594C23CF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0F3-B131-46C5-AFAC-675C53F9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18B-6918-4313-937C-1E1476C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26C-91FD-411F-87A3-06FBB97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AC4-F505-41F6-9CC4-A483A267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63D-9BA7-4A17-97B6-F0501FF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E62-2CB9-4D53-82A6-8516171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EF7-A211-4FA6-8B41-9D07038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696-3EF3-41D1-9F90-A485BF19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8C87-2A0D-49C5-BF2F-4D64AF0AD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>
            <a:hlinkClick r:id="rId1" action="ppaction://hlinksldjump"/>
          </p:cNvPr>
          <p:cNvSpPr/>
          <p:nvPr/>
        </p:nvSpPr>
        <p:spPr>
          <a:xfrm>
            <a:off x="179280" y="241200"/>
            <a:ext cx="503280" cy="647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91">
                <a:moveTo>
                  <a:pt x="0" y="0"/>
                </a:moveTo>
                <a:lnTo>
                  <a:pt x="21600" y="0"/>
                </a:lnTo>
                <a:lnTo>
                  <a:pt x="21600" y="27791"/>
                </a:lnTo>
                <a:lnTo>
                  <a:pt x="0" y="27791"/>
                </a:lnTo>
                <a:close/>
              </a:path>
              <a:path fill="lightenLess" w="21600" h="27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91">
                <a:moveTo>
                  <a:pt x="21600" y="0"/>
                </a:moveTo>
                <a:lnTo>
                  <a:pt x="21600" y="27791"/>
                </a:lnTo>
                <a:lnTo>
                  <a:pt x="20200" y="26391"/>
                </a:lnTo>
                <a:lnTo>
                  <a:pt x="20200" y="1400"/>
                </a:lnTo>
                <a:close/>
              </a:path>
              <a:path fill="darkenLess" w="21600" h="27791">
                <a:moveTo>
                  <a:pt x="21600" y="27791"/>
                </a:moveTo>
                <a:lnTo>
                  <a:pt x="0" y="27791"/>
                </a:lnTo>
                <a:lnTo>
                  <a:pt x="1400" y="26391"/>
                </a:lnTo>
                <a:lnTo>
                  <a:pt x="20200" y="26391"/>
                </a:lnTo>
                <a:close/>
              </a:path>
              <a:path fill="lighten" w="21600" h="27791">
                <a:moveTo>
                  <a:pt x="0" y="27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91"/>
                </a:lnTo>
                <a:close/>
              </a:path>
              <a:path fill="darkenLess" w="21600" h="27791">
                <a:moveTo>
                  <a:pt x="5273" y="7081"/>
                </a:moveTo>
                <a:lnTo>
                  <a:pt x="12271" y="7081"/>
                </a:lnTo>
                <a:lnTo>
                  <a:pt x="16327" y="10580"/>
                </a:lnTo>
                <a:lnTo>
                  <a:pt x="16327" y="20711"/>
                </a:lnTo>
                <a:lnTo>
                  <a:pt x="5273" y="20711"/>
                </a:lnTo>
                <a:close/>
              </a:path>
              <a:path fill="darken" w="21600" h="27791">
                <a:moveTo>
                  <a:pt x="12271" y="7081"/>
                </a:moveTo>
                <a:lnTo>
                  <a:pt x="16327" y="10580"/>
                </a:lnTo>
                <a:lnTo>
                  <a:pt x="12271" y="1058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716360" y="1646280"/>
            <a:ext cx="3095640" cy="1191240"/>
          </a:xfrm>
          <a:prstGeom prst="rect">
            <a:avLst/>
          </a:prstGeom>
          <a:solidFill>
            <a:srgbClr val="99ff6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«Помоги Матроск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бидон с молоком"/>
          <p:cNvPicPr/>
          <p:nvPr/>
        </p:nvPicPr>
        <p:blipFill>
          <a:blip r:embed="rId2"/>
          <a:stretch/>
        </p:blipFill>
        <p:spPr>
          <a:xfrm>
            <a:off x="2484360" y="5013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бидон с молоком"/>
          <p:cNvPicPr/>
          <p:nvPr/>
        </p:nvPicPr>
        <p:blipFill>
          <a:blip r:embed="rId3"/>
          <a:stretch/>
        </p:blipFill>
        <p:spPr>
          <a:xfrm>
            <a:off x="2916360" y="465300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бидон с молоком"/>
          <p:cNvPicPr/>
          <p:nvPr/>
        </p:nvPicPr>
        <p:blipFill>
          <a:blip r:embed="rId4"/>
          <a:stretch/>
        </p:blipFill>
        <p:spPr>
          <a:xfrm>
            <a:off x="2987640" y="5157720"/>
            <a:ext cx="503280" cy="48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5076720" y="7524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актив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832280" y="2914560"/>
            <a:ext cx="297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жение и вычитание чисел в пределах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1979640" y="1989000"/>
            <a:ext cx="2160720" cy="1152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цева Ирина, 201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55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58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61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41416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3-4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4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68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71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74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5-7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17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81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84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87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241416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7-9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9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94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97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200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4-9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5219640" y="2349360"/>
            <a:ext cx="2521080" cy="122580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20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207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210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213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1-7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236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220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223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226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2-3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219640" y="2349360"/>
            <a:ext cx="2400480" cy="122580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25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 flipH="1">
            <a:off x="4787280" y="620640"/>
            <a:ext cx="2950920" cy="2448000"/>
          </a:xfrm>
          <a:prstGeom prst="cloudCallout">
            <a:avLst>
              <a:gd name="adj1" fmla="val 42412"/>
              <a:gd name="adj2" fmla="val 97078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 flipH="1">
            <a:off x="2627280" y="2205000"/>
            <a:ext cx="2449440" cy="1728720"/>
          </a:xfrm>
          <a:prstGeom prst="cloudCallout">
            <a:avLst>
              <a:gd name="adj1" fmla="val 59652"/>
              <a:gd name="adj2" fmla="val 88750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71640" y="200808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148360" y="105264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пейте молоко, будете здоро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4" descr="бидон с молоком"/>
          <p:cNvPicPr/>
          <p:nvPr/>
        </p:nvPicPr>
        <p:blipFill>
          <a:blip r:embed="rId1"/>
          <a:stretch/>
        </p:blipFill>
        <p:spPr>
          <a:xfrm>
            <a:off x="2340000" y="5445000"/>
            <a:ext cx="503280" cy="48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бидон с молоком"/>
          <p:cNvPicPr/>
          <p:nvPr/>
        </p:nvPicPr>
        <p:blipFill>
          <a:blip r:embed="rId2"/>
          <a:stretch/>
        </p:blipFill>
        <p:spPr>
          <a:xfrm>
            <a:off x="2484360" y="5013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бидон с молоком"/>
          <p:cNvPicPr/>
          <p:nvPr/>
        </p:nvPicPr>
        <p:blipFill>
          <a:blip r:embed="rId3"/>
          <a:stretch/>
        </p:blipFill>
        <p:spPr>
          <a:xfrm>
            <a:off x="2843280" y="551664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бидон с молоком"/>
          <p:cNvPicPr/>
          <p:nvPr/>
        </p:nvPicPr>
        <p:blipFill>
          <a:blip r:embed="rId4"/>
          <a:stretch/>
        </p:blipFill>
        <p:spPr>
          <a:xfrm>
            <a:off x="2916360" y="5013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бидон с молоком"/>
          <p:cNvPicPr/>
          <p:nvPr/>
        </p:nvPicPr>
        <p:blipFill>
          <a:blip r:embed="rId5"/>
          <a:stretch/>
        </p:blipFill>
        <p:spPr>
          <a:xfrm>
            <a:off x="3419640" y="5013360"/>
            <a:ext cx="502920" cy="48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бидон с молоком"/>
          <p:cNvPicPr/>
          <p:nvPr/>
        </p:nvPicPr>
        <p:blipFill>
          <a:blip r:embed="rId6"/>
          <a:stretch/>
        </p:blipFill>
        <p:spPr>
          <a:xfrm>
            <a:off x="3276720" y="5445000"/>
            <a:ext cx="503280" cy="4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бидон с молоком"/>
          <p:cNvPicPr/>
          <p:nvPr/>
        </p:nvPicPr>
        <p:blipFill>
          <a:blip r:embed="rId7"/>
          <a:stretch/>
        </p:blipFill>
        <p:spPr>
          <a:xfrm>
            <a:off x="395280" y="6237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2" descr="бидон с молоком"/>
          <p:cNvPicPr/>
          <p:nvPr/>
        </p:nvPicPr>
        <p:blipFill>
          <a:blip r:embed="rId8"/>
          <a:stretch/>
        </p:blipFill>
        <p:spPr>
          <a:xfrm>
            <a:off x="324000" y="5661000"/>
            <a:ext cx="502920" cy="48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3" descr="бидон с молоком"/>
          <p:cNvPicPr/>
          <p:nvPr/>
        </p:nvPicPr>
        <p:blipFill>
          <a:blip r:embed="rId9"/>
          <a:stretch/>
        </p:blipFill>
        <p:spPr>
          <a:xfrm>
            <a:off x="0" y="6021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бидон с молоком"/>
          <p:cNvPicPr/>
          <p:nvPr/>
        </p:nvPicPr>
        <p:blipFill>
          <a:blip r:embed="rId10"/>
          <a:stretch/>
        </p:blipFill>
        <p:spPr>
          <a:xfrm>
            <a:off x="755640" y="6372360"/>
            <a:ext cx="503280" cy="485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25">
            <a:hlinkClick r:id="" action="ppaction://hlinkshowjump?jump=endshow"/>
          </p:cNvPr>
          <p:cNvSpPr/>
          <p:nvPr/>
        </p:nvSpPr>
        <p:spPr>
          <a:xfrm>
            <a:off x="1908000" y="1773360"/>
            <a:ext cx="538200" cy="62064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620640"/>
              <a:gd name="textAreaBottom" fmla="*/ 586080 h 620640"/>
            </a:gdLst>
            <a:ahLst/>
            <a:rect l="textAreaLeft" t="textAreaTop" r="textAreaRight" b="textAreaBottom"/>
            <a:pathLst>
              <a:path w="21600" h="24906">
                <a:moveTo>
                  <a:pt x="0" y="0"/>
                </a:moveTo>
                <a:lnTo>
                  <a:pt x="21600" y="0"/>
                </a:lnTo>
                <a:lnTo>
                  <a:pt x="21600" y="24906"/>
                </a:lnTo>
                <a:lnTo>
                  <a:pt x="0" y="24906"/>
                </a:lnTo>
                <a:close/>
              </a:path>
              <a:path fill="lightenLess" w="21600" h="249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6">
                <a:moveTo>
                  <a:pt x="21600" y="0"/>
                </a:moveTo>
                <a:lnTo>
                  <a:pt x="21600" y="24906"/>
                </a:lnTo>
                <a:lnTo>
                  <a:pt x="20200" y="23506"/>
                </a:lnTo>
                <a:lnTo>
                  <a:pt x="20200" y="1400"/>
                </a:lnTo>
                <a:close/>
              </a:path>
              <a:path fill="darkenLess" w="21600" h="24906">
                <a:moveTo>
                  <a:pt x="21600" y="24906"/>
                </a:moveTo>
                <a:lnTo>
                  <a:pt x="0" y="24906"/>
                </a:lnTo>
                <a:lnTo>
                  <a:pt x="1400" y="23506"/>
                </a:lnTo>
                <a:lnTo>
                  <a:pt x="20200" y="23506"/>
                </a:lnTo>
                <a:close/>
              </a:path>
              <a:path fill="lighten" w="21600" h="24906">
                <a:moveTo>
                  <a:pt x="0" y="249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6"/>
                </a:lnTo>
                <a:close/>
              </a:path>
              <a:path fill="darken" w="21600" h="24906">
                <a:moveTo>
                  <a:pt x="10800" y="5490"/>
                </a:moveTo>
                <a:lnTo>
                  <a:pt x="13376" y="8101"/>
                </a:lnTo>
                <a:lnTo>
                  <a:pt x="13376" y="6361"/>
                </a:lnTo>
                <a:lnTo>
                  <a:pt x="15152" y="6361"/>
                </a:lnTo>
                <a:lnTo>
                  <a:pt x="15152" y="9877"/>
                </a:lnTo>
                <a:lnTo>
                  <a:pt x="17763" y="12453"/>
                </a:lnTo>
                <a:lnTo>
                  <a:pt x="16109" y="12453"/>
                </a:lnTo>
                <a:lnTo>
                  <a:pt x="16109" y="19642"/>
                </a:lnTo>
                <a:lnTo>
                  <a:pt x="5491" y="19642"/>
                </a:lnTo>
                <a:lnTo>
                  <a:pt x="5491" y="12453"/>
                </a:lnTo>
                <a:lnTo>
                  <a:pt x="3837" y="12453"/>
                </a:lnTo>
                <a:close/>
              </a:path>
              <a:path fill="darkenLess" w="21600" h="24906">
                <a:moveTo>
                  <a:pt x="13376" y="8101"/>
                </a:moveTo>
                <a:lnTo>
                  <a:pt x="13376" y="6361"/>
                </a:lnTo>
                <a:lnTo>
                  <a:pt x="15152" y="6361"/>
                </a:lnTo>
                <a:lnTo>
                  <a:pt x="15152" y="9877"/>
                </a:lnTo>
                <a:close/>
              </a:path>
              <a:path fill="darkenLess" w="21600" h="24906">
                <a:moveTo>
                  <a:pt x="9877" y="15952"/>
                </a:moveTo>
                <a:lnTo>
                  <a:pt x="11723" y="15952"/>
                </a:lnTo>
                <a:lnTo>
                  <a:pt x="11723" y="19642"/>
                </a:lnTo>
                <a:lnTo>
                  <a:pt x="16109" y="19642"/>
                </a:lnTo>
                <a:lnTo>
                  <a:pt x="16109" y="12453"/>
                </a:lnTo>
                <a:lnTo>
                  <a:pt x="5491" y="12453"/>
                </a:lnTo>
                <a:lnTo>
                  <a:pt x="5491" y="19642"/>
                </a:lnTo>
                <a:lnTo>
                  <a:pt x="9877" y="1964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6" descr="бидон с молоком"/>
          <p:cNvPicPr/>
          <p:nvPr/>
        </p:nvPicPr>
        <p:blipFill>
          <a:blip r:embed="rId11"/>
          <a:stretch/>
        </p:blipFill>
        <p:spPr>
          <a:xfrm>
            <a:off x="1116000" y="609300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7" descr="бидон с молоком"/>
          <p:cNvPicPr/>
          <p:nvPr/>
        </p:nvPicPr>
        <p:blipFill>
          <a:blip r:embed="rId12"/>
          <a:stretch/>
        </p:blipFill>
        <p:spPr>
          <a:xfrm>
            <a:off x="755640" y="5877000"/>
            <a:ext cx="5032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716000" y="69192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vramku.ucoz.ru/_ph/2/558898434.jpg?14068145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-fotki.yandex.ru/get/9499/66124276.1eb/0_a60a2_25f90c42_S.png кувшин с моло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fen-net.de/~ea2291/sound/sdwin.wa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звук фанф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pacdv.com/sounds/people_sound_effects/laugh_1.wa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звук см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835280" y="263700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firstslide"/>
          </p:cNvPr>
          <p:cNvSpPr/>
          <p:nvPr/>
        </p:nvSpPr>
        <p:spPr>
          <a:xfrm>
            <a:off x="1835280" y="1700280"/>
            <a:ext cx="503280" cy="647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91">
                <a:moveTo>
                  <a:pt x="0" y="0"/>
                </a:moveTo>
                <a:lnTo>
                  <a:pt x="21600" y="0"/>
                </a:lnTo>
                <a:lnTo>
                  <a:pt x="21600" y="27791"/>
                </a:lnTo>
                <a:lnTo>
                  <a:pt x="0" y="27791"/>
                </a:lnTo>
                <a:close/>
              </a:path>
              <a:path fill="lightenLess" w="21600" h="27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91">
                <a:moveTo>
                  <a:pt x="21600" y="0"/>
                </a:moveTo>
                <a:lnTo>
                  <a:pt x="21600" y="27791"/>
                </a:lnTo>
                <a:lnTo>
                  <a:pt x="20200" y="26391"/>
                </a:lnTo>
                <a:lnTo>
                  <a:pt x="20200" y="1400"/>
                </a:lnTo>
                <a:close/>
              </a:path>
              <a:path fill="darkenLess" w="21600" h="27791">
                <a:moveTo>
                  <a:pt x="21600" y="27791"/>
                </a:moveTo>
                <a:lnTo>
                  <a:pt x="0" y="27791"/>
                </a:lnTo>
                <a:lnTo>
                  <a:pt x="1400" y="26391"/>
                </a:lnTo>
                <a:lnTo>
                  <a:pt x="20200" y="26391"/>
                </a:lnTo>
                <a:close/>
              </a:path>
              <a:path fill="lighten" w="21600" h="27791">
                <a:moveTo>
                  <a:pt x="0" y="27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91"/>
                </a:lnTo>
                <a:close/>
              </a:path>
              <a:path fill="darken" w="21600" h="27791">
                <a:moveTo>
                  <a:pt x="3794" y="10588"/>
                </a:moveTo>
                <a:lnTo>
                  <a:pt x="7301" y="10588"/>
                </a:lnTo>
                <a:lnTo>
                  <a:pt x="7301" y="15924"/>
                </a:lnTo>
                <a:cubicBezTo>
                  <a:pt x="7301" y="16846"/>
                  <a:pt x="8102" y="17577"/>
                  <a:pt x="9138" y="17577"/>
                </a:cubicBezTo>
                <a:lnTo>
                  <a:pt x="10800" y="17577"/>
                </a:lnTo>
                <a:cubicBezTo>
                  <a:pt x="11836" y="17577"/>
                  <a:pt x="12636" y="16846"/>
                  <a:pt x="12636" y="15924"/>
                </a:cubicBezTo>
                <a:lnTo>
                  <a:pt x="12636" y="10588"/>
                </a:lnTo>
                <a:lnTo>
                  <a:pt x="10800" y="10588"/>
                </a:lnTo>
                <a:lnTo>
                  <a:pt x="14308" y="7081"/>
                </a:lnTo>
                <a:lnTo>
                  <a:pt x="17981" y="10588"/>
                </a:lnTo>
                <a:lnTo>
                  <a:pt x="16144" y="10588"/>
                </a:lnTo>
                <a:lnTo>
                  <a:pt x="16144" y="15924"/>
                </a:lnTo>
                <a:cubicBezTo>
                  <a:pt x="16144" y="18691"/>
                  <a:pt x="13568" y="21250"/>
                  <a:pt x="10800" y="21250"/>
                </a:cubicBezTo>
                <a:lnTo>
                  <a:pt x="9138" y="21250"/>
                </a:lnTo>
                <a:cubicBezTo>
                  <a:pt x="6370" y="21250"/>
                  <a:pt x="3794" y="18691"/>
                  <a:pt x="3794" y="15924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 flipH="1">
            <a:off x="4787280" y="620640"/>
            <a:ext cx="2950920" cy="2448000"/>
          </a:xfrm>
          <a:prstGeom prst="cloudCallout">
            <a:avLst>
              <a:gd name="adj1" fmla="val 42412"/>
              <a:gd name="adj2" fmla="val 97078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flipH="1">
            <a:off x="1979640" y="1916280"/>
            <a:ext cx="2449440" cy="1728720"/>
          </a:xfrm>
          <a:prstGeom prst="cloudCallout">
            <a:avLst>
              <a:gd name="adj1" fmla="val 25824"/>
              <a:gd name="adj2" fmla="val 97379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мне, пожалуйста, молок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71640" y="200808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48360" y="981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ы 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пример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кув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авильным отв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4859280" y="5805360"/>
            <a:ext cx="960480" cy="917640"/>
            <a:chOff x="4859280" y="5805360"/>
            <a:chExt cx="960480" cy="917640"/>
          </a:xfrm>
        </p:grpSpPr>
        <p:pic>
          <p:nvPicPr>
            <p:cNvPr id="56" name="Picture 9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4859280" y="580536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5076720" y="613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724360" y="5940360"/>
            <a:ext cx="960480" cy="917280"/>
            <a:chOff x="5724360" y="5940360"/>
            <a:chExt cx="960480" cy="917280"/>
          </a:xfrm>
        </p:grpSpPr>
        <p:pic>
          <p:nvPicPr>
            <p:cNvPr id="59" name="Picture 12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5724360" y="594036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594144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6732720" y="5940360"/>
            <a:ext cx="960120" cy="917640"/>
            <a:chOff x="6732720" y="5940360"/>
            <a:chExt cx="960120" cy="917640"/>
          </a:xfrm>
        </p:grpSpPr>
        <p:pic>
          <p:nvPicPr>
            <p:cNvPr id="62" name="Picture 15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6732720" y="5940360"/>
              <a:ext cx="96012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>
              <a:off x="694980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 flipH="1">
            <a:off x="3276720" y="1700280"/>
            <a:ext cx="3240000" cy="1727280"/>
          </a:xfrm>
          <a:prstGeom prst="cloudCallout">
            <a:avLst>
              <a:gd name="adj1" fmla="val 76013"/>
              <a:gd name="adj2" fmla="val 11801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помогите мне, пожалуйс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771640" y="200808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4859280" y="5805360"/>
            <a:ext cx="960480" cy="917640"/>
            <a:chOff x="4859280" y="5805360"/>
            <a:chExt cx="960480" cy="917640"/>
          </a:xfrm>
        </p:grpSpPr>
        <p:pic>
          <p:nvPicPr>
            <p:cNvPr id="68" name="Picture 8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4859280" y="580536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9"/>
            <p:cNvSpPr/>
            <p:nvPr/>
          </p:nvSpPr>
          <p:spPr>
            <a:xfrm>
              <a:off x="5076720" y="613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0"/>
          <p:cNvGrpSpPr/>
          <p:nvPr/>
        </p:nvGrpSpPr>
        <p:grpSpPr>
          <a:xfrm>
            <a:off x="5724360" y="5940360"/>
            <a:ext cx="960480" cy="917280"/>
            <a:chOff x="5724360" y="5940360"/>
            <a:chExt cx="960480" cy="917280"/>
          </a:xfrm>
        </p:grpSpPr>
        <p:pic>
          <p:nvPicPr>
            <p:cNvPr id="71" name="Picture 11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5724360" y="594036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2"/>
            <p:cNvSpPr/>
            <p:nvPr/>
          </p:nvSpPr>
          <p:spPr>
            <a:xfrm>
              <a:off x="594144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3"/>
          <p:cNvGrpSpPr/>
          <p:nvPr/>
        </p:nvGrpSpPr>
        <p:grpSpPr>
          <a:xfrm>
            <a:off x="6732720" y="5940360"/>
            <a:ext cx="960120" cy="917640"/>
            <a:chOff x="6732720" y="5940360"/>
            <a:chExt cx="960120" cy="917640"/>
          </a:xfrm>
        </p:grpSpPr>
        <p:pic>
          <p:nvPicPr>
            <p:cNvPr id="74" name="Picture 14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6732720" y="5940360"/>
              <a:ext cx="96012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5"/>
            <p:cNvSpPr/>
            <p:nvPr/>
          </p:nvSpPr>
          <p:spPr>
            <a:xfrm>
              <a:off x="694980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77" name="Picture 16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80" name="Picture 13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8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83" name="Picture 15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9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558520" y="242100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8+8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90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93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96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03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06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09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219640" y="2232000"/>
            <a:ext cx="2521080" cy="134316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16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19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22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8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29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32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35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0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42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45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48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219640" y="2349360"/>
            <a:ext cx="2521080" cy="122580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7:49:23Z</dcterms:created>
  <dc:creator>Анатольева Э.В.</dc:creator>
  <dc:description/>
  <dc:language>en-US</dc:language>
  <cp:lastModifiedBy>Windows User</cp:lastModifiedBy>
  <dcterms:modified xsi:type="dcterms:W3CDTF">2016-11-08T04:52:52Z</dcterms:modified>
  <cp:revision>34</cp:revision>
  <dc:subject/>
  <dc:title>Игра "Помоги Матроскину"</dc:title>
</cp:coreProperties>
</file>