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97D-435E-440B-A99E-AFD723BB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2ED-B2C7-4CA8-954F-51DA4768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CDC-6A3B-44BB-B0A1-D9E894EB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1F5-904B-4221-AE55-D93F1A08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7D7-FDDC-4928-B06D-69EED873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633E-8950-4B2D-BBCA-4ABB975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5CBE-DE41-4493-818A-9307A7AA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1CA-8994-487B-8E06-8070D5D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2084-E56F-479B-996D-46D3928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43F8-4790-4BB2-B93A-2CA054F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75AF-AC1F-4C6B-ACE6-E275D8A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6B0-F3F9-4D9D-B0EE-31FCE541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EF7-4D4B-4D9C-88A4-08C010A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F7D4-A06F-4654-A6CF-BA4B0AF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6BC-5518-41E6-96C0-E893893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518B-E944-426A-883E-4DAA192F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5E3-F831-48A3-8590-A25C4707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817F-BF29-4041-BEFA-45BFC3D7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74F1-D205-43DE-A55D-E1EA841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8D37-6A80-40DA-B655-E89BA32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A789-1E98-4F4A-B5D0-8D42295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4D0D-4A41-4B00-B934-67E0B452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0CB-B610-468C-8B1E-2C84BD1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8C84-47BE-40D2-AB08-51A17A03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CCB5-05E5-4C00-B66B-17E9836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EF0A-7780-4842-93FA-20464A2D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60C9-B6CB-47E2-9FD7-66D6AE7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B844-8A4D-4399-97D5-64C308C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86B8-B832-404D-AB45-6FDA4DE5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AE11-7730-41AD-872C-71488ACB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EC7-5792-496C-9A63-EBE8F5E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626-6CA1-41F7-9E6F-9C75D1E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694-B081-457A-957D-9BAAE01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BEB-3B87-4A0E-908B-E9E6097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DA2-5975-4F62-A2B6-BB3893F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6EC-21CD-4714-802C-96B0819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DF7-C388-46F9-89BC-58E879C140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477-4ACD-41DB-B5F4-2A3B683385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3"/>
          <a:stretch/>
        </p:blipFill>
        <p:spPr>
          <a:xfrm>
            <a:off x="7164360" y="4076640"/>
            <a:ext cx="1658880" cy="2630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F23-B22E-4BA8-9A26-4B4D0AEEA0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94080" y="-360"/>
            <a:ext cx="57499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Bookman Old Style"/>
              </a:rPr>
              <a:t>Кружок 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Bookman Old Style"/>
              </a:rPr>
              <a:t>«КРУПЕНИЧ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5785920"/>
            <a:ext cx="5000760" cy="1071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Шубина Елена Александровна воспитатель МБДОУ «Детский сад «Звёздочка» г. Горня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zerno_2"/>
          <p:cNvPicPr/>
          <p:nvPr/>
        </p:nvPicPr>
        <p:blipFill>
          <a:blip r:embed="rId1"/>
          <a:stretch/>
        </p:blipFill>
        <p:spPr>
          <a:xfrm>
            <a:off x="214200" y="714240"/>
            <a:ext cx="2590920" cy="21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60721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Рисование неокрашенными крупами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99840" y="1844280"/>
            <a:ext cx="435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рупы могут 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остаточно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богатую гамму натурального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Жёлтый - кукуруза, пшено, горош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елёный - горошек, чечеви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Красный - красная фасо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мно-коричневый - греч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ветло-коричневый, сер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чка, хлоп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Белый - рис, ма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7" descr="C:\Documents and Settings\User\Рабочий стол\кружок\P1010685.JPG"/>
          <p:cNvPicPr/>
          <p:nvPr/>
        </p:nvPicPr>
        <p:blipFill>
          <a:blip r:embed="rId2"/>
          <a:stretch/>
        </p:blipFill>
        <p:spPr>
          <a:xfrm>
            <a:off x="6572160" y="714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C:\Documents and Settings\User\Рабочий стол\кружок\P1010591.JPG"/>
          <p:cNvPicPr/>
          <p:nvPr/>
        </p:nvPicPr>
        <p:blipFill>
          <a:blip r:embed="rId3"/>
          <a:stretch/>
        </p:blipFill>
        <p:spPr>
          <a:xfrm>
            <a:off x="214200" y="3357720"/>
            <a:ext cx="2436840" cy="3247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C:\Documents and Settings\User\Рабочий стол\кружок\P1010687.JPG"/>
          <p:cNvPicPr/>
          <p:nvPr/>
        </p:nvPicPr>
        <p:blipFill>
          <a:blip r:embed="rId4"/>
          <a:stretch/>
        </p:blipFill>
        <p:spPr>
          <a:xfrm>
            <a:off x="6778800" y="3500280"/>
            <a:ext cx="2365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Рисование крупой – интересное и увлекательное занят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14760" y="928440"/>
            <a:ext cx="400032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Опыт работы с детьми показал: рисовать необычными способами и использовать при этом материалы, которые окружают нас в повседневной жизни, вызывают у детей огромные положительные эмоции.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ое занятие благотворно влияет на развитие мелкой моторики ребенка, и к тому же рисовать таким методом очень интерес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E:\DCIM\103SSCAM\SDC19587.JPG"/>
          <p:cNvPicPr/>
          <p:nvPr/>
        </p:nvPicPr>
        <p:blipFill>
          <a:blip r:embed="rId1"/>
          <a:stretch/>
        </p:blipFill>
        <p:spPr>
          <a:xfrm>
            <a:off x="163440" y="1038240"/>
            <a:ext cx="2724120" cy="20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E:\DCIM\103SSCAM\SDC19592.JPG"/>
          <p:cNvPicPr/>
          <p:nvPr/>
        </p:nvPicPr>
        <p:blipFill>
          <a:blip r:embed="rId2"/>
          <a:stretch/>
        </p:blipFill>
        <p:spPr>
          <a:xfrm>
            <a:off x="6638760" y="3357720"/>
            <a:ext cx="2505240" cy="3340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E:\DCIM\103SSCAM\SDC19597.JPG"/>
          <p:cNvPicPr/>
          <p:nvPr/>
        </p:nvPicPr>
        <p:blipFill>
          <a:blip r:embed="rId3"/>
          <a:stretch/>
        </p:blipFill>
        <p:spPr>
          <a:xfrm>
            <a:off x="142920" y="3857760"/>
            <a:ext cx="2982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gr3"/>
          <p:cNvPicPr/>
          <p:nvPr/>
        </p:nvPicPr>
        <p:blipFill>
          <a:blip r:embed="rId1"/>
          <a:stretch/>
        </p:blipFill>
        <p:spPr>
          <a:xfrm>
            <a:off x="6608880" y="214200"/>
            <a:ext cx="2116080" cy="319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4cb93fe113fcba5a12647bc4a86e5d3c"/>
          <p:cNvPicPr/>
          <p:nvPr/>
        </p:nvPicPr>
        <p:blipFill>
          <a:blip r:embed="rId2"/>
          <a:stretch/>
        </p:blipFill>
        <p:spPr>
          <a:xfrm>
            <a:off x="190440" y="4429080"/>
            <a:ext cx="3203640" cy="1868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89000"/>
            <a:ext cx="607212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Работа с крупами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не только развивают ребенка эстетически, но и помогают ему учиться аккуратности и терпению.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А также, разрабатывают мелкую моторику пальцев, что упрощает обучению письму и способствует формированию правильной и красивой речи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Перспект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28560" y="836280"/>
            <a:ext cx="37861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продолжить работу над развитием мелкой мотор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продолжить знакомить детей с различными техниками продуктив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осуществлять взаимодействие с семь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продолжить работу кружка «КРУПЕНИЧКА» с более сложными рисунками и большим разнообразием круп, семя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3" descr="C:\Documents and Settings\User\Рабочий стол\кружок\P101068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08120" cy="3342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C:\Documents and Settings\User\Рабочий стол\кружок\P1010681.JPG"/>
          <p:cNvPicPr/>
          <p:nvPr/>
        </p:nvPicPr>
        <p:blipFill>
          <a:blip r:embed="rId2"/>
          <a:stretch/>
        </p:blipFill>
        <p:spPr>
          <a:xfrm>
            <a:off x="55440" y="1100160"/>
            <a:ext cx="23907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25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Наши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9" descr="C:\Documents and Settings\User\Рабочий стол\кружок\P1010693.JPG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C:\Documents and Settings\User\Рабочий стол\кружок\P1010691.JPG"/>
          <p:cNvPicPr/>
          <p:nvPr/>
        </p:nvPicPr>
        <p:blipFill>
          <a:blip r:embed="rId2"/>
          <a:stretch/>
        </p:blipFill>
        <p:spPr>
          <a:xfrm>
            <a:off x="0" y="1571760"/>
            <a:ext cx="1981080" cy="26413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C:\Documents and Settings\User\Рабочий стол\кружок\P1010690.JPG"/>
          <p:cNvPicPr/>
          <p:nvPr/>
        </p:nvPicPr>
        <p:blipFill>
          <a:blip r:embed="rId3"/>
          <a:stretch/>
        </p:blipFill>
        <p:spPr>
          <a:xfrm>
            <a:off x="2857680" y="0"/>
            <a:ext cx="1779480" cy="2371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" descr="C:\Documents and Settings\User\Рабочий стол\кружок\P1010689.JPG"/>
          <p:cNvPicPr/>
          <p:nvPr/>
        </p:nvPicPr>
        <p:blipFill>
          <a:blip r:embed="rId4"/>
          <a:stretch/>
        </p:blipFill>
        <p:spPr>
          <a:xfrm>
            <a:off x="4857840" y="285840"/>
            <a:ext cx="2266920" cy="3020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4" descr="C:\Documents and Settings\User\Рабочий стол\кружок\P1010688.JPG"/>
          <p:cNvPicPr/>
          <p:nvPr/>
        </p:nvPicPr>
        <p:blipFill>
          <a:blip r:embed="rId5"/>
          <a:stretch/>
        </p:blipFill>
        <p:spPr>
          <a:xfrm>
            <a:off x="6724800" y="3429000"/>
            <a:ext cx="2419200" cy="3224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C:\Documents and Settings\User\Рабочий стол\кружок\P1010686.JPG"/>
          <p:cNvPicPr/>
          <p:nvPr/>
        </p:nvPicPr>
        <p:blipFill>
          <a:blip r:embed="rId6"/>
          <a:stretch/>
        </p:blipFill>
        <p:spPr>
          <a:xfrm>
            <a:off x="142920" y="4286160"/>
            <a:ext cx="1800360" cy="240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6" descr="C:\Documents and Settings\User\Рабочий стол\кружок\P1010683.JPG"/>
          <p:cNvPicPr/>
          <p:nvPr/>
        </p:nvPicPr>
        <p:blipFill>
          <a:blip r:embed="rId7"/>
          <a:stretch/>
        </p:blipFill>
        <p:spPr>
          <a:xfrm>
            <a:off x="2143080" y="2714760"/>
            <a:ext cx="2293920" cy="30574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7" descr="C:\Documents and Settings\User\Рабочий стол\кружок\P1010680.JPG"/>
          <p:cNvPicPr/>
          <p:nvPr/>
        </p:nvPicPr>
        <p:blipFill>
          <a:blip r:embed="rId8"/>
          <a:stretch/>
        </p:blipFill>
        <p:spPr>
          <a:xfrm>
            <a:off x="4524480" y="3668760"/>
            <a:ext cx="21430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C:\Documents and Settings\User\Рабочий стол\кружок\P1010694.JPG"/>
          <p:cNvPicPr/>
          <p:nvPr/>
        </p:nvPicPr>
        <p:blipFill>
          <a:blip r:embed="rId1"/>
          <a:stretch/>
        </p:blipFill>
        <p:spPr>
          <a:xfrm>
            <a:off x="3395520" y="2928960"/>
            <a:ext cx="5748480" cy="37148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E:\DCIM\103SSCAM\SDC19581.JPG"/>
          <p:cNvPicPr/>
          <p:nvPr/>
        </p:nvPicPr>
        <p:blipFill>
          <a:blip r:embed="rId2"/>
          <a:stretch/>
        </p:blipFill>
        <p:spPr>
          <a:xfrm>
            <a:off x="357120" y="214200"/>
            <a:ext cx="55008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     </a:t>
            </a:r>
            <a:r>
              <a:rPr b="1" i="1" lang="ru-RU" sz="6600" spc="-1" strike="noStrike">
                <a:solidFill>
                  <a:srgbClr val="c00000"/>
                </a:solidFill>
                <a:latin typeface="Monotype Corsiva"/>
              </a:rPr>
              <a:t>СПАСИБО   ЗА       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4680"/>
            <a:ext cx="84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14200"/>
            <a:ext cx="51786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«Источники творческих способностей и дарования детей - на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кончиках говоря, идут тончайшие нити —пальц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От пальцев, образно  ручейки, которые питают источник творческой мыс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Другими словами: чем больше мастерства в детской руке, тем умнее ребено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ff0066"/>
                </a:solidFill>
                <a:latin typeface="Calibri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C:\Documents and Settings\User\Рабочий стол\кружок\SDC19574.JPG"/>
          <p:cNvPicPr/>
          <p:nvPr/>
        </p:nvPicPr>
        <p:blipFill>
          <a:blip r:embed="rId1"/>
          <a:stretch/>
        </p:blipFill>
        <p:spPr>
          <a:xfrm>
            <a:off x="6072120" y="857160"/>
            <a:ext cx="3071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214200"/>
            <a:ext cx="5357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Крупа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—это отличный материал для творчества. Поделки из крупы получаются интересными и оригинальными, а если крупу ещё и подкрасить, то яркими и привлекательн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ля работы подходят манка и рис, пшено и гречка, горох и любые семечки, - всё. Что можно наклеить. Здесь главное – проявить фантазию. А картины из круп – это красивое украшение для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E:\DCIM\103SSCAM\SDC19577.JPG"/>
          <p:cNvPicPr/>
          <p:nvPr/>
        </p:nvPicPr>
        <p:blipFill>
          <a:blip r:embed="rId1"/>
          <a:stretch/>
        </p:blipFill>
        <p:spPr>
          <a:xfrm>
            <a:off x="5857920" y="2357280"/>
            <a:ext cx="3143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Bookman Old Style"/>
              </a:rPr>
              <a:t>Кружок «КРУПЕН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6143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Актуальност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етрадиционные техники дают возможность создавать доступными, простыми средствами интересные по содержанию образ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вают уверенность в своих силах, побуждают к творческим поискам и решени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нообразие деятельности способствует разностороннему развитию ребен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ализуются его потенциальные возможности и первые проявления твор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C:\Documents and Settings\User\Рабочий стол\кружок\P1010684.JPG"/>
          <p:cNvPicPr/>
          <p:nvPr/>
        </p:nvPicPr>
        <p:blipFill>
          <a:blip r:embed="rId1"/>
          <a:stretch/>
        </p:blipFill>
        <p:spPr>
          <a:xfrm>
            <a:off x="6500880" y="3357720"/>
            <a:ext cx="24764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28520" y="27468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Цели кружков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004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   Развитие мелкой моторики через занятия продуктивной деятельностью в рамках круж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   Развитие творческих способностей, формирование у детей чувства прекрасного, развитие воображения, самостоятельности, настойчивости, аккуратности, трудолюб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C:\Documents and Settings\User\Рабочий стол\IMG_20160419_161215.jpg"/>
          <p:cNvPicPr/>
          <p:nvPr/>
        </p:nvPicPr>
        <p:blipFill>
          <a:blip r:embed="rId1"/>
          <a:stretch/>
        </p:blipFill>
        <p:spPr>
          <a:xfrm>
            <a:off x="1214280" y="3467160"/>
            <a:ext cx="39294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36640" y="1071360"/>
            <a:ext cx="5607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Развивать речь детей, взаимодействуя на мелкую моторику пальцев рук, используя художественные произведения, пальчиковую и артикуляционную гимна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Учить узнавать и называть крупу. Зёрна, семечки, косточки, а также разбирать и перебира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Развивать воображение, усидчивость, координацию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Вызывать желание добиваться желаемого результата, снятие эмоционального нап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C:\Documents and Settings\User\Рабочий стол\IMG_20160415_154923.jpg"/>
          <p:cNvPicPr/>
          <p:nvPr/>
        </p:nvPicPr>
        <p:blipFill>
          <a:blip r:embed="rId1"/>
          <a:stretch/>
        </p:blipFill>
        <p:spPr>
          <a:xfrm>
            <a:off x="0" y="1643040"/>
            <a:ext cx="35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Рисование на круп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C:\Documents and Settings\User\Рабочий стол\IMG_20160419_154457.jpg"/>
          <p:cNvPicPr/>
          <p:nvPr/>
        </p:nvPicPr>
        <p:blipFill>
          <a:blip r:embed="rId1"/>
          <a:stretch/>
        </p:blipFill>
        <p:spPr>
          <a:xfrm>
            <a:off x="285840" y="2071800"/>
            <a:ext cx="4160880" cy="34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E:\DCIM\103SSCAM\SDC19583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38720" cy="25783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E:\DCIM\103SSCAM\SDC19582.JPG"/>
          <p:cNvPicPr/>
          <p:nvPr/>
        </p:nvPicPr>
        <p:blipFill>
          <a:blip r:embed="rId3"/>
          <a:stretch/>
        </p:blipFill>
        <p:spPr>
          <a:xfrm>
            <a:off x="5643720" y="3929040"/>
            <a:ext cx="3500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71600" y="188640"/>
            <a:ext cx="507204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Bookman Old Style"/>
              </a:rPr>
              <a:t>Рисование манной крупой без окрашива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142800"/>
            <a:ext cx="46432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а цветном фоне можно рисовать кистью клеем ПВА, а потом посыпать манкой - получится монохромный рисунок - белый на цвет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E:\DCIM\103SSCAM\SDC19594.JPG"/>
          <p:cNvPicPr/>
          <p:nvPr/>
        </p:nvPicPr>
        <p:blipFill>
          <a:blip r:embed="rId1"/>
          <a:stretch/>
        </p:blipFill>
        <p:spPr>
          <a:xfrm>
            <a:off x="5643720" y="2428920"/>
            <a:ext cx="3190680" cy="42544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E:\DCIM\103SSCAM\SDC19591.JPG"/>
          <p:cNvPicPr/>
          <p:nvPr/>
        </p:nvPicPr>
        <p:blipFill>
          <a:blip r:embed="rId2"/>
          <a:stretch/>
        </p:blipFill>
        <p:spPr>
          <a:xfrm>
            <a:off x="352440" y="357120"/>
            <a:ext cx="379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Bookman Old Style"/>
              </a:rPr>
              <a:t>Рисование окрашенной манной круп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Манную крупу окрасить в разные цвета, используя гуа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7" descr="E:\DCIM\103SSCAM\SDC19578.JPG"/>
          <p:cNvPicPr/>
          <p:nvPr/>
        </p:nvPicPr>
        <p:blipFill>
          <a:blip r:embed="rId1"/>
          <a:stretch/>
        </p:blipFill>
        <p:spPr>
          <a:xfrm>
            <a:off x="2786040" y="2143080"/>
            <a:ext cx="3286080" cy="32148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E:\DCIM\103SSCAM\SDC19584.JPG"/>
          <p:cNvPicPr/>
          <p:nvPr/>
        </p:nvPicPr>
        <p:blipFill>
          <a:blip r:embed="rId2"/>
          <a:stretch/>
        </p:blipFill>
        <p:spPr>
          <a:xfrm>
            <a:off x="6572160" y="2714760"/>
            <a:ext cx="23241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E:\DCIM\103SSCAM\SDC19585.JPG"/>
          <p:cNvPicPr/>
          <p:nvPr/>
        </p:nvPicPr>
        <p:blipFill>
          <a:blip r:embed="rId3"/>
          <a:stretch/>
        </p:blipFill>
        <p:spPr>
          <a:xfrm>
            <a:off x="109440" y="1541520"/>
            <a:ext cx="23241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3:56:06Z</dcterms:created>
  <dc:creator>User</dc:creator>
  <dc:description/>
  <dc:language>en-US</dc:language>
  <cp:lastModifiedBy>User</cp:lastModifiedBy>
  <dcterms:modified xsi:type="dcterms:W3CDTF">2017-06-12T17:24:44Z</dcterms:modified>
  <cp:revision>75</cp:revision>
  <dc:subject/>
  <dc:title>«Использование нетрадиционной техники рисования крупой». </dc:title>
</cp:coreProperties>
</file>