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82BF-D9A5-4752-9409-27D575099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740D-9099-4E6F-9AF4-4BF871B3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7256-5335-4878-BD70-766DCAC8F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B87B-7FE4-4C08-9C92-76C77952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E733-1D7C-4D77-AEA2-E21E6AFB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C3A1-D75B-4EF9-BFA4-FDF25EFF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13FB-6578-41B7-A3AA-F165F173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44EE-0FDC-452A-843D-6E5967B2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A9A1-1D1B-40D4-8CB3-2825C8A0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B039-78D2-4975-87EB-5DB00C69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6773-8497-48D4-8DAD-18D01B29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55CC-A69E-4E4C-878A-D032B432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8716-0A14-411D-93D3-67682BA0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686D-54F6-4B36-89A3-73DB2B4F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16C8-52B6-47E6-8D41-CF5266E7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8BFE-A39F-473E-AEBC-9A8DAB441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CB47-345A-4CDE-A7AA-C5C642D9A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CC335-B89B-430A-9D5E-2D0569D1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ADDF5-0667-4DF0-A69C-301F8D50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20280-856C-4ADF-9FB6-42D77F6D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4A8C8-415A-48DD-B358-A0BF5905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A53E7-0CD5-47E1-9188-7361E2C5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1AFA-C4F3-45F4-BEA2-D53A85FE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28418-F12E-4987-97E9-9A5D97D9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51294-6AA7-4C1E-A7F3-E0BEA654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29DE7-0D4B-4B73-844F-7F5FA7A4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9BB0A-ACA2-4FA9-90F1-7DE1EDD7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08EC9-782D-4D7C-8443-21BE143F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640C9-5EEA-48FA-8AD6-D6115455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10555-2B96-465F-A40B-73A6A0DA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18A5-23E6-463A-83BC-179E8CF2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FB10-A3CA-4D8E-9CBF-D0A20A38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C420-AF4A-48D9-B86D-44628418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B3C7-56C3-4BDE-996C-AD4C1C05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FF63-8C12-47B3-BEB6-FA5515B5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35FD-C1F8-4B4B-ABD9-36D630FA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1D4D-0D8D-4667-A608-926980CCEE5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E7EF-B5A7-4CCF-B5EB-6DF0B77BD51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" descr=""/>
          <p:cNvPicPr/>
          <p:nvPr/>
        </p:nvPicPr>
        <p:blipFill>
          <a:blip r:embed="rId3"/>
          <a:stretch/>
        </p:blipFill>
        <p:spPr>
          <a:xfrm>
            <a:off x="7164360" y="4076640"/>
            <a:ext cx="1658880" cy="2630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189B-7215-4CDF-AB4A-5B4CB725E7B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94080" y="-360"/>
            <a:ext cx="574992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Bookman Old Style"/>
              </a:rPr>
              <a:t>Кружок </a:t>
            </a:r>
            <a:br>
              <a:rPr sz="4800"/>
            </a:br>
            <a:r>
              <a:rPr b="1" i="1" lang="ru-RU" sz="4800" spc="-1" strike="noStrike">
                <a:solidFill>
                  <a:srgbClr val="0000ff"/>
                </a:solidFill>
                <a:latin typeface="Bookman Old Style"/>
              </a:rPr>
              <a:t>«КРУПЕНИЧКА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-360" y="5785920"/>
            <a:ext cx="5000760" cy="10717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Шубина Елена Александровна воспитатель МБДОУ «Детский сад «Звёздочка» г. Горня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zerno_2"/>
          <p:cNvPicPr/>
          <p:nvPr/>
        </p:nvPicPr>
        <p:blipFill>
          <a:blip r:embed="rId1"/>
          <a:stretch/>
        </p:blipFill>
        <p:spPr>
          <a:xfrm>
            <a:off x="214200" y="714240"/>
            <a:ext cx="2590920" cy="21243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60721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Bookman Old Style"/>
              </a:rPr>
              <a:t>Рисование неокрашенными крупами</a:t>
            </a: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499840" y="1844280"/>
            <a:ext cx="4357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Крупы могут д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остаточно</a:t>
            </a:r>
            <a:r>
              <a:rPr b="1" lang="en-US" sz="24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богатую гамму натурального цве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Жёлтый - кукуруза, пшено, гороше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Зелёный - горошек, чечевиц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Красный - красная фасол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Темно-коричневый - греч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Светло-коричневый, серый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сечка, хлопь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Белый - рис, ма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Рисунок 7" descr="C:\Documents and Settings\User\Рабочий стол\кружок\P1010685.JPG"/>
          <p:cNvPicPr/>
          <p:nvPr/>
        </p:nvPicPr>
        <p:blipFill>
          <a:blip r:embed="rId2"/>
          <a:stretch/>
        </p:blipFill>
        <p:spPr>
          <a:xfrm>
            <a:off x="6572160" y="714240"/>
            <a:ext cx="2571840" cy="214344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8" descr="C:\Documents and Settings\User\Рабочий стол\кружок\P1010591.JPG"/>
          <p:cNvPicPr/>
          <p:nvPr/>
        </p:nvPicPr>
        <p:blipFill>
          <a:blip r:embed="rId3"/>
          <a:stretch/>
        </p:blipFill>
        <p:spPr>
          <a:xfrm>
            <a:off x="214200" y="3357720"/>
            <a:ext cx="2436840" cy="324792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9" descr="C:\Documents and Settings\User\Рабочий стол\кружок\P1010687.JPG"/>
          <p:cNvPicPr/>
          <p:nvPr/>
        </p:nvPicPr>
        <p:blipFill>
          <a:blip r:embed="rId4"/>
          <a:stretch/>
        </p:blipFill>
        <p:spPr>
          <a:xfrm>
            <a:off x="6778800" y="3500280"/>
            <a:ext cx="236520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Bookman Old Style"/>
              </a:rPr>
              <a:t>Рисование крупой – интересное и увлекательное заняти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714760" y="928440"/>
            <a:ext cx="4000320" cy="57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Опыт работы с детьми показал: рисовать необычными способами и использовать при этом материалы, которые окружают нас в повседневной жизни, вызывают у детей огромные положительные эмоции.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акое занятие благотворно влияет на развитие мелкой моторики ребенка, и к тому же рисовать таким методом очень интерес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Рисунок 6" descr="E:\DCIM\103SSCAM\SDC19587.JPG"/>
          <p:cNvPicPr/>
          <p:nvPr/>
        </p:nvPicPr>
        <p:blipFill>
          <a:blip r:embed="rId1"/>
          <a:stretch/>
        </p:blipFill>
        <p:spPr>
          <a:xfrm>
            <a:off x="163440" y="1038240"/>
            <a:ext cx="2724120" cy="20430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7" descr="E:\DCIM\103SSCAM\SDC19592.JPG"/>
          <p:cNvPicPr/>
          <p:nvPr/>
        </p:nvPicPr>
        <p:blipFill>
          <a:blip r:embed="rId2"/>
          <a:stretch/>
        </p:blipFill>
        <p:spPr>
          <a:xfrm>
            <a:off x="6638760" y="3357720"/>
            <a:ext cx="2505240" cy="334008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8" descr="E:\DCIM\103SSCAM\SDC19597.JPG"/>
          <p:cNvPicPr/>
          <p:nvPr/>
        </p:nvPicPr>
        <p:blipFill>
          <a:blip r:embed="rId3"/>
          <a:stretch/>
        </p:blipFill>
        <p:spPr>
          <a:xfrm>
            <a:off x="142920" y="3857760"/>
            <a:ext cx="298296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gr3"/>
          <p:cNvPicPr/>
          <p:nvPr/>
        </p:nvPicPr>
        <p:blipFill>
          <a:blip r:embed="rId1"/>
          <a:stretch/>
        </p:blipFill>
        <p:spPr>
          <a:xfrm>
            <a:off x="6608880" y="214200"/>
            <a:ext cx="2116080" cy="3194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4cb93fe113fcba5a12647bc4a86e5d3c"/>
          <p:cNvPicPr/>
          <p:nvPr/>
        </p:nvPicPr>
        <p:blipFill>
          <a:blip r:embed="rId2"/>
          <a:stretch/>
        </p:blipFill>
        <p:spPr>
          <a:xfrm>
            <a:off x="190440" y="4429080"/>
            <a:ext cx="3203640" cy="18684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29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2560" y="189000"/>
            <a:ext cx="607212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Работа с крупами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,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не только развивают ребенка эстетически, но и помогают ему учиться аккуратности и терпению.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А также, разрабатывают мелкую моторику пальцев, что упрощает обучению письму и способствует формированию правильной и красивой речи</a:t>
            </a: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Bookman Old Style"/>
              </a:rPr>
              <a:t>Перспекти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428560" y="836280"/>
            <a:ext cx="378612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-продолжить работу над развитием мелкой моторик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-продолжить знакомить детей с различными техниками продуктивн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- осуществлять взаимодействие с семь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- продолжить работу кружка «КРУПЕНИЧКА» с более сложными рисунками и большим разнообразием круп, семя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Рисунок 3" descr="C:\Documents and Settings\User\Рабочий стол\кружок\P1010682.JPG"/>
          <p:cNvPicPr/>
          <p:nvPr/>
        </p:nvPicPr>
        <p:blipFill>
          <a:blip r:embed="rId1"/>
          <a:stretch/>
        </p:blipFill>
        <p:spPr>
          <a:xfrm>
            <a:off x="6286680" y="3357720"/>
            <a:ext cx="2508120" cy="33429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4" descr="C:\Documents and Settings\User\Рабочий стол\кружок\P1010681.JPG"/>
          <p:cNvPicPr/>
          <p:nvPr/>
        </p:nvPicPr>
        <p:blipFill>
          <a:blip r:embed="rId2"/>
          <a:stretch/>
        </p:blipFill>
        <p:spPr>
          <a:xfrm>
            <a:off x="55440" y="1100160"/>
            <a:ext cx="239076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2571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Bookman Old Style"/>
              </a:rPr>
              <a:t>Наши раб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Рисунок 9" descr="C:\Documents and Settings\User\Рабочий стол\кружок\P1010693.JPG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254016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0" descr="C:\Documents and Settings\User\Рабочий стол\кружок\P1010691.JPG"/>
          <p:cNvPicPr/>
          <p:nvPr/>
        </p:nvPicPr>
        <p:blipFill>
          <a:blip r:embed="rId2"/>
          <a:stretch/>
        </p:blipFill>
        <p:spPr>
          <a:xfrm>
            <a:off x="0" y="1571760"/>
            <a:ext cx="1981080" cy="26413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1" descr="C:\Documents and Settings\User\Рабочий стол\кружок\P1010690.JPG"/>
          <p:cNvPicPr/>
          <p:nvPr/>
        </p:nvPicPr>
        <p:blipFill>
          <a:blip r:embed="rId3"/>
          <a:stretch/>
        </p:blipFill>
        <p:spPr>
          <a:xfrm>
            <a:off x="2857680" y="0"/>
            <a:ext cx="1779480" cy="23716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2" descr="C:\Documents and Settings\User\Рабочий стол\кружок\P1010689.JPG"/>
          <p:cNvPicPr/>
          <p:nvPr/>
        </p:nvPicPr>
        <p:blipFill>
          <a:blip r:embed="rId4"/>
          <a:stretch/>
        </p:blipFill>
        <p:spPr>
          <a:xfrm>
            <a:off x="4857840" y="285840"/>
            <a:ext cx="2266920" cy="30207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4" descr="C:\Documents and Settings\User\Рабочий стол\кружок\P1010688.JPG"/>
          <p:cNvPicPr/>
          <p:nvPr/>
        </p:nvPicPr>
        <p:blipFill>
          <a:blip r:embed="rId5"/>
          <a:stretch/>
        </p:blipFill>
        <p:spPr>
          <a:xfrm>
            <a:off x="6724800" y="3429000"/>
            <a:ext cx="2419200" cy="322416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5" descr="C:\Documents and Settings\User\Рабочий стол\кружок\P1010686.JPG"/>
          <p:cNvPicPr/>
          <p:nvPr/>
        </p:nvPicPr>
        <p:blipFill>
          <a:blip r:embed="rId6"/>
          <a:stretch/>
        </p:blipFill>
        <p:spPr>
          <a:xfrm>
            <a:off x="142920" y="4286160"/>
            <a:ext cx="1800360" cy="240048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16" descr="C:\Documents and Settings\User\Рабочий стол\кружок\P1010683.JPG"/>
          <p:cNvPicPr/>
          <p:nvPr/>
        </p:nvPicPr>
        <p:blipFill>
          <a:blip r:embed="rId7"/>
          <a:stretch/>
        </p:blipFill>
        <p:spPr>
          <a:xfrm>
            <a:off x="2143080" y="2714760"/>
            <a:ext cx="2293920" cy="305748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17" descr="C:\Documents and Settings\User\Рабочий стол\кружок\P1010680.JPG"/>
          <p:cNvPicPr/>
          <p:nvPr/>
        </p:nvPicPr>
        <p:blipFill>
          <a:blip r:embed="rId8"/>
          <a:stretch/>
        </p:blipFill>
        <p:spPr>
          <a:xfrm>
            <a:off x="4524480" y="3668760"/>
            <a:ext cx="214308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Содержимое 3" descr="C:\Documents and Settings\User\Рабочий стол\кружок\P1010694.JPG"/>
          <p:cNvPicPr/>
          <p:nvPr/>
        </p:nvPicPr>
        <p:blipFill>
          <a:blip r:embed="rId1"/>
          <a:stretch/>
        </p:blipFill>
        <p:spPr>
          <a:xfrm>
            <a:off x="3395520" y="2928960"/>
            <a:ext cx="5748480" cy="371484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3" descr="E:\DCIM\103SSCAM\SDC19581.JPG"/>
          <p:cNvPicPr/>
          <p:nvPr/>
        </p:nvPicPr>
        <p:blipFill>
          <a:blip r:embed="rId2"/>
          <a:stretch/>
        </p:blipFill>
        <p:spPr>
          <a:xfrm>
            <a:off x="357120" y="214200"/>
            <a:ext cx="550080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mbria"/>
              </a:rPr>
              <a:t>     </a:t>
            </a:r>
            <a:r>
              <a:rPr b="1" i="1" lang="ru-RU" sz="6600" spc="-1" strike="noStrike">
                <a:solidFill>
                  <a:srgbClr val="c00000"/>
                </a:solidFill>
                <a:latin typeface="Monotype Corsiva"/>
              </a:rPr>
              <a:t>СПАСИБО   ЗА        ВНИМАНИЕ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5840" y="4680"/>
            <a:ext cx="840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8920" y="214200"/>
            <a:ext cx="5178600" cy="64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Calibri"/>
              </a:rPr>
              <a:t>«Источники творческих способностей и дарования детей - на</a:t>
            </a:r>
            <a:r>
              <a:rPr b="1" i="1" lang="en-US" sz="24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Calibri"/>
              </a:rPr>
              <a:t>кончиках говоря, идут тончайшие нити —пальце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ff0066"/>
                </a:solidFill>
                <a:latin typeface="Calibri"/>
              </a:rPr>
              <a:t>  </a:t>
            </a:r>
            <a:r>
              <a:rPr b="1" i="1" lang="ru-RU" sz="2400" spc="-1" strike="noStrike">
                <a:solidFill>
                  <a:srgbClr val="ff0066"/>
                </a:solidFill>
                <a:latin typeface="Calibri"/>
              </a:rPr>
              <a:t>От пальцев, образно  ручейки, которые питают источник творческой мысл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ff0066"/>
                </a:solidFill>
                <a:latin typeface="Calibri"/>
              </a:rPr>
              <a:t>  </a:t>
            </a:r>
            <a:r>
              <a:rPr b="1" i="1" lang="ru-RU" sz="2400" spc="-1" strike="noStrike">
                <a:solidFill>
                  <a:srgbClr val="ff0066"/>
                </a:solidFill>
                <a:latin typeface="Calibri"/>
              </a:rPr>
              <a:t>Другими словами: чем больше мастерства в детской руке, тем умнее ребенок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           </a:t>
            </a:r>
            <a:r>
              <a:rPr b="1" i="1" lang="ru-RU" sz="3200" spc="-1" strike="noStrike">
                <a:solidFill>
                  <a:srgbClr val="ff0066"/>
                </a:solidFill>
                <a:latin typeface="Calibri"/>
              </a:rPr>
              <a:t>В. А. Сухомлин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Рисунок 3" descr="C:\Documents and Settings\User\Рабочий стол\кружок\SDC19574.JPG"/>
          <p:cNvPicPr/>
          <p:nvPr/>
        </p:nvPicPr>
        <p:blipFill>
          <a:blip r:embed="rId1"/>
          <a:stretch/>
        </p:blipFill>
        <p:spPr>
          <a:xfrm>
            <a:off x="6072120" y="857160"/>
            <a:ext cx="307188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214200"/>
            <a:ext cx="535788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Крупа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—это отличный материал для творчества. Поделки из крупы получаются интересными и оригинальными, а если крупу ещё и подкрасить, то яркими и привлекательны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Для работы подходят манка и рис, пшено и гречка, горох и любые семечки, - всё. Что можно наклеить. Здесь главное – проявить фантазию. А картины из круп – это красивое украшение для до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Рисунок 3" descr="E:\DCIM\103SSCAM\SDC19577.JPG"/>
          <p:cNvPicPr/>
          <p:nvPr/>
        </p:nvPicPr>
        <p:blipFill>
          <a:blip r:embed="rId1"/>
          <a:stretch/>
        </p:blipFill>
        <p:spPr>
          <a:xfrm>
            <a:off x="5857920" y="2357280"/>
            <a:ext cx="31431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Bookman Old Style"/>
              </a:rPr>
              <a:t>Кружок «КРУПЕНИЧ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61437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Актуальность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нетрадиционные техники дают возможность создавать доступными, простыми средствами интересные по содержанию образы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развивают уверенность в своих силах, побуждают к творческим поискам и решения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разнообразие деятельности способствует разностороннему развитию ребенк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реализуются его потенциальные возможности и первые проявления творче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Рисунок 3" descr="C:\Documents and Settings\User\Рабочий стол\кружок\P1010684.JPG"/>
          <p:cNvPicPr/>
          <p:nvPr/>
        </p:nvPicPr>
        <p:blipFill>
          <a:blip r:embed="rId1"/>
          <a:stretch/>
        </p:blipFill>
        <p:spPr>
          <a:xfrm>
            <a:off x="6500880" y="3357720"/>
            <a:ext cx="2476440" cy="33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28520" y="274680"/>
            <a:ext cx="5143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Bookman Old Style"/>
              </a:rPr>
              <a:t>Цели кружковой деятельнос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0004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-   Развитие мелкой моторики через занятия продуктивной деятельностью в рамках круж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-   Развитие творческих способностей, формирование у детей чувства прекрасного, развитие воображения, самостоятельности, настойчивости, аккуратности, трудолюб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Рисунок 3" descr="C:\Documents and Settings\User\Рабочий стол\IMG_20160419_161215.jpg"/>
          <p:cNvPicPr/>
          <p:nvPr/>
        </p:nvPicPr>
        <p:blipFill>
          <a:blip r:embed="rId1"/>
          <a:stretch/>
        </p:blipFill>
        <p:spPr>
          <a:xfrm>
            <a:off x="1214280" y="3467160"/>
            <a:ext cx="392940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Bookman Old Style"/>
              </a:rPr>
              <a:t> </a:t>
            </a:r>
            <a:r>
              <a:rPr b="1" i="1" lang="ru-RU" sz="4000" spc="-1" strike="noStrike">
                <a:solidFill>
                  <a:srgbClr val="7030a0"/>
                </a:solidFill>
                <a:latin typeface="Bookman Old Style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536640" y="1071360"/>
            <a:ext cx="56070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Calibri"/>
              </a:rPr>
              <a:t>- Развивать речь детей, взаимодействуя на мелкую моторику пальцев рук, используя художественные произведения, пальчиковую и артикуляционную гимнаст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alibri"/>
              </a:rPr>
              <a:t>- Учить узнавать и называть крупу. Зёрна, семечки, косточки, а также разбирать и перебирать 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alibri"/>
              </a:rPr>
              <a:t>- Развивать воображение, усидчивость, координацию дви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alibri"/>
              </a:rPr>
              <a:t>- Вызывать желание добиваться желаемого результата, снятие эмоционального напря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Рисунок 3" descr="C:\Documents and Settings\User\Рабочий стол\IMG_20160415_154923.jpg"/>
          <p:cNvPicPr/>
          <p:nvPr/>
        </p:nvPicPr>
        <p:blipFill>
          <a:blip r:embed="rId1"/>
          <a:stretch/>
        </p:blipFill>
        <p:spPr>
          <a:xfrm>
            <a:off x="0" y="1643040"/>
            <a:ext cx="35719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Bookman Old Style"/>
              </a:rPr>
              <a:t>Рисование на круп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Содержимое 3" descr="C:\Documents and Settings\User\Рабочий стол\IMG_20160419_154457.jpg"/>
          <p:cNvPicPr/>
          <p:nvPr/>
        </p:nvPicPr>
        <p:blipFill>
          <a:blip r:embed="rId1"/>
          <a:stretch/>
        </p:blipFill>
        <p:spPr>
          <a:xfrm>
            <a:off x="285840" y="2071800"/>
            <a:ext cx="4160880" cy="34830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3" descr="E:\DCIM\103SSCAM\SDC19583.JPG"/>
          <p:cNvPicPr/>
          <p:nvPr/>
        </p:nvPicPr>
        <p:blipFill>
          <a:blip r:embed="rId2"/>
          <a:stretch/>
        </p:blipFill>
        <p:spPr>
          <a:xfrm>
            <a:off x="4929120" y="1214280"/>
            <a:ext cx="3438720" cy="257832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4" descr="E:\DCIM\103SSCAM\SDC19582.JPG"/>
          <p:cNvPicPr/>
          <p:nvPr/>
        </p:nvPicPr>
        <p:blipFill>
          <a:blip r:embed="rId3"/>
          <a:stretch/>
        </p:blipFill>
        <p:spPr>
          <a:xfrm>
            <a:off x="5643720" y="3929040"/>
            <a:ext cx="3500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71600" y="188640"/>
            <a:ext cx="5072040" cy="21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7030a0"/>
                </a:solidFill>
                <a:latin typeface="Bookman Old Style"/>
              </a:rPr>
              <a:t>Рисование манной крупой без окрашивания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3142800"/>
            <a:ext cx="46432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На цветном фоне можно рисовать кистью клеем ПВА, а потом посыпать манкой - получится монохромный рисунок - белый на цветн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Рисунок 5" descr="E:\DCIM\103SSCAM\SDC19594.JPG"/>
          <p:cNvPicPr/>
          <p:nvPr/>
        </p:nvPicPr>
        <p:blipFill>
          <a:blip r:embed="rId1"/>
          <a:stretch/>
        </p:blipFill>
        <p:spPr>
          <a:xfrm>
            <a:off x="5643720" y="2428920"/>
            <a:ext cx="3190680" cy="425448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6" descr="E:\DCIM\103SSCAM\SDC19591.JPG"/>
          <p:cNvPicPr/>
          <p:nvPr/>
        </p:nvPicPr>
        <p:blipFill>
          <a:blip r:embed="rId2"/>
          <a:stretch/>
        </p:blipFill>
        <p:spPr>
          <a:xfrm>
            <a:off x="352440" y="357120"/>
            <a:ext cx="37908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Bookman Old Style"/>
              </a:rPr>
              <a:t>Рисование окрашенной манной крупо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424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Манную крупу окрасить в разные цвета, используя гуаш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Рисунок 7" descr="E:\DCIM\103SSCAM\SDC19578.JPG"/>
          <p:cNvPicPr/>
          <p:nvPr/>
        </p:nvPicPr>
        <p:blipFill>
          <a:blip r:embed="rId1"/>
          <a:stretch/>
        </p:blipFill>
        <p:spPr>
          <a:xfrm>
            <a:off x="2786040" y="2143080"/>
            <a:ext cx="3286080" cy="32148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8" descr="E:\DCIM\103SSCAM\SDC19584.JPG"/>
          <p:cNvPicPr/>
          <p:nvPr/>
        </p:nvPicPr>
        <p:blipFill>
          <a:blip r:embed="rId2"/>
          <a:stretch/>
        </p:blipFill>
        <p:spPr>
          <a:xfrm>
            <a:off x="6572160" y="2714760"/>
            <a:ext cx="2324160" cy="392904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9" descr="E:\DCIM\103SSCAM\SDC19585.JPG"/>
          <p:cNvPicPr/>
          <p:nvPr/>
        </p:nvPicPr>
        <p:blipFill>
          <a:blip r:embed="rId3"/>
          <a:stretch/>
        </p:blipFill>
        <p:spPr>
          <a:xfrm>
            <a:off x="109440" y="1541520"/>
            <a:ext cx="232416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3:56:06Z</dcterms:created>
  <dc:creator>User</dc:creator>
  <dc:description/>
  <dc:language>en-US</dc:language>
  <cp:lastModifiedBy>User</cp:lastModifiedBy>
  <dcterms:modified xsi:type="dcterms:W3CDTF">2017-06-12T17:24:44Z</dcterms:modified>
  <cp:revision>75</cp:revision>
  <dc:subject/>
  <dc:title>«Использование нетрадиционной техники рисования крупой». </dc:title>
</cp:coreProperties>
</file>