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3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6.jpeg" ContentType="image/jpeg"/>
  <Override PartName="/ppt/media/image28.jpeg" ContentType="image/jpeg"/>
  <Override PartName="/ppt/media/image7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1.jpeg" ContentType="image/jpeg"/>
  <Override PartName="/ppt/media/image22.jpeg" ContentType="image/jpeg"/>
  <Override PartName="/ppt/media/image10.jpeg" ContentType="image/jpeg"/>
  <Override PartName="/ppt/media/image14.png" ContentType="image/png"/>
  <Override PartName="/ppt/media/image16.jpeg" ContentType="image/jpeg"/>
  <Override PartName="/ppt/media/image17.jpeg" ContentType="image/jpeg"/>
  <Override PartName="/ppt/media/image15.png" ContentType="image/pn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10C6A-CE73-4903-849F-B9BD16EA1A1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C503C-6CCD-4FE5-ACF1-3BB02EB5059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5D50E7-2D41-421A-AD8B-378171DB7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CA3FD1-F7F0-4CEC-BAF5-E06B7145A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E083BC-6FC5-4752-BA52-A2A1569B9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04A0FF-4E66-46A5-91F9-E010820B3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35CE01-7A22-4231-B7E9-53062D647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BC5026-829D-4640-A0EB-E8A05EFBF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AA215B-5734-4B4A-8185-35B2767FF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25D506-16ED-4D68-8922-FECAC7851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35D869-3936-438E-AD8F-00BA5E743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126F22-8667-48F6-BBFE-FE5CB5E6E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98A842-DA48-4CA0-95FD-07CECD04E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5D4745-3DDF-4F1A-8E2A-D18BA6F2D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6FC9FF-E07C-4C48-ADB0-986E5AB77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B9A754-EB4E-4EAC-A007-EA98C1FB7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EAB9E4-4C28-4250-925D-79BA7612D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080BB3-5CC3-4DC8-B411-693EE3A35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C96B4F-1762-4333-88D2-0EDB696E6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5C2F0D-C1B3-4E98-9494-8075E3E42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F5F8B4-3791-4A69-99D1-219273139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B583F0-387D-41F2-8268-8ABC12026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4110EE-524C-4A86-90EE-5562287DF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6655C0-C378-430D-84C9-1FD4394EC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1C61F5-9D2B-480D-8B63-65575FC64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6EBCE0-9AB5-47F5-A225-EBFF2CA40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410CBF-F3A1-4A72-8741-B440E3526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D7224E-A62F-40E9-A62C-DDFFC438D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30A2DE-537C-4D51-886B-47FF1F667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DA68C1-64A5-4D87-B89E-16A80BA60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1DF7C8-7087-40AC-A717-545508F1D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80AFD7-AEFD-41C2-8E23-41060A763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4B2D-C0C6-461A-A4F0-8C30D2653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153E68-E4E3-4B4F-B6A3-F3B2C871D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C29FBE-54B8-4372-BDF5-E230FDEC9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4F1E93-BAB2-4222-BFB0-9C470DB80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8AF2E3-84A0-48D0-8136-4BE0E24A7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9B1CE8-94AE-4D3C-9920-7CA9C274D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33B588-BB05-4000-87C8-DDB410E95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E36E26-3EFA-4ADA-BB34-3F2955751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5EE567-9D87-422A-887E-142DC4BE5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F7B8A8-46D0-4494-B7A2-C9D1D9D14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AD4BDF-385C-40C6-BD65-4EEA622BF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FB42-406A-4345-AEF3-5FA488DAD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37CC7A-13C7-45E3-8A80-5C088F276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8CAE7E-BF99-4E51-A5FA-AD3AA6523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8AF162-4517-46D4-B7D8-A63627A2D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FB6772-9F40-4665-AB84-F332AA70E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83F71F-58FB-476B-9199-49DB376C3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3BFA-51F0-41CC-80F4-AB092B333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9E09-B359-4FDF-8E93-D288AA4B8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95D7-CE59-4964-8FCE-C9C307937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0561-3078-4004-B387-7BE15EBA3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985D-217C-4582-AA60-EC17C51C2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E878-36ED-4FF9-960F-8002C6A8E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B550-9350-439D-8F90-D855C24E2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2AD5-DC21-46EC-933B-3299C275C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4409-BA7E-4DCD-91DB-5D065346E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8DBB-5E12-4F4C-990B-3159CB031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09482-E369-4516-A99C-6C8867D1C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0FF85-68EE-4AFD-8F32-E45D3FA12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19E37-6FA3-474C-80DD-2DB3F71CC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494FC-C75C-4337-9D92-45BD32EC5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D6DCB-449F-49D3-A460-4C26B75A8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DCE73-BA79-4979-B0BF-A527D7E0E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7C392-3E33-4375-A10C-AC955156C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F7BBE-3008-4BB1-A9BD-288962E08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F6F39-8A70-4EEF-922F-13C8B653A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00F9D-CA84-488C-8E6E-569CA4FB5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4466C-97FE-41B8-9719-786AD3D3E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9388C-D3A4-451C-8694-2B2F37995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E72439-BE70-4261-867B-BDEA3C3F2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F22260-A120-484D-8B1F-5B5713CB2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877B6E-4ACC-4899-A627-AF224577E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8B72DE-6A2C-4C62-88CC-5F1755D20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2AF859-F502-4173-8409-5DF56B24F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03E027-3D6A-408D-A2F6-3E897DB14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320172-9B3E-46B5-A76E-16BFDC9EC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0E9E0B-5744-4DA6-A230-92D48BFFC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424097-A780-433D-A75E-009D3583E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9CCD90-A5F9-40A6-AA43-759DEBEF3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B0958E-075F-4959-B9F8-D88A63587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E88ECE-BE33-4B8B-8DBE-00F6C8677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3B94DB-006C-4452-83C5-AE51B663C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E53A50-C327-4C5D-AF13-C05BF3635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92B37B-9E21-4CDD-8484-BAF500CA2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85A666-5964-4CB7-9AFB-760CC49CB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55CE76-F4F1-4304-AADF-D80AFB752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1FFC41-DA5E-4776-8CD4-6F9BFDA10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7BC478-EFB3-45B6-A44D-28092F0C3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0AC014-591C-4AC9-9389-6D8793324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2E43E6-735A-4837-9272-0FD9D89BA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A5CBB3-3243-4709-845F-36BA4BC89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04B3DD-45D8-4B0A-851F-72B040199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49D4AF-26A2-44E2-B954-33FE6F859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AB0FC4-ED98-4421-9BBB-22C301815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9FF64D-FB78-43EC-B2EC-432BC5263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69E96F-E994-4BFD-B657-4BB469C07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52AC25-57A0-4F8F-B6E3-083B7A878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E8A597-4338-455E-963B-CEA8720BA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4B227F-9F64-48F3-BA61-8E3C28C1B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9D7A97-5E2A-4A56-9E41-6D146D307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D2A07C-FE9E-4ED6-ABB1-962A943E4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84912A-7E92-40F2-BD2D-8E9BE8FB9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BEE102-DDF0-4344-A9BE-25F4BD32C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F9F8E3-759C-4122-BFA8-0EB70429B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CF6D20-6AC6-4C1B-80FB-6FA2775C9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D3E04C-F47E-47DB-B9FE-ADF13D39F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F7974D-7C76-4B7E-8DF9-954FA8C48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978F8E-8AB5-4480-AC3F-BBA8DE9BE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448746-E186-405D-84E9-86D48B2B8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7E1975-8EBF-4C8C-AEF6-B93728756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1F2196-DE2B-4FD6-8DF6-C936555BA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E504A2-E307-42D0-B114-EA21DBF2D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F6CDAB-F139-421A-976E-0B4618074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6481EC-EC89-47F1-BB50-36F2FDE06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999E70-B7E8-4BC9-9359-CF5FD7563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251546-299A-44F7-A690-207E762E6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FCB0E6-D455-4070-B5B5-0DF87F16C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8121C2-3E15-42F6-AF3A-9E5647334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1E1ACF-1015-40B1-B96F-33FCF76F4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CCC330-9EB4-44D8-9973-6F37C3041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C25CA1-1DCD-4A26-A1C5-CE10D6CE5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34F7BD-3488-4A2C-947D-104287EE7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DD3BF1-86D5-4B38-A9BC-A24BEC188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D12831-B201-4FA4-BD5C-2B35706C6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A5FB17-AC06-4716-BF2C-9DEEF5845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CB9942-2E22-4963-9941-B5FA6D514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830355-7B93-46BB-BC55-E1B2F7A9E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579A8C-7B14-4700-8DDF-704968F4A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6A11F8-6DC0-4F1B-8BC4-6ED0110F9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F51CE9-9209-47A2-844B-00BF6DEF0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9F37E2-1E2D-467F-8541-6C7F35300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286097-9B28-4970-B0A1-CE7E8E424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6BC31-ECC7-4B5D-8A59-5D7E1C31DB22}" type="slidenum">
              <a:rPr b="0" lang="ru-RU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351F1-B02C-43A8-950F-4398CAF5917C}" type="slidenum">
              <a:rPr b="0" lang="ru-RU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A1A3E-824E-45D4-A9A1-75020DDB856D}" type="slidenum">
              <a:rPr b="0" lang="ru-RU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028C7-5CCC-4CF6-9E46-9FEB6C8A58A4}" type="slidenum">
              <a:rPr b="0" lang="ru-RU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54A01-49C2-4C88-86DF-01F3EDC808E1}" type="slidenum">
              <a:rPr b="0" lang="ru-RU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93954-F5B3-4402-9926-5CA636B6F112}" type="slidenum">
              <a:rPr b="0" lang="ru-RU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BFAC3-A329-42EB-9A7A-E83EB953FADA}" type="slidenum">
              <a:rPr b="0" lang="ru-RU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F6463-AE95-4DBA-8D4F-F3C50A5F3EE7}" type="slidenum">
              <a:rPr b="0" lang="ru-RU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AA697-6417-4BAB-905E-8E0FB1A7E30F}" type="slidenum">
              <a:rPr b="0" lang="ru-RU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2ADEF-6B69-464A-AA6D-F4665FF12CFA}" type="slidenum">
              <a:rPr b="0" lang="ru-RU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B09E9-5C73-4188-9136-1F3BF6750E62}" type="slidenum">
              <a:rPr b="0" lang="ru-RU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Группа 6"/>
          <p:cNvGrpSpPr/>
          <p:nvPr/>
        </p:nvGrpSpPr>
        <p:grpSpPr>
          <a:xfrm>
            <a:off x="1357200" y="928800"/>
            <a:ext cx="7500960" cy="5851080"/>
            <a:chOff x="1357200" y="928800"/>
            <a:chExt cx="7500960" cy="5851080"/>
          </a:xfrm>
        </p:grpSpPr>
        <p:pic>
          <p:nvPicPr>
            <p:cNvPr id="475" name="Прямоугольник 4" descr=""/>
            <p:cNvPicPr/>
            <p:nvPr/>
          </p:nvPicPr>
          <p:blipFill>
            <a:blip r:embed="rId1"/>
            <a:stretch/>
          </p:blipFill>
          <p:spPr>
            <a:xfrm>
              <a:off x="1357200" y="928800"/>
              <a:ext cx="7500960" cy="268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6" name="Прямоугольник 5"/>
            <p:cNvSpPr/>
            <p:nvPr/>
          </p:nvSpPr>
          <p:spPr>
            <a:xfrm>
              <a:off x="4316040" y="5040000"/>
              <a:ext cx="424764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8a0000"/>
                  </a:solidFill>
                  <a:latin typeface="Monotype Corsiva"/>
                </a:rPr>
                <a:t>Исследователь: Кириенко Ксения, 7 ле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8a0000"/>
                  </a:solidFill>
                  <a:latin typeface="Monotype Corsiva"/>
                </a:rPr>
                <a:t>Руководитель: Шубина Елена Александровн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8a0000"/>
                  </a:solidFill>
                  <a:latin typeface="Monotype Corsiva"/>
                </a:rPr>
                <a:t>2017 го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7" name="Рисунок 7" descr="http://natural-medicine.ru/uploads/posts/2010-04/1270630864_germs.jpg"/>
          <p:cNvPicPr/>
          <p:nvPr/>
        </p:nvPicPr>
        <p:blipFill>
          <a:blip r:embed="rId2"/>
          <a:stretch/>
        </p:blipFill>
        <p:spPr>
          <a:xfrm>
            <a:off x="1357200" y="3929040"/>
            <a:ext cx="321480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22960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Чистые ручки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1143000" y="1142640"/>
            <a:ext cx="778680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же микробы попадают в наш организм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для профилактики различных заболеваний необходимо соблюдать чистоту рук, тщательно мыть руки мыло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5" name="Рисунок 5" descr="G:\DCIM\102_PANA\P1020221.JPG"/>
          <p:cNvPicPr/>
          <p:nvPr/>
        </p:nvPicPr>
        <p:blipFill>
          <a:blip r:embed="rId1"/>
          <a:stretch/>
        </p:blipFill>
        <p:spPr>
          <a:xfrm>
            <a:off x="1071720" y="2571840"/>
            <a:ext cx="1714320" cy="2357280"/>
          </a:xfrm>
          <a:prstGeom prst="rect">
            <a:avLst/>
          </a:prstGeom>
          <a:ln w="0">
            <a:noFill/>
          </a:ln>
        </p:spPr>
      </p:pic>
      <p:pic>
        <p:nvPicPr>
          <p:cNvPr id="516" name="Рисунок 6" descr="G:\DCIM\102_PANA\P1020222.JPG"/>
          <p:cNvPicPr/>
          <p:nvPr/>
        </p:nvPicPr>
        <p:blipFill>
          <a:blip r:embed="rId2"/>
          <a:stretch/>
        </p:blipFill>
        <p:spPr>
          <a:xfrm>
            <a:off x="3071880" y="1928880"/>
            <a:ext cx="1785960" cy="2571840"/>
          </a:xfrm>
          <a:prstGeom prst="rect">
            <a:avLst/>
          </a:prstGeom>
          <a:ln w="0">
            <a:noFill/>
          </a:ln>
        </p:spPr>
      </p:pic>
      <p:pic>
        <p:nvPicPr>
          <p:cNvPr id="517" name="Рисунок 7" descr="G:\DCIM\102_PANA\P1020224.JPG"/>
          <p:cNvPicPr/>
          <p:nvPr/>
        </p:nvPicPr>
        <p:blipFill>
          <a:blip r:embed="rId3"/>
          <a:stretch/>
        </p:blipFill>
        <p:spPr>
          <a:xfrm>
            <a:off x="5000760" y="2500200"/>
            <a:ext cx="1928520" cy="2428920"/>
          </a:xfrm>
          <a:prstGeom prst="rect">
            <a:avLst/>
          </a:prstGeom>
          <a:ln w="0">
            <a:noFill/>
          </a:ln>
        </p:spPr>
      </p:pic>
      <p:pic>
        <p:nvPicPr>
          <p:cNvPr id="518" name="Рисунок 8" descr="G:\DCIM\102_PANA\P1020225.JPG"/>
          <p:cNvPicPr/>
          <p:nvPr/>
        </p:nvPicPr>
        <p:blipFill>
          <a:blip r:embed="rId4"/>
          <a:stretch/>
        </p:blipFill>
        <p:spPr>
          <a:xfrm>
            <a:off x="7072200" y="1785960"/>
            <a:ext cx="178596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357120"/>
            <a:ext cx="8229600" cy="2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Чих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1000080" y="1000080"/>
            <a:ext cx="7686720" cy="55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кробы от больного человека, через кашель или  чихание, могут попасть к здоровом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гда человек болен, чихает, микробы «разлетаются» повсюду, для этого необходимо для предотвращения прикрывать рот рукой или пользоваться носовым платко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1" name="Рисунок 3" descr="G:\DCIM\102_PANA\P1020209.JPG"/>
          <p:cNvPicPr/>
          <p:nvPr/>
        </p:nvPicPr>
        <p:blipFill>
          <a:blip r:embed="rId1"/>
          <a:stretch/>
        </p:blipFill>
        <p:spPr>
          <a:xfrm>
            <a:off x="2214720" y="2214720"/>
            <a:ext cx="450036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Опыт с зеркалом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928800" y="1143000"/>
            <a:ext cx="77580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 от вредных микробов можно защититьс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Прямоугольник 3"/>
          <p:cNvSpPr/>
          <p:nvPr/>
        </p:nvSpPr>
        <p:spPr>
          <a:xfrm>
            <a:off x="1500120" y="5857920"/>
            <a:ext cx="657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вязка защищает от микроб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5" name="Рисунок 4" descr="F:\DCIM\102_PANA\P1020204.JPG"/>
          <p:cNvPicPr/>
          <p:nvPr/>
        </p:nvPicPr>
        <p:blipFill>
          <a:blip r:embed="rId1"/>
          <a:stretch/>
        </p:blipFill>
        <p:spPr>
          <a:xfrm>
            <a:off x="1428840" y="2000160"/>
            <a:ext cx="2143080" cy="3248280"/>
          </a:xfrm>
          <a:prstGeom prst="rect">
            <a:avLst/>
          </a:prstGeom>
          <a:ln w="0">
            <a:noFill/>
          </a:ln>
        </p:spPr>
      </p:pic>
      <p:pic>
        <p:nvPicPr>
          <p:cNvPr id="526" name="Рисунок 5" descr="F:\DCIM\102_PANA\P1020206.JPG"/>
          <p:cNvPicPr/>
          <p:nvPr/>
        </p:nvPicPr>
        <p:blipFill>
          <a:blip r:embed="rId2"/>
          <a:stretch/>
        </p:blipFill>
        <p:spPr>
          <a:xfrm>
            <a:off x="3857760" y="2000160"/>
            <a:ext cx="2214360" cy="3214800"/>
          </a:xfrm>
          <a:prstGeom prst="rect">
            <a:avLst/>
          </a:prstGeom>
          <a:ln w="0">
            <a:noFill/>
          </a:ln>
        </p:spPr>
      </p:pic>
      <p:pic>
        <p:nvPicPr>
          <p:cNvPr id="527" name="Рисунок 6" descr="F:\DCIM\102_PANA\P1020201.JPG"/>
          <p:cNvPicPr/>
          <p:nvPr/>
        </p:nvPicPr>
        <p:blipFill>
          <a:blip r:embed="rId3"/>
          <a:stretch/>
        </p:blipFill>
        <p:spPr>
          <a:xfrm>
            <a:off x="6286680" y="2000160"/>
            <a:ext cx="214308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229600" cy="4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ключение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1285560" y="1071720"/>
            <a:ext cx="7643880" cy="52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оцессе исследований выяснила, что микробы опасны, но человек научился с ними боротьс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жно соблюдать личную гигиену и закалятьс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0" name="Рисунок 4" descr="F:\ксюня\DSCN1396.JPG"/>
          <p:cNvPicPr/>
          <p:nvPr/>
        </p:nvPicPr>
        <p:blipFill>
          <a:blip r:embed="rId1"/>
          <a:stretch/>
        </p:blipFill>
        <p:spPr>
          <a:xfrm>
            <a:off x="1571760" y="2928960"/>
            <a:ext cx="3128760" cy="2346480"/>
          </a:xfrm>
          <a:prstGeom prst="rect">
            <a:avLst/>
          </a:prstGeom>
          <a:ln w="0">
            <a:noFill/>
          </a:ln>
        </p:spPr>
      </p:pic>
      <p:pic>
        <p:nvPicPr>
          <p:cNvPr id="531" name="Рисунок 5" descr="F:\ксюня\DSCN1400.JPG"/>
          <p:cNvPicPr/>
          <p:nvPr/>
        </p:nvPicPr>
        <p:blipFill>
          <a:blip r:embed="rId2"/>
          <a:stretch/>
        </p:blipFill>
        <p:spPr>
          <a:xfrm>
            <a:off x="5357880" y="3857760"/>
            <a:ext cx="3143160" cy="22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спользованные ресурсы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1356840" y="1600200"/>
            <a:ext cx="7000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 М. Щетинина «Учим дошкольников думать» (игры, занятия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. Д. Морозова «Педагогическое проектирование в ДОУ: от теории к практике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. В. Микляева, Ю. Н. Родионова «Развиваем способности дошкольников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. Урмина, Т. Данилина «Инновационная деятельность в ДОУ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4" name="Рисунок 3" descr="http://natural-medicine.ru/uploads/posts/2010-04/1270630864_germs.jpg"/>
          <p:cNvPicPr/>
          <p:nvPr/>
        </p:nvPicPr>
        <p:blipFill>
          <a:blip r:embed="rId1"/>
          <a:stretch/>
        </p:blipFill>
        <p:spPr>
          <a:xfrm>
            <a:off x="6715080" y="4714920"/>
            <a:ext cx="185760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571680"/>
            <a:ext cx="82296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6" name="Содержимое 3" descr="G:\DCIM\Camera\IMG_20170327_151912.jpg"/>
          <p:cNvPicPr/>
          <p:nvPr/>
        </p:nvPicPr>
        <p:blipFill>
          <a:blip r:embed="rId1"/>
          <a:stretch/>
        </p:blipFill>
        <p:spPr>
          <a:xfrm>
            <a:off x="2714760" y="1785960"/>
            <a:ext cx="3643200" cy="40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Прямоугольник 2"/>
          <p:cNvSpPr/>
          <p:nvPr/>
        </p:nvSpPr>
        <p:spPr>
          <a:xfrm>
            <a:off x="2286000" y="4357800"/>
            <a:ext cx="378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Прямоугольник 3"/>
          <p:cNvSpPr/>
          <p:nvPr/>
        </p:nvSpPr>
        <p:spPr>
          <a:xfrm>
            <a:off x="1357200" y="357120"/>
            <a:ext cx="7500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часто слышим от взрослых: «Мойте руки перед едой! Не грызите ногти! Ешьте только чистые фрукты и овощи!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Прямоугольник 4"/>
          <p:cNvSpPr/>
          <p:nvPr/>
        </p:nvSpPr>
        <p:spPr>
          <a:xfrm>
            <a:off x="1357200" y="5643720"/>
            <a:ext cx="757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бъект исследования</a:t>
            </a: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: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кробы.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едмет исследования:</a:t>
            </a: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можно защититься от микроб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1" name="Рисунок 5" descr="http://www.vancomycin.ru/wp-content/uploads/2017/01/uchonyj1-27.jpg"/>
          <p:cNvPicPr/>
          <p:nvPr/>
        </p:nvPicPr>
        <p:blipFill>
          <a:blip r:embed="rId1"/>
          <a:stretch/>
        </p:blipFill>
        <p:spPr>
          <a:xfrm>
            <a:off x="1357200" y="1285920"/>
            <a:ext cx="2714760" cy="2071800"/>
          </a:xfrm>
          <a:prstGeom prst="rect">
            <a:avLst/>
          </a:prstGeom>
          <a:ln w="0">
            <a:noFill/>
          </a:ln>
        </p:spPr>
      </p:pic>
      <p:pic>
        <p:nvPicPr>
          <p:cNvPr id="482" name="Рисунок 6" descr="http://www.colady.ru/wp-content/uploads/2013/10/kak-otuchit-rebenka-gryizt-nogti4.jpg"/>
          <p:cNvPicPr/>
          <p:nvPr/>
        </p:nvPicPr>
        <p:blipFill>
          <a:blip r:embed="rId2"/>
          <a:stretch/>
        </p:blipFill>
        <p:spPr>
          <a:xfrm>
            <a:off x="4857840" y="1285920"/>
            <a:ext cx="3139920" cy="2000160"/>
          </a:xfrm>
          <a:prstGeom prst="rect">
            <a:avLst/>
          </a:prstGeom>
          <a:ln w="0">
            <a:noFill/>
          </a:ln>
        </p:spPr>
      </p:pic>
      <p:pic>
        <p:nvPicPr>
          <p:cNvPr id="483" name="Рисунок 7" descr="http://www.littleone.ru/public/img/articles/more/detveshi/article_1793/article_1793_1476388064687_depositphotos_53437229_m-2015.jpg"/>
          <p:cNvPicPr/>
          <p:nvPr/>
        </p:nvPicPr>
        <p:blipFill>
          <a:blip r:embed="rId3"/>
          <a:stretch/>
        </p:blipFill>
        <p:spPr>
          <a:xfrm>
            <a:off x="3071880" y="3571920"/>
            <a:ext cx="288108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Заголовок 1"/>
          <p:cNvSpPr/>
          <p:nvPr/>
        </p:nvSpPr>
        <p:spPr>
          <a:xfrm>
            <a:off x="1143000" y="642960"/>
            <a:ext cx="76867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</a:t>
            </a: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ыбор и обоснование пробле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Прямоугольник 2"/>
          <p:cNvSpPr/>
          <p:nvPr/>
        </p:nvSpPr>
        <p:spPr>
          <a:xfrm>
            <a:off x="1571760" y="1500120"/>
            <a:ext cx="692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Цель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знать, что такое микроорганизмы, как они распространяю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Прямоугольник 3"/>
          <p:cNvSpPr/>
          <p:nvPr/>
        </p:nvSpPr>
        <p:spPr>
          <a:xfrm>
            <a:off x="1643040" y="3000240"/>
            <a:ext cx="6929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ипотеза: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я узнаю, кто такие микробы и как они передаются, то смогу сохранить своё здоровь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7" name="Рисунок 4" descr="http://natural-medicine.ru/uploads/posts/2010-04/1270630864_germs.jpg"/>
          <p:cNvPicPr/>
          <p:nvPr/>
        </p:nvPicPr>
        <p:blipFill>
          <a:blip r:embed="rId1"/>
          <a:stretch/>
        </p:blipFill>
        <p:spPr>
          <a:xfrm>
            <a:off x="5857920" y="4429080"/>
            <a:ext cx="285732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/>
          <p:cNvSpPr txBox="1"/>
          <p:nvPr/>
        </p:nvSpPr>
        <p:spPr>
          <a:xfrm>
            <a:off x="1357200" y="1571400"/>
            <a:ext cx="7500960" cy="41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357200" y="642960"/>
            <a:ext cx="73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               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дачи:</a:t>
            </a:r>
            <a:br>
              <a:rPr sz="3200"/>
            </a:br>
            <a:br>
              <a:rPr sz="32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Изучить литературу по данной теме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ровести экспериментальную работу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Сделать соответствующие выводы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Воспитывать бережное отношение к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своему здоровью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0" name="Рисунок 3" descr="http://natural-medicine.ru/uploads/posts/2010-04/1270630864_germs.jpg"/>
          <p:cNvPicPr/>
          <p:nvPr/>
        </p:nvPicPr>
        <p:blipFill>
          <a:blip r:embed="rId1"/>
          <a:stretch/>
        </p:blipFill>
        <p:spPr>
          <a:xfrm>
            <a:off x="6500880" y="4714920"/>
            <a:ext cx="214308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285920" y="571680"/>
            <a:ext cx="74008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етоды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2" name="Содержимое 3" descr="F:\ксюня\DSCN1429.JPG"/>
          <p:cNvPicPr/>
          <p:nvPr/>
        </p:nvPicPr>
        <p:blipFill>
          <a:blip r:embed="rId1"/>
          <a:stretch/>
        </p:blipFill>
        <p:spPr>
          <a:xfrm>
            <a:off x="1428840" y="1571760"/>
            <a:ext cx="3214440" cy="2214360"/>
          </a:xfrm>
          <a:prstGeom prst="rect">
            <a:avLst/>
          </a:prstGeom>
          <a:ln w="0">
            <a:noFill/>
          </a:ln>
        </p:spPr>
      </p:pic>
      <p:sp>
        <p:nvSpPr>
          <p:cNvPr id="493" name="Прямоугольник 4"/>
          <p:cNvSpPr/>
          <p:nvPr/>
        </p:nvSpPr>
        <p:spPr>
          <a:xfrm>
            <a:off x="1500120" y="4071960"/>
            <a:ext cx="271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 литерату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Рисунок 5" descr="F:\ксюня\DSCN1431.JPG"/>
          <p:cNvPicPr/>
          <p:nvPr/>
        </p:nvPicPr>
        <p:blipFill>
          <a:blip r:embed="rId2"/>
          <a:stretch/>
        </p:blipFill>
        <p:spPr>
          <a:xfrm>
            <a:off x="5286240" y="2500200"/>
            <a:ext cx="3357720" cy="2251080"/>
          </a:xfrm>
          <a:prstGeom prst="rect">
            <a:avLst/>
          </a:prstGeom>
          <a:ln w="0">
            <a:noFill/>
          </a:ln>
        </p:spPr>
      </p:pic>
      <p:sp>
        <p:nvSpPr>
          <p:cNvPr id="495" name="Прямоугольник 6"/>
          <p:cNvSpPr/>
          <p:nvPr/>
        </p:nvSpPr>
        <p:spPr>
          <a:xfrm>
            <a:off x="5429160" y="1785960"/>
            <a:ext cx="321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бор материала Интерн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Прямоугольник 7"/>
          <p:cNvSpPr/>
          <p:nvPr/>
        </p:nvSpPr>
        <p:spPr>
          <a:xfrm>
            <a:off x="1285920" y="6286680"/>
            <a:ext cx="528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ктическая рабо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7" name="Рисунок 8" descr="F:\DCIM\Camera\IMG_20170329_120558.jpg"/>
          <p:cNvPicPr/>
          <p:nvPr/>
        </p:nvPicPr>
        <p:blipFill>
          <a:blip r:embed="rId3"/>
          <a:stretch/>
        </p:blipFill>
        <p:spPr>
          <a:xfrm>
            <a:off x="1571760" y="4429080"/>
            <a:ext cx="292896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500120" y="499680"/>
            <a:ext cx="750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кроб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это микроорганизмы, которые нельзя увидеть, потому что они очень, очень маленькие, меньше самых маленьких насекомых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9" name="Содержимое 3" descr="http://st2.depositphotos.com/2885805/5332/v/950/depositphotos_53324651-Bacteria-and-virus-seamless-pattern.jpg"/>
          <p:cNvPicPr/>
          <p:nvPr/>
        </p:nvPicPr>
        <p:blipFill>
          <a:blip r:embed="rId1"/>
          <a:stretch/>
        </p:blipFill>
        <p:spPr>
          <a:xfrm>
            <a:off x="5786280" y="2500200"/>
            <a:ext cx="2571840" cy="2357640"/>
          </a:xfrm>
          <a:prstGeom prst="rect">
            <a:avLst/>
          </a:prstGeom>
          <a:ln w="0">
            <a:noFill/>
          </a:ln>
        </p:spPr>
      </p:pic>
      <p:pic>
        <p:nvPicPr>
          <p:cNvPr id="500" name="Рисунок 4" descr="G:\DCIM\Camera\IMG_20170327_155523.jpg"/>
          <p:cNvPicPr/>
          <p:nvPr/>
        </p:nvPicPr>
        <p:blipFill>
          <a:blip r:embed="rId2"/>
          <a:stretch/>
        </p:blipFill>
        <p:spPr>
          <a:xfrm>
            <a:off x="1571760" y="2143080"/>
            <a:ext cx="334008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428840" y="499680"/>
            <a:ext cx="750096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некоторых микробов есть хвостики, которые называют жгутиками. Жгутики вращаются и микроб движется.  В жидкости микробы просто слегка подпрыгивают – как мячик, который мы бьём ладошкой об пол. Там, где сухо, микробы  переносит воздух (ветер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2" name="Picture 4" descr=""/>
          <p:cNvPicPr/>
          <p:nvPr/>
        </p:nvPicPr>
        <p:blipFill>
          <a:blip r:embed="rId1"/>
          <a:stretch/>
        </p:blipFill>
        <p:spPr>
          <a:xfrm>
            <a:off x="1401840" y="2279520"/>
            <a:ext cx="2950920" cy="5973840"/>
          </a:xfrm>
          <a:prstGeom prst="rect">
            <a:avLst/>
          </a:prstGeom>
          <a:ln w="0">
            <a:noFill/>
          </a:ln>
        </p:spPr>
      </p:pic>
      <p:pic>
        <p:nvPicPr>
          <p:cNvPr id="503" name="Рисунок 5" descr="ecoli.jpg"/>
          <p:cNvPicPr/>
          <p:nvPr/>
        </p:nvPicPr>
        <p:blipFill>
          <a:blip r:embed="rId2"/>
          <a:stretch/>
        </p:blipFill>
        <p:spPr>
          <a:xfrm>
            <a:off x="4925880" y="2706840"/>
            <a:ext cx="3297240" cy="31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Прямоугольник 1"/>
          <p:cNvSpPr/>
          <p:nvPr/>
        </p:nvSpPr>
        <p:spPr>
          <a:xfrm>
            <a:off x="3071880" y="428760"/>
            <a:ext cx="407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Микробы в воде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Прямоугольник 2"/>
          <p:cNvSpPr/>
          <p:nvPr/>
        </p:nvSpPr>
        <p:spPr>
          <a:xfrm flipV="1" rot="10800000">
            <a:off x="1499760" y="979200"/>
            <a:ext cx="728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кробы очень маленькие и их можно увидеть только с помощью микроскоп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 flipV="1" rot="10800000">
            <a:off x="1571400" y="5738760"/>
            <a:ext cx="7072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даже в маленькой капельке воды живет много микробов, поэтому неочищенную воду  пить нельз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7" name="Рисунок 5" descr="F:\DCIM\Camera\IMG_20170329_120558.jpg"/>
          <p:cNvPicPr/>
          <p:nvPr/>
        </p:nvPicPr>
        <p:blipFill>
          <a:blip r:embed="rId1"/>
          <a:stretch/>
        </p:blipFill>
        <p:spPr>
          <a:xfrm>
            <a:off x="2286000" y="2071800"/>
            <a:ext cx="52149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Плесень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1356840" y="1143000"/>
            <a:ext cx="7572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растут и размножаются микробы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Rectangle 1"/>
          <p:cNvSpPr/>
          <p:nvPr/>
        </p:nvSpPr>
        <p:spPr>
          <a:xfrm flipV="1" rot="10800000">
            <a:off x="1499760" y="5436720"/>
            <a:ext cx="7286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.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кроорганизмы очень быстро размножаются и вызывают порчу продуктов. Плесень очень страшна. Она заразила весь хлеб. Есть такой продукт нельзя – он испорче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1" name="Рисунок 4" descr="G:\WhatsApp\Media\WhatsApp Images\IMG-20170323-WA0000.jpg"/>
          <p:cNvPicPr/>
          <p:nvPr/>
        </p:nvPicPr>
        <p:blipFill>
          <a:blip r:embed="rId1"/>
          <a:stretch/>
        </p:blipFill>
        <p:spPr>
          <a:xfrm>
            <a:off x="1643040" y="2071800"/>
            <a:ext cx="2589120" cy="2803320"/>
          </a:xfrm>
          <a:prstGeom prst="rect">
            <a:avLst/>
          </a:prstGeom>
          <a:ln w="0">
            <a:noFill/>
          </a:ln>
        </p:spPr>
      </p:pic>
      <p:pic>
        <p:nvPicPr>
          <p:cNvPr id="512" name="Рисунок 5" descr="G:\WhatsApp\Media\WhatsApp Images\IMG-20170323-WA0001.jpg"/>
          <p:cNvPicPr/>
          <p:nvPr/>
        </p:nvPicPr>
        <p:blipFill>
          <a:blip r:embed="rId2"/>
          <a:stretch/>
        </p:blipFill>
        <p:spPr>
          <a:xfrm>
            <a:off x="5072040" y="2071800"/>
            <a:ext cx="2733840" cy="28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07T17:01:55Z</dcterms:created>
  <dc:creator>Фокина Лидия Петровна</dc:creator>
  <dc:description/>
  <cp:keywords>Шаблон презентации</cp:keywords>
  <dc:language>en-US</dc:language>
  <cp:lastModifiedBy>User</cp:lastModifiedBy>
  <dcterms:modified xsi:type="dcterms:W3CDTF">2017-06-12T18:37:00Z</dcterms:modified>
  <cp:revision>105</cp:revision>
  <dc:subject/>
  <dc:title>Тетрадь на спирали</dc:title>
</cp:coreProperties>
</file>