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93B0-D122-4B01-AD70-7C430E9EA2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669B-9357-48ED-8814-6BFBC4DC26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507B5-3AE7-4F15-B2E2-BFE772C7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2D6F3-B9F1-420C-8F44-2080181F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F9EF1-17A3-4589-BB8A-9BAB9A00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F7D5A-88E5-405D-BFD8-9F9C42DE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D1C8A-27B0-41E6-A1D8-CE12AA94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9A612-EC35-415D-B0D5-9B90D582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0A6FF-3B84-44E8-872A-0AC5F53E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A49C5-7F69-429F-BC45-E028A486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40324-EBB2-4E50-9939-A88E17F4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87C23-E346-4580-8687-07524174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75217-23C8-424E-95EA-5E793677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1547E-22A9-4A7A-AFB8-65A2A85A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8B01B-BA32-459B-86DC-EA45565E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6F3B9-C40B-4C05-8122-C1292D43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CA836-A766-4D67-B66C-EFB182EA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18A49-F0D8-4CAD-9F5C-3BD7743F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49458-8525-4185-992A-BA101004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0848D-F8D4-4368-A286-62EBB6CE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7F4BE-45B9-460E-9F08-E4B2946C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5F376-2F4E-4C5F-966D-6AF3273E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0571F-A866-4233-84A2-6FE8EFFD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F6BB3-2267-4268-9B41-9C53D4D2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25EED-3120-4C80-A31B-2867ED03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0009B-A2CB-4A72-BF23-2DBCAAF6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C3F33-2828-415C-B116-F6B5B1D3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78ED6-21C4-4450-9C03-59507A6B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0DE3B-8EE1-43DA-A8A4-21072CC6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B8D06-3AA0-4280-982A-42AA9249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80A5B-8673-4BE9-8B92-D0DCB077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9ED13-FCE7-4801-B993-F8A37F34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D35-749B-4325-85CA-4ED24B52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1BC9D-65E1-4B26-BB35-CC25C2F7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5A428-E234-453F-BE82-A475F22A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BC265-A22E-40D9-B283-0A2A2A81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3FA9A-5F9D-489C-819F-99E2BEB4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8F844-041C-4A7A-9B2B-EE3ECE41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C2DAA-35A7-4426-B317-F9D9CBA6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3A17A-2000-418F-8B4F-9F9882A5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0C720-2D5C-44D1-B65F-E6BB2955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3F821-FBCF-4E86-B7C6-2BE572A4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538AF-2E07-43DE-A0F5-3B2E739D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497-C788-4F03-80A5-02D78DDA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DEC21-52FB-4B92-860C-B2BDDA19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F4970-1A00-4D2C-9F69-08CBDB26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1EA22-0AFE-421B-8CC4-67B9CC06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C7181-CA0E-4D0E-99E6-44BD865A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26458-A3B9-47B8-921B-1A6C2B20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D91-6FA7-4C99-A35C-C4547480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738-CFBE-499B-B441-14DE6A3D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2502-3D2D-495A-AB42-C9C54AFD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897-C607-4634-9215-DDDF5BE7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0DC7-A43D-43B9-BAC3-B7B4A086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F0C2-2D29-4F44-86E5-11EF8772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741-9D03-453A-A811-EBD1F875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50D-39E5-4070-AE07-311E55BE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D41-3D1A-4A64-9C94-1B0EE7FB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CF3-E40E-47A8-90CC-E63C1984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5F36-A650-41B4-A50C-E098CBBB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25F8-FF6E-4CBD-A387-723C99E1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AA5F-BF3C-4EE7-AA65-93D747C7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06F8-162E-4087-A06A-6EA57873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B362-8731-4C4E-91DE-B535781D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2F58-2763-4A29-9DD7-8DD9775D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8560-4488-42B6-8F35-FE803583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B843-E996-491C-B335-4945459B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440E-8892-4C25-83F4-089C6CF2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F236-91FF-431C-87AF-D83D3F36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EA7D-1856-40A5-B0A1-9B146D6E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D748-6BE1-41EA-B9EB-55E3CB86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3B5E7-CA78-4384-8FCB-BD8C02C6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3B2ED-4C15-44FA-9E28-6B83E602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D288E-0B08-49BB-901F-7282E4F9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4FE41-6F77-4BD7-AA2D-6D3C895E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B1F1B-86A7-4D8C-96D0-6CEA2F23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B4EE3-4AE8-445E-B1AD-663B5323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7B236-25BA-4F3A-8970-DD3B2756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EF742-88BF-44AA-BFA4-0E8B53B8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46E33-1626-414E-ABD0-CE3D0201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4C715-3A40-40BB-9850-63D15B8D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6D58F-FE78-40C1-9BC5-4E8953C4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6F505-B3FA-48FD-BE4B-5F13BB57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3DE4E-D607-4F34-BE21-CD5E84B0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5C133-C2FC-4B1D-A8B6-F662B0AB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05926-334C-4276-839D-D9EEB64F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C754B-438E-454D-845B-58FA38E8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24ED2-E381-4D72-A5F0-58594054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23A1C-D251-43DE-ADF5-F6C31BCD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C7B10-50AF-49DA-AAAE-F33F0ACA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6D138-C629-4C68-949A-ADA7AF5A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51896-0875-4E24-ADEF-88F2BDD6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D2D35-B785-4CA3-B784-50C54DCA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4C74B-2C34-4CEF-BC79-16FEDC8D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06D5E-713F-4C8B-80D1-CD93DA9B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330CB-920B-410A-8E93-A358DE03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F940D-265D-491D-B55B-4911C93B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D7838-9D07-47C9-98EF-45ED60E3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7318C-70B7-47CF-98A9-4B5DCC03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F3961-AA3F-4760-A51E-9417A915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0FE61-170B-40B3-8327-AF35D0EF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FA623-0A13-43B8-8DA9-BC7D4F7A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85C13-535E-47A2-9005-96BF0C0B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C7840-ED14-4FFD-A432-5661F7F5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4692E-56D9-41BA-8657-C16CA6F4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D851B-97A4-471A-B190-E4AB5952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2652C-F202-48F6-9EC8-7E4959D8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81773-B7D1-428E-857C-F1E0699B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42819-8E9F-4CB1-A585-BDCAA861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7928B-C53F-4339-A8C2-22ABCBA9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160E1-197D-491F-805B-FC6EDC05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C4D7F-86A2-4737-AFC0-2668D443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EB6F8-BAA7-435B-AF83-ACE05F6F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947BE-F577-42D3-978E-620722CC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456DB-1387-464B-9C54-DDB58992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F667F-7DCC-4FC1-9C4E-4543ED24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9EB4F-6F85-4B40-9FC7-D491071C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30567-5994-4857-8F81-48353365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32C0C-B973-4A3D-858A-AF4519A1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B613A-0118-4930-BEF6-378CF3A4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94CD4-A747-48DD-A871-4E23FE77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B1F4C-74E2-4313-AECB-F5F5237E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C5F40-37F7-4295-8152-A7CC3971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05256-AB7B-4979-BECC-53179E5F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A2441-BEE5-43DC-8F69-6F8A6E0C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311D7-F21E-43B2-9372-C17A839B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02DAA-0D61-4E41-A742-CEAB662A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12AB9-F165-469C-8D31-B749D3AC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1CD04-70CB-498D-8D1C-0CE599F6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CB641-EDF8-4E16-BCEF-3F4DA811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76BF5-37FA-4EF8-8385-95F1338F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91A74-F42B-43E6-9308-00A78C05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34C51-BBB3-489C-902D-5691BD94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8BAB1-056F-42BF-A639-35E48FF1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0FA2-DBDD-4A66-B43D-D9D7F7B2CCEF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D783-A25C-4793-B9DD-C3EDCD74ACC1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07E0-7377-40B6-B037-7B596FB39A87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3CF2-724B-4193-B98C-B7DA72822FF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DD47-3E23-4F88-B055-8D73B56EC5F9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A01D-2989-4F24-8454-B46F0324DAD5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7B87-FD8E-4BBC-A251-95B486DB9AB5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F05C-D91A-4A72-9647-617187B55770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12BA-A767-44D3-BCE6-3B723148FCAE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C6F3-D448-4915-829B-C27F3D5ECF9A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60F9-27DC-415D-93B8-B12FFD4471F7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Группа 6"/>
          <p:cNvGrpSpPr/>
          <p:nvPr/>
        </p:nvGrpSpPr>
        <p:grpSpPr>
          <a:xfrm>
            <a:off x="1357200" y="928800"/>
            <a:ext cx="7500960" cy="5851080"/>
            <a:chOff x="1357200" y="928800"/>
            <a:chExt cx="7500960" cy="5851080"/>
          </a:xfrm>
        </p:grpSpPr>
        <p:pic>
          <p:nvPicPr>
            <p:cNvPr id="475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357200" y="928800"/>
              <a:ext cx="7500960" cy="268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Прямоугольник 5"/>
            <p:cNvSpPr/>
            <p:nvPr/>
          </p:nvSpPr>
          <p:spPr>
            <a:xfrm>
              <a:off x="4316040" y="5040000"/>
              <a:ext cx="4247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a0000"/>
                  </a:solidFill>
                  <a:latin typeface="Monotype Corsiva"/>
                </a:rPr>
                <a:t>Исследователь: Кириенко Ксения, 7 л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a0000"/>
                  </a:solidFill>
                  <a:latin typeface="Monotype Corsiva"/>
                </a:rPr>
                <a:t>Руководитель: Шубина Елена Александров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a0000"/>
                  </a:solidFill>
                  <a:latin typeface="Monotype Corsiva"/>
                </a:rPr>
                <a:t>2017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7" name="Рисунок 7" descr="http://natural-medicine.ru/uploads/posts/2010-04/1270630864_germs.jpg"/>
          <p:cNvPicPr/>
          <p:nvPr/>
        </p:nvPicPr>
        <p:blipFill>
          <a:blip r:embed="rId2"/>
          <a:stretch/>
        </p:blipFill>
        <p:spPr>
          <a:xfrm>
            <a:off x="1357200" y="3929040"/>
            <a:ext cx="32148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стые ручк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143000" y="1142640"/>
            <a:ext cx="77868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микробы попадают в наш организ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ля профилактики различных заболеваний необходимо соблюдать чистоту рук, тщательно мыть руки мыл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Рисунок 5" descr="G:\DCIM\102_PANA\P1020221.JPG"/>
          <p:cNvPicPr/>
          <p:nvPr/>
        </p:nvPicPr>
        <p:blipFill>
          <a:blip r:embed="rId1"/>
          <a:stretch/>
        </p:blipFill>
        <p:spPr>
          <a:xfrm>
            <a:off x="1071720" y="2571840"/>
            <a:ext cx="1714320" cy="235728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6" descr="G:\DCIM\102_PANA\P1020222.JPG"/>
          <p:cNvPicPr/>
          <p:nvPr/>
        </p:nvPicPr>
        <p:blipFill>
          <a:blip r:embed="rId2"/>
          <a:stretch/>
        </p:blipFill>
        <p:spPr>
          <a:xfrm>
            <a:off x="3071880" y="1928880"/>
            <a:ext cx="1785960" cy="257184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7" descr="G:\DCIM\102_PANA\P1020224.JPG"/>
          <p:cNvPicPr/>
          <p:nvPr/>
        </p:nvPicPr>
        <p:blipFill>
          <a:blip r:embed="rId3"/>
          <a:stretch/>
        </p:blipFill>
        <p:spPr>
          <a:xfrm>
            <a:off x="5000760" y="2500200"/>
            <a:ext cx="1928520" cy="242892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8" descr="G:\DCIM\102_PANA\P1020225.JPG"/>
          <p:cNvPicPr/>
          <p:nvPr/>
        </p:nvPicPr>
        <p:blipFill>
          <a:blip r:embed="rId4"/>
          <a:stretch/>
        </p:blipFill>
        <p:spPr>
          <a:xfrm>
            <a:off x="7072200" y="1785960"/>
            <a:ext cx="1785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Чи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000080" y="1000080"/>
            <a:ext cx="7686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ы от больного человека, через кашель или  чихание, могут попасть к здорово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гда человек болен, чихает, микробы «разлетаются» повсюду, для этого необходимо для предотвращения прикрывать рот рукой или пользоваться носовым плат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Рисунок 3" descr="G:\DCIM\102_PANA\P1020209.JPG"/>
          <p:cNvPicPr/>
          <p:nvPr/>
        </p:nvPicPr>
        <p:blipFill>
          <a:blip r:embed="rId1"/>
          <a:stretch/>
        </p:blipFill>
        <p:spPr>
          <a:xfrm>
            <a:off x="2214720" y="2214720"/>
            <a:ext cx="4500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пыт с зеркал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928800" y="1143000"/>
            <a:ext cx="7758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т вредных микробов можно защити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Прямоугольник 3"/>
          <p:cNvSpPr/>
          <p:nvPr/>
        </p:nvSpPr>
        <p:spPr>
          <a:xfrm>
            <a:off x="1500120" y="58579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язка защищает от микроб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Рисунок 4" descr="F:\DCIM\102_PANA\P1020204.JPG"/>
          <p:cNvPicPr/>
          <p:nvPr/>
        </p:nvPicPr>
        <p:blipFill>
          <a:blip r:embed="rId1"/>
          <a:stretch/>
        </p:blipFill>
        <p:spPr>
          <a:xfrm>
            <a:off x="1428840" y="2000160"/>
            <a:ext cx="2143080" cy="324828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5" descr="F:\DCIM\102_PANA\P1020206.JPG"/>
          <p:cNvPicPr/>
          <p:nvPr/>
        </p:nvPicPr>
        <p:blipFill>
          <a:blip r:embed="rId2"/>
          <a:stretch/>
        </p:blipFill>
        <p:spPr>
          <a:xfrm>
            <a:off x="3857760" y="2000160"/>
            <a:ext cx="2214360" cy="321480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6" descr="F:\DCIM\102_PANA\P1020201.JPG"/>
          <p:cNvPicPr/>
          <p:nvPr/>
        </p:nvPicPr>
        <p:blipFill>
          <a:blip r:embed="rId3"/>
          <a:stretch/>
        </p:blipFill>
        <p:spPr>
          <a:xfrm>
            <a:off x="6286680" y="2000160"/>
            <a:ext cx="2143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лючени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285560" y="1071720"/>
            <a:ext cx="7643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исследований выяснила, что микробы опасны, но человек научился с ними боро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соблюдать личную гигиену и закаля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Рисунок 4" descr="F:\ксюня\DSCN1396.JPG"/>
          <p:cNvPicPr/>
          <p:nvPr/>
        </p:nvPicPr>
        <p:blipFill>
          <a:blip r:embed="rId1"/>
          <a:stretch/>
        </p:blipFill>
        <p:spPr>
          <a:xfrm>
            <a:off x="1571760" y="2928960"/>
            <a:ext cx="3128760" cy="2346480"/>
          </a:xfrm>
          <a:prstGeom prst="rect">
            <a:avLst/>
          </a:prstGeom>
          <a:ln w="0">
            <a:noFill/>
          </a:ln>
        </p:spPr>
      </p:pic>
      <p:pic>
        <p:nvPicPr>
          <p:cNvPr id="531" name="Рисунок 5" descr="F:\ксюня\DSCN1400.JPG"/>
          <p:cNvPicPr/>
          <p:nvPr/>
        </p:nvPicPr>
        <p:blipFill>
          <a:blip r:embed="rId2"/>
          <a:stretch/>
        </p:blipFill>
        <p:spPr>
          <a:xfrm>
            <a:off x="5357880" y="3857760"/>
            <a:ext cx="31431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ованные ресур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356840" y="1600200"/>
            <a:ext cx="70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М. Щетинина «Учим дошкольников думать» (игры, занят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 Д. Морозова «Педагогическое проектирование в ДОУ: от теории к практик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В. Микляева, Ю. Н. Родионова «Развиваем способности дошкольников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Урмина, Т. Данилина «Инновационная деятельность в ДО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Рисунок 3" descr="http://natural-medicine.ru/uploads/posts/2010-04/1270630864_germs.jpg"/>
          <p:cNvPicPr/>
          <p:nvPr/>
        </p:nvPicPr>
        <p:blipFill>
          <a:blip r:embed="rId1"/>
          <a:stretch/>
        </p:blipFill>
        <p:spPr>
          <a:xfrm>
            <a:off x="6715080" y="4714920"/>
            <a:ext cx="18576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Содержимое 3" descr="G:\DCIM\Camera\IMG_20170327_151912.jpg"/>
          <p:cNvPicPr/>
          <p:nvPr/>
        </p:nvPicPr>
        <p:blipFill>
          <a:blip r:embed="rId1"/>
          <a:stretch/>
        </p:blipFill>
        <p:spPr>
          <a:xfrm>
            <a:off x="2714760" y="1785960"/>
            <a:ext cx="364320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Прямоугольник 2"/>
          <p:cNvSpPr/>
          <p:nvPr/>
        </p:nvSpPr>
        <p:spPr>
          <a:xfrm>
            <a:off x="2286000" y="43578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3"/>
          <p:cNvSpPr/>
          <p:nvPr/>
        </p:nvSpPr>
        <p:spPr>
          <a:xfrm>
            <a:off x="1357200" y="357120"/>
            <a:ext cx="750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часто слышим от взрослых: «Мойте руки перед едой! Не грызите ногти! Ешьте только чистые фрукты и овощи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4"/>
          <p:cNvSpPr/>
          <p:nvPr/>
        </p:nvSpPr>
        <p:spPr>
          <a:xfrm>
            <a:off x="1357200" y="564372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ект исследования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ы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защититься от микро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Рисунок 5" descr="http://www.vancomycin.ru/wp-content/uploads/2017/01/uchonyj1-27.jpg"/>
          <p:cNvPicPr/>
          <p:nvPr/>
        </p:nvPicPr>
        <p:blipFill>
          <a:blip r:embed="rId1"/>
          <a:stretch/>
        </p:blipFill>
        <p:spPr>
          <a:xfrm>
            <a:off x="1357200" y="128592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6" descr="http://www.colady.ru/wp-content/uploads/2013/10/kak-otuchit-rebenka-gryizt-nogti4.jpg"/>
          <p:cNvPicPr/>
          <p:nvPr/>
        </p:nvPicPr>
        <p:blipFill>
          <a:blip r:embed="rId2"/>
          <a:stretch/>
        </p:blipFill>
        <p:spPr>
          <a:xfrm>
            <a:off x="4857840" y="1285920"/>
            <a:ext cx="3139920" cy="200016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7" descr="http://www.littleone.ru/public/img/articles/more/detveshi/article_1793/article_1793_1476388064687_depositphotos_53437229_m-2015.jpg"/>
          <p:cNvPicPr/>
          <p:nvPr/>
        </p:nvPicPr>
        <p:blipFill>
          <a:blip r:embed="rId3"/>
          <a:stretch/>
        </p:blipFill>
        <p:spPr>
          <a:xfrm>
            <a:off x="3071880" y="3571920"/>
            <a:ext cx="2881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Заголовок 1"/>
          <p:cNvSpPr/>
          <p:nvPr/>
        </p:nvSpPr>
        <p:spPr>
          <a:xfrm>
            <a:off x="1143000" y="642960"/>
            <a:ext cx="7686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бор и обоснование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"/>
          <p:cNvSpPr/>
          <p:nvPr/>
        </p:nvSpPr>
        <p:spPr>
          <a:xfrm>
            <a:off x="1571760" y="1500120"/>
            <a:ext cx="69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, что такое микроорганизмы, как они распростран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3"/>
          <p:cNvSpPr/>
          <p:nvPr/>
        </p:nvSpPr>
        <p:spPr>
          <a:xfrm>
            <a:off x="1643040" y="3000240"/>
            <a:ext cx="692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я узнаю, кто такие микробы и как они передаются, то смогу сохранить своё здор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Рисунок 4" descr="http://natural-medicine.ru/uploads/posts/2010-04/1270630864_germs.jpg"/>
          <p:cNvPicPr/>
          <p:nvPr/>
        </p:nvPicPr>
        <p:blipFill>
          <a:blip r:embed="rId1"/>
          <a:stretch/>
        </p:blipFill>
        <p:spPr>
          <a:xfrm>
            <a:off x="5857920" y="4429080"/>
            <a:ext cx="28573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1357200" y="1571400"/>
            <a:ext cx="750096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73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литературу по данной тем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экспериментальную работ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делать соответствующие вывод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оспитывать бережное отношение к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воему здоровью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Рисунок 3" descr="http://natural-medicine.ru/uploads/posts/2010-04/1270630864_germs.jpg"/>
          <p:cNvPicPr/>
          <p:nvPr/>
        </p:nvPicPr>
        <p:blipFill>
          <a:blip r:embed="rId1"/>
          <a:stretch/>
        </p:blipFill>
        <p:spPr>
          <a:xfrm>
            <a:off x="6500880" y="4714920"/>
            <a:ext cx="21430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85920" y="571680"/>
            <a:ext cx="74008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Содержимое 3" descr="F:\ксюня\DSCN1429.JPG"/>
          <p:cNvPicPr/>
          <p:nvPr/>
        </p:nvPicPr>
        <p:blipFill>
          <a:blip r:embed="rId1"/>
          <a:stretch/>
        </p:blipFill>
        <p:spPr>
          <a:xfrm>
            <a:off x="1428840" y="1571760"/>
            <a:ext cx="3214440" cy="221436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ик 4"/>
          <p:cNvSpPr/>
          <p:nvPr/>
        </p:nvSpPr>
        <p:spPr>
          <a:xfrm>
            <a:off x="1500120" y="407196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Рисунок 5" descr="F:\ксюня\DSCN1431.JPG"/>
          <p:cNvPicPr/>
          <p:nvPr/>
        </p:nvPicPr>
        <p:blipFill>
          <a:blip r:embed="rId2"/>
          <a:stretch/>
        </p:blipFill>
        <p:spPr>
          <a:xfrm>
            <a:off x="5286240" y="2500200"/>
            <a:ext cx="3357720" cy="2251080"/>
          </a:xfrm>
          <a:prstGeom prst="rect">
            <a:avLst/>
          </a:prstGeom>
          <a:ln w="0">
            <a:noFill/>
          </a:ln>
        </p:spPr>
      </p:pic>
      <p:sp>
        <p:nvSpPr>
          <p:cNvPr id="495" name="Прямоугольник 6"/>
          <p:cNvSpPr/>
          <p:nvPr/>
        </p:nvSpPr>
        <p:spPr>
          <a:xfrm>
            <a:off x="5429160" y="178596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материала Интерн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7"/>
          <p:cNvSpPr/>
          <p:nvPr/>
        </p:nvSpPr>
        <p:spPr>
          <a:xfrm>
            <a:off x="1285920" y="628668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Рисунок 8" descr="F:\DCIM\Camera\IMG_20170329_120558.jpg"/>
          <p:cNvPicPr/>
          <p:nvPr/>
        </p:nvPicPr>
        <p:blipFill>
          <a:blip r:embed="rId3"/>
          <a:stretch/>
        </p:blipFill>
        <p:spPr>
          <a:xfrm>
            <a:off x="1571760" y="4429080"/>
            <a:ext cx="29289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00120" y="4996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микроорганизмы, которые нельзя увидеть, потому что они очень, очень маленькие, меньше самых маленьких насекомых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Содержимое 3" descr="http://st2.depositphotos.com/2885805/5332/v/950/depositphotos_53324651-Bacteria-and-virus-seamless-pattern.jpg"/>
          <p:cNvPicPr/>
          <p:nvPr/>
        </p:nvPicPr>
        <p:blipFill>
          <a:blip r:embed="rId1"/>
          <a:stretch/>
        </p:blipFill>
        <p:spPr>
          <a:xfrm>
            <a:off x="5786280" y="2500200"/>
            <a:ext cx="2571840" cy="235764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4" descr="G:\DCIM\Camera\IMG_20170327_155523.jpg"/>
          <p:cNvPicPr/>
          <p:nvPr/>
        </p:nvPicPr>
        <p:blipFill>
          <a:blip r:embed="rId2"/>
          <a:stretch/>
        </p:blipFill>
        <p:spPr>
          <a:xfrm>
            <a:off x="1571760" y="2143080"/>
            <a:ext cx="3340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28840" y="499680"/>
            <a:ext cx="750096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которых микробов есть хвостики, которые называют жгутиками. Жгутики вращаются и микроб движется.  В жидкости микробы просто слегка подпрыгивают – как мячик, который мы бьём ладошкой об пол. Там, где сухо, микробы  переносит воздух (вете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1401840" y="2279520"/>
            <a:ext cx="2950920" cy="597384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5" descr="ecoli.jpg"/>
          <p:cNvPicPr/>
          <p:nvPr/>
        </p:nvPicPr>
        <p:blipFill>
          <a:blip r:embed="rId2"/>
          <a:stretch/>
        </p:blipFill>
        <p:spPr>
          <a:xfrm>
            <a:off x="4925880" y="2706840"/>
            <a:ext cx="32972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Прямоугольник 1"/>
          <p:cNvSpPr/>
          <p:nvPr/>
        </p:nvSpPr>
        <p:spPr>
          <a:xfrm>
            <a:off x="3071880" y="428760"/>
            <a:ext cx="40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икробы в вод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"/>
          <p:cNvSpPr/>
          <p:nvPr/>
        </p:nvSpPr>
        <p:spPr>
          <a:xfrm flipV="1" rot="10800000">
            <a:off x="1499760" y="9792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ы очень маленькие и их можно увидеть только с помощью микроско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 flipV="1" rot="10800000">
            <a:off x="1571400" y="5738760"/>
            <a:ext cx="70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аже в маленькой капельке воды живет много микробов, поэтому неочищенную воду  пить нельз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Рисунок 5" descr="F:\DCIM\Camera\IMG_20170329_120558.jpg"/>
          <p:cNvPicPr/>
          <p:nvPr/>
        </p:nvPicPr>
        <p:blipFill>
          <a:blip r:embed="rId1"/>
          <a:stretch/>
        </p:blipFill>
        <p:spPr>
          <a:xfrm>
            <a:off x="2286000" y="2071800"/>
            <a:ext cx="5214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лесен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356840" y="1143000"/>
            <a:ext cx="7572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стут и размножаются микроб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1"/>
          <p:cNvSpPr/>
          <p:nvPr/>
        </p:nvSpPr>
        <p:spPr>
          <a:xfrm flipV="1" rot="10800000">
            <a:off x="1499760" y="5436720"/>
            <a:ext cx="728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.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мы очень быстро размножаются и вызывают порчу продуктов. Плесень очень страшна. Она заразила весь хлеб. Есть такой продукт нельзя – он испор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Рисунок 4" descr="G:\WhatsApp\Media\WhatsApp Images\IMG-20170323-WA0000.jpg"/>
          <p:cNvPicPr/>
          <p:nvPr/>
        </p:nvPicPr>
        <p:blipFill>
          <a:blip r:embed="rId1"/>
          <a:stretch/>
        </p:blipFill>
        <p:spPr>
          <a:xfrm>
            <a:off x="1643040" y="2071800"/>
            <a:ext cx="2589120" cy="280332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5" descr="G:\WhatsApp\Media\WhatsApp Images\IMG-20170323-WA0001.jpg"/>
          <p:cNvPicPr/>
          <p:nvPr/>
        </p:nvPicPr>
        <p:blipFill>
          <a:blip r:embed="rId2"/>
          <a:stretch/>
        </p:blipFill>
        <p:spPr>
          <a:xfrm>
            <a:off x="5072040" y="2071800"/>
            <a:ext cx="27338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7:01:55Z</dcterms:created>
  <dc:creator>Фокина Лидия Петровна</dc:creator>
  <dc:description/>
  <cp:keywords>Шаблон презентации</cp:keywords>
  <dc:language>en-US</dc:language>
  <cp:lastModifiedBy>User</cp:lastModifiedBy>
  <dcterms:modified xsi:type="dcterms:W3CDTF">2017-06-12T18:37:00Z</dcterms:modified>
  <cp:revision>105</cp:revision>
  <dc:subject/>
  <dc:title>Тетрадь на спирали</dc:title>
</cp:coreProperties>
</file>