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AF76-594D-4262-A950-78646227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AF14-360A-4E65-9682-633073A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4E02-3919-41AA-A8A3-BDEE0B8B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418C-1CD7-4D58-91B7-3BEE5FEC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730F-7399-4BD0-9541-EA063524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1F5E-26A4-40C2-911E-61630DD8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9106-DF7C-440A-95D3-6F48E50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8725-9062-4A80-86A4-7EE3ABD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8D06-D21F-4965-9815-1CD90C8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B41E-89F1-40B2-B51D-17460AF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704-66C4-405C-ADEB-D10DED9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65C8-FD92-4663-A09F-2980600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7FF6-CE29-42EC-8225-76DB27F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5794-BDEB-4B3E-926F-99C2D9F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BFE-93A4-48CE-ADB3-02022666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16C6-4BD6-4F60-9ED4-27BB05ED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F52-3373-4F88-8166-EBE04E6F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B466-D86B-4FB3-A6C4-050B40DA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9F73-B3FA-4B7B-A9F8-8D5CFA5B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B7F9-16AA-4C82-A5B1-134E7492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9105-16CB-4863-BFDF-B5C5AED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3065-0A74-46F1-BC7A-6ED0D03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2765-7549-4DDD-B93C-DCA1B54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3982-1137-4CC1-A8C4-CD0FA6A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5BE-B89D-48CD-92F8-475CD683C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1E9B-DE4E-4601-AA4C-7493BB24BA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352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5e5ff"/>
                </a:solidFill>
                <a:latin typeface="Garamond"/>
              </a:rPr>
              <a:t>РЕЛИГИИ МИРА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-181080" y="260280"/>
            <a:ext cx="957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авославные святы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иево – Печерская лавра, Троице – Сергиевский монастырь, Оптина пустынь, Валаамский монастыр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8" descr="троица"/>
          <p:cNvPicPr/>
          <p:nvPr/>
        </p:nvPicPr>
        <p:blipFill>
          <a:blip r:embed="rId1"/>
          <a:stretch/>
        </p:blipFill>
        <p:spPr>
          <a:xfrm>
            <a:off x="5724360" y="2133720"/>
            <a:ext cx="2135520" cy="23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валаам"/>
          <p:cNvPicPr/>
          <p:nvPr/>
        </p:nvPicPr>
        <p:blipFill>
          <a:blip r:embed="rId2"/>
          <a:srcRect l="0" t="14092" r="0" b="9930"/>
          <a:stretch/>
        </p:blipFill>
        <p:spPr>
          <a:xfrm>
            <a:off x="4859280" y="4581360"/>
            <a:ext cx="374004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киев 1"/>
          <p:cNvPicPr/>
          <p:nvPr/>
        </p:nvPicPr>
        <p:blipFill>
          <a:blip r:embed="rId3"/>
          <a:srcRect l="0" t="4633" r="0" b="19146"/>
          <a:stretch/>
        </p:blipFill>
        <p:spPr>
          <a:xfrm>
            <a:off x="1403280" y="1989000"/>
            <a:ext cx="2079720" cy="237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оптина пустынь"/>
          <p:cNvPicPr/>
          <p:nvPr/>
        </p:nvPicPr>
        <p:blipFill>
          <a:blip r:embed="rId4"/>
          <a:stretch/>
        </p:blipFill>
        <p:spPr>
          <a:xfrm>
            <a:off x="395280" y="4581360"/>
            <a:ext cx="3843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авославные хра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вас блаж"/>
          <p:cNvPicPr/>
          <p:nvPr/>
        </p:nvPicPr>
        <p:blipFill>
          <a:blip r:embed="rId1"/>
          <a:stretch/>
        </p:blipFill>
        <p:spPr>
          <a:xfrm>
            <a:off x="3203640" y="2421000"/>
            <a:ext cx="27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окрова на нерли"/>
          <p:cNvPicPr/>
          <p:nvPr/>
        </p:nvPicPr>
        <p:blipFill>
          <a:blip r:embed="rId2"/>
          <a:stretch/>
        </p:blipFill>
        <p:spPr>
          <a:xfrm>
            <a:off x="250920" y="1557360"/>
            <a:ext cx="2846160" cy="316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храм хиста спасителя"/>
          <p:cNvPicPr/>
          <p:nvPr/>
        </p:nvPicPr>
        <p:blipFill>
          <a:blip r:embed="rId3"/>
          <a:stretch/>
        </p:blipFill>
        <p:spPr>
          <a:xfrm>
            <a:off x="6012000" y="2852640"/>
            <a:ext cx="2681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никон"/>
          <p:cNvPicPr/>
          <p:nvPr/>
        </p:nvPicPr>
        <p:blipFill>
          <a:blip r:embed="rId1"/>
          <a:stretch/>
        </p:blipFill>
        <p:spPr>
          <a:xfrm>
            <a:off x="611280" y="33336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аввакум"/>
          <p:cNvPicPr/>
          <p:nvPr/>
        </p:nvPicPr>
        <p:blipFill>
          <a:blip r:embed="rId2"/>
          <a:stretch/>
        </p:blipFill>
        <p:spPr>
          <a:xfrm>
            <a:off x="1042920" y="3573360"/>
            <a:ext cx="2394000" cy="266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морозова"/>
          <p:cNvPicPr/>
          <p:nvPr/>
        </p:nvPicPr>
        <p:blipFill>
          <a:blip r:embed="rId3"/>
          <a:srcRect l="0" t="23936" r="0" b="28172"/>
          <a:stretch/>
        </p:blipFill>
        <p:spPr>
          <a:xfrm>
            <a:off x="4140360" y="2852640"/>
            <a:ext cx="4520880" cy="2409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0360" y="274680"/>
            <a:ext cx="5184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атриарх Никон – реформатор русской православной церкв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851280" y="533412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уководитель старообрядчест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топоп Авваку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его последова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52720" y="5373720"/>
            <a:ext cx="51116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кка – цент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ломничества мусульм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4720" y="260280"/>
            <a:ext cx="4535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Ислам 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– одна из мировых религий, возникшая в 7 веке в Аравии. Основатель – Мухаммед. Распространена на Востоке, Юго – Восточной Азии, Африке, в Россиии (Северный Кавказ, Татария, Башкирия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6" descr="коран"/>
          <p:cNvPicPr/>
          <p:nvPr/>
        </p:nvPicPr>
        <p:blipFill>
          <a:blip r:embed="rId1"/>
          <a:stretch/>
        </p:blipFill>
        <p:spPr>
          <a:xfrm>
            <a:off x="5508720" y="3573360"/>
            <a:ext cx="2881080" cy="21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мекка"/>
          <p:cNvPicPr/>
          <p:nvPr/>
        </p:nvPicPr>
        <p:blipFill>
          <a:blip r:embed="rId2"/>
          <a:stretch/>
        </p:blipFill>
        <p:spPr>
          <a:xfrm>
            <a:off x="468360" y="836640"/>
            <a:ext cx="4052880" cy="451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4984920" y="5837400"/>
            <a:ext cx="36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ран – главная книга мусульма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язанности мусульма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Молиться пять раз в су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Нести пост (воздержание от пищи, питья, развлечен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Хотя бы раз в жизни совершить паломничество в Мекку (хадж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Платить налог на имущество и доходы; жертвовать обездоленны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Мечеть – место моления и религиозного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8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лубая мечеть. Тур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мечеть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Буддизм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 – древнейшая мировая религия,возникшая в 1тыс. до н.э  в Индии. Основателем буддийской религии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был Сиддхартха Гаутама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Буддизм распостранен в Китае, Японии,Корее, России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удд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уддийский мо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будда"/>
          <p:cNvPicPr/>
          <p:nvPr/>
        </p:nvPicPr>
        <p:blipFill>
          <a:blip r:embed="rId1"/>
          <a:stretch/>
        </p:blipFill>
        <p:spPr>
          <a:xfrm>
            <a:off x="250920" y="1989000"/>
            <a:ext cx="416232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буддистский монах"/>
          <p:cNvPicPr/>
          <p:nvPr/>
        </p:nvPicPr>
        <p:blipFill>
          <a:blip r:embed="rId2"/>
          <a:stretch/>
        </p:blipFill>
        <p:spPr>
          <a:xfrm>
            <a:off x="4811760" y="1989000"/>
            <a:ext cx="3686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будда храм"/>
          <p:cNvPicPr/>
          <p:nvPr/>
        </p:nvPicPr>
        <p:blipFill>
          <a:blip r:embed="rId1"/>
          <a:stretch/>
        </p:blipFill>
        <p:spPr>
          <a:xfrm>
            <a:off x="468360" y="33336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удда алтарь"/>
          <p:cNvPicPr/>
          <p:nvPr/>
        </p:nvPicPr>
        <p:blipFill>
          <a:blip r:embed="rId2"/>
          <a:stretch/>
        </p:blipFill>
        <p:spPr>
          <a:xfrm>
            <a:off x="4067280" y="3284640"/>
            <a:ext cx="4859280" cy="3260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4508280"/>
            <a:ext cx="33130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уддийски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хр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32000" y="-459000"/>
            <a:ext cx="421164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Христианство</a:t>
            </a: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– крупнейшая из мировых религий, приверженцы которой поклоняются Иисусу Христу как сыну Божию; возникло в 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 в. н.э. в Римской империи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10" descr="библия"/>
          <p:cNvPicPr/>
          <p:nvPr/>
        </p:nvPicPr>
        <p:blipFill>
          <a:blip r:embed="rId1"/>
          <a:stretch/>
        </p:blipFill>
        <p:spPr>
          <a:xfrm>
            <a:off x="6659640" y="3860640"/>
            <a:ext cx="1349280" cy="204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христос"/>
          <p:cNvPicPr/>
          <p:nvPr/>
        </p:nvPicPr>
        <p:blipFill>
          <a:blip r:embed="rId2"/>
          <a:stretch/>
        </p:blipFill>
        <p:spPr>
          <a:xfrm>
            <a:off x="971640" y="523800"/>
            <a:ext cx="345600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иванов"/>
          <p:cNvPicPr/>
          <p:nvPr/>
        </p:nvPicPr>
        <p:blipFill>
          <a:blip r:embed="rId3"/>
          <a:srcRect l="0" t="15282" r="0" b="20833"/>
          <a:stretch/>
        </p:blipFill>
        <p:spPr>
          <a:xfrm>
            <a:off x="1692360" y="3645000"/>
            <a:ext cx="40798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Христианские заповед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Веруй в Б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сотвори себе куми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произноси напрасно имя Бож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Шесть дней трудись , а седьмой день посвяти Господу  Богу твое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Почитай отца своего и матерь сво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уб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развратнича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крад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ябедничай, не жалуйся, понапрасну, не сплетнича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прелюбодейству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8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8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6" name="Organization Chart 7"/>
          <p:cNvGrpSpPr/>
          <p:nvPr/>
        </p:nvGrpSpPr>
        <p:grpSpPr>
          <a:xfrm>
            <a:off x="324000" y="836640"/>
            <a:ext cx="8350560" cy="5283000"/>
            <a:chOff x="324000" y="836640"/>
            <a:chExt cx="8350560" cy="5283000"/>
          </a:xfrm>
        </p:grpSpPr>
        <p:cxnSp>
          <p:nvCxnSpPr>
            <p:cNvPr id="117" name="_s1028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094720" y="2353680"/>
              <a:ext cx="1057320" cy="2248200"/>
            </a:xfrm>
            <a:prstGeom prst="bentConnector3">
              <a:avLst>
                <a:gd name="adj1" fmla="val 10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29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2846880" y="2353320"/>
              <a:ext cx="1057320" cy="2249280"/>
            </a:xfrm>
            <a:prstGeom prst="bentConnector3">
              <a:avLst>
                <a:gd name="adj1" fmla="val 10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0"/>
            <p:cNvSpPr/>
            <p:nvPr/>
          </p:nvSpPr>
          <p:spPr>
            <a:xfrm>
              <a:off x="2572560" y="836640"/>
              <a:ext cx="3854160" cy="21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Раскол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 </a:t>
              </a: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христианской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 </a:t>
              </a: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церкви 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(1054 год)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_s1031"/>
            <p:cNvSpPr/>
            <p:nvPr/>
          </p:nvSpPr>
          <p:spPr>
            <a:xfrm>
              <a:off x="324000" y="4006440"/>
              <a:ext cx="3854160" cy="21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Garamond"/>
                </a:rPr>
                <a:t>католическая</a:t>
              </a: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820400" y="4006440"/>
              <a:ext cx="3854160" cy="21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4400" spc="-1" strike="noStrike">
                  <a:solidFill>
                    <a:srgbClr val="003399"/>
                  </a:solidFill>
                  <a:latin typeface="Garamond"/>
                </a:rPr>
                <a:t>православная</a:t>
              </a: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Католичество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 – крупнейшее направление в христианстве, образовавшееся в результате его раскола в 1054г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тикан – международный центр католицизма, резиденция папы рим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ватикан"/>
          <p:cNvPicPr/>
          <p:nvPr/>
        </p:nvPicPr>
        <p:blipFill>
          <a:blip r:embed="rId1"/>
          <a:stretch/>
        </p:blipFill>
        <p:spPr>
          <a:xfrm>
            <a:off x="395280" y="1628640"/>
            <a:ext cx="394668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папа римский"/>
          <p:cNvPicPr/>
          <p:nvPr/>
        </p:nvPicPr>
        <p:blipFill>
          <a:blip r:embed="rId2"/>
          <a:stretch/>
        </p:blipFill>
        <p:spPr>
          <a:xfrm>
            <a:off x="4859280" y="1628640"/>
            <a:ext cx="394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тестантские церкв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лютер"/>
          <p:cNvPicPr/>
          <p:nvPr/>
        </p:nvPicPr>
        <p:blipFill>
          <a:blip r:embed="rId1"/>
          <a:stretch/>
        </p:blipFill>
        <p:spPr>
          <a:xfrm>
            <a:off x="468360" y="1341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лютеранская церковь"/>
          <p:cNvPicPr/>
          <p:nvPr/>
        </p:nvPicPr>
        <p:blipFill>
          <a:blip r:embed="rId2"/>
          <a:stretch/>
        </p:blipFill>
        <p:spPr>
          <a:xfrm>
            <a:off x="2484360" y="1341360"/>
            <a:ext cx="2921040" cy="1933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альвин"/>
          <p:cNvPicPr/>
          <p:nvPr/>
        </p:nvPicPr>
        <p:blipFill>
          <a:blip r:embed="rId3"/>
          <a:srcRect l="8067" t="0" r="10669" b="0"/>
          <a:stretch/>
        </p:blipFill>
        <p:spPr>
          <a:xfrm>
            <a:off x="5651640" y="3068640"/>
            <a:ext cx="1439640" cy="197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англиканская церковь"/>
          <p:cNvPicPr/>
          <p:nvPr/>
        </p:nvPicPr>
        <p:blipFill>
          <a:blip r:embed="rId4"/>
          <a:stretch/>
        </p:blipFill>
        <p:spPr>
          <a:xfrm>
            <a:off x="1547640" y="3789360"/>
            <a:ext cx="3108600" cy="232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протест церк"/>
          <p:cNvPicPr/>
          <p:nvPr/>
        </p:nvPicPr>
        <p:blipFill>
          <a:blip r:embed="rId5"/>
          <a:stretch/>
        </p:blipFill>
        <p:spPr>
          <a:xfrm>
            <a:off x="7236000" y="2708280"/>
            <a:ext cx="1450800" cy="194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539640" y="331776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ртин Лютер – основатель лютеранской церк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311120" y="609300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хиепископ Кентерберийский 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лава англиканской церк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724360" y="5189400"/>
            <a:ext cx="32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ан Кальвин – основате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львинистской церк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Православие</a:t>
            </a: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 – одно из направлений в христианстве, образовавшееся в результате его раскола в 1054 году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более почитаемые праздники в православ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7 января – Рождество Христо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9 января – Крещение Господ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7 апреля – Благове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асха ( Светлое Христово Воскресенье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19:30Z</dcterms:created>
  <dc:creator>pupil</dc:creator>
  <dc:description/>
  <dc:language>en-US</dc:language>
  <cp:lastModifiedBy>1</cp:lastModifiedBy>
  <dcterms:modified xsi:type="dcterms:W3CDTF">2016-09-07T03:30:49Z</dcterms:modified>
  <cp:revision>15</cp:revision>
  <dc:subject/>
  <dc:title>РЕЛИГИИ МИРА</dc:title>
</cp:coreProperties>
</file>