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394E-441C-41A1-8519-A795E425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8B54-5B31-4BE6-B199-A49FC10E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99E7-2C78-4F13-9BB0-5FD0AA92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98E3-D0A4-4DC4-A7A3-80392D2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2141-3E0E-4A79-AC29-FC8F5367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ADBF-1214-4897-954A-DAD78A7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5DCB-15E5-45A7-AD0F-79B1EAA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89B-3FC0-4A37-94E5-7C1D74DA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3EE2-12C6-4BB6-8358-0EE5F62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56A-F93E-4993-BD04-F0FDDAD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91A8-39E8-4A2B-926D-B09CF37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A151-0824-4A3D-9CEE-A09ECEE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F95-27C6-43AE-86A7-4183F91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D00-2103-415D-B662-DF96E958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5A8-AB64-41DE-92FD-583A6A8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AC42-126E-4E2F-A9D1-C4814F68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7E9-053E-4858-8E81-70528217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D66F-285E-45E4-8296-1E56C53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5672-85BE-4959-8DDF-89FB901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E369-8E86-459B-9C04-E3FACF9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36F3-6365-4A4C-B559-345E5DD0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0CCF-A823-4C15-BFCD-D8A40C1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4F30-3232-413D-81D3-F87EC0EF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5718-E371-4EFB-BE2F-977ED43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6B1A-3BD5-493D-8F33-613C6E56A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0BC-73D5-4DE3-A241-2810571FC9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352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5e5ff"/>
                </a:solidFill>
                <a:latin typeface="Garamond"/>
              </a:rPr>
              <a:t>РЕЛИГИИ МИРА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181080" y="260280"/>
            <a:ext cx="957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авославные святы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иево – Печерская лавра, Троице – Сергиевский монастырь, Оптина пустынь, Валаамский монастыр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8" descr="троица"/>
          <p:cNvPicPr/>
          <p:nvPr/>
        </p:nvPicPr>
        <p:blipFill>
          <a:blip r:embed="rId1"/>
          <a:stretch/>
        </p:blipFill>
        <p:spPr>
          <a:xfrm>
            <a:off x="5724360" y="2133720"/>
            <a:ext cx="213552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валаам"/>
          <p:cNvPicPr/>
          <p:nvPr/>
        </p:nvPicPr>
        <p:blipFill>
          <a:blip r:embed="rId2"/>
          <a:srcRect l="0" t="14092" r="0" b="9930"/>
          <a:stretch/>
        </p:blipFill>
        <p:spPr>
          <a:xfrm>
            <a:off x="4859280" y="4581360"/>
            <a:ext cx="37400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киев 1"/>
          <p:cNvPicPr/>
          <p:nvPr/>
        </p:nvPicPr>
        <p:blipFill>
          <a:blip r:embed="rId3"/>
          <a:srcRect l="0" t="4633" r="0" b="19146"/>
          <a:stretch/>
        </p:blipFill>
        <p:spPr>
          <a:xfrm>
            <a:off x="1403280" y="1989000"/>
            <a:ext cx="2079720" cy="237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оптина пустынь"/>
          <p:cNvPicPr/>
          <p:nvPr/>
        </p:nvPicPr>
        <p:blipFill>
          <a:blip r:embed="rId4"/>
          <a:stretch/>
        </p:blipFill>
        <p:spPr>
          <a:xfrm>
            <a:off x="395280" y="4581360"/>
            <a:ext cx="3843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вославные хра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вас блаж"/>
          <p:cNvPicPr/>
          <p:nvPr/>
        </p:nvPicPr>
        <p:blipFill>
          <a:blip r:embed="rId1"/>
          <a:stretch/>
        </p:blipFill>
        <p:spPr>
          <a:xfrm>
            <a:off x="3203640" y="2421000"/>
            <a:ext cx="27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окрова на нерли"/>
          <p:cNvPicPr/>
          <p:nvPr/>
        </p:nvPicPr>
        <p:blipFill>
          <a:blip r:embed="rId2"/>
          <a:stretch/>
        </p:blipFill>
        <p:spPr>
          <a:xfrm>
            <a:off x="250920" y="1557360"/>
            <a:ext cx="2846160" cy="316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храм хиста спасителя"/>
          <p:cNvPicPr/>
          <p:nvPr/>
        </p:nvPicPr>
        <p:blipFill>
          <a:blip r:embed="rId3"/>
          <a:stretch/>
        </p:blipFill>
        <p:spPr>
          <a:xfrm>
            <a:off x="6012000" y="2852640"/>
            <a:ext cx="2681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никон"/>
          <p:cNvPicPr/>
          <p:nvPr/>
        </p:nvPicPr>
        <p:blipFill>
          <a:blip r:embed="rId1"/>
          <a:stretch/>
        </p:blipFill>
        <p:spPr>
          <a:xfrm>
            <a:off x="611280" y="33336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аввакум"/>
          <p:cNvPicPr/>
          <p:nvPr/>
        </p:nvPicPr>
        <p:blipFill>
          <a:blip r:embed="rId2"/>
          <a:stretch/>
        </p:blipFill>
        <p:spPr>
          <a:xfrm>
            <a:off x="1042920" y="3573360"/>
            <a:ext cx="2394000" cy="266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морозова"/>
          <p:cNvPicPr/>
          <p:nvPr/>
        </p:nvPicPr>
        <p:blipFill>
          <a:blip r:embed="rId3"/>
          <a:srcRect l="0" t="23936" r="0" b="28172"/>
          <a:stretch/>
        </p:blipFill>
        <p:spPr>
          <a:xfrm>
            <a:off x="4140360" y="2852640"/>
            <a:ext cx="4520880" cy="2409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0360" y="274680"/>
            <a:ext cx="5184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атриарх Никон – реформатор русской православной церкв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851280" y="533412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итель старообрядчест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топоп Авваку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его последова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52720" y="5373720"/>
            <a:ext cx="51116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кка – цент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ломничества мусульм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4720" y="260280"/>
            <a:ext cx="4535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Ислам 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– одна из мировых религий, возникшая в 7 веке в Аравии. Основатель – Мухаммед. Распространена на Востоке, Юго – Восточной Азии, Африке, в Россиии (Северный Кавказ, Татария, Башкирия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6" descr="коран"/>
          <p:cNvPicPr/>
          <p:nvPr/>
        </p:nvPicPr>
        <p:blipFill>
          <a:blip r:embed="rId1"/>
          <a:stretch/>
        </p:blipFill>
        <p:spPr>
          <a:xfrm>
            <a:off x="5508720" y="3573360"/>
            <a:ext cx="2881080" cy="21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мекка"/>
          <p:cNvPicPr/>
          <p:nvPr/>
        </p:nvPicPr>
        <p:blipFill>
          <a:blip r:embed="rId2"/>
          <a:stretch/>
        </p:blipFill>
        <p:spPr>
          <a:xfrm>
            <a:off x="468360" y="836640"/>
            <a:ext cx="4052880" cy="451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4984920" y="5837400"/>
            <a:ext cx="36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ран – главная книга мусульма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язанности мусульма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Молиться пять раз в су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Нести пост (воздержание от пищи, питья, развлечен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Хотя бы раз в жизни совершить паломничество в Мекку (хадж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Платить налог на имущество и доходы; жертвовать обездоленны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Мечеть – место моления и религиозного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лубая мечеть. Тур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мечеть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Буддизм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– древнейшая мировая религия,возникшая в 1тыс. до н.э  в Индии. Основателем буддийской религии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был Сиддхартха Гаутама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Буддизм распостранен в Китае, Японии,Корее, России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удд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уддийский мо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будда"/>
          <p:cNvPicPr/>
          <p:nvPr/>
        </p:nvPicPr>
        <p:blipFill>
          <a:blip r:embed="rId1"/>
          <a:stretch/>
        </p:blipFill>
        <p:spPr>
          <a:xfrm>
            <a:off x="250920" y="1989000"/>
            <a:ext cx="416232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буддистский монах"/>
          <p:cNvPicPr/>
          <p:nvPr/>
        </p:nvPicPr>
        <p:blipFill>
          <a:blip r:embed="rId2"/>
          <a:stretch/>
        </p:blipFill>
        <p:spPr>
          <a:xfrm>
            <a:off x="4811760" y="1989000"/>
            <a:ext cx="3686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будда храм"/>
          <p:cNvPicPr/>
          <p:nvPr/>
        </p:nvPicPr>
        <p:blipFill>
          <a:blip r:embed="rId1"/>
          <a:stretch/>
        </p:blipFill>
        <p:spPr>
          <a:xfrm>
            <a:off x="468360" y="33336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удда алтарь"/>
          <p:cNvPicPr/>
          <p:nvPr/>
        </p:nvPicPr>
        <p:blipFill>
          <a:blip r:embed="rId2"/>
          <a:stretch/>
        </p:blipFill>
        <p:spPr>
          <a:xfrm>
            <a:off x="4067280" y="3284640"/>
            <a:ext cx="4859280" cy="3260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4508280"/>
            <a:ext cx="33130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ддийск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хр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32000" y="-459000"/>
            <a:ext cx="421164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Христианство</a:t>
            </a: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– крупнейшая из мировых религий, приверженцы которой поклоняются Иисусу Христу как сыну Божию; возникло в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в. н.э. в Римской империи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10" descr="библия"/>
          <p:cNvPicPr/>
          <p:nvPr/>
        </p:nvPicPr>
        <p:blipFill>
          <a:blip r:embed="rId1"/>
          <a:stretch/>
        </p:blipFill>
        <p:spPr>
          <a:xfrm>
            <a:off x="6659640" y="3860640"/>
            <a:ext cx="1349280" cy="204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христос"/>
          <p:cNvPicPr/>
          <p:nvPr/>
        </p:nvPicPr>
        <p:blipFill>
          <a:blip r:embed="rId2"/>
          <a:stretch/>
        </p:blipFill>
        <p:spPr>
          <a:xfrm>
            <a:off x="971640" y="523800"/>
            <a:ext cx="345600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иванов"/>
          <p:cNvPicPr/>
          <p:nvPr/>
        </p:nvPicPr>
        <p:blipFill>
          <a:blip r:embed="rId3"/>
          <a:srcRect l="0" t="15282" r="0" b="20833"/>
          <a:stretch/>
        </p:blipFill>
        <p:spPr>
          <a:xfrm>
            <a:off x="1692360" y="3645000"/>
            <a:ext cx="40798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ристианские заповед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Веруй в Б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сотвори себе куми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произноси напрасно имя Бож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Шесть дней трудись , а седьмой день посвяти Господу  Богу твое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Почитай отца своего и матерь сво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уб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развратнича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крад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ябедничай, не жалуйся, понапрасну, не сплетнича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Не прелюбодейству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8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6" name="Organization Chart 7"/>
          <p:cNvGrpSpPr/>
          <p:nvPr/>
        </p:nvGrpSpPr>
        <p:grpSpPr>
          <a:xfrm>
            <a:off x="324000" y="836640"/>
            <a:ext cx="8350560" cy="5283000"/>
            <a:chOff x="324000" y="836640"/>
            <a:chExt cx="8350560" cy="528300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094720" y="2353680"/>
              <a:ext cx="1057320" cy="2248200"/>
            </a:xfrm>
            <a:prstGeom prst="bentConnector3">
              <a:avLst>
                <a:gd name="adj1" fmla="val 10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2846880" y="2353320"/>
              <a:ext cx="1057320" cy="2249280"/>
            </a:xfrm>
            <a:prstGeom prst="bentConnector3">
              <a:avLst>
                <a:gd name="adj1" fmla="val 10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0"/>
            <p:cNvSpPr/>
            <p:nvPr/>
          </p:nvSpPr>
          <p:spPr>
            <a:xfrm>
              <a:off x="2572560" y="8366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Раскол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 </a:t>
              </a: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христианской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 </a:t>
              </a: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церкви 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Garamond"/>
                </a:rPr>
                <a:t>(1054 год)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_s1031"/>
            <p:cNvSpPr/>
            <p:nvPr/>
          </p:nvSpPr>
          <p:spPr>
            <a:xfrm>
              <a:off x="324000" y="40064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Garamond"/>
                </a:rPr>
                <a:t>католическая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820400" y="4006440"/>
              <a:ext cx="3854160" cy="21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4400" spc="-1" strike="noStrike">
                  <a:solidFill>
                    <a:srgbClr val="003399"/>
                  </a:solidFill>
                  <a:latin typeface="Garamond"/>
                </a:rPr>
                <a:t>православная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Католичество</a:t>
            </a:r>
            <a:r>
              <a:rPr b="1" lang="ru-RU" sz="2400" spc="-1" strike="noStrike">
                <a:solidFill>
                  <a:srgbClr val="003399"/>
                </a:solidFill>
                <a:latin typeface="Garamond"/>
              </a:rPr>
              <a:t> – крупнейшее направление в христианстве, образовавшееся в результате его раскола в 1054г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тикан – международный центр католицизма, резиденция папы рим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ватикан"/>
          <p:cNvPicPr/>
          <p:nvPr/>
        </p:nvPicPr>
        <p:blipFill>
          <a:blip r:embed="rId1"/>
          <a:stretch/>
        </p:blipFill>
        <p:spPr>
          <a:xfrm>
            <a:off x="395280" y="1628640"/>
            <a:ext cx="394668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папа римский"/>
          <p:cNvPicPr/>
          <p:nvPr/>
        </p:nvPicPr>
        <p:blipFill>
          <a:blip r:embed="rId2"/>
          <a:stretch/>
        </p:blipFill>
        <p:spPr>
          <a:xfrm>
            <a:off x="4859280" y="1628640"/>
            <a:ext cx="394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тестантские церк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лютер"/>
          <p:cNvPicPr/>
          <p:nvPr/>
        </p:nvPicPr>
        <p:blipFill>
          <a:blip r:embed="rId1"/>
          <a:stretch/>
        </p:blipFill>
        <p:spPr>
          <a:xfrm>
            <a:off x="468360" y="1341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лютеранская церковь"/>
          <p:cNvPicPr/>
          <p:nvPr/>
        </p:nvPicPr>
        <p:blipFill>
          <a:blip r:embed="rId2"/>
          <a:stretch/>
        </p:blipFill>
        <p:spPr>
          <a:xfrm>
            <a:off x="2484360" y="1341360"/>
            <a:ext cx="2921040" cy="1933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альвин"/>
          <p:cNvPicPr/>
          <p:nvPr/>
        </p:nvPicPr>
        <p:blipFill>
          <a:blip r:embed="rId3"/>
          <a:srcRect l="8067" t="0" r="10669" b="0"/>
          <a:stretch/>
        </p:blipFill>
        <p:spPr>
          <a:xfrm>
            <a:off x="5651640" y="3068640"/>
            <a:ext cx="1439640" cy="19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англиканская церковь"/>
          <p:cNvPicPr/>
          <p:nvPr/>
        </p:nvPicPr>
        <p:blipFill>
          <a:blip r:embed="rId4"/>
          <a:stretch/>
        </p:blipFill>
        <p:spPr>
          <a:xfrm>
            <a:off x="1547640" y="3789360"/>
            <a:ext cx="3108600" cy="232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протест церк"/>
          <p:cNvPicPr/>
          <p:nvPr/>
        </p:nvPicPr>
        <p:blipFill>
          <a:blip r:embed="rId5"/>
          <a:stretch/>
        </p:blipFill>
        <p:spPr>
          <a:xfrm>
            <a:off x="7236000" y="2708280"/>
            <a:ext cx="145080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539640" y="33177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ртин Лютер – основатель лютеран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311120" y="609300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хиепископ Кентерберийский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лава англикан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724360" y="5189400"/>
            <a:ext cx="32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ан Кальвин – основате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львинистской церк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Православие</a:t>
            </a: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 – одно из направлений в христианстве, образовавшееся в результате его раскола в 1054 году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более почитаемые праздники в православ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7 января – Рождество Христо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 января – Крещение Господ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7 апреля – Благове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сха ( Светлое Христово Воскресенье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19:30Z</dcterms:created>
  <dc:creator>pupil</dc:creator>
  <dc:description/>
  <dc:language>en-US</dc:language>
  <cp:lastModifiedBy>1</cp:lastModifiedBy>
  <dcterms:modified xsi:type="dcterms:W3CDTF">2016-09-07T03:30:49Z</dcterms:modified>
  <cp:revision>15</cp:revision>
  <dc:subject/>
  <dc:title>РЕЛИГИИ МИРА</dc:title>
</cp:coreProperties>
</file>