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05A-2314-450D-9E4B-B4FCEDC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98D-4CFB-4ADA-9818-8545F5EC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107-E955-42C0-B284-17D8A36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BFB-8377-4793-9E74-95959B67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9402-708E-4272-92F5-8CF47D80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C9D0-1265-4BE1-8A99-766FDDDF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3463-CFD5-48B6-A649-3A3741E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7B2-A75A-427D-9B69-AD14526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9A2-33D9-420B-9E59-F859A1F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EE0-3B9E-4B90-93E7-D048A804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5C34-5AAC-4E14-958E-1DD48C3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ADE-589E-4E8A-BBB7-D41D154F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A7F7-9F39-465F-8C59-0F5D9973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321-EB4D-4582-9710-DF1001C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3786-DF6B-42DC-A80E-62376E5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FBAF-B2B3-4DBF-9527-32814D44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C6A0-972E-421E-8078-DAD043FE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FA1-C694-4A14-AB3B-64CE2DCD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347-0CBC-4433-9142-FE76265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E6A-B8ED-419A-AA0E-BC1A630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B7D-E3CE-41D3-9723-701E19F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119-94D7-4FEE-9822-3A5347A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284-EB03-4869-B9DF-84A52F9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8F7-5F16-41F9-8239-D075075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746-531E-44A3-AA95-3B4C4C2F3EB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EB0C-BB86-4F43-BB47-F0968B7EB03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2" descr="C:\Users\User\Desktop\периметр нужное\image-3.png"/>
          <p:cNvPicPr/>
          <p:nvPr/>
        </p:nvPicPr>
        <p:blipFill>
          <a:blip r:embed="rId1"/>
          <a:stretch/>
        </p:blipFill>
        <p:spPr>
          <a:xfrm>
            <a:off x="357120" y="3571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User\Desktop\периметр нужное\image-27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009dd9"/>
              </a:gs>
              <a:gs pos="100000">
                <a:srgbClr val="0049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:\Users\User\Desktop\периметр нужное\image-21.jpg"/>
          <p:cNvPicPr/>
          <p:nvPr/>
        </p:nvPicPr>
        <p:blipFill>
          <a:blip r:embed="rId1"/>
          <a:stretch/>
        </p:blipFill>
        <p:spPr>
          <a:xfrm>
            <a:off x="5786280" y="2500200"/>
            <a:ext cx="2333880" cy="1928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User\Desktop\периметр нужное\image-5.png"/>
          <p:cNvPicPr/>
          <p:nvPr/>
        </p:nvPicPr>
        <p:blipFill>
          <a:blip r:embed="rId2"/>
          <a:stretch/>
        </p:blipFill>
        <p:spPr>
          <a:xfrm>
            <a:off x="1714680" y="2428920"/>
            <a:ext cx="228600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9186E-006 C -0.00034 -0.15356 0.09566 -0.28099 0.21198 -0.28099 C 0.34931 -0.28099 0.39896 -0.13968 0.41945 -0.0555 L 0.44098 0.05597 C 0.46233 0.13992 0.51546 0.27961 0.67014 0.27961 C 0.76927 0.27961 0.88125 0.1538 0.88125 -4.79186E-006 C 0.88091 -0.15356 0.76927 -0.28099 0.67014 -0.28099 C 0.51546 -0.28099 0.46233 -0.13968 0.44098 -0.0555 L 0.41945 0.05597 C 0.39896 0.14015 0.34931 0.27961 0.21198 0.27961 C 0.09566 0.27961 -0.00034 0.1538 -3.61111E-006 -4.79186E-006 Z">
                                      <p:cBhvr>
                                        <p:cTn id="57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C:\Users\User\Desktop\периметр нужное\image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95280" y="189000"/>
            <a:ext cx="8280360" cy="1800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286240" y="2428920"/>
            <a:ext cx="3571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тр. 82  № 6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рабочая тетрадь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.31 №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:\Users\User\Desktop\периметр нужное\image-8.jpg"/>
          <p:cNvPicPr/>
          <p:nvPr/>
        </p:nvPicPr>
        <p:blipFill>
          <a:blip r:embed="rId1"/>
          <a:stretch/>
        </p:blipFill>
        <p:spPr>
          <a:xfrm>
            <a:off x="4286160" y="3000240"/>
            <a:ext cx="4643640" cy="364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нахождения периметра</a:t>
            </a:r>
            <a:br>
              <a:rPr sz="45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14240" y="2071800"/>
            <a:ext cx="74296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Измерить длину всех сторон многоугольни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ложи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ны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/>
          <p:cNvSpPr/>
          <p:nvPr/>
        </p:nvSpPr>
        <p:spPr>
          <a:xfrm>
            <a:off x="500040" y="112536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од  дублонов в  оце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57160" y="2286000"/>
          <a:ext cx="7500960" cy="2786040"/>
        </p:xfrm>
        <a:graphic>
          <a:graphicData uri="http://schemas.openxmlformats.org/drawingml/2006/table">
            <a:tbl>
              <a:tblPr/>
              <a:tblGrid>
                <a:gridCol w="2498760"/>
                <a:gridCol w="2502000"/>
                <a:gridCol w="250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и более дублон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-9 дублон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-7 дублон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4" descr="0037"/>
          <p:cNvPicPr/>
          <p:nvPr/>
        </p:nvPicPr>
        <p:blipFill>
          <a:blip r:embed="rId1"/>
          <a:stretch/>
        </p:blipFill>
        <p:spPr>
          <a:xfrm>
            <a:off x="357120" y="4786200"/>
            <a:ext cx="1357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Users\User\Desktop\периметр нужное\image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4"/>
          <p:cNvSpPr txBox="1"/>
          <p:nvPr/>
        </p:nvSpPr>
        <p:spPr>
          <a:xfrm>
            <a:off x="214200" y="357120"/>
            <a:ext cx="45007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95280" y="189000"/>
            <a:ext cx="8280360" cy="1800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4, стр.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1928880"/>
            <a:ext cx="820908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 – 12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 – 15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 - ? на 5 с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. - 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Times New Roman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5-5 = 10 (см) –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2+15=27 (см) – 1 и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7+10=37 (с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вет: Р = 37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2714760" y="30715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2714400" y="32144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143160" y="3214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3500280" y="2642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>
            <a:off x="2786040" y="26431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8215200" y="2768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6357960" y="32148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1071720" y="3286080"/>
            <a:ext cx="4284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 rot="10800000">
            <a:off x="5785920" y="2571840"/>
            <a:ext cx="2367000" cy="128592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15080" y="20718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User\Desktop\периметр нужное\image-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-182520" y="-139680"/>
            <a:ext cx="6973920" cy="2071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357800" y="59292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фирьева Н.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авила работы в группе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000080"/>
            <a:ext cx="854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ботать дружно, быть внимательными друг к друг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жливыми, не отвлекаться на посторонние дела, не мешать друг другу, вовремя оказывать помощь, выполнять указания старш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воевременно выполнять задание: следить за   временем, доводить начатое дело до конц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чественно выполнять работу (аккуратно, без ошибок), соблюдать технику безопас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Уметь защищать общее де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е задание Джей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42848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ставьте в виде суммы разрядных слагаемых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 56, 89, 98, 53, 26, 62, 76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ешите цепоч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13=…+8=…+36=…-16=…-8=…+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2=…-21=…-30=3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пишите значение сумм слагаемых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и5, 16и14, 7и4, 56и3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и9, 8и4,25и25, 6и7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и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           47=40+7                 56=50+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=80+9                 98=90+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=50+3                 26=20+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=60+2                 76=70+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25-13=12+8=20+36=56-16=40-8=32+22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4-21=33-30=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10+5=15      16+14=30    7+4=11    56+3=5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+9=21      8+4=12      25+25=50   6+7=1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Picture 2" descr="C:\Documents and Settings\User\Мои документы\Мои рисунки\d3ceb17c52fda2bab4ac3d10732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0024"/>
          <p:cNvPicPr/>
          <p:nvPr/>
        </p:nvPicPr>
        <p:blipFill>
          <a:blip r:embed="rId2"/>
          <a:stretch/>
        </p:blipFill>
        <p:spPr>
          <a:xfrm>
            <a:off x="7358040" y="3143160"/>
            <a:ext cx="11714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4617b"/>
              </a:solidFill>
              <a:latin typeface="Monotype Corsiv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857160"/>
            <a:ext cx="85694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Monotype Corsiva"/>
              </a:rPr>
              <a:t>Периметр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Monotype Corsiva"/>
              </a:rPr>
              <a:t>многоугольн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95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периметр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ногоугольника?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сторон многоугольника называе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о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многоугольника обозначается  заглавной буквой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го алфави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85dfd0"/>
              </a:gs>
              <a:gs pos="100000">
                <a:srgbClr val="3e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009dd9"/>
              </a:gs>
              <a:gs pos="100000">
                <a:srgbClr val="0049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User\Desktop\периметр нужное\image-4.jpg"/>
          <p:cNvPicPr/>
          <p:nvPr/>
        </p:nvPicPr>
        <p:blipFill>
          <a:blip r:embed="rId1"/>
          <a:stretch/>
        </p:blipFill>
        <p:spPr>
          <a:xfrm>
            <a:off x="2571840" y="1857240"/>
            <a:ext cx="4271760" cy="295596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3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8:41:50Z</dcterms:created>
  <dc:creator>1</dc:creator>
  <dc:description/>
  <dc:language>en-US</dc:language>
  <cp:lastModifiedBy>User</cp:lastModifiedBy>
  <dcterms:modified xsi:type="dcterms:W3CDTF">2015-10-27T19:46:43Z</dcterms:modified>
  <cp:revision>176</cp:revision>
  <dc:subject/>
  <dc:title>Слайд 1</dc:title>
</cp:coreProperties>
</file>