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12B7-8BA1-457E-BFB0-D4EB3438B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8436-E25B-4CD9-81E2-3D568CA6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828F-A056-449D-A447-3FCAC6986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F53C-0F9D-4A67-B7A3-CD64BC973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6143-0B2A-48B8-BE9E-07BF2D8F3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2146-1E24-4518-91D1-7133A91B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6B9A-615E-4269-ADD4-7579848E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33DC-582C-452E-8A8D-CD453D72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5877-19FA-491F-A058-48DECE17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9826-51FE-4336-A247-C4EA8A9B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C2A2-05C4-4EA2-9ED8-CA033D82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F2F9-3794-4539-8099-545DD328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9573-21C1-4751-A6C6-41C21E07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3AA9A-2A89-4178-90DB-7FA13026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7389-33FA-4381-A6B9-F477CBDA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224C-9755-434D-8539-D95AF9F78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A827-53DC-4461-A962-5743B6C69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3134-F6E0-49AD-A36B-96C37FC8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5A51-D380-45E5-9EC8-8DA51C4A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D5E7-0526-4EB3-896F-737DACCD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824B-5406-4D5D-B7BA-9CECAF1F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0987-9C13-42FA-ADE0-35CEFCE5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139E-DA9A-49B9-9CA8-DC224D37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AE74-5E99-4B2A-B355-ED50F383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B15C-A432-4D10-8740-E9D279B86AAE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2C89-951B-4F98-8D52-CFE986DDA6FE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96" name="Picture 2" descr="C:\Users\User\Desktop\периметр нужное\image-3.png"/>
          <p:cNvPicPr/>
          <p:nvPr/>
        </p:nvPicPr>
        <p:blipFill>
          <a:blip r:embed="rId1"/>
          <a:stretch/>
        </p:blipFill>
        <p:spPr>
          <a:xfrm>
            <a:off x="357120" y="357120"/>
            <a:ext cx="4381560" cy="3286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Users\User\Desktop\периметр нужное\image-27.jpg"/>
          <p:cNvPicPr/>
          <p:nvPr/>
        </p:nvPicPr>
        <p:blipFill>
          <a:blip r:embed="rId2"/>
          <a:stretch/>
        </p:blipFill>
        <p:spPr>
          <a:xfrm>
            <a:off x="4643280" y="3429000"/>
            <a:ext cx="42865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Oval 2"/>
          <p:cNvSpPr/>
          <p:nvPr/>
        </p:nvSpPr>
        <p:spPr>
          <a:xfrm>
            <a:off x="482760" y="2766960"/>
            <a:ext cx="1008000" cy="936720"/>
          </a:xfrm>
          <a:prstGeom prst="ellipse">
            <a:avLst/>
          </a:prstGeom>
          <a:gradFill rotWithShape="0">
            <a:gsLst>
              <a:gs pos="0">
                <a:srgbClr val="009dd9"/>
              </a:gs>
              <a:gs pos="100000">
                <a:srgbClr val="00496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comb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2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1 0.01896 C -0.01961 -0.12902 0.07639 -0.25156 0.19271 -0.25156 C 0.33004 -0.25156 0.37969 -0.11561 0.40018 -0.03445 L 0.42171 0.07283 C 0.44306 0.15376 0.49619 0.28763 0.65087 0.28763 C 0.75 0.28763 0.86198 0.16671 0.86198 0.01896 C 0.86198 -0.12902 0.75 -0.25156 0.65087 -0.25156 C 0.49619 -0.25156 0.44306 -0.11561 0.42171 -0.03445 L 0.40018 0.07283 C 0.37969 0.15376 0.33004 0.28763 0.19271 0.28763 C 0.07639 0.28763 -0.01961 0.16671 -0.01961 0.01896 Z">
                                      <p:cBhvr>
                                        <p:cTn id="47" dur="3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Oval 2"/>
          <p:cNvSpPr/>
          <p:nvPr/>
        </p:nvSpPr>
        <p:spPr>
          <a:xfrm>
            <a:off x="423720" y="2948040"/>
            <a:ext cx="1008360" cy="936720"/>
          </a:xfrm>
          <a:prstGeom prst="ellipse">
            <a:avLst/>
          </a:prstGeom>
          <a:solidFill>
            <a:srgbClr val="e03c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C:\Users\User\Desktop\периметр нужное\image-21.jpg"/>
          <p:cNvPicPr/>
          <p:nvPr/>
        </p:nvPicPr>
        <p:blipFill>
          <a:blip r:embed="rId1"/>
          <a:stretch/>
        </p:blipFill>
        <p:spPr>
          <a:xfrm>
            <a:off x="5786280" y="2500200"/>
            <a:ext cx="2333880" cy="1928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C:\Users\User\Desktop\периметр нужное\image-5.png"/>
          <p:cNvPicPr/>
          <p:nvPr/>
        </p:nvPicPr>
        <p:blipFill>
          <a:blip r:embed="rId2"/>
          <a:stretch/>
        </p:blipFill>
        <p:spPr>
          <a:xfrm>
            <a:off x="1714680" y="2428920"/>
            <a:ext cx="2286000" cy="20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2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79186E-006 C -0.00034 -0.15356 0.09566 -0.28099 0.21198 -0.28099 C 0.34931 -0.28099 0.39896 -0.13968 0.41945 -0.0555 L 0.44098 0.05597 C 0.46233 0.13992 0.51546 0.27961 0.67014 0.27961 C 0.76927 0.27961 0.88125 0.1538 0.88125 -4.79186E-006 C 0.88091 -0.15356 0.76927 -0.28099 0.67014 -0.28099 C 0.51546 -0.28099 0.46233 -0.13968 0.44098 -0.0555 L 0.41945 0.05597 C 0.39896 0.14015 0.34931 0.27961 0.21198 0.27961 C 0.09566 0.27961 -0.00034 0.1538 -3.61111E-006 -4.79186E-006 Z">
                                      <p:cBhvr>
                                        <p:cTn id="57" dur="3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C:\Users\User\Desktop\периметр нужное\image-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395280" y="189000"/>
            <a:ext cx="8280360" cy="180000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Домашнее 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5286240" y="2428920"/>
            <a:ext cx="35719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Стр. 82  № 6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рабочая тетрадь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с.31 №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400"/>
                            </p:stCondLst>
                            <p:childTnLst>
                              <p:par>
                                <p:cTn id="7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C:\Users\User\Desktop\периметр нужное\image-8.jpg"/>
          <p:cNvPicPr/>
          <p:nvPr/>
        </p:nvPicPr>
        <p:blipFill>
          <a:blip r:embed="rId1"/>
          <a:stretch/>
        </p:blipFill>
        <p:spPr>
          <a:xfrm>
            <a:off x="4286160" y="3000240"/>
            <a:ext cx="4643640" cy="36435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лгоритм нахождения периметра</a:t>
            </a:r>
            <a:br>
              <a:rPr sz="45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14240" y="2071800"/>
            <a:ext cx="742968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188280" indent="-188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Измерить длину всех сторон многоугольник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188280" indent="-188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188280" indent="-188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Сложить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188280" indent="-188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лученные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188280" indent="-188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зультат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5"/>
          <p:cNvSpPr/>
          <p:nvPr/>
        </p:nvSpPr>
        <p:spPr>
          <a:xfrm>
            <a:off x="500040" y="1125360"/>
            <a:ext cx="792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вод  дублонов в  оцен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857160" y="2286000"/>
          <a:ext cx="7500960" cy="2786040"/>
        </p:xfrm>
        <a:graphic>
          <a:graphicData uri="http://schemas.openxmlformats.org/drawingml/2006/table">
            <a:tbl>
              <a:tblPr/>
              <a:tblGrid>
                <a:gridCol w="2498760"/>
                <a:gridCol w="2502000"/>
                <a:gridCol w="2500200"/>
              </a:tblGrid>
              <a:tr h="1857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 и более дублоно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-9 дублоно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-7 дублоно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«4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«3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3" name="Picture 4" descr="0037"/>
          <p:cNvPicPr/>
          <p:nvPr/>
        </p:nvPicPr>
        <p:blipFill>
          <a:blip r:embed="rId1"/>
          <a:stretch/>
        </p:blipFill>
        <p:spPr>
          <a:xfrm>
            <a:off x="357120" y="4786200"/>
            <a:ext cx="135756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C:\Users\User\Desktop\периметр нужное\image-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WordArt 4"/>
          <p:cNvSpPr txBox="1"/>
          <p:nvPr/>
        </p:nvSpPr>
        <p:spPr>
          <a:xfrm>
            <a:off x="214200" y="357120"/>
            <a:ext cx="4500720" cy="14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Молодцы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25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6" dur="25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" dur="25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395280" y="189000"/>
            <a:ext cx="8280360" cy="180000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№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4, стр. 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95280" y="1928880"/>
            <a:ext cx="8209080" cy="53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1 – 12 с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2 – 15 с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3 - ? на 5 см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Р. - 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ff"/>
                </a:solidFill>
                <a:latin typeface="Times New Roman"/>
              </a:rPr>
              <a:t>Решени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15-5 = 10 (см) –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12+15=27 (см) – 1 и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27+10=37 (см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Ответ: Р = 37 с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"/>
          <p:cNvSpPr/>
          <p:nvPr/>
        </p:nvSpPr>
        <p:spPr>
          <a:xfrm flipV="1">
            <a:off x="2714760" y="3071520"/>
            <a:ext cx="215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8"/>
          <p:cNvSpPr/>
          <p:nvPr/>
        </p:nvSpPr>
        <p:spPr>
          <a:xfrm flipH="1" flipV="1">
            <a:off x="2714400" y="3214440"/>
            <a:ext cx="215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1"/>
          <p:cNvSpPr/>
          <p:nvPr/>
        </p:nvSpPr>
        <p:spPr>
          <a:xfrm>
            <a:off x="3143160" y="32148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2"/>
          <p:cNvSpPr/>
          <p:nvPr/>
        </p:nvSpPr>
        <p:spPr>
          <a:xfrm flipV="1">
            <a:off x="3500280" y="26427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3"/>
          <p:cNvSpPr/>
          <p:nvPr/>
        </p:nvSpPr>
        <p:spPr>
          <a:xfrm flipH="1">
            <a:off x="2786040" y="26431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5"/>
          <p:cNvSpPr/>
          <p:nvPr/>
        </p:nvSpPr>
        <p:spPr>
          <a:xfrm>
            <a:off x="8215200" y="27687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?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6"/>
          <p:cNvSpPr/>
          <p:nvPr/>
        </p:nvSpPr>
        <p:spPr>
          <a:xfrm>
            <a:off x="6357960" y="3214800"/>
            <a:ext cx="10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5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8"/>
          <p:cNvSpPr/>
          <p:nvPr/>
        </p:nvSpPr>
        <p:spPr>
          <a:xfrm>
            <a:off x="1071720" y="3286080"/>
            <a:ext cx="42840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5"/>
          <p:cNvSpPr/>
          <p:nvPr/>
        </p:nvSpPr>
        <p:spPr>
          <a:xfrm rot="10800000">
            <a:off x="5785920" y="2571840"/>
            <a:ext cx="2367000" cy="1285920"/>
          </a:xfrm>
          <a:prstGeom prst="rtTriangl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6715080" y="2071800"/>
            <a:ext cx="10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850"/>
                            </p:stCondLst>
                            <p:childTnLst>
                              <p:par>
                                <p:cTn id="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70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C:\Users\User\Desktop\периметр нужное\image-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Rectangle 2" descr=""/>
          <p:cNvPicPr/>
          <p:nvPr/>
        </p:nvPicPr>
        <p:blipFill>
          <a:blip r:embed="rId2"/>
          <a:stretch/>
        </p:blipFill>
        <p:spPr>
          <a:xfrm>
            <a:off x="-182520" y="-139680"/>
            <a:ext cx="6973920" cy="20718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4357800" y="5929200"/>
            <a:ext cx="47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фирьева Н.В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2060"/>
                </a:solidFill>
                <a:latin typeface="Times New Roman"/>
                <a:ea typeface="Calibri"/>
              </a:rPr>
              <a:t>Правила работы в группе.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1680" y="1000080"/>
            <a:ext cx="85406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Работать дружно, быть внимательными друг к другу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жливыми, не отвлекаться на посторонние дела, не мешать друг другу, вовремя оказывать помощь, выполнять указания старшего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Своевременно выполнять задание: следить за   временем, доводить начатое дело до конц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Качественно выполнять работу (аккуратно, без ошибок), соблюдать технику безопасност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Уметь защищать общее дело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вое задание Джейк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1680" y="1428480"/>
            <a:ext cx="854064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редставьте в виде суммы разрядных слагаемых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, 56, 89, 98, 53, 26, 62, 76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Решите цепочку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-13=…+8=…+36=…-16=…-8=…+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2=…-21=…-30=3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Запишите значение сумм слагаемых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и5, 16и14, 7и4, 56и3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и9, 8и4,25и25, 6и7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верим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               47=40+7                 56=50+6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9=80+9                 98=90+8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=50+3                 26=20+6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=60+2                 76=70+6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25-13=12+8=20+36=56-16=40-8=32+22=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54-21=33-30=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 10+5=15      16+14=30    7+4=11    56+3=5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+9=21      8+4=12      25+25=50   6+7=1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8" name="Picture 2" descr="C:\Documents and Settings\User\Мои документы\Мои рисунки\d3ceb17c52fda2bab4ac3d10732_pre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0024"/>
          <p:cNvPicPr/>
          <p:nvPr/>
        </p:nvPicPr>
        <p:blipFill>
          <a:blip r:embed="rId2"/>
          <a:stretch/>
        </p:blipFill>
        <p:spPr>
          <a:xfrm>
            <a:off x="7358040" y="3143160"/>
            <a:ext cx="1171440" cy="27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0" spc="-1" strike="noStrike">
              <a:solidFill>
                <a:srgbClr val="04617b"/>
              </a:solidFill>
              <a:latin typeface="Monotype Corsiva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95280" y="857160"/>
            <a:ext cx="856944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2060"/>
                </a:solidFill>
                <a:latin typeface="Monotype Corsiva"/>
              </a:rPr>
              <a:t>Периметр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2060"/>
                </a:solidFill>
                <a:latin typeface="Monotype Corsiva"/>
              </a:rPr>
              <a:t>многоугольник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95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такое периметр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многоугольника?</a:t>
            </a:r>
            <a:br>
              <a:rPr sz="4400"/>
            </a:b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 длин всех сторон многоугольника называется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иметром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метр многоугольника обозначается  заглавной буквой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тинского алфавит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Oval 2"/>
          <p:cNvSpPr/>
          <p:nvPr/>
        </p:nvSpPr>
        <p:spPr>
          <a:xfrm>
            <a:off x="324000" y="404640"/>
            <a:ext cx="1150920" cy="1081440"/>
          </a:xfrm>
          <a:prstGeom prst="ellipse">
            <a:avLst/>
          </a:prstGeom>
          <a:gradFill rotWithShape="0">
            <a:gsLst>
              <a:gs pos="0">
                <a:srgbClr val="eb1d5d"/>
              </a:gs>
              <a:gs pos="100000">
                <a:srgbClr val="6d0d2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7308720" y="5229360"/>
            <a:ext cx="1008360" cy="1008000"/>
          </a:xfrm>
          <a:prstGeom prst="rect">
            <a:avLst/>
          </a:prstGeom>
          <a:gradFill rotWithShape="0">
            <a:gsLst>
              <a:gs pos="0">
                <a:srgbClr val="85dfd0"/>
              </a:gs>
              <a:gs pos="100000">
                <a:srgbClr val="3e676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7020000" y="333360"/>
            <a:ext cx="1584360" cy="1224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d298a"/>
              </a:gs>
              <a:gs pos="100000">
                <a:srgbClr val="50134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24000" y="4797360"/>
            <a:ext cx="1438200" cy="1584360"/>
          </a:xfrm>
          <a:prstGeom prst="diamond">
            <a:avLst/>
          </a:prstGeom>
          <a:gradFill rotWithShape="0">
            <a:gsLst>
              <a:gs pos="0">
                <a:srgbClr val="009dd9"/>
              </a:gs>
              <a:gs pos="100000">
                <a:srgbClr val="00496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C:\Users\User\Desktop\периметр нужное\image-4.jpg"/>
          <p:cNvPicPr/>
          <p:nvPr/>
        </p:nvPicPr>
        <p:blipFill>
          <a:blip r:embed="rId1"/>
          <a:stretch/>
        </p:blipFill>
        <p:spPr>
          <a:xfrm>
            <a:off x="2571840" y="1857240"/>
            <a:ext cx="4271760" cy="2955960"/>
          </a:xfrm>
          <a:prstGeom prst="rect">
            <a:avLst/>
          </a:prstGeom>
          <a:ln w="0">
            <a:noFill/>
          </a:ln>
        </p:spPr>
      </p:pic>
    </p:spTree>
  </p:cSld>
  <p:transition advTm="1000">
    <p:comb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07031E-006 L 0.74827 -0.00532 E">
                                      <p:cBhvr>
                                        <p:cTn id="25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00532 L 0.00018 0.67137 E">
                                      <p:cBhvr>
                                        <p:cTn id="29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2613 L -0.7165 -0.03654 E">
                                      <p:cBhvr>
                                        <p:cTn id="33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3.00648E-006 L -0.00799 -0.65565 E">
                                      <p:cBhvr>
                                        <p:cTn id="37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18:41:50Z</dcterms:created>
  <dc:creator>1</dc:creator>
  <dc:description/>
  <dc:language>en-US</dc:language>
  <cp:lastModifiedBy>User</cp:lastModifiedBy>
  <dcterms:modified xsi:type="dcterms:W3CDTF">2015-10-27T19:46:43Z</dcterms:modified>
  <cp:revision>176</cp:revision>
  <dc:subject/>
  <dc:title>Слайд 1</dc:title>
</cp:coreProperties>
</file>