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DAAAE-A626-48D3-A547-2F7C1EF98F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6337-2D10-4D3D-929B-4EACEE07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F4D5-9976-43DC-8FAC-F729C696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F3E6-64A8-4806-B394-A5618C0CFC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65EA0-3BF3-4A6D-AC6C-1CC75F3873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E4707-0D2C-422C-811D-B1595478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5CC3E-E9C8-4080-AB4A-63C996AF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E897C-1C36-4A31-A2D8-316F5B89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F63A9-EEAA-4FFB-A783-0BF30D5E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19959-6FBA-4FCF-B136-C0A2B829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BF61D-6B88-432B-8F9A-7CD94E71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B5C1-CC7E-4EDA-BE82-1E02FF09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A8E9F-0020-4833-AEBC-B5A4E83E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82BDC-0617-43BC-8C87-CDD0AE9C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E8571-0A73-4BDE-B421-A2045F35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5A358-EF90-42EB-A7FE-C783C88E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9148A-2F60-4EAD-8FC1-65DDA4CE43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81FB-8987-4F00-8935-750ED1699D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EA37-CE4C-44B3-A97B-DA8E3DBA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C7B0-9C27-4988-825B-48C247F3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50AA-7FDC-4EAC-8C29-0E9E68AD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C574-2EEC-445E-BE85-55B98CEA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E1D41-11BE-4445-AFF6-08B3BD1D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B522-1331-45C7-BB75-3AF8B585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7387-6D29-4DCA-9148-73C9C31A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BFCD-7BA6-462A-AAC4-6061D591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E8BE-426F-49F1-BBB4-0F5B0BEC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F533-2F54-4978-9541-AD29B29A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8065-8A7A-4D4E-A431-639A50CB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8034-0D10-4461-9E2B-DDAB275CBD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F3A39-00E0-4E13-9A2E-CFAA2B4487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01075-F58A-47EB-8CD7-317FE2A6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0A4D6-6796-4220-B175-0EA60C16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82D2-5F70-4681-9B34-B3CADF86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584BE-6E15-4269-B86E-198F9707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63012-B65E-4B29-9DCE-EE769124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F96D0-DB8A-4323-8D14-B9D733BB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25E92-1A16-42CA-B07D-68B490E6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404E2-AD05-4BF1-8D5B-B262A119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0C010-24A5-4F99-BE62-2B60F586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1CA59-E711-4835-8BD1-101A8491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D941B-1687-4509-A698-DEF37226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DBAE7-3E82-4ABD-9024-7298B3BB8A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8C35D-10E4-45B0-B95D-FA30AEAC3B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7069-FCD1-457F-899A-7F2ADB82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B7B758-59FA-4F19-B4F2-7B9BC798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579D9D-78E7-4845-A741-4E0EC4D7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91937F-2CA3-41D7-BAEB-4885CAF8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A2450-D65E-4590-81DE-344DC728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74394-6425-4E70-ACB0-D3F0A439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F01FAA-9E91-4168-AFEA-A36D188C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5F6602-5EE9-4BE6-8312-4698A656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EAE952-4D6D-4952-AF8E-52CF1688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D3F545-D2C7-4085-ABC2-B7338F24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B6B266-B243-40C4-B732-BAA90002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46E76-3567-41BB-A2EC-5BCDB8A4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0F318C-B2AE-4BB5-B554-23F5F24A4F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6005F-7D24-4D2F-8BAA-7600531FD6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D637-C213-441C-884B-B6FA3AA2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474BD-EA4C-4E7A-AEF6-3339B5F6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9B46B-DC16-4495-98D0-06970D47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7DEC6-EF7E-43C7-86CF-E222895D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45F88-483B-4E6C-BEF7-041F125D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1A1CC-010A-4464-BA9E-9C8097B0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50BC1-BAAE-4529-90B7-ACFAB29B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FDF8E-61BE-4E0D-93C2-F8D5880B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6D6BE-6D4E-44A4-8855-E6E1B505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A0C89-BCEB-4A7D-9150-F9EC2661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F7A77-5270-4F0D-BB2D-2DBBD1BD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C74C6-B811-4E0E-AA9F-213EDBD62D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00048-EB61-41F3-97FF-E9450AA65B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7783B-98F4-4E27-9C73-BBFADF22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B9D59-28EA-4961-9937-37E2EDD2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C08243-879F-4071-A246-359F3465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E81E2-BEF0-49B3-9863-B98729AD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285E9B-B19D-49C5-800E-07E6626E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F9C5E9-0CDC-4038-9C5A-87C4A8CB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B1F8-F0A8-429E-ACE5-ED3DDBD7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86045E-B232-4D49-91BB-5916E630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F18689-20F9-4C1C-BDD6-9D2AF10E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D2D46-ED82-49F6-8BE4-A3849FD7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54619-7E4D-4C71-80AF-7F277C50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F39EC-F2E9-41E0-90AE-4FD7CF9ECA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A914C6-BE9B-49DA-BB01-F56D9745EB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F74B8A-DF55-44C1-80F0-6F09B19F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6B98BD-74B0-46B7-A52A-3E162D8F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B894B3-CB26-436E-9F99-D7C4B667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5D69D3-E6E1-44FF-9F43-3BAA8859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744C-A2D3-4698-AA9C-D19D94F9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194EF8-3946-41B6-9DBE-4BE350C1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12DFB4-7C56-4E3D-A5A4-86DD74B6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F08865-9FAD-43B6-A009-41D29C2A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32CB37-D904-4072-86A8-72C546F8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74AD38-EB1F-4314-81C2-487D0966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F05329-8423-4BEA-8B4C-0C4F44A6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E636D0-21A9-4CC5-B4F9-5FDC9ED347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6480" y="5791320"/>
            <a:ext cx="3400560" cy="1077840"/>
            <a:chOff x="-6480" y="5791320"/>
            <a:chExt cx="3400560" cy="107784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320" y="6402240"/>
            <a:ext cx="191772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379760" y="6405480"/>
            <a:ext cx="23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47200" y="6402240"/>
            <a:ext cx="3650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150A13-40BF-4F88-B027-6E3DE58BE32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3240" y="4952880"/>
            <a:ext cx="9145800" cy="1909800"/>
            <a:chOff x="-3240" y="4952880"/>
            <a:chExt cx="9145800" cy="1909800"/>
          </a:xfrm>
        </p:grpSpPr>
        <p:sp>
          <p:nvSpPr>
            <p:cNvPr id="49" name=""/>
            <p:cNvSpPr/>
            <p:nvPr/>
          </p:nvSpPr>
          <p:spPr>
            <a:xfrm>
              <a:off x="1693800" y="4952880"/>
              <a:ext cx="7448760" cy="486000"/>
            </a:xfrm>
            <a:custGeom>
              <a:avLst/>
              <a:gdLst>
                <a:gd name="textAreaLeft" fmla="*/ 0 w 7448760"/>
                <a:gd name="textAreaRight" fmla="*/ 7449120 w 744876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280" y="5237280"/>
              <a:ext cx="9098280" cy="787320"/>
            </a:xfrm>
            <a:custGeom>
              <a:avLst/>
              <a:gdLst>
                <a:gd name="textAreaLeft" fmla="*/ 0 w 9098280"/>
                <a:gd name="textAreaRight" fmla="*/ 9098280 w 90982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7920" y="4998960"/>
              <a:ext cx="9134640" cy="1863720"/>
              <a:chOff x="7920" y="4998960"/>
              <a:chExt cx="9134640" cy="1863720"/>
            </a:xfrm>
          </p:grpSpPr>
          <p:pic>
            <p:nvPicPr>
              <p:cNvPr id="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20" y="4998960"/>
                <a:ext cx="9134640" cy="18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36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-3240" y="4992840"/>
              <a:ext cx="9145800" cy="80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997FA5-F2F4-4B17-A018-D6AD4CD67793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-6480" y="5791320"/>
            <a:ext cx="3400560" cy="1077840"/>
            <a:chOff x="-6480" y="5791320"/>
            <a:chExt cx="3400560" cy="107784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16200000"/>
          </a:gradFill>
          <a:ln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16200000"/>
          </a:gradFill>
          <a:ln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5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27A4E0-3C45-4CD8-B473-08D8FD6E1D40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6480" y="5791320"/>
            <a:ext cx="3400560" cy="1077840"/>
            <a:chOff x="-6480" y="5791320"/>
            <a:chExt cx="3400560" cy="107784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3D94AD-5662-4FD1-B7A7-D512421F7670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9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0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4873C1-F8E3-4FC2-A212-CB044409FF79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-6480" y="5791320"/>
            <a:ext cx="3400560" cy="1077840"/>
            <a:chOff x="-6480" y="5791320"/>
            <a:chExt cx="3400560" cy="1077840"/>
          </a:xfrm>
        </p:grpSpPr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2F76CB-DC70-4BD5-9FEF-80D35525372A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570233-8CDE-4D7F-BEC5-BF95517B501C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-6480" y="5791320"/>
            <a:ext cx="3400560" cy="1077840"/>
            <a:chOff x="-6480" y="5791320"/>
            <a:chExt cx="3400560" cy="1077840"/>
          </a:xfrm>
        </p:grpSpPr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16200000"/>
          </a:gradFill>
          <a:ln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16200000"/>
          </a:gradFill>
          <a:ln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5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6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BD94FD-4D32-436D-ADF3-D020883C6D0C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4919760" y="19080"/>
            <a:ext cx="4235400" cy="1479600"/>
            <a:chOff x="4919760" y="19080"/>
            <a:chExt cx="4235400" cy="1479600"/>
          </a:xfrm>
        </p:grpSpPr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4919760" y="19080"/>
              <a:ext cx="4235400" cy="14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919760" y="19080"/>
              <a:ext cx="4235400" cy="14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73" name=""/>
          <p:cNvSpPr txBox="1"/>
          <p:nvPr/>
        </p:nvSpPr>
        <p:spPr>
          <a:xfrm>
            <a:off x="1979640" y="1800360"/>
            <a:ext cx="5940360" cy="254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ЦВЕТ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826920" y="2492280"/>
            <a:ext cx="792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Microsoft YaHei"/>
              </a:rPr>
              <a:t>П  О  Д   С   О   Л   Н   У   Х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01600" y="274680"/>
            <a:ext cx="8483760" cy="1241280"/>
            <a:chOff x="201600" y="274680"/>
            <a:chExt cx="8483760" cy="1241280"/>
          </a:xfrm>
        </p:grpSpPr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201600" y="274680"/>
              <a:ext cx="84837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201600" y="274680"/>
              <a:ext cx="848376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25892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"/>
          <p:cNvSpPr/>
          <p:nvPr/>
        </p:nvSpPr>
        <p:spPr>
          <a:xfrm>
            <a:off x="205092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"/>
          <p:cNvSpPr/>
          <p:nvPr/>
        </p:nvSpPr>
        <p:spPr>
          <a:xfrm>
            <a:off x="284328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"/>
          <p:cNvSpPr/>
          <p:nvPr/>
        </p:nvSpPr>
        <p:spPr>
          <a:xfrm>
            <a:off x="442764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"/>
          <p:cNvSpPr/>
          <p:nvPr/>
        </p:nvSpPr>
        <p:spPr>
          <a:xfrm>
            <a:off x="521964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"/>
          <p:cNvSpPr/>
          <p:nvPr/>
        </p:nvSpPr>
        <p:spPr>
          <a:xfrm>
            <a:off x="601200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"/>
          <p:cNvSpPr/>
          <p:nvPr/>
        </p:nvSpPr>
        <p:spPr>
          <a:xfrm>
            <a:off x="680400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"/>
          <p:cNvSpPr/>
          <p:nvPr/>
        </p:nvSpPr>
        <p:spPr>
          <a:xfrm>
            <a:off x="757548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3" dur="indefinite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dur="indefinite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9" dur="indefinite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dur="indefinite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15" dur="indefinite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8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dur="indefinite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21" dur="indefinite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4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dur="indefinite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27" dur="indefinite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0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dur="indefinite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33" dur="indefinite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6" dur="500" fill="hold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dur="indefinite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39" dur="indefinite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2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dur="indefinite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45" dur="indefinite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8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dur="indefinite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51" dur="indefinite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4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56000" y="2133720"/>
            <a:ext cx="483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Microsoft YaHei"/>
              </a:rPr>
              <a:t>Т   У   Р   Ц   И   Я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01600" y="274680"/>
            <a:ext cx="8483760" cy="1241280"/>
            <a:chOff x="201600" y="274680"/>
            <a:chExt cx="8483760" cy="124128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201600" y="274680"/>
              <a:ext cx="84837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01600" y="274680"/>
              <a:ext cx="848376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2556000" y="205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3338640" y="205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4137120" y="205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4932360" y="205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5707080" y="205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6472080" y="2050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58" dur="indefinite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dur="indefinite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64" dur="indefinite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7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dur="indefinite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70" dur="indefinite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3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dur="indefinite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76" dur="indefinite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9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dur="indefinite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82" dur="indefinite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85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dur="indefinite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88" dur="indefinite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1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166920" y="2000160"/>
            <a:ext cx="281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Microsoft YaHei"/>
              </a:rPr>
              <a:t>П  И  О  Н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1600" y="274680"/>
            <a:ext cx="8483760" cy="1241280"/>
            <a:chOff x="201600" y="274680"/>
            <a:chExt cx="8483760" cy="124128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201600" y="274680"/>
              <a:ext cx="84837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01600" y="274680"/>
              <a:ext cx="848376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3780000" y="184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5364000" y="184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2987640" y="18446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5" dur="indefinite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8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dur="indefinite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101" dur="indefinite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4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dur="indefinite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07" dur="indefinite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0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dur="indefinite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13" dur="indefinite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863720" y="2476440"/>
            <a:ext cx="5919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Microsoft YaHei"/>
              </a:rPr>
              <a:t>Н   А   Р   Ц   И   С   С   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01600" y="274680"/>
            <a:ext cx="8483760" cy="1241280"/>
            <a:chOff x="201600" y="274680"/>
            <a:chExt cx="8483760" cy="124128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201600" y="274680"/>
              <a:ext cx="84837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01600" y="274680"/>
              <a:ext cx="848376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05092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"/>
          <p:cNvSpPr/>
          <p:nvPr/>
        </p:nvSpPr>
        <p:spPr>
          <a:xfrm>
            <a:off x="284328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"/>
          <p:cNvSpPr/>
          <p:nvPr/>
        </p:nvSpPr>
        <p:spPr>
          <a:xfrm>
            <a:off x="363528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"/>
          <p:cNvSpPr/>
          <p:nvPr/>
        </p:nvSpPr>
        <p:spPr>
          <a:xfrm>
            <a:off x="442764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"/>
          <p:cNvSpPr/>
          <p:nvPr/>
        </p:nvSpPr>
        <p:spPr>
          <a:xfrm>
            <a:off x="521964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"/>
          <p:cNvSpPr/>
          <p:nvPr/>
        </p:nvSpPr>
        <p:spPr>
          <a:xfrm>
            <a:off x="601200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"/>
          <p:cNvSpPr/>
          <p:nvPr/>
        </p:nvSpPr>
        <p:spPr>
          <a:xfrm>
            <a:off x="680400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20" dur="indefinite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3" dur="500" fill="hold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dur="indefinite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26" dur="indefinite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9" dur="500" fill="hold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dur="indefinite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32" dur="indefinite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35" dur="500" fill="hold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dur="indefinite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38" dur="indefinite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41" dur="500" fill="hold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dur="indefinite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44" dur="indefinite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47" dur="500" fill="hold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dur="indefinite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50" dur="indefinite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3" dur="500" fill="hold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dur="indefinite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56" dur="indefinite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9" dur="500" fill="hold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863720" y="2476440"/>
            <a:ext cx="5919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Microsoft YaHei"/>
              </a:rPr>
              <a:t>К   Р   А   П   И   В   А   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01600" y="274680"/>
            <a:ext cx="8483760" cy="1241280"/>
            <a:chOff x="201600" y="274680"/>
            <a:chExt cx="8483760" cy="124128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201600" y="274680"/>
              <a:ext cx="84837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01600" y="274680"/>
              <a:ext cx="848376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205092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"/>
          <p:cNvSpPr/>
          <p:nvPr/>
        </p:nvSpPr>
        <p:spPr>
          <a:xfrm>
            <a:off x="284328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"/>
          <p:cNvSpPr/>
          <p:nvPr/>
        </p:nvSpPr>
        <p:spPr>
          <a:xfrm>
            <a:off x="363528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"/>
          <p:cNvSpPr/>
          <p:nvPr/>
        </p:nvSpPr>
        <p:spPr>
          <a:xfrm>
            <a:off x="442764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"/>
          <p:cNvSpPr/>
          <p:nvPr/>
        </p:nvSpPr>
        <p:spPr>
          <a:xfrm>
            <a:off x="521964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"/>
          <p:cNvSpPr/>
          <p:nvPr/>
        </p:nvSpPr>
        <p:spPr>
          <a:xfrm>
            <a:off x="601200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"/>
          <p:cNvSpPr/>
          <p:nvPr/>
        </p:nvSpPr>
        <p:spPr>
          <a:xfrm>
            <a:off x="680400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63" dur="indefinite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66" dur="500" fill="hold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dur="indefinite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69" dur="indefinite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72" dur="500" fill="hold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dur="indefinite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75" dur="indefinite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78" dur="500" fill="hold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dur="indefinite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81" dur="indefinite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84" dur="500" fill="hold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dur="indefinite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87" dur="indefinite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90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dur="indefinite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93" dur="indefinite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96" dur="500" fill="hold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dur="indefinite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99" dur="indefinite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2" dur="500" fill="hold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250920" y="504720"/>
            <a:ext cx="8713800" cy="543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5T12:33:53Z</dcterms:created>
  <dc:creator>Natalia</dc:creator>
  <dc:description/>
  <dc:language>en-US</dc:language>
  <cp:lastModifiedBy>Natalia</cp:lastModifiedBy>
  <dcterms:modified xsi:type="dcterms:W3CDTF">2017-05-25T18:18:14Z</dcterms:modified>
  <cp:revision>8</cp:revision>
  <dc:subject/>
  <dc:title>Поле чудес</dc:title>
</cp:coreProperties>
</file>