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E442-8328-486E-B8E7-67552A9F97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9B9D-2FCD-48CE-9BA3-B9D2B362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9B20-7B6A-40C9-830D-A6CD7A2E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E0C9-F943-4228-9D27-8B95370865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263A7-4E20-4DC5-AE1D-4FF912326B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6AD73-A08D-447A-9262-5B1D6AFD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F5EBC-0D3B-42B2-9F34-8F9EABCD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66E3F-83B9-4596-8888-C82BAE03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560AB-EDD3-4BDA-8B1B-FE799B13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E8CEE-3FB5-4185-8725-CF1DF248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E444B-404E-4B8B-B00D-67D0240A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DA77-4FDE-4310-8DCB-7E784EE8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80FC7-75E6-4BBA-B1F7-19B1B2D5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6388C-5105-43E2-BD32-6C17A2D0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ECD66-994C-41B9-B8BE-2A86EF95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FD0A8-F2A8-4355-80AB-9180A14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E9C6F-8ED5-4262-B247-FEDD4422D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DC3C-A5AA-497D-BE30-685599224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A52B-52A4-4386-A130-8218E731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A1E2-CA8E-4623-8A28-026CB7C3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39B9-CEF1-44C4-9ECA-452964DB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84B7-1CE0-41D3-8A99-E16A604E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C109-9045-48C8-9093-D12EC78A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A5DB-8AD0-4E56-AC3E-1DB33C6A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ADA0-41B0-4D07-9A3A-248A7E85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E36A-FCAB-4AA0-8739-722798CD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1E04-A739-4764-819F-AA8913F5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4E42-F267-44ED-BC21-8012F38B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CB4A-8ADE-48B8-9216-7A219043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17F9-F215-4A4C-8DE9-9DDA351D54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1852A-0540-478B-A80D-F9A6BE6FE9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1BC5D-06C0-4BB2-BA50-BFFBAD20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3BE13-77BB-48CB-8A3E-F4E76B51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99436-5940-4538-8B24-B5D3AF01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7C5A1-93F0-4A8F-903E-AEAE2AEB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5E0C9-2020-4294-9B50-9A9E556D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DFDAB-3F89-419F-A0DB-25D68DD9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98715-4763-45A0-8C72-4A3D6033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F90B5-DD65-487E-9BE8-7A0A70B4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42F9A-B79C-4829-ABB7-32945261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34865-1307-4EA6-A62C-6C16F36D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086F1-0A07-4B65-AA24-1FD6A74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5E13C-EB31-4993-A525-3A6FB8A7C9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D4BE7-5673-40FA-9D41-B4AFCAFAC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DE64-641A-4C88-8F6C-D073C78C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3DC0B-723D-4E8C-8245-FC77209C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BEC3D-1686-43FF-89FC-458FF586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8CFD0-411C-4083-AA22-A807F952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16434-4266-412E-BF29-5C1E7A83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80F38-3DFE-4152-9FDE-681C70AE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11935-5588-4A07-9ABB-B78B2C18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BA4E7-E747-4D5B-9F88-9E387478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30C0B-BE05-4290-9933-09D13BB1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052A2-6B98-47F6-BB75-6E7537B2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AA0E0-D9EB-4B61-81DC-F9EA519A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26D7-E64E-470B-9F4F-82CC7C72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9F987F-8011-45CD-8A1D-F547540BED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0F41-B39B-41D5-AB99-1C73933D9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9E67-BC04-4CBE-99AD-C1009830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BC71C-2D3D-41AB-AC00-BD674256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D955E-044A-4186-8E40-D77850C0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1FA4-E90E-48CD-88A7-C43FCBFF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D9E6-64C0-4833-AD8B-19920E0C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9531-00B5-4C9F-8881-191B70AB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6A791-5F31-4078-949B-1A8950C0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499D4-4F6A-4BD4-9A9F-B4CB7900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14EF-EC9A-40F3-84DB-7F764426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EDD7C-362C-42AB-AA18-9CF94111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89F6B-5B00-4E22-905B-F695D49C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3B203-49D3-4D66-ACE0-83733220C5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349BB-A82B-46EF-8183-D991C2CA8E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088194-FE84-4533-B482-F4107568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94E51-FB29-4B25-ABEE-53706CA5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76B72-D67F-4E7D-824C-4021FDE3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E6717-95A3-430F-BF91-3619283E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B3D82-07DC-438C-A30F-EEFC2B21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56F65-EC7F-42DA-9CC4-ED8BB08B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7518-B8F5-48D0-8238-EEE9F183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6DF4E-5EC3-493A-B5C2-F82AA0E7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23184-2CCF-454D-B1EE-EB6D5525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0FC81-A8E8-4D67-BE92-C16A64C1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47154-47DD-47AF-9D2F-CD2BB48C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D610C-DE2A-4795-9C07-657AC3455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532B01-FF10-4CA9-83A1-77FD6ACBD9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63242A-288B-4E14-98D0-1A5F526D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78C48A-2160-44B6-9EAB-C2A64676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38AD97-58A6-4A1E-8CDE-BE3C2102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DA775D-AE74-4BF7-ACE7-DCD9BBC1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3214-8B65-49C5-AE28-719807BA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79A84F-039B-4A47-AE3D-E09107C6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5012A2-1EE1-438E-A6C4-03444D2B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75B5FF-CC41-451E-A8F7-166F1B8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9AF175-51B6-4ECF-B844-3151A6A6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AE731F-CEA9-446D-ABB3-996AE7F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8B4B74-0925-4F43-A381-7ED3B5BF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4E9E51-6913-42C6-9381-3F06C1D1CF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320" y="6402240"/>
            <a:ext cx="191772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379760" y="640548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7200" y="6402240"/>
            <a:ext cx="3650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413641-EEA8-4E43-A84A-285C7FC35BB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3240" y="4952880"/>
            <a:ext cx="9145800" cy="1909800"/>
            <a:chOff x="-3240" y="4952880"/>
            <a:chExt cx="9145800" cy="1909800"/>
          </a:xfrm>
        </p:grpSpPr>
        <p:sp>
          <p:nvSpPr>
            <p:cNvPr id="49" name=""/>
            <p:cNvSpPr/>
            <p:nvPr/>
          </p:nvSpPr>
          <p:spPr>
            <a:xfrm>
              <a:off x="1693800" y="4952880"/>
              <a:ext cx="7448760" cy="486000"/>
            </a:xfrm>
            <a:custGeom>
              <a:avLst/>
              <a:gdLst>
                <a:gd name="textAreaLeft" fmla="*/ 0 w 7448760"/>
                <a:gd name="textAreaRight" fmla="*/ 7449120 w 74487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280" y="5237280"/>
              <a:ext cx="9098280" cy="787320"/>
            </a:xfrm>
            <a:custGeom>
              <a:avLst/>
              <a:gdLst>
                <a:gd name="textAreaLeft" fmla="*/ 0 w 9098280"/>
                <a:gd name="textAreaRight" fmla="*/ 9098280 w 90982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7920" y="4998960"/>
              <a:ext cx="9134640" cy="1863720"/>
              <a:chOff x="7920" y="4998960"/>
              <a:chExt cx="9134640" cy="1863720"/>
            </a:xfrm>
          </p:grpSpPr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0" y="4998960"/>
                <a:ext cx="9134640" cy="18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36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-3240" y="4992840"/>
              <a:ext cx="9145800" cy="80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0C39F8-6C38-4D7F-A200-FBA2699D68D0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4EB26A-A1D7-4B5B-B512-204CA31D3AC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FA763E-54AE-4A96-8DFB-C5470005C366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9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4BE6EB-C88C-4EA7-B621-28B267F214B6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860290-BC67-44C6-B294-83492710877F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8B621B-4105-473A-BFA3-1611DB368675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5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2DB0A5-4D9C-46E9-8DAE-966DCA3C35E2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4919760" y="19080"/>
            <a:ext cx="4235400" cy="1479600"/>
            <a:chOff x="4919760" y="19080"/>
            <a:chExt cx="4235400" cy="1479600"/>
          </a:xfrm>
        </p:grpSpPr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4919760" y="19080"/>
              <a:ext cx="4235400" cy="14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919760" y="19080"/>
              <a:ext cx="4235400" cy="14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73" name=""/>
          <p:cNvSpPr txBox="1"/>
          <p:nvPr/>
        </p:nvSpPr>
        <p:spPr>
          <a:xfrm>
            <a:off x="1979640" y="1800360"/>
            <a:ext cx="5940360" cy="254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ЦВЕТ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826920" y="2492280"/>
            <a:ext cx="792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П  О  Д   С   О   Л   Н   У   Х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01600" y="274680"/>
            <a:ext cx="8483760" cy="1241280"/>
            <a:chOff x="201600" y="274680"/>
            <a:chExt cx="8483760" cy="124128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201600" y="274680"/>
              <a:ext cx="84837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201600" y="274680"/>
              <a:ext cx="848376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25892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"/>
          <p:cNvSpPr/>
          <p:nvPr/>
        </p:nvSpPr>
        <p:spPr>
          <a:xfrm>
            <a:off x="205092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"/>
          <p:cNvSpPr/>
          <p:nvPr/>
        </p:nvSpPr>
        <p:spPr>
          <a:xfrm>
            <a:off x="284328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"/>
          <p:cNvSpPr/>
          <p:nvPr/>
        </p:nvSpPr>
        <p:spPr>
          <a:xfrm>
            <a:off x="442764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"/>
          <p:cNvSpPr/>
          <p:nvPr/>
        </p:nvSpPr>
        <p:spPr>
          <a:xfrm>
            <a:off x="521964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"/>
          <p:cNvSpPr/>
          <p:nvPr/>
        </p:nvSpPr>
        <p:spPr>
          <a:xfrm>
            <a:off x="601200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"/>
          <p:cNvSpPr/>
          <p:nvPr/>
        </p:nvSpPr>
        <p:spPr>
          <a:xfrm>
            <a:off x="680400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/>
          <p:nvPr/>
        </p:nvSpPr>
        <p:spPr>
          <a:xfrm>
            <a:off x="757548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3" dur="indefinite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dur="indefinite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9" dur="indefinite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dur="indefinite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5" dur="indefinite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dur="indefinite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1" dur="indefinite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4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dur="indefinite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27" dur="indefinite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0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dur="indefinite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3" dur="indefinite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6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dur="indefinite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9" dur="indefinite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2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dur="indefinite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5" dur="indefinite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8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dur="indefinite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1" dur="indefinite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4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56000" y="2133720"/>
            <a:ext cx="483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Т   У   Р   Ц   И   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01600" y="274680"/>
            <a:ext cx="8483760" cy="1241280"/>
            <a:chOff x="201600" y="274680"/>
            <a:chExt cx="8483760" cy="124128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201600" y="274680"/>
              <a:ext cx="84837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01600" y="274680"/>
              <a:ext cx="848376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2556000" y="205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3338640" y="205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4137120" y="205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4932360" y="205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5707080" y="205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6472080" y="2050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58" dur="indefinite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dur="indefinite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64" dur="indefinite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dur="indefinite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0" dur="indefinite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3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dur="indefinite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76" dur="indefinite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9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dur="indefinite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82" dur="indefinite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dur="indefinite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88" dur="indefinite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1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166920" y="2000160"/>
            <a:ext cx="281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П  И  О  Н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1600" y="274680"/>
            <a:ext cx="8483760" cy="1241280"/>
            <a:chOff x="201600" y="274680"/>
            <a:chExt cx="8483760" cy="124128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201600" y="274680"/>
              <a:ext cx="84837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1600" y="274680"/>
              <a:ext cx="848376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3780000" y="184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2987640" y="1844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5" dur="indefinite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8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dur="indefinite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101" dur="indefinite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4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dur="indefinite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07" dur="indefinite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0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dur="indefinite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13" dur="indefinite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863720" y="2476440"/>
            <a:ext cx="5919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Н   А   Р   Ц   И   С   С   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01600" y="274680"/>
            <a:ext cx="8483760" cy="1241280"/>
            <a:chOff x="201600" y="274680"/>
            <a:chExt cx="8483760" cy="124128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201600" y="274680"/>
              <a:ext cx="84837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01600" y="274680"/>
              <a:ext cx="848376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05092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"/>
          <p:cNvSpPr/>
          <p:nvPr/>
        </p:nvSpPr>
        <p:spPr>
          <a:xfrm>
            <a:off x="284328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"/>
          <p:cNvSpPr/>
          <p:nvPr/>
        </p:nvSpPr>
        <p:spPr>
          <a:xfrm>
            <a:off x="363528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"/>
          <p:cNvSpPr/>
          <p:nvPr/>
        </p:nvSpPr>
        <p:spPr>
          <a:xfrm>
            <a:off x="442764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"/>
          <p:cNvSpPr/>
          <p:nvPr/>
        </p:nvSpPr>
        <p:spPr>
          <a:xfrm>
            <a:off x="521964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"/>
          <p:cNvSpPr/>
          <p:nvPr/>
        </p:nvSpPr>
        <p:spPr>
          <a:xfrm>
            <a:off x="601200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"/>
          <p:cNvSpPr/>
          <p:nvPr/>
        </p:nvSpPr>
        <p:spPr>
          <a:xfrm>
            <a:off x="680400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20" dur="indefinite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3" dur="500" fill="hold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dur="indefinite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26" dur="indefinite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9" dur="5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dur="indefinite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32" dur="indefinite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5" dur="500" fill="hold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dur="indefinite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38" dur="indefinite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1" dur="5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dur="indefinite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44" dur="indefinite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7" dur="5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dur="indefinite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50" dur="indefinite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3" dur="500" fill="hold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dur="indefinite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56" dur="indefinite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9" dur="500" fill="hold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863720" y="2476440"/>
            <a:ext cx="5919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К   Р   А   П   И   В   А   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01600" y="274680"/>
            <a:ext cx="8483760" cy="1241280"/>
            <a:chOff x="201600" y="274680"/>
            <a:chExt cx="8483760" cy="124128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201600" y="274680"/>
              <a:ext cx="84837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01600" y="274680"/>
              <a:ext cx="848376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05092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"/>
          <p:cNvSpPr/>
          <p:nvPr/>
        </p:nvSpPr>
        <p:spPr>
          <a:xfrm>
            <a:off x="284328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"/>
          <p:cNvSpPr/>
          <p:nvPr/>
        </p:nvSpPr>
        <p:spPr>
          <a:xfrm>
            <a:off x="363528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"/>
          <p:cNvSpPr/>
          <p:nvPr/>
        </p:nvSpPr>
        <p:spPr>
          <a:xfrm>
            <a:off x="442764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"/>
          <p:cNvSpPr/>
          <p:nvPr/>
        </p:nvSpPr>
        <p:spPr>
          <a:xfrm>
            <a:off x="521964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"/>
          <p:cNvSpPr/>
          <p:nvPr/>
        </p:nvSpPr>
        <p:spPr>
          <a:xfrm>
            <a:off x="6012000" y="2403360"/>
            <a:ext cx="79200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"/>
          <p:cNvSpPr/>
          <p:nvPr/>
        </p:nvSpPr>
        <p:spPr>
          <a:xfrm>
            <a:off x="6804000" y="2403360"/>
            <a:ext cx="792360" cy="792360"/>
          </a:xfrm>
          <a:prstGeom prst="rect">
            <a:avLst/>
          </a:prstGeom>
          <a:gradFill rotWithShape="0">
            <a:gsLst>
              <a:gs pos="0">
                <a:srgbClr val="d6f3ff"/>
              </a:gs>
              <a:gs pos="100000">
                <a:srgbClr val="95d4ee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63" dur="indefinite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66" dur="5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dur="indefinite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9" dur="indefinite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72" dur="5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dur="indefinite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75" dur="indefinite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78" dur="5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dur="indefinite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81" dur="indefinite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84" dur="500" fill="hold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dur="indefinite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87" dur="indefinite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90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dur="indefinite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93" dur="indefinite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96" dur="5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dur="indefinite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99" dur="indefinite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2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250920" y="504720"/>
            <a:ext cx="8713800" cy="543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5T12:33:53Z</dcterms:created>
  <dc:creator>Natalia</dc:creator>
  <dc:description/>
  <dc:language>en-US</dc:language>
  <cp:lastModifiedBy>Natalia</cp:lastModifiedBy>
  <dcterms:modified xsi:type="dcterms:W3CDTF">2017-05-25T18:18:14Z</dcterms:modified>
  <cp:revision>8</cp:revision>
  <dc:subject/>
  <dc:title>Поле чудес</dc:title>
</cp:coreProperties>
</file>