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527-CB2E-4CA1-AD51-C62BD195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037-965C-4509-90C2-64C6240B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F4D-56B5-4684-8B0D-716C97A6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16A-E4AE-4CB3-9651-22B57CDC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B73-F3D4-4468-8FCD-6180B04F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EDE-37C9-4919-9FD5-8DC48B4E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334-4381-494B-A5F7-534DBA89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699-9CD3-4E84-94F9-37F8FAC1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0E6-AD23-4B15-AF6E-0F1AA9DA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12E-C70A-4ADB-ACD5-9975514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D1A-D1E1-4737-9F4D-BFF04AB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D27-741E-40E6-BCE0-CA746C3D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FAE5-EFC5-4E4B-AF02-A55308134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3_porosen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4"/>
          <p:cNvSpPr/>
          <p:nvPr/>
        </p:nvSpPr>
        <p:spPr>
          <a:xfrm>
            <a:off x="0" y="537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ребята!  В нашем лесу появился волк. И мы решили построить себе домики. Только не знаем, какой материал выбрать?  И нам нужна ваша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3_porosen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5102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иф-ниф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 хочу строить домик из ваты. Мне в нём будет тепло, светло и мяг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уф-нуф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 хочу построить домик из бумаги. В нём будет светло и чи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аф-наф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я считаю, что дом нужно делать из камня. Он будет крепкий и прочны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в.jpg"/>
          <p:cNvPicPr/>
          <p:nvPr/>
        </p:nvPicPr>
        <p:blipFill>
          <a:blip r:embed="rId2"/>
          <a:srcRect l="15108" t="22380" r="9294" b="31102"/>
          <a:stretch/>
        </p:blipFill>
        <p:spPr>
          <a:xfrm>
            <a:off x="0" y="3213000"/>
            <a:ext cx="219564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дом из бум.jpg"/>
          <p:cNvPicPr/>
          <p:nvPr/>
        </p:nvPicPr>
        <p:blipFill>
          <a:blip r:embed="rId3"/>
          <a:srcRect l="10969" t="10010" r="20213" b="3560"/>
          <a:stretch/>
        </p:blipFill>
        <p:spPr>
          <a:xfrm>
            <a:off x="6875640" y="2997360"/>
            <a:ext cx="2268360" cy="2160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из камня.JPG"/>
          <p:cNvPicPr/>
          <p:nvPr/>
        </p:nvPicPr>
        <p:blipFill>
          <a:blip r:embed="rId4"/>
          <a:srcRect l="12992" t="5904" r="7479" b="17322"/>
          <a:stretch/>
        </p:blipFill>
        <p:spPr>
          <a:xfrm>
            <a:off x="5724360" y="0"/>
            <a:ext cx="266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КАМ ДО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ВСЕМ НА СВЕТЕ НУЖЕН ДОМ" descr=""/>
          <p:cNvPicPr/>
          <p:nvPr/>
        </p:nvPicPr>
        <p:blipFill>
          <a:blip r:embed="rId2"/>
          <a:stretch/>
        </p:blipFill>
        <p:spPr>
          <a:xfrm>
            <a:off x="7236000" y="692280"/>
            <a:ext cx="96984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9:03:00Z</dcterms:created>
  <dc:creator>ирина</dc:creator>
  <dc:description/>
  <dc:language>en-US</dc:language>
  <cp:lastModifiedBy>Admin</cp:lastModifiedBy>
  <dcterms:modified xsi:type="dcterms:W3CDTF">2017-06-12T12:35:46Z</dcterms:modified>
  <cp:revision>12</cp:revision>
  <dc:subject/>
  <dc:title>Слайд 1</dc:title>
</cp:coreProperties>
</file>