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3347-48E0-475B-9DF0-FD478E3F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58DF-A041-4A99-8A5A-72AC0C8E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C75E-2A83-4C41-8D18-0F4FC16B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E40E-DA40-4EA2-96A1-7588D1ECF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0CCF-725C-4719-8FF9-DD2820B7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58FC-3FDC-4D18-8EC2-12C22A03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266E-962D-46AA-9B33-02783612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61D5-7514-46EB-958E-4D8B15DC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B72A-CC2D-4C3B-A2D5-D141FD4D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7538-84B0-4B67-A7B5-FA101273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B573-127A-44BB-A204-3CA4D627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2787-3856-4C83-A1A8-1281F98A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3E7D-1122-4EEC-94CF-AC2CAB8BB1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3_porosenk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4"/>
          <p:cNvSpPr/>
          <p:nvPr/>
        </p:nvSpPr>
        <p:spPr>
          <a:xfrm>
            <a:off x="0" y="5373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уйте, ребята!  В нашем лесу появился волк. И мы решили построить себе домики. Только не знаем, какой материал выбрать?  И нам нужна ваша помощ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3_porosenk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"/>
          <p:cNvSpPr/>
          <p:nvPr/>
        </p:nvSpPr>
        <p:spPr>
          <a:xfrm>
            <a:off x="0" y="51022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Ниф-ниф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Я хочу строить домик из ваты. Мне в нём будет тепло, светло и мягк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Нуф-нуф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Я хочу построить домик из бумаги. В нём будет светло и чист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Наф-наф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 я считаю, что дом нужно делать из камня. Он будет крепкий и прочный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6" descr="в.jpg"/>
          <p:cNvPicPr/>
          <p:nvPr/>
        </p:nvPicPr>
        <p:blipFill>
          <a:blip r:embed="rId2"/>
          <a:srcRect l="15108" t="22380" r="9294" b="31102"/>
          <a:stretch/>
        </p:blipFill>
        <p:spPr>
          <a:xfrm>
            <a:off x="0" y="3213000"/>
            <a:ext cx="2195640" cy="19447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дом из бум.jpg"/>
          <p:cNvPicPr/>
          <p:nvPr/>
        </p:nvPicPr>
        <p:blipFill>
          <a:blip r:embed="rId3"/>
          <a:srcRect l="10969" t="10010" r="20213" b="3560"/>
          <a:stretch/>
        </p:blipFill>
        <p:spPr>
          <a:xfrm>
            <a:off x="6875640" y="2997360"/>
            <a:ext cx="2268360" cy="21603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9" descr="из камня.JPG"/>
          <p:cNvPicPr/>
          <p:nvPr/>
        </p:nvPicPr>
        <p:blipFill>
          <a:blip r:embed="rId4"/>
          <a:srcRect l="12992" t="5904" r="7479" b="17322"/>
          <a:stretch/>
        </p:blipFill>
        <p:spPr>
          <a:xfrm>
            <a:off x="5724360" y="0"/>
            <a:ext cx="26640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КАМ ДО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ВСЕМ НА СВЕТЕ НУЖЕН ДОМ" descr=""/>
          <p:cNvPicPr/>
          <p:nvPr/>
        </p:nvPicPr>
        <p:blipFill>
          <a:blip r:embed="rId2"/>
          <a:stretch/>
        </p:blipFill>
        <p:spPr>
          <a:xfrm>
            <a:off x="7236000" y="692280"/>
            <a:ext cx="96984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19:03:00Z</dcterms:created>
  <dc:creator>ирина</dc:creator>
  <dc:description/>
  <dc:language>en-US</dc:language>
  <cp:lastModifiedBy>Admin</cp:lastModifiedBy>
  <dcterms:modified xsi:type="dcterms:W3CDTF">2017-06-12T12:35:46Z</dcterms:modified>
  <cp:revision>12</cp:revision>
  <dc:subject/>
  <dc:title>Слайд 1</dc:title>
</cp:coreProperties>
</file>