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C34-5DB4-4C0A-A3EE-FF0533EA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02F-530D-4652-9467-C3AE50C8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19E-A088-48F5-81E2-BA083023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67F-4FEB-4587-8E6C-673C66FA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EFF3-AF03-434D-9680-46555FB8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216D-ED28-496B-AE4C-A6D934AC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87FF-41B9-415E-9D3F-8B964C9B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E1EF-6043-4628-B0BD-49DA022D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86C3-ECE5-452F-B08A-3C6B8619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00A5-A251-4F99-98BA-0E1A4046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0CD0-40DD-4E3E-BBC2-E02E4844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ADE-305B-4BCB-B9B7-0EEB6CDC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A702-E758-4FA6-8553-2E8BFA90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BC70-B4DA-45AB-A23F-6A13EFEA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E267-A703-4069-B790-AE7CEE7B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8509-9CF8-480F-9376-43DC91CC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7655-6457-447E-9357-D07960B0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B76-7C85-4E25-93CB-F2DE0287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AD6-DE57-42AD-8144-742237CB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53B-F49B-455F-83B0-3D5081BA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4DA-DB2C-471C-9AD5-9FF42683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701-EF12-4F20-85BD-2A9C4910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E36-A7DD-4B95-908E-B7F841E3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9BC-B516-4A15-ACE5-11D96E5D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1635-B430-45D0-8F5E-798CC04B1DB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8EF6-EA36-46C8-AE53-36E9278779A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799308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Муниципальное бюджетное общеобразовательное учреждение – школа №51 города Орла</a:t>
            </a:r>
            <a:br>
              <a:rPr sz="1200"/>
            </a:br>
            <a:br>
              <a:rPr sz="1300"/>
            </a:br>
            <a:br>
              <a:rPr sz="1300"/>
            </a:b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оект по окружающему миру:</a:t>
            </a:r>
            <a:br>
              <a:rPr sz="2400"/>
            </a:b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 «Школа кулинаров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56360" y="3357360"/>
            <a:ext cx="281952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Monotype Corsiva"/>
              </a:rPr>
              <a:t>Подготовила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Monotype Corsiva"/>
              </a:rPr>
              <a:t>Ученица 3 «В» класс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Monotype Corsiva"/>
              </a:rPr>
              <a:t>Позднякова Софи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Monotype Corsiva"/>
              </a:rPr>
              <a:t>Учитель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288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Monotype Corsiva"/>
              </a:rPr>
              <a:t>Каплина Ю.П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6" descr="bento_3"/>
          <p:cNvPicPr/>
          <p:nvPr/>
        </p:nvPicPr>
        <p:blipFill>
          <a:blip r:embed="rId1"/>
          <a:stretch/>
        </p:blipFill>
        <p:spPr>
          <a:xfrm>
            <a:off x="395280" y="2565360"/>
            <a:ext cx="5256360" cy="3500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2987640" y="632304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Monotype Corsiva"/>
              </a:rPr>
              <a:t>2016-2017  учебный год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448956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Arial"/>
              </a:rPr>
              <a:t>Цели проект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1280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знать, в ходе работы над проектом, какие продукты полезны для здоровь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Arial"/>
              </a:rPr>
              <a:t>Научиться правильно балансирова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Arial"/>
              </a:rPr>
              <a:t>питание для укрепления своего здоровь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Из полезных для здоровья продуктов научиться готовить интересные блюд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7" descr="bigstock_wicker_basket_with_assorted_or_56073449_(1)"/>
          <p:cNvPicPr/>
          <p:nvPr/>
        </p:nvPicPr>
        <p:blipFill>
          <a:blip r:embed="rId1"/>
          <a:stretch/>
        </p:blipFill>
        <p:spPr>
          <a:xfrm>
            <a:off x="6227640" y="189000"/>
            <a:ext cx="219420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Arial"/>
              </a:rPr>
              <a:t>План работ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Arial"/>
              </a:rPr>
              <a:t>1. Определить вкусные и полезные продукт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Arial"/>
              </a:rPr>
              <a:t>2. Выявить «вредную» пищ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Arial"/>
              </a:rPr>
              <a:t>3. Записать рецепт своего блю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Arial"/>
              </a:rPr>
              <a:t>4. Сделать вывод – питаться надо правильн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Рисунок 310" descr="Обои Фрукты Натюрморт Еда Фото 238589"/>
          <p:cNvPicPr/>
          <p:nvPr/>
        </p:nvPicPr>
        <p:blipFill>
          <a:blip r:embed="rId1"/>
          <a:stretch/>
        </p:blipFill>
        <p:spPr>
          <a:xfrm>
            <a:off x="6227640" y="189000"/>
            <a:ext cx="21686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684360" y="312840"/>
            <a:ext cx="669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Суточная потребность в витаминах ребенка в 10 лет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А – 1,5 мг; В1 – 1,4 мг; В2 – 1,9 мг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В6 – 1,7 мг; РР – 15 мг; С – 50 мг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5" descr="tovar-3232963"/>
          <p:cNvPicPr/>
          <p:nvPr/>
        </p:nvPicPr>
        <p:blipFill>
          <a:blip r:embed="rId1"/>
          <a:stretch/>
        </p:blipFill>
        <p:spPr>
          <a:xfrm>
            <a:off x="468360" y="1341360"/>
            <a:ext cx="7343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103320"/>
            <a:ext cx="800244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Вредные продукты! Употребляя их в пищу, мы наносим вред своему здоровью!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Picture 6" descr="2665234_opasnye-produkty-pitaniya"/>
          <p:cNvPicPr/>
          <p:nvPr/>
        </p:nvPicPr>
        <p:blipFill>
          <a:blip r:embed="rId1"/>
          <a:stretch/>
        </p:blipFill>
        <p:spPr>
          <a:xfrm>
            <a:off x="900000" y="981000"/>
            <a:ext cx="741708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 flipV="1" rot="10800000">
            <a:off x="5866920" y="4066920"/>
            <a:ext cx="187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24000" y="129600"/>
            <a:ext cx="85690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Мой рецепт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Шарлотка</a:t>
            </a:r>
            <a:r>
              <a:rPr b="1" i="1" lang="ru-RU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6699"/>
                </a:solidFill>
                <a:latin typeface="Arial"/>
              </a:rPr>
              <a:t>– </a:t>
            </a: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этот сладкий, яблочный десерт родом из Германии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Он давно покорил всех своей простотой и незабываемым вкус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Уметь готовить его должна каждая настоящая хозяйк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68360" y="2276640"/>
            <a:ext cx="316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Сахар – 170 г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Яйцо куриное – 2 штуки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Пшеничная мука -  250 г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Яблоко – 5 шт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Соль - на кончике ножа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Сода - ½ чайной ложки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68360" y="4508640"/>
            <a:ext cx="295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99"/>
                </a:solidFill>
                <a:latin typeface="Arial"/>
              </a:rPr>
              <a:t>ЭНЕРГЕТИЧЕСКАЯ ЦЕННОСТЬ НА ПОРЦИЮ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3399"/>
                </a:solidFill>
                <a:latin typeface="Arial"/>
              </a:rPr>
              <a:t>Калорийность 582 ккал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3399"/>
                </a:solidFill>
                <a:latin typeface="Arial"/>
              </a:rPr>
              <a:t>Белки 13,2 грам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3399"/>
                </a:solidFill>
                <a:latin typeface="Arial"/>
              </a:rPr>
              <a:t>Жиры 8,1 грам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3399"/>
                </a:solidFill>
                <a:latin typeface="Arial"/>
              </a:rPr>
              <a:t>Углеводы 112,2 грам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837360" y="170028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99"/>
                </a:solidFill>
                <a:latin typeface="Arial"/>
              </a:rPr>
              <a:t>Ингредиенты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Picture 9" descr="DSCF4223"/>
          <p:cNvPicPr/>
          <p:nvPr/>
        </p:nvPicPr>
        <p:blipFill>
          <a:blip r:embed="rId1"/>
          <a:stretch/>
        </p:blipFill>
        <p:spPr>
          <a:xfrm>
            <a:off x="4211640" y="1916280"/>
            <a:ext cx="4248000" cy="40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278640" y="173880"/>
            <a:ext cx="5103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Способ приготовления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1. Яйца соединить с сахаром и хорошо взбить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4" descr="DSCF4228"/>
          <p:cNvPicPr/>
          <p:nvPr/>
        </p:nvPicPr>
        <p:blipFill>
          <a:blip r:embed="rId1"/>
          <a:stretch/>
        </p:blipFill>
        <p:spPr>
          <a:xfrm>
            <a:off x="395280" y="1125360"/>
            <a:ext cx="3238560" cy="37436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4140360" y="837360"/>
            <a:ext cx="46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2 . В полученную смесь, постепенно добавить муку, затем соль и соду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6" descr="DSCF4233"/>
          <p:cNvPicPr/>
          <p:nvPr/>
        </p:nvPicPr>
        <p:blipFill>
          <a:blip r:embed="rId2"/>
          <a:stretch/>
        </p:blipFill>
        <p:spPr>
          <a:xfrm>
            <a:off x="4572000" y="1484280"/>
            <a:ext cx="3286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20161222200820"/>
          <p:cNvPicPr/>
          <p:nvPr/>
        </p:nvPicPr>
        <p:blipFill>
          <a:blip r:embed="rId1"/>
          <a:stretch/>
        </p:blipFill>
        <p:spPr>
          <a:xfrm>
            <a:off x="684360" y="836640"/>
            <a:ext cx="3382920" cy="21002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7"/>
          <p:cNvSpPr/>
          <p:nvPr/>
        </p:nvSpPr>
        <p:spPr>
          <a:xfrm>
            <a:off x="4716360" y="567000"/>
            <a:ext cx="4032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4. </a:t>
            </a:r>
            <a:r>
              <a:rPr b="1" i="1" lang="ru-RU" sz="1600" spc="-1" strike="noStrike">
                <a:solidFill>
                  <a:srgbClr val="006699"/>
                </a:solidFill>
                <a:latin typeface="Arial"/>
                <a:ea typeface="Times New Roman"/>
              </a:rPr>
              <a:t>Форму для выпекания смазать маслом.</a:t>
            </a: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6699"/>
                </a:solidFill>
                <a:latin typeface="Arial"/>
                <a:ea typeface="Times New Roman"/>
              </a:rPr>
              <a:t>Выложить массу в форму и поставить в духовку, разогретую до 180 градусов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6" descr="20161217180825"/>
          <p:cNvPicPr/>
          <p:nvPr/>
        </p:nvPicPr>
        <p:blipFill>
          <a:blip r:embed="rId2"/>
          <a:stretch/>
        </p:blipFill>
        <p:spPr>
          <a:xfrm>
            <a:off x="5003640" y="1628640"/>
            <a:ext cx="3486240" cy="18795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9"/>
          <p:cNvSpPr/>
          <p:nvPr/>
        </p:nvSpPr>
        <p:spPr>
          <a:xfrm>
            <a:off x="655920" y="314136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5. </a:t>
            </a:r>
            <a:r>
              <a:rPr b="1" i="1" lang="ru-RU" sz="1600" spc="-1" strike="noStrike">
                <a:solidFill>
                  <a:srgbClr val="006699"/>
                </a:solidFill>
                <a:latin typeface="Arial"/>
                <a:ea typeface="Times New Roman"/>
              </a:rPr>
              <a:t>Выпекать 30-40 минут.</a:t>
            </a:r>
            <a:r>
              <a:rPr b="1" i="1" lang="ru-RU" sz="1200" spc="-1" strike="noStrike">
                <a:solidFill>
                  <a:srgbClr val="006699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8" descr="20161217145512"/>
          <p:cNvPicPr/>
          <p:nvPr/>
        </p:nvPicPr>
        <p:blipFill>
          <a:blip r:embed="rId3"/>
          <a:stretch/>
        </p:blipFill>
        <p:spPr>
          <a:xfrm>
            <a:off x="755640" y="3645000"/>
            <a:ext cx="3848040" cy="20858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5"/>
          <p:cNvSpPr/>
          <p:nvPr/>
        </p:nvSpPr>
        <p:spPr>
          <a:xfrm>
            <a:off x="5148360" y="427140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Шарлотка готова!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Приятного аппетита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471240" y="259920"/>
            <a:ext cx="42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Arial"/>
              </a:rPr>
              <a:t>3. Добавить, нарезанные кубиками, яблоки.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280" y="102960"/>
            <a:ext cx="793116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Arial"/>
              </a:rPr>
              <a:t>Подведем итог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Мы узнали, что:</a:t>
            </a: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1)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итаться нужно разнообразно.</a:t>
            </a: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Организм получает всё необходимое, если пища включает: яйца, молоко, творог, мясо, рыбу, овощи и фрукты, каши, хлеб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2)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итаться регулярно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Кушать надо 4-5 раз в день, не позднее чем за 1,5-2 часа до сна, а перед сном можно выпить кефир, молоко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3)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Не быть жадным в еде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Лишние килограммы появляются от переедания. Это риск возникновения многих болезней, таких как сахарный диабет, болезнь сердца и сосуд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ластями, печеньями и конфетами нельзя вырастить из детей здоровых людей. Подобно телесной пище, духовная тоже должна быть простой и питательной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Р. Шуман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042920" y="4957920"/>
            <a:ext cx="760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Есть и пить нужно столько, чтобы наши силы этим восстанавливались, а не подавлялись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Марк Тулий Цицерон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30:56Z</dcterms:created>
  <dc:creator>Зульфия</dc:creator>
  <dc:description/>
  <dc:language>en-US</dc:language>
  <cp:lastModifiedBy>Андрей</cp:lastModifiedBy>
  <dcterms:modified xsi:type="dcterms:W3CDTF">2017-06-12T05:19:25Z</dcterms:modified>
  <cp:revision>23</cp:revision>
  <dc:subject/>
  <dc:title>Слайд 1</dc:title>
</cp:coreProperties>
</file>