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8DC-2A90-4A9D-A4CF-5A17C3F2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1C4-C92E-42F6-99C3-3F80C26B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995-C3DE-4E36-BB26-E55FF205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EC0-679A-41A3-9F68-1E3F295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216-C4E8-40D4-B640-14880AFF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A0FB-A657-4C28-A396-F616201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C56-1A64-48CC-860E-D2C1169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19C-DF58-44AB-ADED-89C318BE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3264-4352-4DFA-B32D-1C02171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48B5-343D-4161-BE50-795F2DE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5DDB-2E15-45CF-81BE-D9EE73C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F6E-7312-47CD-BE57-DF2BFDE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876-65C4-4241-95C9-BE820BC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3BD-08C1-469E-B7BD-0C699692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1F4D-1C93-4A95-B6EE-E8719F0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D6A1-4077-4AF2-8444-C5F71402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FB25-05B8-4C94-BD4C-6A4F5D1E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E03-3B35-4B74-836A-1D75D5F2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6DC-EC0A-4C78-8B7F-317135B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07-8EC2-4F4F-A987-A6BF389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A9F-8C1D-4BCA-802D-388545F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B2B-6C85-49AF-A0A3-4A0140F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AFF-4D67-45D9-AFF9-16F23D7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577-BDCF-4B6A-A44E-83414B0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E02C-4D28-48C2-95D7-7D1B5CE94D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E56-D074-4B70-B6A8-B2A86FF9AFB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99308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Муниципальное бюджетное общеобразовательное учреждение – школа №51 города Орла</a:t>
            </a:r>
            <a:br>
              <a:rPr sz="1200"/>
            </a:br>
            <a:br>
              <a:rPr sz="1300"/>
            </a:br>
            <a:br>
              <a:rPr sz="13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оект по окружающему миру:</a:t>
            </a:r>
            <a:br>
              <a:rPr sz="2400"/>
            </a:b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 «Школа кулинаров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56360" y="3357360"/>
            <a:ext cx="281952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Подготовил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Ученица 3 «В» класс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Позднякова Соф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Учител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Каплина Ю.П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bento_3"/>
          <p:cNvPicPr/>
          <p:nvPr/>
        </p:nvPicPr>
        <p:blipFill>
          <a:blip r:embed="rId1"/>
          <a:stretch/>
        </p:blipFill>
        <p:spPr>
          <a:xfrm>
            <a:off x="395280" y="2565360"/>
            <a:ext cx="5256360" cy="35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2987640" y="632304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Monotype Corsiva"/>
              </a:rPr>
              <a:t>2016-2017  учебный год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448956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128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знать, в ходе работы над проектом, какие продукты полезны для здоровь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Научиться правильно балансиро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питание для укрепления своего здоровь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Из полезных для здоровья продуктов научиться готовить интересные блюд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bigstock_wicker_basket_with_assorted_or_56073449_(1)"/>
          <p:cNvPicPr/>
          <p:nvPr/>
        </p:nvPicPr>
        <p:blipFill>
          <a:blip r:embed="rId1"/>
          <a:stretch/>
        </p:blipFill>
        <p:spPr>
          <a:xfrm>
            <a:off x="6227640" y="189000"/>
            <a:ext cx="21942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лан рабо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1. Определить вкусные и полезные продук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2. Выявить «вредную» пищ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3. Записать рецепт своего блю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4. Сделать вывод – питаться надо правильн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Рисунок 310" descr="Обои Фрукты Натюрморт Еда Фото 238589"/>
          <p:cNvPicPr/>
          <p:nvPr/>
        </p:nvPicPr>
        <p:blipFill>
          <a:blip r:embed="rId1"/>
          <a:stretch/>
        </p:blipFill>
        <p:spPr>
          <a:xfrm>
            <a:off x="6227640" y="189000"/>
            <a:ext cx="2168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684360" y="312840"/>
            <a:ext cx="66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Суточная потребность в витаминах ребенка в 10 лет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 – 1,5 мг; В1 – 1,4 мг; В2 – 1,9 мг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В6 – 1,7 мг; РР – 15 мг; С – 50 м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tovar-3232963"/>
          <p:cNvPicPr/>
          <p:nvPr/>
        </p:nvPicPr>
        <p:blipFill>
          <a:blip r:embed="rId1"/>
          <a:stretch/>
        </p:blipFill>
        <p:spPr>
          <a:xfrm>
            <a:off x="468360" y="1341360"/>
            <a:ext cx="7343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103320"/>
            <a:ext cx="8002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Вредные продукты! Употребляя их в пищу, мы наносим вред своему здоровью!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6" descr="2665234_opasnye-produkty-pitaniya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 flipV="1" rot="10800000">
            <a:off x="5866920" y="4066920"/>
            <a:ext cx="187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129600"/>
            <a:ext cx="8569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ой рецепт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Шарлотка</a:t>
            </a:r>
            <a:r>
              <a:rPr b="1" i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этот сладкий, яблочный десерт родом из Германи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Он давно покорил всех своей простотой и незабываемым вкус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Уметь готовить его должна каждая настоящая хозяй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2276640"/>
            <a:ext cx="316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ахар – 170 г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Яйцо куриное – 2 штук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Пшеничная мука -  250 г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Яблоко – 5 шт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оль - на кончике нож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ода - ½ чайной ложки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68360" y="450864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ЭНЕРГЕТИЧЕСКАЯ ЦЕННОСТЬ НА ПОРЦИЮ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Калорийность 582 кка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Белки 13,2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Жиры 8,1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Углеводы 112,2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837360" y="17002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Ингредиент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9" descr="DSCF4223"/>
          <p:cNvPicPr/>
          <p:nvPr/>
        </p:nvPicPr>
        <p:blipFill>
          <a:blip r:embed="rId1"/>
          <a:stretch/>
        </p:blipFill>
        <p:spPr>
          <a:xfrm>
            <a:off x="4211640" y="1916280"/>
            <a:ext cx="424800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278640" y="173880"/>
            <a:ext cx="510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Способ приготовления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1. Яйца соединить с сахаром и хорошо взбить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DSCF4228"/>
          <p:cNvPicPr/>
          <p:nvPr/>
        </p:nvPicPr>
        <p:blipFill>
          <a:blip r:embed="rId1"/>
          <a:stretch/>
        </p:blipFill>
        <p:spPr>
          <a:xfrm>
            <a:off x="395280" y="1125360"/>
            <a:ext cx="3238560" cy="3743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4140360" y="83736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2 . В полученную смесь, постепенно добавить муку, затем соль и соду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DSCF4233"/>
          <p:cNvPicPr/>
          <p:nvPr/>
        </p:nvPicPr>
        <p:blipFill>
          <a:blip r:embed="rId2"/>
          <a:stretch/>
        </p:blipFill>
        <p:spPr>
          <a:xfrm>
            <a:off x="4572000" y="1484280"/>
            <a:ext cx="3286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20161222200820"/>
          <p:cNvPicPr/>
          <p:nvPr/>
        </p:nvPicPr>
        <p:blipFill>
          <a:blip r:embed="rId1"/>
          <a:stretch/>
        </p:blipFill>
        <p:spPr>
          <a:xfrm>
            <a:off x="684360" y="836640"/>
            <a:ext cx="3382920" cy="2100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4716360" y="567000"/>
            <a:ext cx="40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Форму для выпекания смазать маслом.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Выложить массу в форму и поставить в духовку, разогретую до 180 градус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20161217180825"/>
          <p:cNvPicPr/>
          <p:nvPr/>
        </p:nvPicPr>
        <p:blipFill>
          <a:blip r:embed="rId2"/>
          <a:stretch/>
        </p:blipFill>
        <p:spPr>
          <a:xfrm>
            <a:off x="5003640" y="1628640"/>
            <a:ext cx="3486240" cy="1879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655920" y="31413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Выпекать 30-40 минут.</a:t>
            </a:r>
            <a:r>
              <a:rPr b="1" i="1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8" descr="20161217145512"/>
          <p:cNvPicPr/>
          <p:nvPr/>
        </p:nvPicPr>
        <p:blipFill>
          <a:blip r:embed="rId3"/>
          <a:stretch/>
        </p:blipFill>
        <p:spPr>
          <a:xfrm>
            <a:off x="755640" y="3645000"/>
            <a:ext cx="3848040" cy="2085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5148360" y="427140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Шарлотка готова!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Приятного аппетит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71240" y="259920"/>
            <a:ext cx="42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Arial"/>
              </a:rPr>
              <a:t>3. Добавить, нарезанные кубиками, яблоки.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102960"/>
            <a:ext cx="7931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одведем итог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Мы узнали, что: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1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таться нужно разнообразно.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Организм получает всё необходимое, если пища включает: яйца, молоко, творог, мясо, рыбу, овощи и фрукты, каши, хлеб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2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таться регулярн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Кушать надо 4-5 раз в день, не позднее чем за 1,5-2 часа до сна, а перед сном можно выпить кефир, молок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3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е быть жадным в ед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Лишние килограммы появляются от переедания. Это риск возникновения многих болезней, таких как сахарный диабет, болезнь сердца и сосуд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ластями, печеньями и конфетами нельзя вырастить из детей здоровых людей. Подобно телесной пище, духовная тоже должна быть простой и питательн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Р. Шуман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42920" y="4957920"/>
            <a:ext cx="76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Есть и пить нужно столько, чтобы наши силы этим восстанавливались, а не подавлялись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Марк Тулий Цицеро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30:56Z</dcterms:created>
  <dc:creator>Зульфия</dc:creator>
  <dc:description/>
  <dc:language>en-US</dc:language>
  <cp:lastModifiedBy>Андрей</cp:lastModifiedBy>
  <dcterms:modified xsi:type="dcterms:W3CDTF">2017-06-12T05:19:25Z</dcterms:modified>
  <cp:revision>23</cp:revision>
  <dc:subject/>
  <dc:title>Слайд 1</dc:title>
</cp:coreProperties>
</file>