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5F3-4C69-4C38-8022-EE8EFE39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F58-F258-40FF-AEDA-52DDF28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F1B-A287-420F-A7B5-900EDEBE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A3F-9215-4C54-94B8-8F35245D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BB1-2EF5-4D64-BA61-CC64398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21E-E8EF-4666-BFC2-95B298D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2D7-C9A4-4A6A-81D3-0F6FBD0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255-81D1-4DD7-87CF-7248F60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B35-43E5-410A-B0D1-9629033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6FB-50A5-4233-8048-22E129E0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050-2641-4A33-92B5-E17211E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C6A-F2F7-4F22-AEC3-63E3B5B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824C-678E-4514-8C30-51DB67F57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езентация составлена для учащихся 7,8 классов по теме «Достопримечательности Берлина». В ней содержится краткая информация и фото самых известных достопримечательностей  столицы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635280" y="260280"/>
            <a:ext cx="2705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Museumsinse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90" name="Picture 5" descr="museumsinsel 2"/>
          <p:cNvPicPr/>
          <p:nvPr/>
        </p:nvPicPr>
        <p:blipFill>
          <a:blip r:embed="rId2"/>
          <a:stretch/>
        </p:blipFill>
        <p:spPr>
          <a:xfrm>
            <a:off x="250920" y="21337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useumsinsel"/>
          <p:cNvPicPr/>
          <p:nvPr/>
        </p:nvPicPr>
        <p:blipFill>
          <a:blip r:embed="rId3"/>
          <a:stretch/>
        </p:blipFill>
        <p:spPr>
          <a:xfrm>
            <a:off x="250920" y="4221000"/>
            <a:ext cx="2592360" cy="237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пергюмузей"/>
          <p:cNvPicPr/>
          <p:nvPr/>
        </p:nvPicPr>
        <p:blipFill>
          <a:blip r:embed="rId4"/>
          <a:stretch/>
        </p:blipFill>
        <p:spPr>
          <a:xfrm>
            <a:off x="3203640" y="263700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фрагменты перг"/>
          <p:cNvPicPr/>
          <p:nvPr/>
        </p:nvPicPr>
        <p:blipFill>
          <a:blip r:embed="rId5"/>
          <a:stretch/>
        </p:blipFill>
        <p:spPr>
          <a:xfrm>
            <a:off x="6516720" y="189000"/>
            <a:ext cx="2376360" cy="198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фреска на перг"/>
          <p:cNvPicPr/>
          <p:nvPr/>
        </p:nvPicPr>
        <p:blipFill>
          <a:blip r:embed="rId6"/>
          <a:stretch/>
        </p:blipFill>
        <p:spPr>
          <a:xfrm>
            <a:off x="6516720" y="2421000"/>
            <a:ext cx="236376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вид с верху острова музеев"/>
          <p:cNvPicPr/>
          <p:nvPr/>
        </p:nvPicPr>
        <p:blipFill>
          <a:blip r:embed="rId7"/>
          <a:stretch/>
        </p:blipFill>
        <p:spPr>
          <a:xfrm>
            <a:off x="250920" y="189000"/>
            <a:ext cx="2592360" cy="1868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здание перг"/>
          <p:cNvPicPr/>
          <p:nvPr/>
        </p:nvPicPr>
        <p:blipFill>
          <a:blip r:embed="rId8"/>
          <a:stretch/>
        </p:blipFill>
        <p:spPr>
          <a:xfrm>
            <a:off x="3276720" y="1052640"/>
            <a:ext cx="2663640" cy="139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2987640" y="458136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ie Museumsinsel -so wird der Platz gennant, auf dem 3 Museen Berlins liegen. Hier gibt es das Pergamonmuseum – Museum der Kunstsch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ä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ze aus Kleinasien. Es ist durch den Pergamon – Altar ber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hm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468360" y="189000"/>
            <a:ext cx="3744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Der Berliner Zo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99" name="Picture 5" descr="зоопарк берлина"/>
          <p:cNvPicPr/>
          <p:nvPr/>
        </p:nvPicPr>
        <p:blipFill>
          <a:blip r:embed="rId2"/>
          <a:stretch/>
        </p:blipFill>
        <p:spPr>
          <a:xfrm>
            <a:off x="250920" y="1341360"/>
            <a:ext cx="2652480" cy="20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зоопарк в берлине"/>
          <p:cNvPicPr/>
          <p:nvPr/>
        </p:nvPicPr>
        <p:blipFill>
          <a:blip r:embed="rId3"/>
          <a:stretch/>
        </p:blipFill>
        <p:spPr>
          <a:xfrm>
            <a:off x="4356000" y="260280"/>
            <a:ext cx="2232000" cy="223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медведи в зоопарке берлина"/>
          <p:cNvPicPr/>
          <p:nvPr/>
        </p:nvPicPr>
        <p:blipFill>
          <a:blip r:embed="rId4"/>
          <a:stretch/>
        </p:blipFill>
        <p:spPr>
          <a:xfrm>
            <a:off x="6804000" y="333360"/>
            <a:ext cx="2076480" cy="184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жираф в зоопарке берлина"/>
          <p:cNvPicPr/>
          <p:nvPr/>
        </p:nvPicPr>
        <p:blipFill>
          <a:blip r:embed="rId5"/>
          <a:stretch/>
        </p:blipFill>
        <p:spPr>
          <a:xfrm>
            <a:off x="250920" y="3860640"/>
            <a:ext cx="274932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домик брема в зоопарке берлина"/>
          <p:cNvPicPr/>
          <p:nvPr/>
        </p:nvPicPr>
        <p:blipFill>
          <a:blip r:embed="rId6"/>
          <a:stretch/>
        </p:blipFill>
        <p:spPr>
          <a:xfrm>
            <a:off x="4067280" y="4437000"/>
            <a:ext cx="23050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ягуар в зоопарке берлина"/>
          <p:cNvPicPr/>
          <p:nvPr/>
        </p:nvPicPr>
        <p:blipFill>
          <a:blip r:embed="rId7"/>
          <a:stretch/>
        </p:blipFill>
        <p:spPr>
          <a:xfrm>
            <a:off x="6516720" y="4508640"/>
            <a:ext cx="238104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выгулы для мелких копытных в зоопарке берлина"/>
          <p:cNvPicPr/>
          <p:nvPr/>
        </p:nvPicPr>
        <p:blipFill>
          <a:blip r:embed="rId8"/>
          <a:stretch/>
        </p:blipFill>
        <p:spPr>
          <a:xfrm>
            <a:off x="6659640" y="2492280"/>
            <a:ext cx="230508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2843280" y="278136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eltbekannt ist der Berliner Zoo mit 12 000 Tieren und das Berliner Aqua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755640" y="2997360"/>
            <a:ext cx="41767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ichstagsgeba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8" name="Picture 5" descr="рейстаг 2"/>
          <p:cNvPicPr/>
          <p:nvPr/>
        </p:nvPicPr>
        <p:blipFill>
          <a:blip r:embed="rId1"/>
          <a:stretch/>
        </p:blipFill>
        <p:spPr>
          <a:xfrm>
            <a:off x="324000" y="26028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ейстаг во время войны"/>
          <p:cNvPicPr/>
          <p:nvPr/>
        </p:nvPicPr>
        <p:blipFill>
          <a:blip r:embed="rId2"/>
          <a:stretch/>
        </p:blipFill>
        <p:spPr>
          <a:xfrm>
            <a:off x="4716360" y="189000"/>
            <a:ext cx="3465720" cy="265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ейстаг"/>
          <p:cNvPicPr/>
          <p:nvPr/>
        </p:nvPicPr>
        <p:blipFill>
          <a:blip r:embed="rId3"/>
          <a:stretch/>
        </p:blipFill>
        <p:spPr>
          <a:xfrm>
            <a:off x="324000" y="3860640"/>
            <a:ext cx="2950920" cy="273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635280" y="3716280"/>
            <a:ext cx="53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 war der Reichstag ein Symbol des Faschistischen Reiches. Bald ist der Reichstag wieder das Parlameht, der Sitz der Regierung der B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0 евро с островом музеев"/>
          <p:cNvPicPr/>
          <p:nvPr/>
        </p:nvPicPr>
        <p:blipFill>
          <a:blip r:embed="rId1"/>
          <a:stretch/>
        </p:blipFill>
        <p:spPr>
          <a:xfrm>
            <a:off x="468360" y="1916280"/>
            <a:ext cx="4032360" cy="39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-я сторона монеты"/>
          <p:cNvPicPr/>
          <p:nvPr/>
        </p:nvPicPr>
        <p:blipFill>
          <a:blip r:embed="rId2"/>
          <a:stretch/>
        </p:blipFill>
        <p:spPr>
          <a:xfrm>
            <a:off x="4716360" y="2060640"/>
            <a:ext cx="4103640" cy="3889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1332000" y="549360"/>
            <a:ext cx="489744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0 Eu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15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115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germany_smal"/>
          <p:cNvPicPr/>
          <p:nvPr/>
        </p:nvPicPr>
        <p:blipFill>
          <a:blip r:embed="rId1"/>
          <a:stretch/>
        </p:blipFill>
        <p:spPr>
          <a:xfrm>
            <a:off x="4643280" y="333360"/>
            <a:ext cx="424980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260280"/>
            <a:ext cx="3816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erl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780000" y="1557360"/>
            <a:ext cx="3313080" cy="64764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Jahrhundert-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 Berlin ge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- wurde Berlin zur Hauptstadt des deutschen Kaiserreich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8-1989- war Berlin in zwei Teile getei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wurde Berlin zur Hauptstadt der B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404640"/>
            <a:ext cx="669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e Geschichte der Stad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5" descr="DSC00313"/>
          <p:cNvPicPr/>
          <p:nvPr/>
        </p:nvPicPr>
        <p:blipFill>
          <a:blip r:embed="rId1"/>
          <a:stretch/>
        </p:blipFill>
        <p:spPr>
          <a:xfrm>
            <a:off x="5940360" y="4292640"/>
            <a:ext cx="19447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Unicode MS"/>
              </a:rPr>
              <a:t>Die Sehenswürdigkeiten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 Unicode MS"/>
              </a:rPr>
              <a:t>der Stadt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539640" y="1700280"/>
            <a:ext cx="3382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ndenburger T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68360" y="3789360"/>
            <a:ext cx="2666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Die Stras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"Unter den Linden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716360" y="134136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trass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Kurfurstendamm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4859280" y="299736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Museumsinse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900000" y="2708280"/>
            <a:ext cx="265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4b4b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Rathaus</a:t>
            </a:r>
            <a:endParaRPr b="0" lang="en-US" sz="1800" spc="1" strike="noStrike">
              <a:ln w="0">
                <a:noFill/>
              </a:ln>
              <a:solidFill>
                <a:srgbClr val="ff4b4b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4211640" y="4437000"/>
            <a:ext cx="374508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Der Berliner Zo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684360" y="5373720"/>
            <a:ext cx="28382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w Cen MT"/>
              </a:rPr>
              <a:t>Alexanderpla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w Cen MT"/>
              <a:ea typeface="Tw Cen MT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5435640" y="5445000"/>
            <a:ext cx="265752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ichstagsgeba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80"/>
                            </p:stCondLst>
                            <p:childTnLst>
                              <p:par>
                                <p:cTn id="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480"/>
                            </p:stCondLst>
                            <p:childTnLst>
                              <p:par>
                                <p:cTn id="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48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480"/>
                            </p:stCondLst>
                            <p:childTnLst>
                              <p:par>
                                <p:cTn id="1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48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48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48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480"/>
                            </p:stCondLst>
                            <p:childTnLst>
                              <p:par>
                                <p:cTn id="1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май 45 г"/>
          <p:cNvPicPr/>
          <p:nvPr/>
        </p:nvPicPr>
        <p:blipFill>
          <a:blip r:embed="rId1"/>
          <a:stretch/>
        </p:blipFill>
        <p:spPr>
          <a:xfrm>
            <a:off x="755640" y="1341360"/>
            <a:ext cx="7993080" cy="534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бранд"/>
          <p:cNvPicPr/>
          <p:nvPr/>
        </p:nvPicPr>
        <p:blipFill>
          <a:blip r:embed="rId2"/>
          <a:stretch/>
        </p:blipFill>
        <p:spPr>
          <a:xfrm>
            <a:off x="971640" y="1332000"/>
            <a:ext cx="756108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2195640" y="33336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ndenburger T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квадрига"/>
          <p:cNvPicPr/>
          <p:nvPr/>
        </p:nvPicPr>
        <p:blipFill>
          <a:blip r:embed="rId3"/>
          <a:stretch/>
        </p:blipFill>
        <p:spPr>
          <a:xfrm>
            <a:off x="250920" y="414972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ранденб"/>
          <p:cNvPicPr/>
          <p:nvPr/>
        </p:nvPicPr>
        <p:blipFill>
          <a:blip r:embed="rId4"/>
          <a:stretch/>
        </p:blipFill>
        <p:spPr>
          <a:xfrm>
            <a:off x="250920" y="1268280"/>
            <a:ext cx="3457440" cy="2737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067280" y="2060640"/>
            <a:ext cx="47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ist das Wahrzeichen der Stadt Berlin. Das Tor wurde im Jahre 1788-1791 von Carl Cotthard Langhans gebaut. Hier verlieft f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die Stadtgrenze zu Westberlin. Hier beginnt eine der s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ten Strassen Berlins Unter den L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324000" y="189000"/>
            <a:ext cx="331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Die Stras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"Unter den Linden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65" name="Picture 5" descr="унтер ден линден 1945 г"/>
          <p:cNvPicPr/>
          <p:nvPr/>
        </p:nvPicPr>
        <p:blipFill>
          <a:blip r:embed="rId1"/>
          <a:stretch/>
        </p:blipFill>
        <p:spPr>
          <a:xfrm>
            <a:off x="971640" y="836640"/>
            <a:ext cx="7488000" cy="568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788г"/>
          <p:cNvPicPr/>
          <p:nvPr/>
        </p:nvPicPr>
        <p:blipFill>
          <a:blip r:embed="rId2"/>
          <a:stretch/>
        </p:blipFill>
        <p:spPr>
          <a:xfrm>
            <a:off x="1042920" y="981000"/>
            <a:ext cx="7345440" cy="540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unter_den_linden"/>
          <p:cNvPicPr/>
          <p:nvPr/>
        </p:nvPicPr>
        <p:blipFill>
          <a:blip r:embed="rId3"/>
          <a:stretch/>
        </p:blipFill>
        <p:spPr>
          <a:xfrm>
            <a:off x="1042920" y="981000"/>
            <a:ext cx="7345440" cy="561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rlin_Unter_den_Linden"/>
          <p:cNvPicPr/>
          <p:nvPr/>
        </p:nvPicPr>
        <p:blipFill>
          <a:blip r:embed="rId4"/>
          <a:stretch/>
        </p:blipFill>
        <p:spPr>
          <a:xfrm>
            <a:off x="539640" y="1341360"/>
            <a:ext cx="4319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бульвар унтер ден линден"/>
          <p:cNvPicPr/>
          <p:nvPr/>
        </p:nvPicPr>
        <p:blipFill>
          <a:blip r:embed="rId5"/>
          <a:stretch/>
        </p:blipFill>
        <p:spPr>
          <a:xfrm>
            <a:off x="5219640" y="981000"/>
            <a:ext cx="3456000" cy="3527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468360" y="465300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Die Lindenstrasse ist 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ber 300 Jahre alt. Die Allee “Unter den Linden” ist 1390 Meter lang und 60 Meter breit. Hier sind viele Sehensw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rdigkeiten: die Humbold-Universit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ä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t, die deutsche Staatsbibliothek, das Opernhaus und and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4859280" y="33336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4b4b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Rathaus</a:t>
            </a:r>
            <a:endParaRPr b="0" lang="en-US" sz="1800" spc="1" strike="noStrike">
              <a:ln w="0">
                <a:noFill/>
              </a:ln>
              <a:solidFill>
                <a:srgbClr val="ff4b4b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6" descr="ратуша"/>
          <p:cNvPicPr/>
          <p:nvPr/>
        </p:nvPicPr>
        <p:blipFill>
          <a:blip r:embed="rId1"/>
          <a:stretch/>
        </p:blipFill>
        <p:spPr>
          <a:xfrm>
            <a:off x="324000" y="260280"/>
            <a:ext cx="3255840" cy="434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ратуша2"/>
          <p:cNvPicPr/>
          <p:nvPr/>
        </p:nvPicPr>
        <p:blipFill>
          <a:blip r:embed="rId2"/>
          <a:stretch/>
        </p:blipFill>
        <p:spPr>
          <a:xfrm>
            <a:off x="4284720" y="1125360"/>
            <a:ext cx="4390920" cy="338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042920" y="4653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Berliner Rathaus nennen die Berliner Rotes Rathaus. Auf 36 Terrakottareliefs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nen wir die Geschichte der Stadt bis zum Jahre 1871 sehen. Vor dem Rathaus steht der Neptunbru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250920" y="260280"/>
            <a:ext cx="28382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w Cen MT"/>
              </a:rPr>
              <a:t>Alexanderpla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w Cen MT"/>
              <a:ea typeface="Tw Cen MT"/>
            </a:endParaRPr>
          </a:p>
        </p:txBody>
      </p:sp>
      <p:pic>
        <p:nvPicPr>
          <p:cNvPr id="76" name="Picture 5" descr="Alexanderplatz-mt"/>
          <p:cNvPicPr/>
          <p:nvPr/>
        </p:nvPicPr>
        <p:blipFill>
          <a:blip r:embed="rId2"/>
          <a:stretch/>
        </p:blipFill>
        <p:spPr>
          <a:xfrm>
            <a:off x="468360" y="1268280"/>
            <a:ext cx="30668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lexanderplatz часы"/>
          <p:cNvPicPr/>
          <p:nvPr/>
        </p:nvPicPr>
        <p:blipFill>
          <a:blip r:embed="rId3"/>
          <a:stretch/>
        </p:blipFill>
        <p:spPr>
          <a:xfrm>
            <a:off x="684360" y="3573360"/>
            <a:ext cx="2808000" cy="172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fktrcfylhgkfnw"/>
          <p:cNvPicPr/>
          <p:nvPr/>
        </p:nvPicPr>
        <p:blipFill>
          <a:blip r:embed="rId4"/>
          <a:stretch/>
        </p:blipFill>
        <p:spPr>
          <a:xfrm>
            <a:off x="3635280" y="33336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отель агон на александрплатц"/>
          <p:cNvPicPr/>
          <p:nvPr/>
        </p:nvPicPr>
        <p:blipFill>
          <a:blip r:embed="rId5"/>
          <a:stretch/>
        </p:blipFill>
        <p:spPr>
          <a:xfrm>
            <a:off x="3708360" y="263700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отель на александрплатц"/>
          <p:cNvPicPr/>
          <p:nvPr/>
        </p:nvPicPr>
        <p:blipFill>
          <a:blip r:embed="rId6"/>
          <a:stretch/>
        </p:blipFill>
        <p:spPr>
          <a:xfrm>
            <a:off x="6443640" y="1052640"/>
            <a:ext cx="2374920" cy="1726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203640" y="45813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 Platz Berlins ist Alexanderplatz.Er hat seinen Namen dem russischen Zaren Alexander dem Ersten zu Ehren bekommen. Die Berliner nennen ihn liebevoll “Alex”.Hier befinden sich die Berliner Fernsehturm und die Weltzeituh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0" y="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trass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Kurfurstendamm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6" descr="амебы на кудам"/>
          <p:cNvPicPr/>
          <p:nvPr/>
        </p:nvPicPr>
        <p:blipFill>
          <a:blip r:embed="rId5"/>
          <a:stretch/>
        </p:blipFill>
        <p:spPr>
          <a:xfrm>
            <a:off x="3924360" y="40464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вид на курфюрстендам"/>
          <p:cNvPicPr/>
          <p:nvPr/>
        </p:nvPicPr>
        <p:blipFill>
          <a:blip r:embed="rId6"/>
          <a:stretch/>
        </p:blipFill>
        <p:spPr>
          <a:xfrm>
            <a:off x="3348000" y="2205000"/>
            <a:ext cx="2303640" cy="228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вид на улице курфюрстендам"/>
          <p:cNvPicPr/>
          <p:nvPr/>
        </p:nvPicPr>
        <p:blipFill>
          <a:blip r:embed="rId7"/>
          <a:stretch/>
        </p:blipFill>
        <p:spPr>
          <a:xfrm>
            <a:off x="6516720" y="189000"/>
            <a:ext cx="240192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kurfurstendam"/>
          <p:cNvPicPr/>
          <p:nvPr/>
        </p:nvPicPr>
        <p:blipFill>
          <a:blip r:embed="rId8"/>
          <a:stretch/>
        </p:blipFill>
        <p:spPr>
          <a:xfrm>
            <a:off x="468360" y="1557360"/>
            <a:ext cx="230328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рождество на курфюрстендам"/>
          <p:cNvPicPr/>
          <p:nvPr/>
        </p:nvPicPr>
        <p:blipFill>
          <a:blip r:embed="rId9"/>
          <a:stretch/>
        </p:blipFill>
        <p:spPr>
          <a:xfrm>
            <a:off x="6300720" y="24210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95280" y="4797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ist die zweite 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teste Strasse Berlins. “Ku’damm” nennen diese Strasse Berliner.Sie ist rund 3,5 Kilometer lang und 53 Meter breit. Hier sind viele Cafes, Bars, Restaurants und Ges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8:39:56Z</dcterms:created>
  <dc:creator>LIDER</dc:creator>
  <dc:description/>
  <dc:language>en-US</dc:language>
  <cp:lastModifiedBy>Администратор</cp:lastModifiedBy>
  <dcterms:modified xsi:type="dcterms:W3CDTF">2011-04-04T15:10:59Z</dcterms:modified>
  <cp:revision>9</cp:revision>
  <dc:subject/>
  <dc:title>Слайд 1</dc:title>
</cp:coreProperties>
</file>