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2A6-DF61-4241-9715-E3DD355D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EBD-C511-4114-B909-1261472E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712-C28A-4F51-A13F-9E55CB67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701-4C93-41D4-B74D-7C71BC45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D3A4-9A3C-4C7B-8DF0-7609C011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838B-751B-4B69-9D5F-8BF32786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632A-E415-4E6C-8CB2-A76677DE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EAA0-FADC-4C2E-B141-020CE159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20B4-FE57-4087-BA66-67F99E79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11F6-24FE-4CF7-A55A-7C4E2998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4E36-C790-44D0-9267-2983C83E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575-6E8D-4286-8A49-FEE352BF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CE81-770C-4892-83CE-2BDC9657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1685-DF65-4529-87C2-06273425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36BC-D402-4FE4-81BB-0477C261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A2AE-3C7A-4102-B0D8-5773795F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97EE-69BD-4C13-95A9-0F4E1C93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5BD4F-42AA-49F5-AF51-344EEE09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4DD5-07DF-4873-B869-582CE883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C3BDB-9741-4A82-92A7-DAA07A3E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7F80C-2DA0-48BD-A37C-4090B394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3701D-C975-43AD-B2B4-362FDAC0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01F-9EE9-49DC-9BD9-42FC68C4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C10E3-5542-4782-AA81-1A4891E4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FD0CE-79AE-449C-B5B9-E4B4B9EC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CC2C4-E2B6-4AA9-A6B7-FFD36B20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596CE-9477-4C26-BD26-4939677F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09D2E-1F0C-40ED-8465-2C3A506D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6898C-C272-4CCC-AD78-440A2605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3E2BD-F067-4373-906C-854CD6BD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999-B6D7-4B4C-A145-A69E5856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DE3-8809-4A7C-A4F2-BBC7BF83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A57-8E5E-40A4-8A7D-6E080E93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BDA-56DC-4BCE-9DA8-709A08E6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5632-40C8-4734-8E1D-688BF6B0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94E-72F8-49EF-AA22-2E9CA6DB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36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17888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36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1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2d05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2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sldNum" idx="3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9062E7-1F4C-42C4-AFB4-E800A7AA33EB}" type="slidenum">
              <a:rPr b="0" lang="ru-RU" sz="1100" spc="-1" strike="noStrike">
                <a:solidFill>
                  <a:srgbClr val="92d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2d05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D3A05F-1D08-4DEF-A568-558A0A8FCC06}" type="slidenum">
              <a:rPr b="0" lang="ru-RU" sz="1100" spc="-1" strike="noStrike">
                <a:solidFill>
                  <a:srgbClr val="92d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2d05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BD11C2-5E45-43EF-A21D-C92A6657DEFB}" type="slidenum">
              <a:rPr b="0" lang="ru-RU" sz="1100" spc="-1" strike="noStrike">
                <a:solidFill>
                  <a:srgbClr val="92d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Зелёная улиц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Лагерь дневного прибывания 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БОУ ООШ №2 п.г.т. Смышляевка.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5640" y="1556640"/>
            <a:ext cx="7264440" cy="53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Летний лагерь дневного прибывания «Зелёная улица»  ГБОУ ООШ №2 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.г.т. Смышляевка.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0" name="Picture 2" descr="G:\DCIM\100MEDIA\IMAG1271.jpg"/>
          <p:cNvPicPr/>
          <p:nvPr/>
        </p:nvPicPr>
        <p:blipFill>
          <a:blip r:embed="rId1"/>
          <a:stretch/>
        </p:blipFill>
        <p:spPr>
          <a:xfrm>
            <a:off x="323640" y="0"/>
            <a:ext cx="6336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800" spc="-1" strike="noStrike" cap="all">
                <a:solidFill>
                  <a:srgbClr val="00b050"/>
                </a:solidFill>
                <a:latin typeface="Trebuchet MS"/>
              </a:rPr>
              <a:t>13 июня </a:t>
            </a:r>
            <a:br>
              <a:rPr sz="3800"/>
            </a:br>
            <a:r>
              <a:rPr b="1" lang="ru-RU" sz="3800" spc="-1" strike="noStrike" cap="all">
                <a:solidFill>
                  <a:srgbClr val="00b050"/>
                </a:solidFill>
                <a:latin typeface="Trebuchet MS"/>
              </a:rPr>
              <a:t>«ДЕНЬ РОССИИ И МУЖЕСТВА»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09560"/>
            <a:ext cx="817200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рок мужества посвященный истории Соловецкой школы юнг и её выпускникам. 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ссказ об открытии школы 25.05.1942, о её учениках и обучении. 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смотр документального фильма о героях-юнгах, выпускников Соловецкой школы.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смотр мультипликационного детского фильма о моряках.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Наши дел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4" name="Picture 2" descr="C:\Users\лорол\Desktop\Зелёная улица\13 06\IMAG1274.jpg"/>
          <p:cNvPicPr/>
          <p:nvPr/>
        </p:nvPicPr>
        <p:blipFill>
          <a:blip r:embed="rId1"/>
          <a:stretch/>
        </p:blipFill>
        <p:spPr>
          <a:xfrm>
            <a:off x="-10972800" y="-5867280"/>
            <a:ext cx="2889000" cy="17276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1" descr="IMAG1274.jpg"/>
          <p:cNvPicPr/>
          <p:nvPr/>
        </p:nvPicPr>
        <p:blipFill>
          <a:blip r:embed="rId2"/>
          <a:stretch/>
        </p:blipFill>
        <p:spPr>
          <a:xfrm>
            <a:off x="179640" y="1845000"/>
            <a:ext cx="3247200" cy="19418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2" descr="IMAG1280.jpg"/>
          <p:cNvPicPr/>
          <p:nvPr/>
        </p:nvPicPr>
        <p:blipFill>
          <a:blip r:embed="rId3"/>
          <a:stretch/>
        </p:blipFill>
        <p:spPr>
          <a:xfrm>
            <a:off x="3780000" y="1052640"/>
            <a:ext cx="1533600" cy="25646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3" descr="IMAG1283.jpg"/>
          <p:cNvPicPr/>
          <p:nvPr/>
        </p:nvPicPr>
        <p:blipFill>
          <a:blip r:embed="rId4"/>
          <a:stretch/>
        </p:blipFill>
        <p:spPr>
          <a:xfrm>
            <a:off x="3924000" y="3861000"/>
            <a:ext cx="1377720" cy="2304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4" descr="IMAG1279.jpg"/>
          <p:cNvPicPr/>
          <p:nvPr/>
        </p:nvPicPr>
        <p:blipFill>
          <a:blip r:embed="rId5"/>
          <a:stretch/>
        </p:blipFill>
        <p:spPr>
          <a:xfrm>
            <a:off x="179640" y="4005000"/>
            <a:ext cx="3247200" cy="19418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IMAG1291.jpg"/>
          <p:cNvPicPr/>
          <p:nvPr/>
        </p:nvPicPr>
        <p:blipFill>
          <a:blip r:embed="rId6"/>
          <a:stretch/>
        </p:blipFill>
        <p:spPr>
          <a:xfrm>
            <a:off x="6012000" y="692640"/>
            <a:ext cx="1511640" cy="2528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8" descr="IMAG1290.jpg"/>
          <p:cNvPicPr/>
          <p:nvPr/>
        </p:nvPicPr>
        <p:blipFill>
          <a:blip r:embed="rId7"/>
          <a:stretch/>
        </p:blipFill>
        <p:spPr>
          <a:xfrm>
            <a:off x="5868000" y="3429000"/>
            <a:ext cx="1878120" cy="31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Наши дел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2" name="Picture 2" descr="C:\Users\лорол\Desktop\Зелёная улица\13 06\IMAG1274.jpg"/>
          <p:cNvPicPr/>
          <p:nvPr/>
        </p:nvPicPr>
        <p:blipFill>
          <a:blip r:embed="rId1"/>
          <a:stretch/>
        </p:blipFill>
        <p:spPr>
          <a:xfrm>
            <a:off x="-10972800" y="-5867280"/>
            <a:ext cx="2889000" cy="17276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IMAG1289.jpg"/>
          <p:cNvPicPr/>
          <p:nvPr/>
        </p:nvPicPr>
        <p:blipFill>
          <a:blip r:embed="rId2"/>
          <a:stretch/>
        </p:blipFill>
        <p:spPr>
          <a:xfrm>
            <a:off x="467640" y="1700640"/>
            <a:ext cx="1619640" cy="27086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0" descr="IMAG1305.jpg"/>
          <p:cNvPicPr/>
          <p:nvPr/>
        </p:nvPicPr>
        <p:blipFill>
          <a:blip r:embed="rId3"/>
          <a:stretch/>
        </p:blipFill>
        <p:spPr>
          <a:xfrm>
            <a:off x="2411640" y="3717000"/>
            <a:ext cx="1662840" cy="27806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6" descr="IMAG1298.jpg"/>
          <p:cNvPicPr/>
          <p:nvPr/>
        </p:nvPicPr>
        <p:blipFill>
          <a:blip r:embed="rId4"/>
          <a:stretch/>
        </p:blipFill>
        <p:spPr>
          <a:xfrm>
            <a:off x="3780000" y="764640"/>
            <a:ext cx="4330800" cy="25898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7" descr="IMAG1296.jpg"/>
          <p:cNvPicPr/>
          <p:nvPr/>
        </p:nvPicPr>
        <p:blipFill>
          <a:blip r:embed="rId5"/>
          <a:stretch/>
        </p:blipFill>
        <p:spPr>
          <a:xfrm>
            <a:off x="4500000" y="3861000"/>
            <a:ext cx="3969720" cy="23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Звено «зелёные пионеры»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Мы сегодня на спортивном часу играли в эстафету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,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 у нас счёт был 4:3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Сегодня нам показывали фильм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,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посвящённый Соловецкой школе юнг. Ещё нам показывали мультфильм про юнг. Ещё мы писали викторину на тему Россия ! Было весело ! У нас две сестры попали в пушинку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Ещё нам сегодня за викторину дадут грамоты . Сегодня у нас были добрые и клёвые вожатые Ольга Александровна, Игорь Анатольевич и Татьяна Мансуровна  тоже была с нами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Улыбающееся лицо 13"/>
          <p:cNvSpPr/>
          <p:nvPr/>
        </p:nvSpPr>
        <p:spPr>
          <a:xfrm>
            <a:off x="6660360" y="1845000"/>
            <a:ext cx="1019520" cy="972360"/>
          </a:xfrm>
          <a:prstGeom prst="smileyFace">
            <a:avLst>
              <a:gd name="adj" fmla="val 4653"/>
            </a:avLst>
          </a:prstGeom>
          <a:solidFill>
            <a:srgbClr val="92d05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50" name="Облако 14"/>
          <p:cNvSpPr/>
          <p:nvPr/>
        </p:nvSpPr>
        <p:spPr>
          <a:xfrm flipH="1" rot="487800">
            <a:off x="6617160" y="4273560"/>
            <a:ext cx="783720" cy="539280"/>
          </a:xfrm>
          <a:prstGeom prst="cloud">
            <a:avLst/>
          </a:prstGeom>
          <a:solidFill>
            <a:srgbClr val="00b0f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51" name="Сердце 15"/>
          <p:cNvSpPr/>
          <p:nvPr/>
        </p:nvSpPr>
        <p:spPr>
          <a:xfrm>
            <a:off x="4068000" y="6237360"/>
            <a:ext cx="431640" cy="620280"/>
          </a:xfrm>
          <a:prstGeom prst="heart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52" name="Сердце 16"/>
          <p:cNvSpPr/>
          <p:nvPr/>
        </p:nvSpPr>
        <p:spPr>
          <a:xfrm>
            <a:off x="6228360" y="6309360"/>
            <a:ext cx="647640" cy="548280"/>
          </a:xfrm>
          <a:prstGeom prst="heart">
            <a:avLst/>
          </a:prstGeom>
          <a:solidFill>
            <a:schemeClr val="bg2">
              <a:lumMod val="50000"/>
            </a:schemeClr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53" name="Сердце 17"/>
          <p:cNvSpPr/>
          <p:nvPr/>
        </p:nvSpPr>
        <p:spPr>
          <a:xfrm>
            <a:off x="7524360" y="6093360"/>
            <a:ext cx="914040" cy="914040"/>
          </a:xfrm>
          <a:prstGeom prst="heart">
            <a:avLst/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00b050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gradFill rotWithShape="0">
            <a:gsLst>
              <a:gs pos="0">
                <a:srgbClr val="e7fbea"/>
              </a:gs>
              <a:gs pos="100000">
                <a:srgbClr val="acecb8"/>
              </a:gs>
            </a:gsLst>
            <a:lin ang="5400000"/>
          </a:gradFill>
          <a:ln w="11520">
            <a:solidFill>
              <a:srgbClr val="00b050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7200" spc="148" strike="noStrike">
                <a:solidFill>
                  <a:srgbClr val="ffff00"/>
                </a:solidFill>
                <a:latin typeface="Trebuchet MS"/>
              </a:rPr>
              <a:t>«Пушинка»</a:t>
            </a:r>
            <a:endParaRPr b="0" lang="ru-RU" sz="7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Облако 2"/>
          <p:cNvSpPr/>
          <p:nvPr/>
        </p:nvSpPr>
        <p:spPr>
          <a:xfrm>
            <a:off x="0" y="1412640"/>
            <a:ext cx="8316000" cy="5445000"/>
          </a:xfrm>
          <a:prstGeom prst="cloud">
            <a:avLst/>
          </a:prstGeom>
          <a:solidFill>
            <a:srgbClr val="00b0f0"/>
          </a:solidFill>
          <a:ln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56" name="Picture 2" descr="C:\Users\лорол\Desktop\Зелёная улица\13 06\IMAG1297.jpg"/>
          <p:cNvPicPr/>
          <p:nvPr/>
        </p:nvPicPr>
        <p:blipFill>
          <a:blip r:embed="rId1"/>
          <a:stretch/>
        </p:blipFill>
        <p:spPr>
          <a:xfrm>
            <a:off x="683640" y="1989000"/>
            <a:ext cx="6768360" cy="40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ffc000"/>
                </a:solidFill>
                <a:latin typeface="Trebuchet MS"/>
              </a:rPr>
              <a:t>Звено «жёлтое яблоко</a:t>
            </a: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»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ы сегодня на спортивном часу играли в эстафет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и наша команда выиграла. Сегодня у нас две девочки попали в пушинку - это Новрузова Самира и Бекетова Дарья. Они сделали плакат для своей команды: Самира рисовала, а Даша раскрашивала. И сегодня никто не попал в колючку. Потому что все сегодня МОЛОДЦЫ!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Облако 5"/>
          <p:cNvSpPr/>
          <p:nvPr/>
        </p:nvSpPr>
        <p:spPr>
          <a:xfrm>
            <a:off x="6516360" y="2421000"/>
            <a:ext cx="719640" cy="503640"/>
          </a:xfrm>
          <a:prstGeom prst="cloud">
            <a:avLst/>
          </a:prstGeom>
          <a:solidFill>
            <a:srgbClr val="00b0f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60" name="Улыбающееся лицо 6"/>
          <p:cNvSpPr/>
          <p:nvPr/>
        </p:nvSpPr>
        <p:spPr>
          <a:xfrm>
            <a:off x="2627640" y="4869000"/>
            <a:ext cx="935640" cy="79164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Облако 2"/>
          <p:cNvSpPr/>
          <p:nvPr/>
        </p:nvSpPr>
        <p:spPr>
          <a:xfrm>
            <a:off x="1259640" y="1628640"/>
            <a:ext cx="6624360" cy="5229000"/>
          </a:xfrm>
          <a:prstGeom prst="cloud">
            <a:avLst/>
          </a:prstGeom>
          <a:solidFill>
            <a:srgbClr val="00b0f0"/>
          </a:solidFill>
          <a:ln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62" name="Picture 2" descr="C:\Users\лорол\Desktop\Зелёная улица\13 06\IMAG1288.jpg"/>
          <p:cNvPicPr/>
          <p:nvPr/>
        </p:nvPicPr>
        <p:blipFill>
          <a:blip r:embed="rId1"/>
          <a:stretch/>
        </p:blipFill>
        <p:spPr>
          <a:xfrm>
            <a:off x="2699640" y="188640"/>
            <a:ext cx="3610800" cy="5832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7640" y="0"/>
            <a:ext cx="7241760" cy="1142640"/>
          </a:xfrm>
          <a:prstGeom prst="rect">
            <a:avLst/>
          </a:prstGeom>
          <a:gradFill rotWithShape="0">
            <a:gsLst>
              <a:gs pos="0">
                <a:srgbClr val="e7fbea"/>
              </a:gs>
              <a:gs pos="100000">
                <a:srgbClr val="acecb8"/>
              </a:gs>
            </a:gsLst>
            <a:lin ang="5400000"/>
          </a:gradFill>
          <a:ln w="11520">
            <a:solidFill>
              <a:srgbClr val="00b050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7200" spc="148" strike="noStrike">
                <a:solidFill>
                  <a:srgbClr val="ffff00"/>
                </a:solidFill>
                <a:latin typeface="Trebuchet MS"/>
              </a:rPr>
              <a:t>«Пушинка»</a:t>
            </a:r>
            <a:endParaRPr b="0" lang="ru-RU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Наши первые дипломы </a:t>
            </a:r>
            <a:r>
              <a:rPr b="1" lang="ru-RU" sz="3800" spc="-1" strike="noStrike" cap="all">
                <a:solidFill>
                  <a:srgbClr val="000000"/>
                </a:solidFill>
                <a:latin typeface="Wingdings"/>
              </a:rPr>
              <a:t>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5" name="Рисунок 2" descr="IMAG1306.jpg"/>
          <p:cNvPicPr/>
          <p:nvPr/>
        </p:nvPicPr>
        <p:blipFill>
          <a:blip r:embed="rId1"/>
          <a:stretch/>
        </p:blipFill>
        <p:spPr>
          <a:xfrm>
            <a:off x="179640" y="1772640"/>
            <a:ext cx="782280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зящная">
  <a:themeElements>
    <a:clrScheme name="Другая 1">
      <a:dk1>
        <a:srgbClr val="000000"/>
      </a:dk1>
      <a:lt1>
        <a:srgbClr val="ffffff"/>
      </a:lt1>
      <a:dk2>
        <a:srgbClr val="92d050"/>
      </a:dk2>
      <a:lt2>
        <a:srgbClr val="f4e7ed"/>
      </a:lt2>
      <a:accent1>
        <a:srgbClr val="00b050"/>
      </a:accent1>
      <a:accent2>
        <a:srgbClr val="ac66bb"/>
      </a:accent2>
      <a:accent3>
        <a:srgbClr val="de6c36"/>
      </a:accent3>
      <a:accent4>
        <a:srgbClr val="f9b639"/>
      </a:accent4>
      <a:accent5>
        <a:srgbClr val="00b050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Другая 1">
      <a:dk1>
        <a:srgbClr val="000000"/>
      </a:dk1>
      <a:lt1>
        <a:srgbClr val="ffffff"/>
      </a:lt1>
      <a:dk2>
        <a:srgbClr val="92d050"/>
      </a:dk2>
      <a:lt2>
        <a:srgbClr val="f4e7ed"/>
      </a:lt2>
      <a:accent1>
        <a:srgbClr val="00b050"/>
      </a:accent1>
      <a:accent2>
        <a:srgbClr val="ac66bb"/>
      </a:accent2>
      <a:accent3>
        <a:srgbClr val="de6c36"/>
      </a:accent3>
      <a:accent4>
        <a:srgbClr val="f9b639"/>
      </a:accent4>
      <a:accent5>
        <a:srgbClr val="00b050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Изящная">
  <a:themeElements>
    <a:clrScheme name="Другая 1">
      <a:dk1>
        <a:srgbClr val="000000"/>
      </a:dk1>
      <a:lt1>
        <a:srgbClr val="ffffff"/>
      </a:lt1>
      <a:dk2>
        <a:srgbClr val="92d050"/>
      </a:dk2>
      <a:lt2>
        <a:srgbClr val="f4e7ed"/>
      </a:lt2>
      <a:accent1>
        <a:srgbClr val="00b050"/>
      </a:accent1>
      <a:accent2>
        <a:srgbClr val="ac66bb"/>
      </a:accent2>
      <a:accent3>
        <a:srgbClr val="de6c36"/>
      </a:accent3>
      <a:accent4>
        <a:srgbClr val="f9b639"/>
      </a:accent4>
      <a:accent5>
        <a:srgbClr val="00b050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286</TotalTime>
  <Application>LibreOffice/7.4.7.2$Linux_X86_64 LibreOffice_project/40$Build-2</Application>
  <AppVersion>15.0000</AppVersion>
  <Words>197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0T06:18:56Z</dcterms:created>
  <dc:creator>лорол</dc:creator>
  <dc:description/>
  <dc:language>en-US</dc:language>
  <cp:lastModifiedBy>Microsoft</cp:lastModifiedBy>
  <dcterms:modified xsi:type="dcterms:W3CDTF">2017-06-13T17:40:48Z</dcterms:modified>
  <cp:revision>41</cp:revision>
  <dc:subject/>
  <dc:title>Зелёная ули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