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DD5-6AA9-4EA5-8B49-08127132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952-7FC1-43B3-A7DF-70E45D1E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512-CA90-49D1-86C6-CEE219F8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F19-23E1-4150-B4D1-13F12FC9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3A78-79DB-4621-A4C5-E7C924DE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3AC1-9253-44B6-86A2-0FAE18C5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984E-2DAE-4DDD-A5E4-DD89DEBD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4612-9AB9-42E8-8B30-EEA3B42E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169D-1E90-45DD-8127-CA8E2EF9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5D4E-404D-47B8-9326-91109042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F748-3B61-4ABA-B21D-12ED4FCC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648-E112-4A42-978A-0865301C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0E5B-DEDB-4822-ABC3-1F0B140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76BB-22A7-4200-9390-5C1B79CC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DCA2-7F7F-4ADE-B053-DE962B90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41DF-CA70-45A5-8839-9B4D3678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7431-1E7A-49AF-B5FF-38F457E4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95B9-CFF5-4E16-B865-E9DBCF7A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44C2-3FCE-4092-B6BA-591D887D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5663A-8FDD-495D-A822-7A96CBE4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BA42-6AB8-49D1-B120-362F3AA8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8E6B-6083-4017-BD03-5097DE6A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6D3-89D0-47B8-BBB7-C7AC3C36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2087-3B1C-4FE1-8BB1-9831AAA9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A0E2-1EAF-4B38-B8D9-1429CE08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9FB04-0435-41F0-909F-25E15FE9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C62D-D632-42AB-8D28-BD6974FB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F1CBC-5364-4372-8E39-B4DD0E12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B54A-A020-4454-AB48-B5946946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B3EE-5608-42B7-AA13-BA0412A7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A81-57F9-456F-8327-30D0B136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7A4-F73E-45E4-AC94-AB49C52A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9D7-5D41-4231-98FC-EC00BE9D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824-9CEE-4743-A6F1-77736164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38E-9C3B-4E05-9A66-5BFDC3D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696-94F6-418A-AB87-223A3E60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17888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246C14-904A-4537-9642-F83C4865D8EE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2EE5BE-D354-43D6-B8F3-0D74DEB80964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54D516-B44A-437A-A644-10BA4E7A640B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Зелёная улиц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агерь дневного прибывания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БОУ ООШ №2 п.г.т. Смышляевка.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5640" y="1556640"/>
            <a:ext cx="7264440" cy="53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етний лагерь дневного прибывания «Зелёная улица»  ГБОУ ООШ №2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.г.т. Смышляевка.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0" name="Picture 2" descr="G:\DCIM\100MEDIA\IMAG1271.jpg"/>
          <p:cNvPicPr/>
          <p:nvPr/>
        </p:nvPicPr>
        <p:blipFill>
          <a:blip r:embed="rId1"/>
          <a:stretch/>
        </p:blipFill>
        <p:spPr>
          <a:xfrm>
            <a:off x="323640" y="0"/>
            <a:ext cx="6336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800" spc="-1" strike="noStrike" cap="all">
                <a:solidFill>
                  <a:srgbClr val="00b050"/>
                </a:solidFill>
                <a:latin typeface="Trebuchet MS"/>
              </a:rPr>
              <a:t>13 июня </a:t>
            </a:r>
            <a:br>
              <a:rPr sz="3800"/>
            </a:br>
            <a:r>
              <a:rPr b="1" lang="ru-RU" sz="3800" spc="-1" strike="noStrike" cap="all">
                <a:solidFill>
                  <a:srgbClr val="00b050"/>
                </a:solidFill>
                <a:latin typeface="Trebuchet MS"/>
              </a:rPr>
              <a:t>«ДЕНЬ РОССИИ И МУЖЕСТВА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09560"/>
            <a:ext cx="817200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рок мужества посвященный истории Соловецкой школы юнг и её выпускникам.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ссказ об открытии школы 25.05.1942, о её учениках и обучении.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смотр документального фильма о героях-юнгах, выпускников Соловецкой школы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смотр мультипликационного детского фильма о моряках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Наши дел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4" name="Picture 2" descr="C:\Users\лорол\Desktop\Зелёная улица\13 06\IMAG1274.jpg"/>
          <p:cNvPicPr/>
          <p:nvPr/>
        </p:nvPicPr>
        <p:blipFill>
          <a:blip r:embed="rId1"/>
          <a:stretch/>
        </p:blipFill>
        <p:spPr>
          <a:xfrm>
            <a:off x="-10972800" y="-5867280"/>
            <a:ext cx="2889000" cy="17276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1" descr="IMAG1274.jpg"/>
          <p:cNvPicPr/>
          <p:nvPr/>
        </p:nvPicPr>
        <p:blipFill>
          <a:blip r:embed="rId2"/>
          <a:stretch/>
        </p:blipFill>
        <p:spPr>
          <a:xfrm>
            <a:off x="179640" y="1845000"/>
            <a:ext cx="3247200" cy="19418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2" descr="IMAG1280.jpg"/>
          <p:cNvPicPr/>
          <p:nvPr/>
        </p:nvPicPr>
        <p:blipFill>
          <a:blip r:embed="rId3"/>
          <a:stretch/>
        </p:blipFill>
        <p:spPr>
          <a:xfrm>
            <a:off x="3780000" y="1052640"/>
            <a:ext cx="1533600" cy="25646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IMAG1283.jpg"/>
          <p:cNvPicPr/>
          <p:nvPr/>
        </p:nvPicPr>
        <p:blipFill>
          <a:blip r:embed="rId4"/>
          <a:stretch/>
        </p:blipFill>
        <p:spPr>
          <a:xfrm>
            <a:off x="3924000" y="3861000"/>
            <a:ext cx="1377720" cy="2304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4" descr="IMAG1279.jpg"/>
          <p:cNvPicPr/>
          <p:nvPr/>
        </p:nvPicPr>
        <p:blipFill>
          <a:blip r:embed="rId5"/>
          <a:stretch/>
        </p:blipFill>
        <p:spPr>
          <a:xfrm>
            <a:off x="179640" y="4005000"/>
            <a:ext cx="3247200" cy="1941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IMAG1291.jpg"/>
          <p:cNvPicPr/>
          <p:nvPr/>
        </p:nvPicPr>
        <p:blipFill>
          <a:blip r:embed="rId6"/>
          <a:stretch/>
        </p:blipFill>
        <p:spPr>
          <a:xfrm>
            <a:off x="6012000" y="692640"/>
            <a:ext cx="1511640" cy="2528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8" descr="IMAG1290.jpg"/>
          <p:cNvPicPr/>
          <p:nvPr/>
        </p:nvPicPr>
        <p:blipFill>
          <a:blip r:embed="rId7"/>
          <a:stretch/>
        </p:blipFill>
        <p:spPr>
          <a:xfrm>
            <a:off x="5868000" y="3429000"/>
            <a:ext cx="1878120" cy="31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Наши дел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2" name="Picture 2" descr="C:\Users\лорол\Desktop\Зелёная улица\13 06\IMAG1274.jpg"/>
          <p:cNvPicPr/>
          <p:nvPr/>
        </p:nvPicPr>
        <p:blipFill>
          <a:blip r:embed="rId1"/>
          <a:stretch/>
        </p:blipFill>
        <p:spPr>
          <a:xfrm>
            <a:off x="-10972800" y="-5867280"/>
            <a:ext cx="2889000" cy="1727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IMAG1289.jpg"/>
          <p:cNvPicPr/>
          <p:nvPr/>
        </p:nvPicPr>
        <p:blipFill>
          <a:blip r:embed="rId2"/>
          <a:stretch/>
        </p:blipFill>
        <p:spPr>
          <a:xfrm>
            <a:off x="467640" y="1700640"/>
            <a:ext cx="1619640" cy="27086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IMAG1305.jpg"/>
          <p:cNvPicPr/>
          <p:nvPr/>
        </p:nvPicPr>
        <p:blipFill>
          <a:blip r:embed="rId3"/>
          <a:stretch/>
        </p:blipFill>
        <p:spPr>
          <a:xfrm>
            <a:off x="2411640" y="3717000"/>
            <a:ext cx="1662840" cy="27806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6" descr="IMAG1298.jpg"/>
          <p:cNvPicPr/>
          <p:nvPr/>
        </p:nvPicPr>
        <p:blipFill>
          <a:blip r:embed="rId4"/>
          <a:stretch/>
        </p:blipFill>
        <p:spPr>
          <a:xfrm>
            <a:off x="3780000" y="764640"/>
            <a:ext cx="4330800" cy="25898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7" descr="IMAG1296.jpg"/>
          <p:cNvPicPr/>
          <p:nvPr/>
        </p:nvPicPr>
        <p:blipFill>
          <a:blip r:embed="rId5"/>
          <a:stretch/>
        </p:blipFill>
        <p:spPr>
          <a:xfrm>
            <a:off x="4500000" y="3861000"/>
            <a:ext cx="3969720" cy="23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Звено «зелёные пионеры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ы сегодня на спортивном часу играли в эстафету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,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 у нас счёт был 4:3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Сегодня нам показывали фильм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,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посвящённый Соловецкой школе юнг. Ещё нам показывали мультфильм про юнг. Ещё мы писали викторину на тему Россия ! Было весело ! У нас две сестры попали в пушинку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Ещё нам сегодня за викторину дадут грамоты . Сегодня у нас были добрые и клёвые вожатые Ольга Александровна, Игорь Анатольевич и Татьяна Мансуровна  тоже была с нами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Улыбающееся лицо 13"/>
          <p:cNvSpPr/>
          <p:nvPr/>
        </p:nvSpPr>
        <p:spPr>
          <a:xfrm>
            <a:off x="6660360" y="1845000"/>
            <a:ext cx="1019520" cy="972360"/>
          </a:xfrm>
          <a:prstGeom prst="smileyFace">
            <a:avLst>
              <a:gd name="adj" fmla="val 4653"/>
            </a:avLst>
          </a:prstGeom>
          <a:solidFill>
            <a:srgbClr val="92d05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50" name="Облако 14"/>
          <p:cNvSpPr/>
          <p:nvPr/>
        </p:nvSpPr>
        <p:spPr>
          <a:xfrm flipH="1" rot="487800">
            <a:off x="6617160" y="4273560"/>
            <a:ext cx="783720" cy="539280"/>
          </a:xfrm>
          <a:prstGeom prst="cloud">
            <a:avLst/>
          </a:prstGeom>
          <a:solidFill>
            <a:srgbClr val="00b0f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51" name="Сердце 15"/>
          <p:cNvSpPr/>
          <p:nvPr/>
        </p:nvSpPr>
        <p:spPr>
          <a:xfrm>
            <a:off x="4068000" y="6237360"/>
            <a:ext cx="431640" cy="620280"/>
          </a:xfrm>
          <a:prstGeom prst="heart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52" name="Сердце 16"/>
          <p:cNvSpPr/>
          <p:nvPr/>
        </p:nvSpPr>
        <p:spPr>
          <a:xfrm>
            <a:off x="6228360" y="6309360"/>
            <a:ext cx="647640" cy="548280"/>
          </a:xfrm>
          <a:prstGeom prst="heart">
            <a:avLst/>
          </a:prstGeom>
          <a:solidFill>
            <a:schemeClr val="bg2">
              <a:lumMod val="50000"/>
            </a:schemeClr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53" name="Сердце 17"/>
          <p:cNvSpPr/>
          <p:nvPr/>
        </p:nvSpPr>
        <p:spPr>
          <a:xfrm>
            <a:off x="7524360" y="6093360"/>
            <a:ext cx="914040" cy="914040"/>
          </a:xfrm>
          <a:prstGeom prst="heart">
            <a:avLst/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00b050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gradFill rotWithShape="0">
            <a:gsLst>
              <a:gs pos="0">
                <a:srgbClr val="e7fbea"/>
              </a:gs>
              <a:gs pos="100000">
                <a:srgbClr val="acecb8"/>
              </a:gs>
            </a:gsLst>
            <a:lin ang="5400000"/>
          </a:gradFill>
          <a:ln w="11520">
            <a:solidFill>
              <a:srgbClr val="00b050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148" strike="noStrike">
                <a:solidFill>
                  <a:srgbClr val="ffff00"/>
                </a:solidFill>
                <a:latin typeface="Trebuchet MS"/>
              </a:rPr>
              <a:t>«Пушинка»</a:t>
            </a:r>
            <a:endParaRPr b="0" lang="ru-RU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Облако 2"/>
          <p:cNvSpPr/>
          <p:nvPr/>
        </p:nvSpPr>
        <p:spPr>
          <a:xfrm>
            <a:off x="0" y="1412640"/>
            <a:ext cx="8316000" cy="5445000"/>
          </a:xfrm>
          <a:prstGeom prst="cloud">
            <a:avLst/>
          </a:prstGeom>
          <a:solidFill>
            <a:srgbClr val="00b0f0"/>
          </a:solidFill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56" name="Picture 2" descr="C:\Users\лорол\Desktop\Зелёная улица\13 06\IMAG1297.jpg"/>
          <p:cNvPicPr/>
          <p:nvPr/>
        </p:nvPicPr>
        <p:blipFill>
          <a:blip r:embed="rId1"/>
          <a:stretch/>
        </p:blipFill>
        <p:spPr>
          <a:xfrm>
            <a:off x="683640" y="1989000"/>
            <a:ext cx="6768360" cy="40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ffc000"/>
                </a:solidFill>
                <a:latin typeface="Trebuchet MS"/>
              </a:rPr>
              <a:t>Звено «жёлтое яблоко</a:t>
            </a: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ы сегодня на спортивном часу играли в эстафет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и наша команда выиграла. Сегодня у нас две девочки попали в пушинку - это Новрузова Самира и Бекетова Дарья. Они сделали плакат для своей команды: Самира рисовала, а Даша раскрашивала. И сегодня никто не попал в колючку. Потому что все сегодня МОЛОДЦЫ!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Облако 5"/>
          <p:cNvSpPr/>
          <p:nvPr/>
        </p:nvSpPr>
        <p:spPr>
          <a:xfrm>
            <a:off x="6516360" y="2421000"/>
            <a:ext cx="719640" cy="503640"/>
          </a:xfrm>
          <a:prstGeom prst="cloud">
            <a:avLst/>
          </a:prstGeom>
          <a:solidFill>
            <a:srgbClr val="00b0f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60" name="Улыбающееся лицо 6"/>
          <p:cNvSpPr/>
          <p:nvPr/>
        </p:nvSpPr>
        <p:spPr>
          <a:xfrm>
            <a:off x="2627640" y="4869000"/>
            <a:ext cx="935640" cy="79164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Облако 2"/>
          <p:cNvSpPr/>
          <p:nvPr/>
        </p:nvSpPr>
        <p:spPr>
          <a:xfrm>
            <a:off x="1259640" y="1628640"/>
            <a:ext cx="6624360" cy="5229000"/>
          </a:xfrm>
          <a:prstGeom prst="cloud">
            <a:avLst/>
          </a:prstGeom>
          <a:solidFill>
            <a:srgbClr val="00b0f0"/>
          </a:solidFill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62" name="Picture 2" descr="C:\Users\лорол\Desktop\Зелёная улица\13 06\IMAG1288.jpg"/>
          <p:cNvPicPr/>
          <p:nvPr/>
        </p:nvPicPr>
        <p:blipFill>
          <a:blip r:embed="rId1"/>
          <a:stretch/>
        </p:blipFill>
        <p:spPr>
          <a:xfrm>
            <a:off x="2699640" y="188640"/>
            <a:ext cx="3610800" cy="5832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7241760" cy="1142640"/>
          </a:xfrm>
          <a:prstGeom prst="rect">
            <a:avLst/>
          </a:prstGeom>
          <a:gradFill rotWithShape="0">
            <a:gsLst>
              <a:gs pos="0">
                <a:srgbClr val="e7fbea"/>
              </a:gs>
              <a:gs pos="100000">
                <a:srgbClr val="acecb8"/>
              </a:gs>
            </a:gsLst>
            <a:lin ang="5400000"/>
          </a:gradFill>
          <a:ln w="11520">
            <a:solidFill>
              <a:srgbClr val="00b050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148" strike="noStrike">
                <a:solidFill>
                  <a:srgbClr val="ffff00"/>
                </a:solidFill>
                <a:latin typeface="Trebuchet MS"/>
              </a:rPr>
              <a:t>«Пушинка»</a:t>
            </a:r>
            <a:endParaRPr b="0" lang="ru-RU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Наши первые дипломы </a:t>
            </a:r>
            <a:r>
              <a:rPr b="1" lang="ru-RU" sz="3800" spc="-1" strike="noStrike" cap="all">
                <a:solidFill>
                  <a:srgbClr val="000000"/>
                </a:solidFill>
                <a:latin typeface="Wingdings"/>
              </a:rPr>
              <a:t>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5" name="Рисунок 2" descr="IMAG1306.jpg"/>
          <p:cNvPicPr/>
          <p:nvPr/>
        </p:nvPicPr>
        <p:blipFill>
          <a:blip r:embed="rId1"/>
          <a:stretch/>
        </p:blipFill>
        <p:spPr>
          <a:xfrm>
            <a:off x="179640" y="1772640"/>
            <a:ext cx="78228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286</TotalTime>
  <Application>LibreOffice/7.4.7.2$Linux_X86_64 LibreOffice_project/40$Build-2</Application>
  <AppVersion>15.0000</AppVersion>
  <Words>197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0T06:18:56Z</dcterms:created>
  <dc:creator>лорол</dc:creator>
  <dc:description/>
  <dc:language>en-US</dc:language>
  <cp:lastModifiedBy>Microsoft</cp:lastModifiedBy>
  <dcterms:modified xsi:type="dcterms:W3CDTF">2017-06-13T17:40:48Z</dcterms:modified>
  <cp:revision>41</cp:revision>
  <dc:subject/>
  <dc:title>Зелёная ули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