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C42-EDF1-4F95-807A-1849900C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162-9EFF-4979-A3D9-B653F3A9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BE1-E336-4050-978B-30D31E8D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B44-524B-461E-B3BA-3D3C8D88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22AB-2742-4D17-9A61-84826328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9889-3D74-4AD0-BAA0-4ADB68EE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CC02-C2C7-48BF-90DD-39B2745F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8971-CBC6-40AD-A33B-319732D6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0D4B-6D3C-493B-8FFD-44C84B4B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449D-969C-406B-8D41-D17C8BC2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7763-3288-4E79-A500-0D37A613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D77-38D4-4AD8-9856-F51622DE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0461-4F41-48AE-BECB-9156CD3F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F963-5E98-42AC-80FE-61AB767E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CB58-7B7C-430A-86FF-432F9645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90AA-16BF-4822-909A-A3DA9384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B1C0-1C25-4C2B-A15C-801F2FFB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13A-53BA-45F9-8104-D7075719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551-EEF7-44CD-A53D-651D34A4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81F-7798-47B7-AE87-F43F34AA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EB5-5019-4494-9FFA-D79AEB1E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E23-9970-4705-9563-9B83AABA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44D-501C-421D-9852-35BE6416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65F-6A54-4F65-894D-7B3AAEE9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0F6C-870A-4368-BA70-2E99F4DD14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31DD-EAB1-4D65-8D20-5F168C21A7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060280"/>
            <a:ext cx="7561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24dcf"/>
                </a:solidFill>
                <a:latin typeface="Tahoma"/>
              </a:rPr>
              <a:t>Домашнее животное «Кошка»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43280" y="5445000"/>
            <a:ext cx="3889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ыполнила: Пашкова Юлия Валерьевна,      воспитатель МКДОУ ЦРР – детского сада №18 г.Россош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71640" y="4221000"/>
            <a:ext cx="2531880" cy="2637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Физ. Минут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Кот сибирский, кот царапка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ит деток танцевать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у-ка, детки , по команд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-два-три-четыре-пять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грациозно, незаметно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до лапки поднимать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евой-правой, левой-правой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-два-три-четыре-пять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061640" y="906120"/>
            <a:ext cx="7386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 доме с бабушкой живёт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ихо песенки поёт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юбит рыбку и мышей, 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янчит деток-малышей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мурлычет у окошка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ша ласковая..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69534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Мяу-мяу-мяу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Этот зверь со мной играет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е мычит он и не лает, 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падает на клубки, 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ячет в лапки коготки.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23920" y="95400"/>
            <a:ext cx="5096160" cy="66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50504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одит Васька серенький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вост у Васьки беленький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лазки закрываются, 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огти раскрываются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Шерсть у Васьки пышная, 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ступь еле слышна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3T12:52:28Z</dcterms:created>
  <dc:creator>Пользователь</dc:creator>
  <dc:description/>
  <dc:language>en-US</dc:language>
  <cp:lastModifiedBy>Пользователь</cp:lastModifiedBy>
  <dcterms:modified xsi:type="dcterms:W3CDTF">2017-06-13T13:51:35Z</dcterms:modified>
  <cp:revision>2</cp:revision>
  <dc:subject/>
  <dc:title>Домашнее животное «Кошка»</dc:title>
</cp:coreProperties>
</file>