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E97-6C92-485A-98FB-A6201522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4DC-70AC-44C1-A43B-00E26E3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C8A-C55B-475B-A080-D25E27DF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16D-A04D-4EF8-BADA-45DF8A63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FCA7-6754-44E8-BC3C-71A12122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7E67-A6BB-4267-9FF8-68F7E815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B446-840A-4BF2-8E63-57C10161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40F1-3A85-478B-AFD2-D9FB155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834D-F874-402B-9CF9-3F79750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DF3-DAED-4433-AC46-FBC9ECD9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6207-90DC-463F-BC47-86E4F3E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761-8447-495E-98AD-F268E392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C4DC-276C-4963-9CFF-8655143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169-E169-49C2-B38F-CF52696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4EBC-4C11-4634-B067-448DC80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3FE-2644-44E0-BCF4-A9A18D81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A17-7FCA-4F68-BD15-E7AD504D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46E-9A81-4C55-B49A-102703DB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F61-9D6E-49DC-9533-27E4FB6E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491-28AD-469D-AC8F-A662E7D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9C9-0F60-4517-962B-AC121F4D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349-33B4-485C-97BE-C258E84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8C1-C3D0-40F4-8E54-FFE0F29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853-2D5B-4BEC-AFBF-F08FD0C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741-E4E7-4761-8720-509846FC6C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DD3D-19D0-453A-8706-BE7446E79C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561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24dcf"/>
                </a:solidFill>
                <a:latin typeface="Tahoma"/>
              </a:rPr>
              <a:t>Домашнее животное «Кошка»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3280" y="5445000"/>
            <a:ext cx="388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полнила: Пашкова Юлия Валерьевна,      воспитатель МКДОУ ЦРР – детского сада №18 г.Россош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531880" cy="2637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из. Мину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от сибирский, кот царапк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 деток танцевать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у-ка, детки , по коман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-два-три-четыре-пять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рациозно, незамет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о лапки поднимать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вой-правой, левой-правой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-два-три-четыре-пят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061640" y="906120"/>
            <a:ext cx="7386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доме с бабушкой живёт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ихо песенки поёт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бит рыбку и мышей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янчит деток-малышей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мурлычет у окошк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ша ласковая.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534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Мяу-мяу-мяу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т зверь со мной играет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е мычит он и не лает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адает на клубки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ячет в лапки коготки.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3920" y="95400"/>
            <a:ext cx="509616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0504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дит Васька серенький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вост у Васьки беленький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зки закрываются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гти раскрываются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ерсть у Васьки пышная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тупь еле слышна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3T12:52:28Z</dcterms:created>
  <dc:creator>Пользователь</dc:creator>
  <dc:description/>
  <dc:language>en-US</dc:language>
  <cp:lastModifiedBy>Пользователь</cp:lastModifiedBy>
  <dcterms:modified xsi:type="dcterms:W3CDTF">2017-06-13T13:51:35Z</dcterms:modified>
  <cp:revision>2</cp:revision>
  <dc:subject/>
  <dc:title>Домашнее животное «Кошка»</dc:title>
</cp:coreProperties>
</file>