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A1E8-05AD-41DB-90E8-26C7F0D6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379-246A-4918-8695-717231F1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897-770F-4972-A480-2C5E2578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9A5F-78E0-4BDF-AD22-D07AF2AE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E00A-0B37-4B98-B85F-19296543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E59-CDDC-4811-81B5-499AD580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15D9-AABB-4CDF-B912-3B735A41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898-8E37-4321-8CE0-9565CD2B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945-6B05-4B2E-8D51-E21EC364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A26-1FB8-4401-8E95-81757DBE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BC7-6E7D-451E-B7EA-8E2CD92C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E16A-8C6C-4F0F-B356-9823E40E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9F21-E179-46EB-B56C-CE30457C5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Дет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знай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дорож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зна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6213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сли нужно вызвать маму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звонить гиппопотам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 пути связаться с друг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тот знак к твоим услуга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Телеф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34542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 машинах здесь, друзь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хать никому нельз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жно ехать, знайте, дет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олько на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велосипед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Велосипедная дорож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8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й, водитель, осторожн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хать быстро невозмож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нают люди все на све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этом месте ходя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дет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Осторожно – дет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92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 не мыл в дороге ру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ел фрукты, овощ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болел и вижу вд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ункт медицинско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помощ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Больн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5830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облюдай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прав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дорожного движе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презентации Сизова Светлана Юрь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н имеет по три глаза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 три с каждой стороны, И хотя ещё ни разу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 смотрел он всеми сразу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се глаза ему нужны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н висит тут с давних по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на всё глядит в упор.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то же это?..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6494760"/>
            <a:ext cx="640080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Светоф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95480" y="1600200"/>
            <a:ext cx="5151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тот знак такого род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н на страже пешехо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еходим с куклой вмес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ы дорогу в этом мес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Пешеходный перех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75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ециально для т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десь дорожка пролег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наком круглым обозначен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шеходам предназначе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Пешеходная дорож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7847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ждый из нас понима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нак движенье запреща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шеходам нет пут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м нельзя туда ид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ешеходам проход закры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9690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5:36:01Z</dcterms:created>
  <dc:creator>USER</dc:creator>
  <dc:description/>
  <dc:language>en-US</dc:language>
  <cp:lastModifiedBy>user</cp:lastModifiedBy>
  <dcterms:modified xsi:type="dcterms:W3CDTF">2017-05-08T06:16:40Z</dcterms:modified>
  <cp:revision>5</cp:revision>
  <dc:subject/>
  <dc:title>Слайд 1</dc:title>
</cp:coreProperties>
</file>