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260-DEAB-4A43-A40D-25872866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664-1822-4339-8E35-2B15A79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4FB-D809-4845-B299-FFA2A823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722-6152-4AB1-9CE5-C919EEBE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A8A-CA55-441A-A068-8A0ECDBD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8A-F950-4D80-9B1B-946943D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14B-EC2E-48BE-B6D7-D2504C37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290-F129-490A-A2BF-B230708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41B-B487-4D9D-81F1-2C115C1E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D6E-C37F-4C3D-8D34-3E4DB78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21A-4CBF-454B-B799-1E6E1B4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749-66D0-48DC-9B23-527879D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3CA-B379-4935-99F5-001C10F9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е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най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орож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на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621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ли нужно вызвать мам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звонить гиппопотам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 пути связаться с друг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т знак к твоим услуг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Телеф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454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машинах здесь, друзь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хать никому нельз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жно ехать, знайте, де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лько на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велосипед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й, водитель, осторожн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хать быстро невозмо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ют люди все на све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этом месте ходя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де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сторожно – дет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9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не мыл в дороге ру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ел фрукты, ово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болел и вижу в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ункт медицинско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помощ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Боль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583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облюда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 Сизова Светлана Юрь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имеет по три глаза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три с каждой стороны, И хотя ещё ни разу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 смотрел он всеми сразу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 глаза ему нужны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висит тут с давних по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на всё глядит в упор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же это?.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6494760"/>
            <a:ext cx="640080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Светоф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95480" y="1600200"/>
            <a:ext cx="51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т знак такого р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н на страже пешех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им с куклой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 дорогу в этом 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ециально для т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десь дорожка проле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ком круглым обозначе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шеходам предназнач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ешеходная дорож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84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ждый из нас поним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к движенье запрещ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шеходам нет пу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м нельзя туда ид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ешеходам проход закр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5:36:01Z</dcterms:created>
  <dc:creator>USER</dc:creator>
  <dc:description/>
  <dc:language>en-US</dc:language>
  <cp:lastModifiedBy>user</cp:lastModifiedBy>
  <dcterms:modified xsi:type="dcterms:W3CDTF">2017-05-08T06:16:40Z</dcterms:modified>
  <cp:revision>5</cp:revision>
  <dc:subject/>
  <dc:title>Слайд 1</dc:title>
</cp:coreProperties>
</file>