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66A58-A621-4461-BC5A-A87931F2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EB272-3EAE-424B-9CD6-F2657984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8F192-5AD7-4801-A7B7-86A69D83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2AF40-432E-409F-A380-0672B7CC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A3F6-0203-4988-9CE0-1A8C86FF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DC74-DAB7-4A01-9F18-14C94A00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C978-19B0-4FCA-B653-711805F8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7925-8333-4923-9C4D-238C5796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5A35-0BD0-4F8F-8103-DE6548A5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74D6-7615-4E0C-A245-1B4B99B6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6700-2390-46C5-B70E-CD452D1D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C10C5-673E-4CC4-96B1-718281B6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DBB7-59FD-4BE9-B974-55745DC9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A29B-352D-4043-99A2-A98BCA1A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3219-DD85-43CB-A9E2-A137B22A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2C3F-9359-4A02-9239-1EF10B57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D443-662B-4F33-B095-7479D22B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C1C8E-C761-4CC2-AB11-035E0E2E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4559C-8CA0-4F41-A318-0C840E22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5BE94-2B13-4D68-AF66-4D1FD42C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DB9E0-01F5-42B2-85A5-49EE3288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390A4-61CE-44C8-8025-11E64312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60404-CE9B-44C0-B69A-EC04FB95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ACB22-3846-4BDA-8A4C-9D362AF0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2A29-278F-4E77-B25E-67689E2C02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0000"/>
                  </a:gs>
                  <a:gs pos="100000">
                    <a:srgbClr val="8c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8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0000"/>
                  </a:gs>
                  <a:gs pos="100000">
                    <a:srgbClr val="8c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8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B145-4279-4F69-BED9-4FEA4AD748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fd293"/>
                </a:solidFill>
                <a:latin typeface="Monotype Corsiva"/>
              </a:rPr>
              <a:t>Екатерина Великая</a:t>
            </a:r>
            <a:endParaRPr b="1" lang="en-US" sz="96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4171320" y="4869000"/>
            <a:ext cx="448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боту выполнил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авицкая Марина и Зыль Анастас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ченицы 4 класса «В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29160" y="1785960"/>
            <a:ext cx="34718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Это памятник Петру </a:t>
            </a:r>
            <a:r>
              <a:rPr b="1" lang="en-US" sz="1800" spc="-1" strike="noStrike">
                <a:solidFill>
                  <a:srgbClr val="dfd293"/>
                </a:solidFill>
                <a:latin typeface="Garamond"/>
              </a:rPr>
              <a:t>I</a:t>
            </a: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Он стоит на камне, привезённом с Урала. </a:t>
            </a:r>
            <a:endParaRPr b="1" lang="en-US" sz="18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26" name="Picture 11" descr="IMG_0016"/>
          <p:cNvPicPr/>
          <p:nvPr/>
        </p:nvPicPr>
        <p:blipFill>
          <a:blip r:embed="rId1"/>
          <a:stretch/>
        </p:blipFill>
        <p:spPr>
          <a:xfrm>
            <a:off x="428760" y="785880"/>
            <a:ext cx="4572000" cy="500040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293"/>
                </a:solidFill>
                <a:latin typeface="Monotype Corsiva"/>
              </a:rPr>
              <a:t>Небольшая викторина</a:t>
            </a:r>
            <a:r>
              <a:rPr b="1" lang="ru-RU" sz="4400" spc="-1" strike="noStrike">
                <a:solidFill>
                  <a:srgbClr val="dfd293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На каких языках читал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катерин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Сколько лет продолжался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троится Зимний дворец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Кто был мужем Екатерины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. Как называли Екатерину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5. Когда состоялась свадьб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катерины Великой и Петр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2920" y="1916280"/>
            <a:ext cx="40388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русском, немецком, французско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30 лет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Пётр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. Екатерина Велика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5. Свадьба состоялась в 1745 году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428760" y="4929120"/>
            <a:ext cx="321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ому Екатерина Великая установила памятни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428760" y="5572080"/>
            <a:ext cx="29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к звали Екатерину на Родине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567320" y="371484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Петру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571640" y="414324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7. Фик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32932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293"/>
                </a:solidFill>
                <a:latin typeface="Garamond"/>
              </a:rPr>
              <a:t>Её родители принадлежали к мелким княжеским родам Северной Германии</a:t>
            </a:r>
            <a:br>
              <a:rPr sz="2000"/>
            </a:br>
            <a:r>
              <a:rPr b="1" lang="ru-RU" sz="2000" spc="-1" strike="noStrike">
                <a:solidFill>
                  <a:srgbClr val="dfd293"/>
                </a:solidFill>
                <a:latin typeface="Garamond"/>
              </a:rPr>
              <a:t>и маленькая принцесса росла в скромной обстановке</a:t>
            </a: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. С рождения</a:t>
            </a:r>
            <a:endParaRPr b="1" lang="en-US" sz="18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03" name="Picture 2" descr="H:\Documents and Settings\Alex\Рабочий стол\Екатерина Великая\Bild%20746.jpg"/>
          <p:cNvPicPr/>
          <p:nvPr/>
        </p:nvPicPr>
        <p:blipFill>
          <a:blip r:embed="rId1"/>
          <a:stretch/>
        </p:blipFill>
        <p:spPr>
          <a:xfrm>
            <a:off x="1143000" y="1928880"/>
            <a:ext cx="6948360" cy="449892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293"/>
                </a:solidFill>
                <a:latin typeface="Monotype Corsiva"/>
              </a:rPr>
              <a:t>Детство Екатерины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1643040"/>
            <a:ext cx="46432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 рождения её звали София-Фредерика-Августа Ангальт-Цербстская. Родные звали её просто Фике. Она была резвой 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аловливой, любила проказничать и щегольнуть своей отвагой перед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альчишками, с которыми играла на улице. Честолюбивые мечты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будились в ней рано; позднее она писала что уже в семь лет мечтал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 корон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4" descr="H:\Documents and Settings\Alex\Рабочий стол\Екатерина Великая\Bild%20745.jpg"/>
          <p:cNvPicPr/>
          <p:nvPr/>
        </p:nvPicPr>
        <p:blipFill>
          <a:blip r:embed="rId1"/>
          <a:stretch/>
        </p:blipFill>
        <p:spPr>
          <a:xfrm>
            <a:off x="5072040" y="1285920"/>
            <a:ext cx="3809880" cy="47624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Когда её троюродный брат Пётр был объявлен наследником </a:t>
            </a:r>
            <a:br>
              <a:rPr sz="1800"/>
            </a:b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российского престола, она «во глубине предназначила себя ему». Их свадьба </a:t>
            </a:r>
            <a:br>
              <a:rPr sz="1800"/>
            </a:b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состоялась в 1745 г., но супружеская жизнь не сложилась : Пётр</a:t>
            </a:r>
            <a:endParaRPr b="1" lang="en-US" sz="18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08" name="Picture 2" descr="H:\Documents and Settings\Alex\Рабочий стол\Екатерина Великая\пётр и екатерина.jpg"/>
          <p:cNvPicPr/>
          <p:nvPr/>
        </p:nvPicPr>
        <p:blipFill>
          <a:blip r:embed="rId1"/>
          <a:stretch/>
        </p:blipFill>
        <p:spPr>
          <a:xfrm>
            <a:off x="2714760" y="1857240"/>
            <a:ext cx="3286080" cy="43372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43280" y="1143000"/>
            <a:ext cx="411480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Пётр был </a:t>
            </a:r>
            <a:br>
              <a:rPr sz="1800"/>
            </a:b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человеком весьма невежественным и всякому обучению предпочитал </a:t>
            </a:r>
            <a:br>
              <a:rPr sz="1800"/>
            </a:b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возню с собаками и игру в куклы да солдатики; Екатерина потом писала:</a:t>
            </a:r>
            <a:br>
              <a:rPr sz="1800"/>
            </a:b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« Мне нужен был муж со здравым смыслом, а мой его не имел». </a:t>
            </a:r>
            <a:br>
              <a:rPr sz="1800"/>
            </a:br>
            <a:endParaRPr b="1" lang="en-US" sz="18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10" name="Picture 3" descr="H:\Documents and Settings\Alex\Рабочий стол\Екатерина Великая\пётр 3.jpg"/>
          <p:cNvPicPr/>
          <p:nvPr/>
        </p:nvPicPr>
        <p:blipFill>
          <a:blip r:embed="rId1"/>
          <a:stretch/>
        </p:blipFill>
        <p:spPr>
          <a:xfrm>
            <a:off x="428760" y="428760"/>
            <a:ext cx="4173480" cy="60004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Garamond"/>
              </a:rPr>
              <a:t>Восхождение на трон</a:t>
            </a:r>
            <a:endParaRPr b="1" lang="en-US" sz="32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12" name="Picture 2" descr="H:\Documents and Settings\Alex\Рабочий стол\Екатерина Великая\орлов алексей григорьевич.jpg"/>
          <p:cNvPicPr/>
          <p:nvPr/>
        </p:nvPicPr>
        <p:blipFill>
          <a:blip r:embed="rId1"/>
          <a:stretch/>
        </p:blipFill>
        <p:spPr>
          <a:xfrm>
            <a:off x="500040" y="1071720"/>
            <a:ext cx="3214800" cy="407196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113" name="Picture 3" descr="H:\Documents and Settings\Alex\Рабочий стол\Екатерина Великая\екатерина романовна дашкова.jpg"/>
          <p:cNvPicPr/>
          <p:nvPr/>
        </p:nvPicPr>
        <p:blipFill>
          <a:blip r:embed="rId2"/>
          <a:stretch/>
        </p:blipFill>
        <p:spPr>
          <a:xfrm>
            <a:off x="5327640" y="1071720"/>
            <a:ext cx="3187800" cy="407196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14" name="TextBox 6"/>
          <p:cNvSpPr/>
          <p:nvPr/>
        </p:nvSpPr>
        <p:spPr>
          <a:xfrm>
            <a:off x="571680" y="5429160"/>
            <a:ext cx="31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лексей Григорьевич Орлов- брат фаворита Екатерины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014080" y="5500800"/>
            <a:ext cx="38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катерина Романовна Дашко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293"/>
                </a:solidFill>
                <a:latin typeface="Monotype Corsiva"/>
              </a:rPr>
              <a:t>Интересы Екатерины Великой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катерина пристрастилась к охоте 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ерховой езде, развлекалась танцами 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аскарадами, но лучшими друзьями в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орьбе со скукой стали книги. О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гла читать на 3 языках – русском,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емецком и французском; поздне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катерина признаётся, что в течение 1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ет скуки и уединения (замужества) о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мела достаточно времени, чтобы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читать множество книг. Начав 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манов, она закончила философским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рактами. Труды Вольтера, Монтескьё 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ацита произвели переворот в её душе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аставив Екатерину по – новому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тнестись к своим обязанностям- и 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тветственности, налагаемой властью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ё царствование обещало стать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еликим.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H:\Documents and Settings\Alex\Мои документы\Мои рисунки\image001.jpg"/>
          <p:cNvPicPr/>
          <p:nvPr/>
        </p:nvPicPr>
        <p:blipFill>
          <a:blip r:embed="rId1"/>
          <a:stretch/>
        </p:blipFill>
        <p:spPr>
          <a:xfrm>
            <a:off x="5000760" y="1643040"/>
            <a:ext cx="3778200" cy="47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fd293"/>
                </a:solidFill>
                <a:latin typeface="Monotype Corsiva"/>
              </a:rPr>
              <a:t>Постройки</a:t>
            </a:r>
            <a:endParaRPr b="1" lang="en-US" sz="72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давая пример горожанам, Екатерина велела заменить деревянны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зённые постройки каменными, однако каменное строительство и забот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б украшении города наталкивались на одно существенное  препятствие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едность большой части населения. Не все могли позволить себе каменны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ом, и уж тем более красивый дорогостоящий фасад (как желала Екатерина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в связи с этим был составлен любопытный план застройки площадей: з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зённый счёт площади обносились лицевыми стенами – разного род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асадами, - а жители к этим фасадам могли уже пристраивать сзади те дома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то им по средствам (всё равно за  фасадами их будет не видно). Екатерин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тот план понравился, ведь красивая площадь – это лицо город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зводились дворцы, величественные общественные здания, учебны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ведения, рос Эрмитаж и множились его коллекции. При Екатерин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имний дворец был ещё не доделан, и работы продолжались 30 лет.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0" descr="IMG_0014"/>
          <p:cNvPicPr/>
          <p:nvPr/>
        </p:nvPicPr>
        <p:blipFill>
          <a:blip r:embed="rId1"/>
          <a:stretch/>
        </p:blipFill>
        <p:spPr>
          <a:xfrm>
            <a:off x="4857840" y="785880"/>
            <a:ext cx="4038480" cy="27860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122" name="Picture 12" descr="IMG_0013"/>
          <p:cNvPicPr/>
          <p:nvPr/>
        </p:nvPicPr>
        <p:blipFill>
          <a:blip r:embed="rId2"/>
          <a:stretch/>
        </p:blipFill>
        <p:spPr>
          <a:xfrm>
            <a:off x="357120" y="3643200"/>
            <a:ext cx="4000680" cy="25718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>
            <a:off x="357120" y="1214280"/>
            <a:ext cx="43243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зводились дворцы, величественные общественные здания, учебны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ведения, рос Эрмитаж и множились его коллекци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5072040" y="4500720"/>
            <a:ext cx="3714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 Екатерин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имний дворец был ещё не доделан, и работы продолжались 30 лет.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5:19:31Z</dcterms:created>
  <dc:creator>Super</dc:creator>
  <dc:description/>
  <dc:language>en-US</dc:language>
  <cp:lastModifiedBy>Алексей</cp:lastModifiedBy>
  <dcterms:modified xsi:type="dcterms:W3CDTF">2012-07-18T06:46:47Z</dcterms:modified>
  <cp:revision>18</cp:revision>
  <dc:subject/>
  <dc:title>Екатерина Великая</dc:title>
</cp:coreProperties>
</file>