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B350-BECC-4B1C-BC96-89FCA068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6BDC-45C0-4A0D-B819-D47F6A2A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7695-D777-4884-AA0C-EB99AB65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5CE7-2156-4FB5-B135-1C4B25E4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C69A-E628-4654-BC76-9883CFF5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A227-48F4-472E-8C3F-E689137A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4177-513D-482D-BE8F-C2F8BDF7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E020-9A76-48A7-89E4-272B0A1C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3E93-D80C-45ED-B7BF-2779A773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2688-2FED-4E35-B4BB-EE420FBC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5CEF-C45F-42B8-A883-A5788DC2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4E30-ACC2-4089-BEE9-584A82E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0027-C267-47A5-A5C7-B99E0D9D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272E-ABF2-4265-91BD-CFE27463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4A0A-36A1-4E3C-BB0B-957F05D8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E175-3DF9-4DC7-9A1E-40EC06CB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F4A4-6C57-4E59-A105-909A69A3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5951-FBDF-4303-9800-A05FD913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9EC5-BB25-4C6B-80D9-B2599846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7DD6-BE38-42C7-B9D8-2C90D2E1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7BD8-1957-4635-B0C4-9DCE582D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DB83-AE77-40E0-8A2F-78154117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F7A1-0C02-4AB7-9EF2-2E397B1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F0DA-C0B0-4CFC-AFDB-36C93A8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665A-2EEA-4F72-A1C6-B60A4AAED5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F68A-24A6-448B-ACE7-00754AB231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fd293"/>
                </a:solidFill>
                <a:latin typeface="Monotype Corsiva"/>
              </a:rPr>
              <a:t>Екатерина Великая</a:t>
            </a:r>
            <a:endParaRPr b="1" lang="en-US" sz="96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4171320" y="4869000"/>
            <a:ext cx="44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ту выполнил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авицкая Марина и Зыль Анастас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цы 4 класса «В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29160" y="1785960"/>
            <a:ext cx="34718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Это памятник Петру </a:t>
            </a:r>
            <a:r>
              <a:rPr b="1" lang="en-US" sz="1800" spc="-1" strike="noStrike">
                <a:solidFill>
                  <a:srgbClr val="dfd293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Он стоит на камне, привезённом с Урала. </a:t>
            </a:r>
            <a:endParaRPr b="1" lang="en-US" sz="1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6" name="Picture 11" descr="IMG_0016"/>
          <p:cNvPicPr/>
          <p:nvPr/>
        </p:nvPicPr>
        <p:blipFill>
          <a:blip r:embed="rId1"/>
          <a:stretch/>
        </p:blipFill>
        <p:spPr>
          <a:xfrm>
            <a:off x="428760" y="785880"/>
            <a:ext cx="4572000" cy="50004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Monotype Corsiva"/>
              </a:rPr>
              <a:t>Небольшая викторина</a:t>
            </a: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На каких языках читал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катерин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Сколько лет продолжалс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роится Зимний дворец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Кто был мужем Екатерин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 Как называли Екатерину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 Когда состоялась свадьб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катерины Великой и Пет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русском, немецком, французск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30 ле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Пёт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 Екатерина Велика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 Свадьба состоялась в 1745 год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28760" y="4929120"/>
            <a:ext cx="321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му Екатерина Великая установила памятни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28760" y="557208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 звали Екатерину на Родин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567320" y="371484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Петру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571640" y="414324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7. Фик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32932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293"/>
                </a:solidFill>
                <a:latin typeface="Garamond"/>
              </a:rPr>
              <a:t>Её родители принадлежали к мелким княжеским родам Северной Германии</a:t>
            </a:r>
            <a:br>
              <a:rPr sz="2000"/>
            </a:br>
            <a:r>
              <a:rPr b="1" lang="ru-RU" sz="2000" spc="-1" strike="noStrike">
                <a:solidFill>
                  <a:srgbClr val="dfd293"/>
                </a:solidFill>
                <a:latin typeface="Garamond"/>
              </a:rPr>
              <a:t>и маленькая принцесса росла в скромной обстановке</a:t>
            </a: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. С рождения</a:t>
            </a:r>
            <a:endParaRPr b="1" lang="en-US" sz="1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3" name="Picture 2" descr="H:\Documents and Settings\Alex\Рабочий стол\Екатерина Великая\Bild%20746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48360" cy="44989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Monotype Corsiva"/>
              </a:rPr>
              <a:t>Детство Екатерины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46432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рождения её звали София-Фредерика-Августа Ангальт-Цербстская. Родные звали её просто Фике. Она была резвой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аловливой, любила проказничать и щегольнуть своей отвагой перед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альчишками, с которыми играла на улице. Честолюбивые мечт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будились в ней рано; позднее она писала что уже в семь лет мечтал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 корон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H:\Documents and Settings\Alex\Рабочий стол\Екатерина Великая\Bild%20745.jpg"/>
          <p:cNvPicPr/>
          <p:nvPr/>
        </p:nvPicPr>
        <p:blipFill>
          <a:blip r:embed="rId1"/>
          <a:stretch/>
        </p:blipFill>
        <p:spPr>
          <a:xfrm>
            <a:off x="5072040" y="1285920"/>
            <a:ext cx="3809880" cy="47624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Когда её троюродный брат Пётр был объявлен наследником 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российского престола, она «во глубине предназначила себя ему». Их свадьба 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состоялась в 1745 г., но супружеская жизнь не сложилась : Пётр</a:t>
            </a:r>
            <a:endParaRPr b="1" lang="en-US" sz="1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8" name="Picture 2" descr="H:\Documents and Settings\Alex\Рабочий стол\Екатерина Великая\пётр и екатерин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286080" cy="4337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43280" y="1143000"/>
            <a:ext cx="41148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Пётр был 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человеком весьма невежественным и всякому обучению предпочитал 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возню с собаками и игру в куклы да солдатики; Екатерина потом писала: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« Мне нужен был муж со здравым смыслом, а мой его не имел». </a:t>
            </a:r>
            <a:br>
              <a:rPr sz="1800"/>
            </a:br>
            <a:endParaRPr b="1" lang="en-US" sz="1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0" name="Picture 3" descr="H:\Documents and Settings\Alex\Рабочий стол\Екатерина Великая\пётр 3.jpg"/>
          <p:cNvPicPr/>
          <p:nvPr/>
        </p:nvPicPr>
        <p:blipFill>
          <a:blip r:embed="rId1"/>
          <a:stretch/>
        </p:blipFill>
        <p:spPr>
          <a:xfrm>
            <a:off x="428760" y="428760"/>
            <a:ext cx="4173480" cy="60004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Garamond"/>
              </a:rPr>
              <a:t>Восхождение на трон</a:t>
            </a:r>
            <a:endParaRPr b="1" lang="en-US" sz="32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2" name="Picture 2" descr="H:\Documents and Settings\Alex\Рабочий стол\Екатерина Великая\орлов алексей григорьевич.jpg"/>
          <p:cNvPicPr/>
          <p:nvPr/>
        </p:nvPicPr>
        <p:blipFill>
          <a:blip r:embed="rId1"/>
          <a:stretch/>
        </p:blipFill>
        <p:spPr>
          <a:xfrm>
            <a:off x="500040" y="1071720"/>
            <a:ext cx="3214800" cy="40719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13" name="Picture 3" descr="H:\Documents and Settings\Alex\Рабочий стол\Екатерина Великая\екатерина романовна дашкова.jpg"/>
          <p:cNvPicPr/>
          <p:nvPr/>
        </p:nvPicPr>
        <p:blipFill>
          <a:blip r:embed="rId2"/>
          <a:stretch/>
        </p:blipFill>
        <p:spPr>
          <a:xfrm>
            <a:off x="5327640" y="1071720"/>
            <a:ext cx="3187800" cy="40719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14" name="TextBox 6"/>
          <p:cNvSpPr/>
          <p:nvPr/>
        </p:nvSpPr>
        <p:spPr>
          <a:xfrm>
            <a:off x="571680" y="542916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лексей Григорьевич Орлов- брат фаворита Екатерин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014080" y="5500800"/>
            <a:ext cx="38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катерина Романовна Дашко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Monotype Corsiva"/>
              </a:rPr>
              <a:t>Интересы Екатерины Великой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катерина пристрастилась к охоте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ерховой езде, развлекалась танцами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скарадами, но лучшими друзьями 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орьбе со скукой стали книги. О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гла читать на 3 языках – русском,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емецком и французском; поздне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катерина признаётся, что в течение 1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т скуки и уединения (замужества) о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мела достаточно времени, чтоб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читать множество книг. Начав 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манов, она закончила философским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рактами. Труды Вольтера, Монтескьё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ацита произвели переворот в её душ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ставив Екатерину по – новом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нестись к своим обязанностям- и 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ветственности, налагаемой власть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ё царствование обещало стать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еликим.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H:\Documents and Settings\Alex\Мои документы\Мои рисунки\image001.jpg"/>
          <p:cNvPicPr/>
          <p:nvPr/>
        </p:nvPicPr>
        <p:blipFill>
          <a:blip r:embed="rId1"/>
          <a:stretch/>
        </p:blipFill>
        <p:spPr>
          <a:xfrm>
            <a:off x="5000760" y="1643040"/>
            <a:ext cx="3778200" cy="47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fd293"/>
                </a:solidFill>
                <a:latin typeface="Monotype Corsiva"/>
              </a:rPr>
              <a:t>Постройки</a:t>
            </a:r>
            <a:endParaRPr b="1" lang="en-US" sz="72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авая пример горожанам, Екатерина велела заменить деревянны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зённые постройки каменными, однако каменное строительство и забот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 украшении города наталкивались на одно существенное  препятствие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едность большой части населения. Не все могли позволить себе каменны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ом, и уж тем более красивый дорогостоящий фасад (как желала Екатерина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в связи с этим был составлен любопытный план застройки площадей: з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зённый счёт площади обносились лицевыми стенами – разного род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садами, - а жители к этим фасадам могли уже пристраивать сзади те дома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им по средствам (всё равно за  фасадами их будет не видно). Екатерин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от план понравился, ведь красивая площадь – это лицо горо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водились дворцы, величественные общественные здания, учебны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ведения, рос Эрмитаж и множились его коллекции. При Екатерин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имний дворец был ещё не доделан, и работы продолжались 30 лет.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IMG_0014"/>
          <p:cNvPicPr/>
          <p:nvPr/>
        </p:nvPicPr>
        <p:blipFill>
          <a:blip r:embed="rId1"/>
          <a:stretch/>
        </p:blipFill>
        <p:spPr>
          <a:xfrm>
            <a:off x="4857840" y="785880"/>
            <a:ext cx="4038480" cy="27860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22" name="Picture 12" descr="IMG_0013"/>
          <p:cNvPicPr/>
          <p:nvPr/>
        </p:nvPicPr>
        <p:blipFill>
          <a:blip r:embed="rId2"/>
          <a:stretch/>
        </p:blipFill>
        <p:spPr>
          <a:xfrm>
            <a:off x="357120" y="3643200"/>
            <a:ext cx="4000680" cy="25718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357120" y="1214280"/>
            <a:ext cx="43243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водились дворцы, величественные общественные здания, учебны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ведения, рос Эрмитаж и множились его коллекци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5072040" y="4500720"/>
            <a:ext cx="371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Екатерин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имний дворец был ещё не доделан, и работы продолжались 30 лет.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5:19:31Z</dcterms:created>
  <dc:creator>Super</dc:creator>
  <dc:description/>
  <dc:language>en-US</dc:language>
  <cp:lastModifiedBy>Алексей</cp:lastModifiedBy>
  <dcterms:modified xsi:type="dcterms:W3CDTF">2012-07-18T06:46:47Z</dcterms:modified>
  <cp:revision>18</cp:revision>
  <dc:subject/>
  <dc:title>Екатерина Великая</dc:title>
</cp:coreProperties>
</file>