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EAF-7F16-4C67-B37F-BD12F2F5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DA7-833F-4910-B9AD-B61F5C8A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CCA-ACD0-4544-B7DF-DF3AEAA2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044-4BCC-4CA9-B6A2-CFAAC1AC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B6AC-55C5-4B4A-ABCD-302D9135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7C21-2CB7-4622-83B2-6BA1B92F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4B44-311D-4D72-9E9D-A9CE18BA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A2F6-E1AA-4354-9526-7840602B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3FFB-1E78-4A64-80FA-45BD20A2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71F4-EB62-4C04-A2F8-DFDE2F76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AED4-48F1-4B94-8F55-7174DA56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803-6D42-4076-A15B-CCBCC213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D9B6-0277-4822-9C77-0327E349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5258-5820-4B37-8807-907807D0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79C2-2D38-4C34-BC72-FA0EAFBD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8BCB-C58F-4337-91D4-B9DB2377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183B-CAA9-4058-B141-C612C498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8C8-5D73-4634-B937-DAC65894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431-8014-4B74-9785-B6F12F7D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1DB-B6B5-4B58-BE0A-61C13326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A63-A229-47AC-8230-B2B416D0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9A7-86E1-468F-A9E6-62FF730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522-F0D9-4E82-8D12-A0F41424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B67-21D2-4AE0-A820-EDB77790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08AE-5012-45EF-83FF-C93E8DEB1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AB1A-083A-4156-9120-393F50A70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0720" y="1103400"/>
            <a:ext cx="83822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эмоциональная устойчивость (самообладание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зрелость чувств соответственно возраст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совладание с негативными эмоциями (страх, гнев, жадность, зависть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свободное, естественное проявление чувств и эмоц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способность радовать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сохранность оптимального самочувств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8800" y="51444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оптимиз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сосредоточе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уравновеше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равственность (честность, совестлив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адекватный уровень притяз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чувство дол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уверенность в се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еобидч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еленость (трудолюб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езависим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непосредственность (есте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чувство юм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доброжел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самоува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адекватная самооц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само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в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энергичная актив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- целеустремленность (обретение смысла в жизни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2684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степень интегрированности в обще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гармонич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консолидирова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уравновеш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духовность (доброта, справедливос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ориентация на саморазвитие, обогащение своей ли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52156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декватное восприятие социальной действи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нтерес к окружающему ми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даптация к физической и общественной ср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аправленность на общественно полезное де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ультура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льтруиз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эмпа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тветственность перед друг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бескорыс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емократизм в пове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28240" y="1600200"/>
            <a:ext cx="611028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ьте здоро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бъект 2"/>
          <p:cNvSpPr/>
          <p:nvPr/>
        </p:nvSpPr>
        <p:spPr>
          <a:xfrm>
            <a:off x="6630840" y="5764320"/>
            <a:ext cx="2238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КОУ СОШ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рсова О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82836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сихология здоровья – это наука о психологических причинах здоровья, о психологических методах и средствах его сохранения, укрепления и 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Главной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целью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 школы является сохранение и укрепление здоровья учащихся, формирование у них ценности здоровья, здорового образа жизни, выбора образовательных технологий, адекватных возрасту, устраняющих перегрузки и сохраняющих здоровье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6960" y="965160"/>
            <a:ext cx="825984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Здоровье – такое состояние человека, которому свойственно не только отсутствие болезней или физических дефектов, но и полное физическое, душевное и социальное благополуч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Устав Всемирной организации здравоохранения. 1948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12640" y="853560"/>
            <a:ext cx="817416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остояние полного физического, духовного и социального благополучия, а не только отсутствие болезни или дефектов"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ирная организация здравоохранения(196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60360" y="231840"/>
            <a:ext cx="8326440" cy="1189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40920" y="1104480"/>
            <a:ext cx="836316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rebuchet MS"/>
              </a:rPr>
              <a:t>Физическое здоровье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это естественное состояние организма, обусловленное нормальным функционированием всех его органов и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rebuchet MS"/>
              </a:rPr>
              <a:t>Психическое здоровье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висит от состояния головного мозга, оно характеризуется уровнем и качеством мышления, развитием внимания и памяти, степенью эмоциональной устойчивости, развитием волев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e0000"/>
                </a:solidFill>
                <a:latin typeface="Trebuchet MS"/>
              </a:rPr>
              <a:t>Нравственное (социальное) здоровье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пределяется теми моральными принципами, которые являются основой социальной жизни человека, т.е. жизни в определенном человеческом обществе. Отличительными признаками нравственного здоровья человека являются, прежде всего, сознательное отношение к труду, овладение сокровищами культуры, активное неприятие нравов и привычек, противоречащих нормальному образу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rebuchet MS"/>
              </a:rPr>
              <a:t>(Поэтому социальное здоровье считается высшей мерой человеческого здоровь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rebuchet MS"/>
              </a:rPr>
              <a:t>Духовное здоровье -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ичностный уровень здоровья, который строится в соответствии с основными целями и ценностями жизни, характеризуется нравственной ориентацией личности, ее менталитетом по отношению к себе, природе и общ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8800" y="20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Функциональные  резервы 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 Black"/>
                <a:ea typeface="Times New Roman"/>
              </a:rPr>
              <a:t>организм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Биохимические резерв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акции обме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Физиологические резерв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уровне клеток, органов, систем орга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0000"/>
                </a:solidFill>
                <a:latin typeface="Times New Roman"/>
                <a:ea typeface="Times New Roman"/>
              </a:rPr>
              <a:t>3. Психические резер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Третье состояние – это состояние человека, лежащее между здоровьем и болезнью, совмещает в себе и то, и другое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Г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412120" cy="1511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поведени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ыносливость, оптимизм, сила «Я»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эмоциональный фон, личностный стиль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334800" y="12600"/>
            <a:ext cx="8352000" cy="1749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укрепление социальной позиции личности в коллективе и в своей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формирование системы ценностных установок и ориента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развитие Я-концепции (самооценка, самосознание, самоотноше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смягчение эмоционального дискомфорта и устранение вторичных личностных реа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формирование эмоциональной устойчивости и саморегуля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412120" cy="151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аксимальное приближение субъективных образов к отражаемым объектам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( адекватность психического отра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адекватное восприятие самого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способность концентрации внимания на предме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удержание информации в памя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способность к логической обработке      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ритичность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реативность (способность к творчеству, умение пользоваться интеллект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дисциплина 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41:29Z</dcterms:created>
  <dc:creator>ppsworld.ru</dc:creator>
  <dc:description/>
  <cp:keywords>фон для power point</cp:keywords>
  <dc:language>en-US</dc:language>
  <cp:lastModifiedBy>home</cp:lastModifiedBy>
  <dcterms:modified xsi:type="dcterms:W3CDTF">2016-05-13T17:21:58Z</dcterms:modified>
  <cp:revision>6</cp:revision>
  <dc:subject/>
  <dc:title>Слайд 1</dc:title>
</cp:coreProperties>
</file>