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1D5-909D-49C5-9EA4-96322EDA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F85-2124-4A8F-92B3-515E9E18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5C5-F5CF-447C-B1CF-CE3D10D8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124-8A6B-4020-BC06-3C564454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1235-D110-4460-BCCB-69A33B07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35BE-6C55-486F-8742-2CABC50A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919E-9FF0-4579-A8E1-6AD521E5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EFC6-8CA4-48BF-921E-30F3065B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EA54-7018-4554-8D4F-CF615A23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F795-7880-419B-8F8A-403505E8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8BCF-BBD6-4188-BD14-12CE79CD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8B9-ED26-4777-B4C4-DC8FEA8C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48E6-AB12-4305-AC7E-CE8B4800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57A3-2CCC-4128-AE8A-9A0839BC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4780-6366-409D-815A-B66166FA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0D52-BEA3-4CF5-8B07-319F9175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58A5-5DF5-4773-B974-8B038E3A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DB4-EA37-4A1F-A9D3-33A78778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1A0-34AD-48FD-84D4-E4BEB123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432-6A52-478E-BCB7-74B8F9A8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E5C-AB3A-48F9-BA19-EF35C54D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B58-755A-4AA5-B7F9-4F205742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70C-F20F-40AB-9F5C-5F3D87F9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39C-0D4E-44CB-8176-B6071903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7C9E-874E-48C3-B709-9D6D9C059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3556-53FE-4E88-9F7B-8718E8394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50720" y="1103400"/>
            <a:ext cx="838224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эмоциональная устойчивость (самообладание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- зрелость чувств соответственно возраст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- совладание с негативными эмоциями (страх, гнев, жадность, зависть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- свободное, естественное проявление чувств и эмоц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- способность радоватьс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- сохранность оптимального самочувств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8800" y="51444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оптимиз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сосредоточен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уравновешен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нравственность (честность, совестлив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адекватный уровень притяз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чувство дол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уверенность в себ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необидчив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неленость (трудолюб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независим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непосредственность (естествен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чувство юм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доброжела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самоува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адекватная самооц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самоконтро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в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энергичная актив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целеустремленность (обретение смысла в жизни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72684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степень интегрированности в общест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гармонич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консолидирован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уравновешен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духовность (доброта, справедливость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ориентация на саморазвитие, обогащение своей лич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274680" y="165240"/>
            <a:ext cx="8521560" cy="151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60020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декватное восприятие социальной действи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нтерес к окружающему ми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даптация к физической и общественной сре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направленность на общественно полезное де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культура 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льтруиз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эмпа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тветственность перед други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бескорыс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демократизм в пове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128240" y="1600200"/>
            <a:ext cx="611028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дьте здоров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бъект 2"/>
          <p:cNvSpPr/>
          <p:nvPr/>
        </p:nvSpPr>
        <p:spPr>
          <a:xfrm>
            <a:off x="6630840" y="5764320"/>
            <a:ext cx="2238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КОУ СОШ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урсова О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82836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сихология здоровья – это наука о психологических причинах здоровья, о психологических методах и средствах его сохранения, укрепления и разви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Главной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целью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 школы является сохранение и укрепление здоровья учащихся, формирование у них ценности здоровья, здорового образа жизни, выбора образовательных технологий, адекватных возрасту, устраняющих перегрузки и сохраняющих здоровье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6960" y="965160"/>
            <a:ext cx="825984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Здоровье – такое состояние человека, которому свойственно не только отсутствие болезней или физических дефектов, но и полное физическое, душевное и социальное благополуч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Устав Всемирной организации здравоохранения. 1948 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12640" y="853560"/>
            <a:ext cx="817416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Здоровь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состояние полного физического, духовного и социального благополучия, а не только отсутствие болезни или дефектов"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ирная организация здравоохранения(196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360360" y="231840"/>
            <a:ext cx="8326440" cy="1189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40920" y="1104480"/>
            <a:ext cx="836316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rebuchet MS"/>
              </a:rPr>
              <a:t>Физическое здоровье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это естественное состояние организма, обусловленное нормальным функционированием всех его органов и сист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rebuchet MS"/>
              </a:rPr>
              <a:t>Психическое здоровье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зависит от состояния головного мозга, оно характеризуется уровнем и качеством мышления, развитием внимания и памяти, степенью эмоциональной устойчивости, развитием волевых кач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e0000"/>
                </a:solidFill>
                <a:latin typeface="Trebuchet MS"/>
              </a:rPr>
              <a:t>Нравственное (социальное) здоровье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пределяется теми моральными принципами, которые являются основой социальной жизни человека, т.е. жизни в определенном человеческом обществе. Отличительными признаками нравственного здоровья человека являются, прежде всего, сознательное отношение к труду, овладение сокровищами культуры, активное неприятие нравов и привычек, противоречащих нормальному образу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rebuchet MS"/>
              </a:rPr>
              <a:t>(Поэтому социальное здоровье считается высшей мерой человеческого здоровья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rebuchet MS"/>
              </a:rPr>
              <a:t>Духовное здоровье -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личностный уровень здоровья, который строится в соответствии с основными целями и ценностями жизни, характеризуется нравственной ориентацией личности, ее менталитетом по отношению к себе, природе и обще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8800" y="20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Функциональные  резервы 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 Black"/>
                <a:ea typeface="Times New Roman"/>
              </a:rPr>
              <a:t>организм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Биохимические резерв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акции обме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Физиологические резерв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уровне клеток, органов, систем орган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e0000"/>
                </a:solidFill>
                <a:latin typeface="Times New Roman"/>
                <a:ea typeface="Times New Roman"/>
              </a:rPr>
              <a:t>3. Психические резер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alibri"/>
              </a:rPr>
              <a:t>Третье состояние – это состояние человека, лежащее между здоровьем и болезнью, совмещает в себе и то, и другое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alibri"/>
              </a:rPr>
              <a:t>Га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74680" y="165240"/>
            <a:ext cx="8412120" cy="1511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поведени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выносливость, оптимизм, сила «Я»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эмоциональный фон, личностный стиль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334800" y="12600"/>
            <a:ext cx="8352000" cy="1749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 укрепление социальной позиции личности в коллективе и в своей семь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 формирование системы ценностных установок и ориента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 развитие Я-концепции (самооценка, самосознание, самоотношени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 смягчение эмоционального дискомфорта и устранение вторичных личностных реак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 формирование эмоциональной устойчивости и саморегуля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74680" y="165240"/>
            <a:ext cx="8412120" cy="1511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максимальное приближение субъективных образов к отражаемым объектам действи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( адекватность психического отра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адекватное восприятие самого себ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способность концентрации внимания на предме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удержание информации в памя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способность к логической обработке      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ритичность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реативность (способность к творчеству, умение пользоваться интеллекто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дисциплина у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41:29Z</dcterms:created>
  <dc:creator>ppsworld.ru</dc:creator>
  <dc:description/>
  <cp:keywords>фон для power point</cp:keywords>
  <dc:language>en-US</dc:language>
  <cp:lastModifiedBy>home</cp:lastModifiedBy>
  <dcterms:modified xsi:type="dcterms:W3CDTF">2016-05-13T17:21:58Z</dcterms:modified>
  <cp:revision>6</cp:revision>
  <dc:subject/>
  <dc:title>Слайд 1</dc:title>
</cp:coreProperties>
</file>