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3B6-6397-473E-9740-EEB74208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BCD-5AB0-442A-9804-CB1525DA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638-2B54-4021-96C2-BFD863BB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C4F-5C3D-4B15-9ADB-7AFF03C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1547-E8E0-447A-8DAE-7D595D82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B2BB-6DAD-4A9F-A0F4-E08AE89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77C4-EF43-49B6-B664-02F9564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3387-EEC2-4E13-9C56-76F425F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E0C-B6E0-44F7-911C-28E5222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DB2A-7442-4037-A30D-287C615A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0FF3-A611-47FB-B1CC-D5C1109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52D-6774-44CC-940B-C68B2D3E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4724-B9C9-4A12-ABB3-176CD3D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351-2BFD-4656-AABE-C0FB34D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3BDF-62DB-4429-A91A-A72256F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92F6-6806-4E52-B5BC-47FC2FBD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32BE-1158-4C71-B52A-C68222D2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912-BA66-4D6B-AFA8-B402F174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220-746B-4DC5-B44F-74057F8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EFC-6E58-468E-84BD-B79C241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003-9AB9-4D94-A523-92BB9349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A2F-EF0F-42A7-907C-E8A769A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F66-3AF5-4B87-A63C-7406BDA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15B-5619-4943-928C-2042D14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A3A-D69C-4A81-BDD0-FC141FECE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E28B-3C2E-4B6F-B4FC-2D274CE5030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Готовность ребенка к обучению в школе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родительское собрание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i-main-pic" descr="Картинка 28 из 2121"/>
          <p:cNvPicPr/>
          <p:nvPr/>
        </p:nvPicPr>
        <p:blipFill>
          <a:blip r:embed="rId1"/>
          <a:stretch/>
        </p:blipFill>
        <p:spPr>
          <a:xfrm>
            <a:off x="2700360" y="2924280"/>
            <a:ext cx="3600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готовности к шко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395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ьн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левая гото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i-main-pic" descr="Картинка 11 из 2121"/>
          <p:cNvPicPr/>
          <p:nvPr/>
        </p:nvPicPr>
        <p:blipFill>
          <a:blip r:embed="rId1"/>
          <a:stretch/>
        </p:blipFill>
        <p:spPr>
          <a:xfrm>
            <a:off x="4284720" y="2133720"/>
            <a:ext cx="4390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ческ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ое и психическое здоровь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льное состояние зрения, слуха, ре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е мелких и крупных групп мышц, координация движ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е мелкой моторики (напрямую связано с развитием больших полушарий головного мозга и речевой деятельностью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альн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новой социальной позиции школьника имеющего круг важных обязанностей и пра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ожительное отношение ребенка к школе, учителям 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действовать совместно с другими деть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ание учить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ённый уровень развития мышления, речи, внимания, памяти, восприя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ановление связи между явлениями и событиями, возможность логического запоминания, умение воспроизводить образе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азателем интеллектуальной зрелости можно считать и уровень общей осведомлённости ребёнка, его кругозор и эрудиц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левая готов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и ребенка напряженно трудиться, делая то, что от него требуют учеба, режим школьной жиз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управлять своим поведением, умственной деятель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ственность и самосто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 встречи 1 сентябр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i-main-pic" descr="Картинка 56 из 2121"/>
          <p:cNvPicPr/>
          <p:nvPr/>
        </p:nvPicPr>
        <p:blipFill>
          <a:blip r:embed="rId1"/>
          <a:stretch/>
        </p:blipFill>
        <p:spPr>
          <a:xfrm>
            <a:off x="2268360" y="1916280"/>
            <a:ext cx="410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8:55:38Z</dcterms:created>
  <dc:creator>Admin</dc:creator>
  <dc:description/>
  <dc:language>en-US</dc:language>
  <cp:lastModifiedBy>Admin</cp:lastModifiedBy>
  <dcterms:modified xsi:type="dcterms:W3CDTF">2016-11-18T17:45:50Z</dcterms:modified>
  <cp:revision>2</cp:revision>
  <dc:subject/>
  <dc:title>Готовность ребенка к обучению в школе   (родительское собрание)</dc:title>
</cp:coreProperties>
</file>