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0E7-E92F-4E06-BD64-B86C230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303-566A-46FE-AC68-EB70D4D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307-3CA5-4808-8D30-1526919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882-5999-46D2-BF48-766DC8AF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5E7D-8C00-4741-B122-876BCE0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642F-89FD-4C09-86EA-02E82AB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674-8513-4F0E-AAFF-3DB0DBD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C69-FF4F-4477-B9C4-1879434C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07C-1DFB-4FE5-A3E6-6544A9C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457C-9474-47B6-A1EB-ED67956F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C8D-DDC1-4AD6-9DB5-67E256C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C7B-1E02-4D10-8BE4-457AA4A3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75B-D80C-4201-BAA8-610B8FE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1711-93B5-4D66-8AD3-A607EB4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CE27-747D-4274-97BA-3E29671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B6A-E6D1-4D15-8BE3-77F31F4C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1CF-FC78-470B-95F6-C6E8CE2F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84F-82B6-4B0F-8F9E-E897A05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354-3DD7-41CB-862D-D290C3C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9CF-48CF-411D-AAC7-E969FD17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5E3-9B4E-4511-9462-517A505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3EC-B13F-492B-B5BF-A0E86A4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2D8-6F6C-42E2-AF10-B7F2C6F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867-B410-4527-99D5-2F2950D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D1D3-3E06-44BA-813F-22653B712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887-5792-4CCC-A4DE-DBF7F23E862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Готовность ребенка к обучению в школе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родительское собрание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i-main-pic" descr="Картинка 28 из 2121"/>
          <p:cNvPicPr/>
          <p:nvPr/>
        </p:nvPicPr>
        <p:blipFill>
          <a:blip r:embed="rId1"/>
          <a:stretch/>
        </p:blipFill>
        <p:spPr>
          <a:xfrm>
            <a:off x="2700360" y="2924280"/>
            <a:ext cx="3600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готовности к шко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395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ьн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лев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i-main-pic" descr="Картинка 11 из 2121"/>
          <p:cNvPicPr/>
          <p:nvPr/>
        </p:nvPicPr>
        <p:blipFill>
          <a:blip r:embed="rId1"/>
          <a:stretch/>
        </p:blipFill>
        <p:spPr>
          <a:xfrm>
            <a:off x="4284720" y="2133720"/>
            <a:ext cx="4390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ческ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ое и психическое здоровь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льное состояние зрения, слуха, ре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е мелких и крупных групп мышц, координация движ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е мелкой моторики (напрямую связано с развитием больших полушарий головного мозга и речевой деятельностью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альн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новой социальной позиции школьника имеющего круг важных обязанностей и пра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ожительное отношение ребенка к школе, учителям 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действовать совместно с другими деть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ание учить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ённый уровень развития мышления, речи, внимания, памяти, восприя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ановление связи между явлениями и событиями, возможность логического запоминания, умение воспроизводить образе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азателем интеллектуальной зрелости можно считать и уровень общей осведомлённости ребёнка, его кругозор и эрудиц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лев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и ребенка напряженно трудиться, делая то, что от него требуют учеба, режим школьной жиз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управлять своим поведением, умственной деятель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ственность и самосто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 встречи 1 сентябр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i-main-pic" descr="Картинка 56 из 2121"/>
          <p:cNvPicPr/>
          <p:nvPr/>
        </p:nvPicPr>
        <p:blipFill>
          <a:blip r:embed="rId1"/>
          <a:stretch/>
        </p:blipFill>
        <p:spPr>
          <a:xfrm>
            <a:off x="2268360" y="1916280"/>
            <a:ext cx="410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8:55:38Z</dcterms:created>
  <dc:creator>Admin</dc:creator>
  <dc:description/>
  <dc:language>en-US</dc:language>
  <cp:lastModifiedBy>Admin</cp:lastModifiedBy>
  <dcterms:modified xsi:type="dcterms:W3CDTF">2016-11-18T17:45:50Z</dcterms:modified>
  <cp:revision>2</cp:revision>
  <dc:subject/>
  <dc:title>Готовность ребенка к обучению в школе   (родительское собрание)</dc:title>
</cp:coreProperties>
</file>