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72D-F2F1-4095-ACDA-D85FD2EB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D82-BEF9-446D-8E0D-A6A1BBF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412-F56D-46D9-92DA-9CCCA4DE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BF1-12FE-4C5F-BFB3-74BD2646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F99-A40A-4380-A723-DE3FB896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5779-DA1F-4EFE-98C5-2ED11BC2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0598-3C7C-4811-9CE5-76E63DAC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81F-C91C-4D04-A5E1-E81F349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115-6DC8-43E0-81B1-A2F514C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24B6-9A5A-43E5-8EBD-D4688E0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9870-E52C-480D-9ED2-CB47D9E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FA2-8717-41F7-8B47-0E08573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2C3A-D604-45BE-87BA-6EC3281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2FA3-B38C-46B5-B9CB-76E3BAF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1A6-0DBC-43E5-94A7-9240285B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378-E1AD-4FB0-96C5-54FCCA0F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B20C-8C81-45BF-AECE-516BB0BF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5C3-D44D-4D49-8633-6CD7F0A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3E-1A94-45E5-BE73-6F6FBA9F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646-C73B-4139-95AE-E2DA2B7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292-0AE1-4A4B-99E0-DDBF277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C0A-DD88-47CC-BF71-79ED58A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9F3-B2F7-4E17-A4FF-AF52524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4D-CDBC-4FAB-B858-E61947F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F22-61F0-429F-B7F6-C8D6E312FA7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37D-BF54-4042-AA17-FF3FACF408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14560" y="2133360"/>
            <a:ext cx="71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чь в жизни человек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сную речь –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любо слушать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32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готовила воспитатель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ульжицкая Влад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27280" y="33336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 детский сад № 14р.п. Мух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-на им. Лазо  Хабаровского к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443640" y="1268280"/>
            <a:ext cx="2492280" cy="3284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195640" y="2602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чат гробницы, мумии и кости,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слову жизнь да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ревней тьмы, на мировом погост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чат лишь Письме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т у нас иного достоянь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йте же береч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ь в меру сил, в дни злобы и страдань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 дар бессмертный — реч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733800" y="407664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.А.Бу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2411280" y="4508640"/>
            <a:ext cx="648180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68360" y="400536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тча об Эзоп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Picture 8" descr="740full-aesop"/>
          <p:cNvPicPr/>
          <p:nvPr/>
        </p:nvPicPr>
        <p:blipFill>
          <a:blip r:embed="rId1"/>
          <a:srcRect l="1839" t="0" r="0" b="37886"/>
          <a:stretch/>
        </p:blipFill>
        <p:spPr>
          <a:xfrm>
            <a:off x="2340000" y="26028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6156360" y="981000"/>
            <a:ext cx="25192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зоп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егендарный древнегреческий баснописе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6 в. до н. э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68360" y="144720"/>
            <a:ext cx="6674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роил Ксанф угощение ученикам, послал Эзопа на рынок: «Купи нам всего лучшего, что есть на свете!» Пришли гости — Эзоп подает одни только языки: жареные, вареные, соленые. «Что это значит?» — «А разве язык не самое лучшее на свете? Языком люди договариваются, устанавливают законы, рассуждают о мудрых вещах — ничего нет лучше языка!» — «Ну так на завтра купи нам всего худшего, что есть на свете!» Назавтра Эзоп опять подает одни только языки: «Что это значит?» — «А разве язык не самое худшее на свете? Языком люди обманывают друг друга, начинают споры, раздоры, войну — ничего нет хуже языка!» Рассердился Ксанф, но придраться не мог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40000" y="549360"/>
            <a:ext cx="68040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Звучащий язык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ность говор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Разговор, 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Разновидность ил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ь языка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олковый словарь С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0" y="260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        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Organization Chart 5"/>
          <p:cNvGrpSpPr/>
          <p:nvPr/>
        </p:nvGrpSpPr>
        <p:grpSpPr>
          <a:xfrm>
            <a:off x="3595320" y="849240"/>
            <a:ext cx="4235760" cy="1576800"/>
            <a:chOff x="3595320" y="849240"/>
            <a:chExt cx="4235760" cy="1576800"/>
          </a:xfrm>
        </p:grpSpPr>
        <p:cxnSp>
          <p:nvCxnSpPr>
            <p:cNvPr id="91" name="_s1028"/>
            <p:cNvCxnSpPr>
              <a:stCxn id="92" idx="0"/>
              <a:endCxn id="93" idx="2"/>
            </p:cNvCxnSpPr>
            <p:nvPr/>
          </p:nvCxnSpPr>
          <p:spPr>
            <a:xfrm flipV="1" rot="16200000">
              <a:off x="6148440" y="965880"/>
              <a:ext cx="249480" cy="1121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9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5029200" y="966960"/>
              <a:ext cx="249480" cy="1119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1030"/>
            <p:cNvSpPr/>
            <p:nvPr/>
          </p:nvSpPr>
          <p:spPr>
            <a:xfrm>
              <a:off x="4983120" y="849240"/>
              <a:ext cx="1460160" cy="553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РЕЧ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595320" y="1651680"/>
              <a:ext cx="199584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СТ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(слыши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5834880" y="1651680"/>
              <a:ext cx="199620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ПИСЬМЕН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(види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4"/>
          <p:cNvSpPr/>
          <p:nvPr/>
        </p:nvSpPr>
        <p:spPr>
          <a:xfrm>
            <a:off x="5651640" y="292428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124000" y="3141720"/>
            <a:ext cx="4267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j0297551"/>
          <p:cNvPicPr/>
          <p:nvPr/>
        </p:nvPicPr>
        <p:blipFill>
          <a:blip r:embed="rId1"/>
          <a:stretch/>
        </p:blipFill>
        <p:spPr>
          <a:xfrm>
            <a:off x="2340000" y="2060640"/>
            <a:ext cx="1143000" cy="11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j0240651"/>
          <p:cNvPicPr/>
          <p:nvPr/>
        </p:nvPicPr>
        <p:blipFill>
          <a:blip r:embed="rId2"/>
          <a:stretch/>
        </p:blipFill>
        <p:spPr>
          <a:xfrm>
            <a:off x="2484360" y="4941720"/>
            <a:ext cx="13683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Рисунок38"/>
          <p:cNvPicPr/>
          <p:nvPr/>
        </p:nvPicPr>
        <p:blipFill>
          <a:blip r:embed="rId3"/>
          <a:stretch/>
        </p:blipFill>
        <p:spPr>
          <a:xfrm>
            <a:off x="7308720" y="24210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j0283074"/>
          <p:cNvPicPr/>
          <p:nvPr/>
        </p:nvPicPr>
        <p:blipFill>
          <a:blip r:embed="rId4"/>
          <a:stretch/>
        </p:blipFill>
        <p:spPr>
          <a:xfrm>
            <a:off x="7667640" y="3645000"/>
            <a:ext cx="122400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Рисунок41"/>
          <p:cNvPicPr/>
          <p:nvPr/>
        </p:nvPicPr>
        <p:blipFill>
          <a:blip r:embed="rId5"/>
          <a:stretch/>
        </p:blipFill>
        <p:spPr>
          <a:xfrm>
            <a:off x="7667640" y="5229360"/>
            <a:ext cx="1235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68360" y="121320"/>
            <a:ext cx="640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инкве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методика: создание стихотворение по определенному алгорит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тема синквей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прилага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глаго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сравнения,  или кратко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высказывание  (3-4 сл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ноним первой стро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тем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195640" y="475200"/>
            <a:ext cx="69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ая, умная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умывает, обманывает, пуг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ица-сестрица - хитрая деви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манщиц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268360" y="257760"/>
            <a:ext cx="640908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инкве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прилага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глаго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сравнения,  или кратко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высказывание  (3-4 сл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ноним первой стро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тем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050920" y="272160"/>
            <a:ext cx="6804000" cy="6270840"/>
          </a:xfrm>
          <a:prstGeom prst="rect">
            <a:avLst/>
          </a:prstGeom>
          <a:solidFill>
            <a:srgbClr val="fdf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йное сито нашей речи                 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ча о жизни и ее исправлении 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Один человек пришел к своему Наставнику и спрос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Знаешь ли ты, что сказал сегодня о тебе твой друг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Подожди, — остановил его Учитель, — просей сначала все, что ты собираешься сказать через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 си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Три сит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Прежде, чем что-нибудь говорить, нужно трижды просеять это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-первых, просеять через сито правд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ы уверен, что все, что ты хочешь сказать мне, есть правд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Да нет, я просто слышал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чень хорошо. Значит, ты не знаешь, правда, это или н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просеем это через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е сито — сито доброт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ы хочешь сказать о моем друге что-то хорошее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ет, напротив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Значит, продолжал Учитель, — ты собираешься сказать о нем что-то плохое, но при этом даже не уверен, что это прав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буе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ье сито — сито польз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к ли уж необходимо услышать мне то, что ты хочешь рассказ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ет, в этом нет никакой необходимости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Итак, заключил Наставник, - в том, что ты хочешь сказать мне нет ни правды, ни доброты, ни необходим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чем тогда говорить это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1:40:57Z</dcterms:created>
  <dc:creator>мама,папа, витя, надя</dc:creator>
  <dc:description/>
  <cp:keywords/>
  <dc:language>en-US</dc:language>
  <cp:lastModifiedBy>Мама</cp:lastModifiedBy>
  <dcterms:modified xsi:type="dcterms:W3CDTF">2016-11-26T12:29:57Z</dcterms:modified>
  <cp:revision>6</cp:revision>
  <dc:subject/>
  <dc:title>Красную речь – любо слушать.                                                                        Послов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51049</vt:lpwstr>
  </property>
</Properties>
</file>