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gif" ContentType="image/gi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519-5BC0-4C81-B029-1C8E231E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887-B08D-4269-880B-8F62442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1C9-C574-4B0C-9096-A5BAC1F9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7F2-B0B8-4ADC-B9A5-D6CAEA4B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883E-501A-458E-9E29-61D5BD43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31A6-2504-4742-8007-4F1EB01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4E9B-267B-4703-882B-03EFDD12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539E-354A-4E8C-AAB9-48F7754A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AEAF-C22D-4AB3-ACCE-A2ED834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5C2-EB0E-4518-AA7D-660805C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CD33-17DC-4885-8007-2CF3AA3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78A-0D4B-48BC-83EF-88E145A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98D1-4E5F-44CA-80E4-9D8C80A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DACA-5396-4EAC-9612-4B83B47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C6D8-D1C1-4603-99E1-5071AADE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25DB-E0F8-4325-A4C4-A2D03465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A209-4246-4834-8D4B-4C8C4F67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683-6E69-49F7-817E-8597FC67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827-A27E-4296-ACB6-51E5F688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5DB-FE9B-40D4-B211-9AF9922F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920-A367-41B3-AFF4-E1A2316B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B24-A4F4-43EE-880A-9FE09D3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7DC-E109-462C-BC77-587F90A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1C7-EC5E-4381-A0C9-B8FFA2E3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41C8-C5CC-4BE8-A2DD-33156BE8E7A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9146-89A0-4B1A-9974-2B1C628781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14560" y="2133360"/>
            <a:ext cx="712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чь в жизни человек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сную речь –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любо слушать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32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готовила воспитатель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ульжицкая Влад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27280" y="33336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  детский сад № 14р.п. Мух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-на им. Лазо  Хабаровского кр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443640" y="1268280"/>
            <a:ext cx="2492280" cy="3284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195640" y="26028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чат гробницы, мумии и кости,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слову жизнь да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ревней тьмы, на мировом погост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чат лишь Письме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т у нас иного достоянь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йте же береч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ь в меру сил, в дни злобы и страдань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 дар бессмертный — реч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733800" y="407664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.А.Бу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2411280" y="4508640"/>
            <a:ext cx="648180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68360" y="400536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тча об Эзоп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Picture 8" descr="740full-aesop"/>
          <p:cNvPicPr/>
          <p:nvPr/>
        </p:nvPicPr>
        <p:blipFill>
          <a:blip r:embed="rId1"/>
          <a:srcRect l="1839" t="0" r="0" b="37886"/>
          <a:stretch/>
        </p:blipFill>
        <p:spPr>
          <a:xfrm>
            <a:off x="2340000" y="260280"/>
            <a:ext cx="3816360" cy="3284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6156360" y="981000"/>
            <a:ext cx="25192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Эзоп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егендарный древнегреческий баснописе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6 в. до н. э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268360" y="144720"/>
            <a:ext cx="6674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роил Ксанф угощение ученикам, послал Эзопа на рынок: «Купи нам всего лучшего, что есть на свете!» Пришли гости — Эзоп подает одни только языки: жареные, вареные, соленые. «Что это значит?» — «А разве язык не самое лучшее на свете? Языком люди договариваются, устанавливают законы, рассуждают о мудрых вещах — ничего нет лучше языка!» — «Ну так на завтра купи нам всего худшего, что есть на свете!» Назавтра Эзоп опять подает одни только языки: «Что это значит?» — «А разве язык не самое худшее на свете? Языком люди обманывают друг друга, начинают споры, раздоры, войну — ничего нет хуже языка!» Рассердился Ксанф, но придраться не мог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40000" y="549360"/>
            <a:ext cx="68040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Звучащий язык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ность говор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Разговор, бе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Разновидность ил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ь языка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олковый словарь С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0" y="260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        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Organization Chart 5"/>
          <p:cNvGrpSpPr/>
          <p:nvPr/>
        </p:nvGrpSpPr>
        <p:grpSpPr>
          <a:xfrm>
            <a:off x="3595320" y="849240"/>
            <a:ext cx="4235760" cy="1576800"/>
            <a:chOff x="3595320" y="849240"/>
            <a:chExt cx="4235760" cy="1576800"/>
          </a:xfrm>
        </p:grpSpPr>
        <p:cxnSp>
          <p:nvCxnSpPr>
            <p:cNvPr id="91" name="_s1028"/>
            <p:cNvCxnSpPr>
              <a:stCxn id="92" idx="0"/>
              <a:endCxn id="93" idx="2"/>
            </p:cNvCxnSpPr>
            <p:nvPr/>
          </p:nvCxnSpPr>
          <p:spPr>
            <a:xfrm flipV="1" rot="16200000">
              <a:off x="6148440" y="965880"/>
              <a:ext cx="249480" cy="1121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9"/>
            <p:cNvCxnSpPr>
              <a:stCxn id="95" idx="0"/>
              <a:endCxn id="93" idx="2"/>
            </p:cNvCxnSpPr>
            <p:nvPr/>
          </p:nvCxnSpPr>
          <p:spPr>
            <a:xfrm flipH="1" flipV="1" rot="5400000">
              <a:off x="5029200" y="966960"/>
              <a:ext cx="249480" cy="1119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1030"/>
            <p:cNvSpPr/>
            <p:nvPr/>
          </p:nvSpPr>
          <p:spPr>
            <a:xfrm>
              <a:off x="4983120" y="849240"/>
              <a:ext cx="1460160" cy="553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РЕЧ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595320" y="1651680"/>
              <a:ext cx="1995840" cy="77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СТ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(слыши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1032"/>
            <p:cNvSpPr/>
            <p:nvPr/>
          </p:nvSpPr>
          <p:spPr>
            <a:xfrm>
              <a:off x="5834880" y="1651680"/>
              <a:ext cx="1996200" cy="77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ПИСЬМЕН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(видим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4"/>
          <p:cNvSpPr/>
          <p:nvPr/>
        </p:nvSpPr>
        <p:spPr>
          <a:xfrm>
            <a:off x="5651640" y="2924280"/>
            <a:ext cx="4343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124000" y="3141720"/>
            <a:ext cx="4267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9" descr="j0297551"/>
          <p:cNvPicPr/>
          <p:nvPr/>
        </p:nvPicPr>
        <p:blipFill>
          <a:blip r:embed="rId1"/>
          <a:stretch/>
        </p:blipFill>
        <p:spPr>
          <a:xfrm>
            <a:off x="2340000" y="2060640"/>
            <a:ext cx="1143000" cy="11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j0240651"/>
          <p:cNvPicPr/>
          <p:nvPr/>
        </p:nvPicPr>
        <p:blipFill>
          <a:blip r:embed="rId2"/>
          <a:stretch/>
        </p:blipFill>
        <p:spPr>
          <a:xfrm>
            <a:off x="2484360" y="4941720"/>
            <a:ext cx="1368360" cy="109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Рисунок38"/>
          <p:cNvPicPr/>
          <p:nvPr/>
        </p:nvPicPr>
        <p:blipFill>
          <a:blip r:embed="rId3"/>
          <a:stretch/>
        </p:blipFill>
        <p:spPr>
          <a:xfrm>
            <a:off x="7308720" y="24210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j0283074"/>
          <p:cNvPicPr/>
          <p:nvPr/>
        </p:nvPicPr>
        <p:blipFill>
          <a:blip r:embed="rId4"/>
          <a:stretch/>
        </p:blipFill>
        <p:spPr>
          <a:xfrm>
            <a:off x="7667640" y="3645000"/>
            <a:ext cx="1224000" cy="114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Рисунок41"/>
          <p:cNvPicPr/>
          <p:nvPr/>
        </p:nvPicPr>
        <p:blipFill>
          <a:blip r:embed="rId5"/>
          <a:stretch/>
        </p:blipFill>
        <p:spPr>
          <a:xfrm>
            <a:off x="7667640" y="5229360"/>
            <a:ext cx="1235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268360" y="121320"/>
            <a:ext cx="6409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инквей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методика: создание стихотворение по определенному алгоритм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 тема синквей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прилагатель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глагол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сравнения,  или кратко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высказывание  (3-4 сл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иноним первой строки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тем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195640" y="475200"/>
            <a:ext cx="69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трая, умная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умывает, обманывает, пуг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ица-сестрица - хитрая деви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манщиц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268360" y="257760"/>
            <a:ext cx="640908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инквей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прилагатель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глагол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тем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 сравнения,  или кратко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высказывание  (3-4 сл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иноним первой строки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тем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050920" y="272160"/>
            <a:ext cx="6804000" cy="6270840"/>
          </a:xfrm>
          <a:prstGeom prst="rect">
            <a:avLst/>
          </a:prstGeom>
          <a:solidFill>
            <a:srgbClr val="fdf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йное сито нашей речи                 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ча о жизни и ее исправлении 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 Один человек пришел к своему Наставнику и спроси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Знаешь ли ты, что сказал сегодня о тебе твой друг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Подожди, — остановил его Учитель, — просей сначала все, что ты собираешься сказать через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 си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Три сита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Прежде, чем что-нибудь говорить, нужно трижды просеять это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-первых, просеять через сито правд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ы уверен, что все, что ты хочешь сказать мне, есть правда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Да нет, я просто слышал…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Очень хорошо. Значит, ты не знаешь, правда, это или н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просеем это через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ое сито — сито доброт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ы хочешь сказать о моем друге что-то хорошее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ет, напротив…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Значит, продолжал Учитель, — ты собираешься сказать о нем что-то плохое, но при этом даже не уверен, что это прав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буе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ье сито — сито польз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к ли уж необходимо услышать мне то, что ты хочешь рассказать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ет, в этом нет никакой необходимости…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Итак, заключил Наставник, - в том, что ты хочешь сказать мне нет ни правды, ни доброты, ни необходимо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чем тогда говорить это?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1:40:57Z</dcterms:created>
  <dc:creator>мама,папа, витя, надя</dc:creator>
  <dc:description/>
  <cp:keywords/>
  <dc:language>en-US</dc:language>
  <cp:lastModifiedBy>Мама</cp:lastModifiedBy>
  <dcterms:modified xsi:type="dcterms:W3CDTF">2016-11-26T12:29:57Z</dcterms:modified>
  <cp:revision>6</cp:revision>
  <dc:subject/>
  <dc:title>Красную речь – любо слушать.                                                                        Послов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51049</vt:lpwstr>
  </property>
</Properties>
</file>