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565-87EA-4391-9D39-0385F579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DB7-9572-4030-B432-32E3B5A1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067-0020-4F86-B84D-D5B7F0DD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95A-14CB-42B4-A511-A551AF78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EB0-CCD7-4486-81CC-1CC950EE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270-FF67-4C60-A8D0-663563E4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E99-0FD2-47D5-AF04-C204035E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0F9-E111-4E54-B861-9CF3B2B4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F79-4C3F-4B94-BF73-58EEBDD2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109-FFAF-4E75-A61D-E17F1DD9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1B9-721E-4434-A8B6-53FFAC7D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8A50-90CA-4860-A2A0-D456CD06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97CF-CB3C-478A-BB54-D1D664AED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то, кто в теремочке живёт?</a:t>
            </a:r>
            <a:br>
              <a:rPr sz="4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мотивам русской народной сказки «Теремок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втор: Пашкова Юлия Валерьев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КДОУ ЦРР -  №18 г. Россошь 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9185"/>
          <a:stretch/>
        </p:blipFill>
        <p:spPr>
          <a:xfrm>
            <a:off x="1600200" y="152280"/>
            <a:ext cx="6208560" cy="6477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017"/>
          <a:stretch/>
        </p:blipFill>
        <p:spPr>
          <a:xfrm>
            <a:off x="2133720" y="0"/>
            <a:ext cx="55814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86"/>
          <a:stretch/>
        </p:blipFill>
        <p:spPr>
          <a:xfrm>
            <a:off x="2190600" y="0"/>
            <a:ext cx="5276880" cy="6705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754"/>
          <a:stretch/>
        </p:blipFill>
        <p:spPr>
          <a:xfrm>
            <a:off x="205740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183"/>
          <a:stretch/>
        </p:blipFill>
        <p:spPr>
          <a:xfrm>
            <a:off x="2209680" y="0"/>
            <a:ext cx="5334120" cy="670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8746"/>
          <a:stretch/>
        </p:blipFill>
        <p:spPr>
          <a:xfrm>
            <a:off x="1143000" y="380880"/>
            <a:ext cx="7467480" cy="608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03"/>
          <a:stretch/>
        </p:blipFill>
        <p:spPr>
          <a:xfrm>
            <a:off x="914400" y="457200"/>
            <a:ext cx="73915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9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6-13T17:55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