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5DE-C0E8-4992-9974-76D1A6F6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77F-B7D3-41A8-AB9F-824E2C2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3C9-6C14-42D4-9DC3-ED277A59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B41-3D45-4947-8CB9-9D4E67DB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0D6-6266-481B-9E5E-F05F092D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C39-C6F8-4CCE-9F6A-7FF48047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7D5-F132-4E16-995B-54B54166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CC0-6B2D-4A9E-9D63-716D44A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C56-BF0D-4257-9DAF-FEC5E42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F96-0D5B-40C3-B625-3ACE341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489-F856-45FF-AE54-B11D651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B31-C09A-4ADE-BE9C-991DFBC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674-7BA6-44B4-A87B-4ABB5900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br>
              <a:rPr sz="4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отивам русской народной сказки «Теремок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р: Пашкова Юлия Валерьев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КДОУ ЦРР -  №18 г. Россошь 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85"/>
          <a:stretch/>
        </p:blipFill>
        <p:spPr>
          <a:xfrm>
            <a:off x="1600200" y="152280"/>
            <a:ext cx="6208560" cy="647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017"/>
          <a:stretch/>
        </p:blipFill>
        <p:spPr>
          <a:xfrm>
            <a:off x="213372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2190600" y="0"/>
            <a:ext cx="5276880" cy="670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754"/>
          <a:stretch/>
        </p:blipFill>
        <p:spPr>
          <a:xfrm>
            <a:off x="205740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183"/>
          <a:stretch/>
        </p:blipFill>
        <p:spPr>
          <a:xfrm>
            <a:off x="2209680" y="0"/>
            <a:ext cx="5334120" cy="670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746"/>
          <a:stretch/>
        </p:blipFill>
        <p:spPr>
          <a:xfrm>
            <a:off x="1143000" y="380880"/>
            <a:ext cx="7467480" cy="608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03"/>
          <a:stretch/>
        </p:blipFill>
        <p:spPr>
          <a:xfrm>
            <a:off x="914400" y="457200"/>
            <a:ext cx="73915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6-13T17:55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