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A8F-6E59-4DF4-83A8-61CB3D38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A2D-0E8F-4B4B-BDCF-46F8A2D2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014-78F0-4BD8-AA52-9A80123C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6C6-5219-4F31-B384-5DD96BDF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876-B6F3-4637-857B-BEDD295B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73A-52BD-4166-BBEC-018ECA7C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B3C-9611-4B68-B0F6-813380D0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B50-F88E-4233-A78F-F352904A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8B6-8883-48A7-8281-813D959A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262-0C45-4DA5-8256-4705A7C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C91-47B2-430A-8A30-00E7D092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DD8-8E0D-4DED-8A13-EF696F99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C15E-1A47-453E-AE90-A7225636F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то, кто в теремочке живёт?</a:t>
            </a:r>
            <a:br>
              <a:rPr sz="4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мотивам русской народной сказки «Теремок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втор: Пашкова Юлия Валерьев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КДОУ ЦРР -  №18 г. Россошь 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9185"/>
          <a:stretch/>
        </p:blipFill>
        <p:spPr>
          <a:xfrm>
            <a:off x="1600200" y="152280"/>
            <a:ext cx="6208560" cy="6477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017"/>
          <a:stretch/>
        </p:blipFill>
        <p:spPr>
          <a:xfrm>
            <a:off x="2133720" y="0"/>
            <a:ext cx="55814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86"/>
          <a:stretch/>
        </p:blipFill>
        <p:spPr>
          <a:xfrm>
            <a:off x="2190600" y="0"/>
            <a:ext cx="5276880" cy="6705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754"/>
          <a:stretch/>
        </p:blipFill>
        <p:spPr>
          <a:xfrm>
            <a:off x="205740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183"/>
          <a:stretch/>
        </p:blipFill>
        <p:spPr>
          <a:xfrm>
            <a:off x="2209680" y="0"/>
            <a:ext cx="5334120" cy="670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8746"/>
          <a:stretch/>
        </p:blipFill>
        <p:spPr>
          <a:xfrm>
            <a:off x="1143000" y="380880"/>
            <a:ext cx="7467480" cy="608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03"/>
          <a:stretch/>
        </p:blipFill>
        <p:spPr>
          <a:xfrm>
            <a:off x="914400" y="457200"/>
            <a:ext cx="73915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9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6-13T17:55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