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6AF-BDBC-441D-861A-7C3FE83B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C63-43F8-45CB-8632-D3801A3D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0AC-AA7E-4D7C-9E7A-8EE8D879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A62-44EB-4E0F-B0AC-3A09D4D7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D4B-1EBE-4F40-8ABE-117DB058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4CD-50C1-4B99-87DC-E5ED5EEE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BC4-9D78-479C-A97F-15A77C6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682-6D81-4B79-822E-25C4D8E4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364-E0AC-4F9C-84E8-90ACBBD1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E90-39C6-44C2-821D-A1B1F168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022-5E7B-46F9-9EFD-DF57658A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105-993F-4F83-AABD-532FDFE0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41AF-DC36-47D7-A20C-BF2A4815B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то, кто в теремочке живёт?</a:t>
            </a:r>
            <a:br>
              <a:rPr sz="4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мотивам русской народной сказки «Теремок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втор: Пашкова Юлия Валерьев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КДОУ ЦРР -  №18 г. Россошь </a:t>
            </a: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9185"/>
          <a:stretch/>
        </p:blipFill>
        <p:spPr>
          <a:xfrm>
            <a:off x="1600200" y="152280"/>
            <a:ext cx="6208560" cy="6477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017"/>
          <a:stretch/>
        </p:blipFill>
        <p:spPr>
          <a:xfrm>
            <a:off x="2133720" y="0"/>
            <a:ext cx="55814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86"/>
          <a:stretch/>
        </p:blipFill>
        <p:spPr>
          <a:xfrm>
            <a:off x="2190600" y="0"/>
            <a:ext cx="5276880" cy="6705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754"/>
          <a:stretch/>
        </p:blipFill>
        <p:spPr>
          <a:xfrm>
            <a:off x="205740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183"/>
          <a:stretch/>
        </p:blipFill>
        <p:spPr>
          <a:xfrm>
            <a:off x="2209680" y="0"/>
            <a:ext cx="5334120" cy="670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8746"/>
          <a:stretch/>
        </p:blipFill>
        <p:spPr>
          <a:xfrm>
            <a:off x="1143000" y="380880"/>
            <a:ext cx="7467480" cy="608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03"/>
          <a:stretch/>
        </p:blipFill>
        <p:spPr>
          <a:xfrm>
            <a:off x="914400" y="457200"/>
            <a:ext cx="73915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9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6-13T17:55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