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A0D-6C9C-4269-B597-E2F26E7B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745-9115-4C42-9DE7-1EAB506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A11B0-5D75-46F7-95CE-31CCAD5C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90E97-5020-4FE6-99DF-FBE8D6D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3CC28-E9F8-44EC-AADA-6EAA609E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CD749-A6C4-480A-AE7D-0107365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32CAB-B17E-4BBC-A291-8CAB04E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DF0CE-B826-4E4B-AAB5-2C5F71FC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F391C-5A4F-42C1-B697-6AEC9120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4C6AD-6B3A-4033-BB8E-747485B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A4B0-3299-417B-8180-A9B76E91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0F794-BC9F-470D-AC86-EC9D2056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513-FDF1-4147-BAD0-D0CF5581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C5FE-5A76-42BE-8901-68261EB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F4F68-A831-40CF-821B-F8DD153E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93CCA-8978-4017-A961-0148CC8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FDC82-0791-463C-9F76-D6FC0EEF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B37A4-4AF6-4879-98E5-08584E2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5CF76-E5F3-4F0B-8A3D-55EFDB9E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D4405-DA53-4D67-9080-9CE4F20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E28F1-8B63-44F9-A50D-C9E70CD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95F93-D76E-4A46-9E45-290735A2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92715-17BC-4615-8FA8-DF1B3AB4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34B-6355-46A6-8CC8-08E854D1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20184-33A2-4D33-9960-2C090525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BBAC-6E96-4AD6-9D0D-B49C0374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F7948-01B9-4637-B753-20268D52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20CEE-C7ED-4A43-9F41-6515A8A8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0425-0B20-418A-86B5-84681997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6EBBF-2689-40B4-886B-EE007B60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7471-FA20-480F-9F56-BA3ACB7C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EC7FB-0316-42DC-A636-DBE7E37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AAFE-639E-48C2-812B-699A2D3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1A5EF-AA7A-430B-BB76-E2A48A3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25DB-32E7-4D36-8791-761CC784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B12B-08D0-42C5-B260-8FB1FDA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551F-69A6-43A3-AF05-9F23D3C3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EFC53-1EE9-46A8-9C87-3DBE2402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90C5A-7976-43F5-999C-7CA8A15B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F1419-A0BF-41DE-A854-E825ED2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76254-AF5D-4B18-808D-8760AA1F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77D35-9863-40A1-9BBA-47A7A36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3086E-4412-4B23-9878-15D6CFE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03F8B-5A7A-40CD-A994-B744B95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595AB-ABDE-4246-8DA5-A94F643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B94-4C15-4C48-9EE3-A59533F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F7B2A-F5F2-453C-B777-51ED2056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27D8D-BB5D-4E6B-95E0-DF91194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554D5-FB68-4E1D-936A-8E8ACC0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D26F1-60BA-437F-B366-F86EB848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976A7-5471-4D2A-B0A5-D9B7CF70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9694-02EE-40FF-8A76-9E2054A3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AA7D-3AC2-4212-A72F-4C43011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8931-91FD-43E8-BACD-E75503B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A69F-D4A6-488E-87C7-7AAA2D69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3CC8-3F8E-42BD-848E-CEB1F19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1A7-9060-4DE6-AA9C-1E81846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A1F0-8FAA-4B93-B7E0-C77FB6B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7667-8ACB-412E-8188-CA79F4B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507-2861-4746-AA04-974BDC8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5C85-286C-4351-88CD-E2C067D1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DDDE-287B-45E6-BCA0-9F6D5486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CA25-69EB-48E0-8D35-E03CE270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A5CD-6EED-46FD-97BF-3998307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BB42-E577-4732-ACAC-7BDDCFC4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C0CB-8067-43B6-8DB1-38D851D0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160D-F4D9-4F98-8CD3-C8CE8E0A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3FF-D995-4C39-8832-8A2A49E4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2C5E-1A96-491D-826E-C81A93FA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2121-E61C-4D73-B15B-7326847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CA54-AA4B-47E7-AA3E-DD46174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31DA-0510-43E5-8F98-B115FC7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982D-C2E2-4827-B056-39218CD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FB5A-F8E0-469C-BFBC-E4B19FEE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0FCE-B2F9-4320-9D8A-01195826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1493-E334-4A0A-899A-C94233A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F762-CB67-4F59-B1B7-6A45120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C5DA-AB2E-4B22-8B65-144E04F6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E29-9636-472E-8BAD-26EEECB6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9E22-8C21-4FC9-BF05-1D2FE3C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CF40-0B0F-4B95-815D-E86E3DB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834F-9609-4513-9FEC-959E4A6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3AD9-B177-477D-A265-151CDF6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16B8-87DB-4870-A01B-FFF2CBE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A610-C3A1-47EB-A9F5-DAF952D9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71DF-331F-4738-A20D-BC7372E9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4074-7F7C-4F4C-A8AD-BB49206D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B387-9615-4784-BE16-46FC21E6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4F6C0-AEEE-458A-8708-F4BC8108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81B-BD2E-404A-A7EB-42517983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876F-E59C-4506-9D60-7A1E2BD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5391-0CE8-465E-A3AA-388BBB65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47E1-A58D-4FAA-A95D-3877AA45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2111-8A9B-4038-B9E7-E232CB47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8473-3C4F-4BA5-A94D-51630F9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EB62-ABB4-4007-A1FD-24D5E56C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EE6DA-23B5-4359-A5F4-873994EC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20DAD-FECF-4997-9AFE-3FA152B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A5BF-D29F-49B2-B251-AD02E36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B4A4-0D61-4107-A3A8-EB1A1537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AA5-845D-440F-A417-10755C6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5B1A-F6CA-4760-96AD-6D781C5E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C08AA-6784-4644-8F41-AFD1FC9B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19C8-EBE3-4F91-8019-9E3933DE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C16AC-43AB-40FA-8413-0C843370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8D1E-8927-4E31-8DD6-A5848473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AAC3-4E95-4EAA-85F5-1666AB7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25CD-2D8D-4305-AA6C-4C8B8E7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1025-0C9D-4624-A4F2-4D19D64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91BF-7AE3-4888-ACDB-C83A43CE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D687D-B115-4965-B757-B9F6A99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F82-3BA0-4B05-A5E9-F1724F1F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A298-B5AB-4837-A233-52EDCDB6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7E6E4-E3EF-49F2-BFEB-18511B8F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2AEA-8DFA-4671-86FD-BD5ECAC0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66D0-EE0E-447D-A600-E48D858C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27AC-36C5-46B6-BDCB-4E93582B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F21AA-A9F9-49C2-8838-68691A6D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982E-9CE2-46F4-8868-F04DA597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14ED-1CDD-47ED-9DE9-6AC07E92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61B4-4C2C-4DE7-B591-F066F23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CD0F-F3D2-42F5-A923-E20EFD5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3FC-87D9-47C9-BC0C-9710E91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12F0F-C808-4123-A71C-C03E2CC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A267-E937-434B-90A8-D89EBFA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C857-E04A-4A7F-B4C7-E7D2A0E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967F-07C9-492B-8FC1-8B85EB2E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08BB8-7998-47F7-BBA6-B55A81E3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84513-F75D-4FD4-94D4-A8D6EDDA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E6B83-1339-424E-B58D-FCD51FD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3C9E5-3CE6-426F-8D53-AE1E95A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2D81D-B3AE-4197-80C4-3BF344B3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7138-25D2-40D3-B98A-FACD7004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E13-A2ED-4E63-A57C-5F4A4419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3014F-749A-41FB-A757-5514A2EA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8C21E-5CA3-47C1-A4D4-1C2AF77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4964C-1674-48E4-A014-C45CE64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CDFF9-EAF7-472B-B667-9CEE79D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6237-F6E4-431F-82F1-E7DA87C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06BB-B38B-419B-9764-27B9DCCF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4E3CC-2471-4388-8D2E-7DFBBEC6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2F402-DA5B-4295-8A6F-3C9CBED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E94B6-8245-47A8-8137-AB41F3D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9EAF2-88DD-430B-9DF8-35929EAB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C49C-B061-4109-AEE4-483C91E3D109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9CA0-F97B-4F0C-A8CD-85C2B084738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05C-77C5-4677-8B82-E2FA3CEC48DA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9A82-99BD-4768-AEAA-C8876B62D54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23A-0007-4B2E-8738-AE7871DD5E2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81F-DCE9-4A4C-9EA7-88240845CBD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AB46-8986-459D-936B-ED52D7CD602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2C2-095F-4A34-B96D-6413481E452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41D6-FFAF-4791-946A-B3489C9EA19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8D5C-93D5-47FF-9754-6A765C40BB0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3880" y="857160"/>
            <a:ext cx="7961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Обучающие технологии в        изучении курса ОРКС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42560" y="3500280"/>
            <a:ext cx="676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муниципальное автоном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средняя общеобразовательная школа № 9 г. Холм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е элементы мастерск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Индукция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о и проблемный вопрос, требующий открытия новых знаний, это и создание эмоционального настроя. Индуктор – слово, образ, фраза, предмет, звук, мелодия, текст, рисунок и т.д. – все, что может разбудить чувство, вызвать поток ассоциаций, воспоминаний, ощущ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амоконструкция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индивидуальное создание гипотезы, решения, текста, рисунка,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оконструкция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групповая работа. Мастер может корректировать состав групп, разбивает задание на ряд частичных задач. Группам предстоит продумать способ их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оциализация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это сравнение своего проекта с другими в ходе общения, дискуссии, обсуждения. Все, что сделано в паре, индивидуально, в группе, должно быть обнародовано, все мнения должны быть услыш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Разрыв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внутреннее осознание участником мастерской неполноты или несоответствия своих старых знаний нов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Рефлексия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ражение чувств, ощущений, возникших у участников в ходе мастер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Нравственный поступ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Содержимое 3" descr="http://ped-kopilka.ru/images/2(106).jpg"/>
          <p:cNvPicPr/>
          <p:nvPr/>
        </p:nvPicPr>
        <p:blipFill>
          <a:blip r:embed="rId1"/>
          <a:stretch/>
        </p:blipFill>
        <p:spPr>
          <a:xfrm>
            <a:off x="5072040" y="1481040"/>
            <a:ext cx="3608280" cy="45547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2"/>
          <p:cNvSpPr/>
          <p:nvPr/>
        </p:nvSpPr>
        <p:spPr>
          <a:xfrm>
            <a:off x="395280" y="135288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иллюстрацию. Включите свое воображение и опишите словами изображенную здесь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8360" y="48016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теперь послушайте рассказ Валентины Осеевой. Расскажите о своих впечатле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ака яростно лаяла, припадая на передние лапы. Прямо перед ней, прижавшись к забору, сидел маленький взъерошенный котёнок. Он широко раскрывал рот и жалобно мяукал. Неподалёку стояли два мальчика и ждали, что буд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окно выглянула женщина и поспешно выбежала на крыльцо. Она отогнала собаку и сердито крикнула мальчик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Как вам не стыд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А что стыдно? Мы ничего не делали! - удивились мальч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Вот это и плохо! - гневно ответила женщ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бы вы оценили поступок мальчиков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знаете, что лежит в основе каждого нашего поступка? А хотите узн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Шесть шляп мышлени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Содержимое 5" descr="Схема"/>
          <p:cNvPicPr/>
          <p:nvPr/>
        </p:nvPicPr>
        <p:blipFill>
          <a:blip r:embed="rId1"/>
          <a:stretch/>
        </p:blipFill>
        <p:spPr>
          <a:xfrm>
            <a:off x="1187280" y="1052640"/>
            <a:ext cx="69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сание прие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ла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мыслим фактами, цифрами. Без эмоций, без субъективных оценок. Только факты!!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тая шляпа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тивное мышление. Необходимо выделить в рассматриваемом явлении позитивные стороны и (!!!) аргументировать, почему они являются позитив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ая шляпа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положность желтой шляпе. Нужно определить, что было трудно, неясно, проблематично, негативно, вхолостую и – объяснить, почему так произошл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а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моциональная шляпа. Нужно связать изменения собственного эмоционального состояния с теми или иными моментами рассматриваемого яв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лена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творческое мышление. Задайтесь вопросами: «Как можно было бы применить тот или иной факт, метод и т.д. в новой ситуации?», «Что можно было бы сделать иначе, почему и как именно?», «Как можно было бы усовершенствовать тот или иной аспект?»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я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философская, обобщающая шляпа. Те, кто мыслит в «синем» русле, старается обобщить высказывания других «шляп», сделать общие выводы, найти обобщающие параллели и т. 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Совест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ая шля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сове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тая шля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го человека можно назвать совестлив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рная шля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ожете ли вы объяснить пословицу «Совесть без зубов грызет», опираясь на материал учебн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ная шля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ходилось ли вам испытывать муки сове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леная шля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должна была поступить героиня рассказа Аркадия Гайдара, чтобы ее сердце «не грызла беспощадная совесть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яя шля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чего совесть нужна людя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на Карнаухова не приготовила урока по алгебре и решила не идти в школ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, чтобы знакомые случайно не увидели, как она во время рабочего дня болтается с книгами по городу, Нина украдкой прошла в рощ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ив пакет с завтраком и связку книг под куст, она побежала догонять красивую бабочку и наткнулась на малыша, который смотрел на нее добрыми, доверчивыми глаз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ак как в руке он сжимал букварь с заложенной в него тетрадкой, то Нина смекнула, в чем дело, и решила над ним подшу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частный прогульщик! — строго сказала она. — И это с таких юных лет ты уже обманываешь родителей и школ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! — удивленно ответил малыш. — Я просто шел на урок. Но тут в лесу ходит большая собака. Она залаяла, и я заблуд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на нахмурилась. Но этот малыш был такой смешной и добродушный, что ей пришлось взять его за руку и повести через рощ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связка Нининых книг и завтрак так и остались лежать под кустом, потому что поднять их перед малышом теперь было бы стыд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шмыгнула из-за ветвей собака, книг не тронула, а завтрак съ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лась Нина, села и заплакала. Нет! Не жалко ей было украденного завтрака. Но слишком хорошо пели над ее головой веселые птицы. И очень тяжело было на ее сердце, которое грызла беспощадная сове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гровые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а – один из основных видов деятельности учащихся. Игры в обучении предполагают деятельность, направленную на воссоздание и усвоение социального опыта, в котором складывается и совершенствуется самоуправление по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собствует отработке правил и моделей поведения, школьники приобретают знания об общественных нормах, о социально одобряемых и неодобряемых формах поведения в обще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моделирование различных социальных ситуаций, цель которых – обучение принятию реш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  «Свобода и моральный выбор чело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расскажу вам удивительную историю… Притча «У одного крестьянина был сын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 «Дружб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нтастическая добавка. Представьте, что вы оказались на чужой планете, где жители не знают, что такое дружба. Как вы им это объясн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«Свобода и моральный выб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красьте слов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лес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юбой цвет. Почему вы выбрали именно этот цвет? Кто-нибудь вас заставил это сделать?  Так как вы считаете, о чем мы будем говорить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« Культура и мора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кодекса мор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аедине с великими» (работа с рубрикой «Мудрые мысли») . Представьте, что вы встретились с … О чем бы вы его спросил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формационно-коммуникационные техн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ть ИКТ можно на любых этапах урока: актуализация знаний, открытие учащимися новых знаний, закрепление, самостоятельная работа, выполнение домашнего за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Схема 3" descr=""/>
          <p:cNvPicPr/>
          <p:nvPr/>
        </p:nvPicPr>
        <p:blipFill>
          <a:blip r:embed="rId1"/>
          <a:stretch/>
        </p:blipFill>
        <p:spPr>
          <a:xfrm>
            <a:off x="963720" y="2133720"/>
            <a:ext cx="7284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ый учебный  процесс включает в себя множество  методов и технологий  обучения, направленных на развитие познавательного интереса, мотивации к учению, которые  активизируют  деятельность учащихся, заставляют их анализировать, мысл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честве инструментов освоения курса ОРКСЭ в урочной и внеурочной деятельности могут быть использованы как традиционные, так и современные обучающие техн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5183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Что главное в уроке? У каждого учителя есть свой ответ на этот вопрос. И требования современной школы диктуют свои правила. Но мы не должны в погоне за новыми формами, методами, технологиями забывать о личности ученика, о том, что наша главная задача – воспитать настоящего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642960" y="3500280"/>
            <a:ext cx="7929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шаблона – Коровина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рис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123rf.com/photo_7256532_cartoon-wise-owl-sitting-on-pile-book-and-red-app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icturedesign.info/photoshop/page/14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clipartof.com/small/32979-Clipart-Illustration-Of-A-Little-Boy-And-Girl-Studying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-A-Green-Colored-Pencil-Watch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980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4f5e3c"/>
                </a:solidFill>
                <a:latin typeface="Calibri"/>
              </a:rPr>
              <a:t>Проектные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В основе проектных технологий лежит активная познавательная деятельность учащихся, способствующая развитию коммуникативных компетенций, исследовательских и творческих способностей, умения ориентироваться в информационном пространстве, интегрировать и обобщать информацию из различных источн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личительные черты данной технологи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еполагание, которое предполагает исследование проблемы и разработку конкретного проду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или теоретическая значимость предполагаем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самостоятельную деятельность (индивидуальная, парная, групповая)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учителя и ученика, а также учащихся друг с другом (групповой проект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работать в индивидуальном тем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жизненно важных компетен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иды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ие – напоминающие научное исследование. Они предполагают выбор темы, связанной с решением творческой, исследовательской проблемы с характерными для любой научной работы методами исследования (определение задач исследования, выдвижение гипотезы, ее последующая провер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адные – нацеленные на получение конкретного результата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ционные – нацеленные на сбор и анализ информации о каком-либо явлении или объекте для представления класс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левые и игровые - направленные на реконструкцию или моделирование социальных или деловых ситу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деятельность 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Элементы исследования вводятся на уроке непосредственно. При достаточной подготовке учащихся иногда целый урок проводится в форме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в данном случае выступает как совместный поиск учителя и уче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ченическое исследование как индивидуальная или групповая работа имеет место вне уроков при подготовке к семинарам, конферен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Исследования различного характера проводятся школьниками в ходе различных акций, конкурсов, олимпиад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активные техн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интерактив”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шло к нам из английского от сло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ac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”.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“взаимный”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действовать. Интерактивный - значит способный взаимодействовать или находящийся в режиме беседы, диалога с чем-либо (например, компьютером) или кем-либо (человеком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обучение – это специальная форма организации позна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ть интерактивного обучения состоит в такой организации учебного процесса, при которой 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активное обучение одновременно решает несколько задач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ет коммуникативные умения и навыки, помогает установлению эмоциональных контактов между учащими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информационную задачу, поскольку обеспечивает учащихся необходимой информацией, без которой невозможно реализовывать совместную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ет общие учебные умения и навыки (анализ, синтез, постановка целей и пр.), то есть обеспечивает решение обучающ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воспитательную задачу, поскольку приучает работать в команде, прислушиваться к чужому м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ология творческих мастерски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е условие мастерск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бодное самовыражение, внутренняя независимость личности, способность по-новому реагировать на происходящее, создание собственного продукта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е восприятие учащимис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рческое осмысление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оразвитие учени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интереса к процессу обуч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звитие креатив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выше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ровня грамот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навыков аргументированного разговора и письм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оциальной компетен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ngel</cp:lastModifiedBy>
  <dcterms:modified xsi:type="dcterms:W3CDTF">2017-03-16T11:19:15Z</dcterms:modified>
  <cp:revision>16</cp:revision>
  <dc:subject/>
  <dc:title>Слайд 1</dc:title>
</cp:coreProperties>
</file>