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A9E-C449-4B01-BB9A-1FB397D2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0E9-E21F-48FC-BEC8-0738E269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15705-DACD-4D0A-A3F7-B588C05D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F5653-74DC-417B-94CF-8CD7EA65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6370F-F654-4AA7-8B1B-2E7E54BD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C476B-0141-4F49-9C5F-A83D70F8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2E1A0-CEC2-4A14-AB78-CFDFDAF4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672A8-026E-4AF8-AD48-A1FF849D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56D89-02F9-47F6-841F-D3AC9A28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E27EB-1102-4BC7-9957-BED57542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F8B36-B2DE-4004-A986-0B016E2C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DC2EA-25D9-4350-B166-782184A1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D5C-04A9-4810-BC88-08A38084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4F6B5-5620-46B4-AA48-E87B31B9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45C00-45BC-4C6E-9C06-1380A28B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7CBB4-1285-4346-9959-B897593C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9181F-A405-4BFC-A321-527C3CD1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FF549-E1C3-4F2A-872F-BDB63D9F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8F1AB-B6B5-4CF3-8CC0-826F257E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22817-C16C-47E7-8DF2-2FA9876A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8845E-2FAF-4A9B-9BDC-15D788C2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0380F-25C1-4F44-BB59-143339B9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4AC28-A078-45DD-B53D-CD95371C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53E-1241-45A4-A256-1F4D6208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A1EFF-DCFC-4890-A623-01DEA539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3B045-89D6-4F8E-BCBD-FE5FF4A8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1DDF7-E7CA-4A19-A354-A8518865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2DA52-E2C7-45D3-8B06-4C5BDD37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69AA0-82A2-4C50-9277-09034CCD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1514D-8B01-4715-A128-CFCBB650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15DDB-0822-41FC-8826-CD0EB3C8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D3DB6-C043-488D-BEDE-A9EDA48C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E65D7-7329-477E-B369-5D52489D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D3FC5-32D0-4509-ACFF-B7607ACB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497C-1466-4B2C-BB4E-B6B2B2D4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97525-4C5F-4DCA-AE36-A0BFF6F0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7386A-B6FA-4A99-BEA4-D11C9D80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13D37-2302-428D-A38A-504468B6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787B8-7281-4DEA-A1ED-4683CBE1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0891A-6E33-48E7-A0A8-7578B557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B5609-C6B5-4654-B423-BAAE8230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4BD89-CE22-4058-84F8-72EF4308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D261A-4983-4E69-B968-8C9A2504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A0CCA-9A06-4C5F-8B88-45C08774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5D6BB-2341-4DBC-8710-9326296C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BEF5-9BAC-4113-B3DA-57357177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664EA-F8F6-4E3C-813A-C7CA7B4F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287E8-D8B3-4FCC-8DA4-3D239217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F96A3-D90E-4140-8C42-5B20B3AB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B869B-9D90-4D6E-9A02-E0E3788E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D3535-561F-407F-9CEC-D68A79B3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5AFC-E66B-4C58-958D-6124D6F1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7BA9-314A-4E47-B3E1-DCBEE16F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CBE4-E504-45E8-8152-090C4824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B629-C40F-446F-A5CE-C060725D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D133-5B1F-4545-81D1-8EE2727C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6EE-DD4D-4F1A-9E5B-F3C2CE63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1CDB-6FD5-4029-9EC2-EAC0AA0F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BC9F-460E-4F4D-89CA-CE465F07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9191-48B1-498A-8584-AD5ED180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6F1C-915E-4D2A-AFC9-33072D4B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D22B-FBE6-41CE-AE98-43D92FD0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D1CD-8306-4064-920A-28D8C2BB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E8BAC-5840-4243-AF0A-132D958E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61F57-5B7F-4A3C-B366-E72BA19E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DEFED-0371-4296-AD5C-E3E9C761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0904A-94D1-47BC-B5CD-60011A8E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95D8-FAB9-4D88-BDD4-2EB44226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71F87-60CA-4434-981C-EF8DD5A8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350B7-279D-4B8C-96B7-9150EE42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75E6F-B670-48AE-A3D6-F26D993F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8AC5D-449A-41F3-A425-93082F52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CDFBB-DEE1-444D-A136-3328DBCF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15736-0CAA-4170-A6B2-733650B2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E332F-7FBD-4B9A-865C-B362484D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98A34-873E-49AC-9412-EF1A7A75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53FE2-97ED-4BC0-8D05-B0E761B8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15307-5B53-494F-912A-95B5075F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61E4-42BE-496C-B312-197671B8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901DC-58B2-4E58-A5EA-A9CEF788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EBA46-7B2C-4B01-A627-0A67F56D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64C3E-580E-414B-B12C-34F52542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DC5B2-BBD8-4644-86F2-31B79636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49D5B-A744-4A60-AAF3-38863C5D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76F0D-23BA-4858-80D8-9C301DE6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B51D2-D88B-42C2-B6F8-78BA6FDD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B831B-2C33-4B53-9F26-72BB0070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7A38E-C193-45D2-BAB9-864DA9C1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34767-6466-488C-8B8E-CB36912F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3D18-4F43-4B93-9EDA-4543EEB7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4CBEC-70BE-4F66-A320-9D6E5FE9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5E51B-1AC0-4A6F-B2FF-2F4F8311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A2D7B-946F-4A3A-A41A-F81DC65C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F4E9B-EA4A-42A7-A230-3B19524A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ED5E3-448F-42B6-877B-2F2AD6FA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75929-7B2E-49F8-B8E8-15FAC362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C050B-0FE2-494E-AEE5-96AE79C2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D73B4-6014-426B-8566-CD21870D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B3BF7-1669-49C1-A63B-8D463754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EE154-F103-4457-8D21-D4C9921B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B72-B275-4A54-ABC7-78EFC600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47088-230F-4EE1-A979-39BAAC92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0D760-CBB2-4DA4-9EDD-1325059D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96D01-ED2E-4B24-A076-36CFBDC5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74501-FFE8-49BF-B82C-32E2DF20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34A15-A831-44A1-859C-A513D120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0AC50-CCF1-4ADA-BF2D-3E776E01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B58E5-F3C4-4C30-BE0A-BCA9EB92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E67AA-2368-486E-B030-0FCF82BF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DFDAE-E9DE-4986-A750-EF89B1D2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C3233-9E3F-469F-A414-6E772123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89A-7414-4804-A6F3-9A65209A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C35B9-E740-4D1B-86EB-0C54BD35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8FDB5-9CF9-40DE-98D9-9B1F9CB4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22391-31C8-45C5-823A-EC51E960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DCEF4-D921-40C1-95B4-0EAC36D0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344FD-6ED3-4D1D-914C-904B6C23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EBA54-2A3A-441B-9333-8DE38CBA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3BE28-28FF-486D-8B8E-E97DB022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93251-0136-4D24-B167-72D5FBA6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BA49C-3366-4A5B-9E39-B903B67F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345E2-D29B-46F8-BC12-D3538026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D65A-69B7-4229-8965-D1D73035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FDE80-B27A-43E8-A072-2870F06B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B5B85-8CFE-437A-99FD-A6C617B5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36600-1C0A-48CC-874E-6260ABA4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77757-F267-49D0-8A5A-4BC9EF33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9360F-17E1-4B1C-A700-FE1E0B04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CD32D-B57D-46B9-994F-15931C75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DCA78-7A1C-48AB-8264-2DE1FA30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CB4B3-3985-4E52-9C0E-D60C3330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67AC9-AE99-43B7-B324-1E4A3C76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FB220-391E-44EF-9133-24835394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ED7B-955B-4B4C-A4A5-E16B127E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21E08-9E64-4F34-9BDD-30CE156F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DF4B5-C351-4BC4-A528-0949A215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85D4C-2B50-4AC1-A888-9388469B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63B31-52DE-4DC3-A556-76DE00CA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FB9B5-7D61-4A59-BF2D-E56B796E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49E5A-40F6-47B4-A350-EE9C3938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1FD82-BECF-4956-A986-ED973B75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06D1B-2E72-4C92-B6B2-F1EC9FD4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6D14D-060B-45A3-91EC-3D61B552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0E391-0E94-4A10-89BA-7255C9BA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34A5-22B6-4271-8872-3BDD3AA14D95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5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ABFA-6BD7-4065-8711-FB67D3F2D3BC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9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81CA-3FB2-4B55-B2C9-ABA9DD9BA72F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a_e2d893b5.jpg"/>
          <p:cNvPicPr/>
          <p:nvPr/>
        </p:nvPicPr>
        <p:blipFill>
          <a:blip r:embed="rId5"/>
          <a:stretch/>
        </p:blipFill>
        <p:spPr>
          <a:xfrm>
            <a:off x="142920" y="142920"/>
            <a:ext cx="1428840" cy="189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864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B128-4979-4775-A49C-828300DB2837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3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6133-4BC9-4626-8B9A-1088C89E2679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2C26-8534-4F9E-8983-50180FE35A3B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A706-1777-4570-8776-C2563583D626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2261-4DE9-45AB-9B2E-F0D0F4137775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31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9902-CEE4-41A0-9EE2-A2884AD1BED2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36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822B-E71F-49A9-95E2-E3C603FF58DC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Горизонтальный свиток 4"/>
          <p:cNvSpPr/>
          <p:nvPr/>
        </p:nvSpPr>
        <p:spPr>
          <a:xfrm>
            <a:off x="1714680" y="571680"/>
            <a:ext cx="5857560" cy="221436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13880" y="857160"/>
            <a:ext cx="7961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5e3c"/>
                </a:solidFill>
                <a:latin typeface="Calibri"/>
              </a:rPr>
              <a:t>Обучающие технологии в        изучении курса ОРКС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042560" y="3500280"/>
            <a:ext cx="6761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муниципальное автономное обще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средняя общеобразовательная школа № 9 г. Холм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сновные элементы мастерской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Индукция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Это и проблемный вопрос, требующий открытия новых знаний, это и создание эмоционального настроя. Индуктор – слово, образ, фраза, предмет, звук, мелодия, текст, рисунок и т.д. – все, что может разбудить чувство, вызвать поток ассоциаций, воспоминаний, ощущ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Самоконструкция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индивидуальное создание гипотезы, решения, текста, рисунка,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«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циоконструкция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групповая работа. Мастер может корректировать состав групп, разбивает задание на ряд частичных задач. Группам предстоит продумать способ их ре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Социализация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это сравнение своего проекта с другими в ходе общения, дискуссии, обсуждения. Все, что сделано в паре, индивидуально, в группе, должно быть обнародовано, все мнения должны быть услыша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Разрыв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внутреннее осознание участником мастерской неполноты или несоответствия своих старых знаний нов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Рефлексия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ражение чувств, ощущений, возникших у участников в ходе мастерск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ма «Нравственный поступок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Содержимое 3" descr="http://ped-kopilka.ru/images/2(106).jpg"/>
          <p:cNvPicPr/>
          <p:nvPr/>
        </p:nvPicPr>
        <p:blipFill>
          <a:blip r:embed="rId1"/>
          <a:stretch/>
        </p:blipFill>
        <p:spPr>
          <a:xfrm>
            <a:off x="5072040" y="1481040"/>
            <a:ext cx="3608280" cy="45547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2"/>
          <p:cNvSpPr/>
          <p:nvPr/>
        </p:nvSpPr>
        <p:spPr>
          <a:xfrm>
            <a:off x="395280" y="1352880"/>
            <a:ext cx="475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те иллюстрацию. Включите свое воображение и опишите словами изображенную здесь ситу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468360" y="480168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теперь послушайте рассказ Валентины Осеевой. Расскажите о своих впечатления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обака яростно лаяла, припадая на передние лапы. Прямо перед ней, прижавшись к забору, сидел маленький взъерошенный котёнок. Он широко раскрывал рот и жалобно мяукал. Неподалёку стояли два мальчика и ждали, что буд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 окно выглянула женщина и поспешно выбежала на крыльцо. Она отогнала собаку и сердито крикнула мальчик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- Как вам не стыдн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- А что стыдно? Мы ничего не делали! - удивились мальчи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- Вот это и плохо! - гневно ответила женщ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бы вы оценили поступок мальчиков? Поче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знаете, что лежит в основе каждого нашего поступка? А хотите узна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Шесть шляп мышления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Содержимое 5" descr="Схема"/>
          <p:cNvPicPr/>
          <p:nvPr/>
        </p:nvPicPr>
        <p:blipFill>
          <a:blip r:embed="rId1"/>
          <a:stretch/>
        </p:blipFill>
        <p:spPr>
          <a:xfrm>
            <a:off x="1187280" y="1052640"/>
            <a:ext cx="69138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исание прием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лая шляп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мыслим фактами, цифрами. Без эмоций, без субъективных оценок. Только факты!!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елтая шляпа -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итивное мышление. Необходимо выделить в рассматриваемом явлении позитивные стороны и (!!!) аргументировать, почему они являются позитивны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рная шляпа 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тивоположность желтой шляпе. Нужно определить, что было трудно, неясно, проблематично, негативно, вхолостую и – объяснить, почему так произошл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асная шляп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эмоциональная шляпа. Нужно связать изменения собственного эмоционального состояния с теми или иными моментами рассматриваемого явл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еленая шляп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творческое мышление. Задайтесь вопросами: «Как можно было бы применить тот или иной факт, метод и т.д. в новой ситуации?», «Что можно было бы сделать иначе, почему и как именно?», «Как можно было бы усовершенствовать тот или иной аспект?» и д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няя шляп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философская, обобщающая шляпа. Те, кто мыслит в «синем» русле, старается обобщить высказывания других «шляп», сделать общие выводы, найти обобщающие параллели и т. д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ма «Совесть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лая шляп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такое совес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тая шляп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ого человека можно назвать совестливы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ерная шляп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ожете ли вы объяснить пословицу «Совесть без зубов грызет», опираясь на материал учебни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асная шля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ходилось ли вам испытывать муки сове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еленая шля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должна была поступить героиня рассказа Аркадия Гайдара, чтобы ее сердце «не грызла беспощадная совесть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яя шля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чего совесть нужна людям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на Карнаухова не приготовила урока по алгебре и решила не идти в школ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, чтобы знакомые случайно не увидели, как она во время рабочего дня болтается с книгами по городу, Нина украдкой прошла в рощ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ожив пакет с завтраком и связку книг под куст, она побежала догонять красивую бабочку и наткнулась на малыша, который смотрел на нее добрыми, доверчивыми глаз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так как в руке он сжимал букварь с заложенной в него тетрадкой, то Нина смекнула, в чем дело, и решила над ним подшути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частный прогульщик! — строго сказала она. — И это с таких юных лет ты уже обманываешь родителей и школ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! — удивленно ответил малыш. — Я просто шел на урок. Но тут в лесу ходит большая собака. Она залаяла, и я заблудил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на нахмурилась. Но этот малыш был такой смешной и добродушный, что ей пришлось взять его за руку и повести через рощ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связка Нининых книг и завтрак так и остались лежать под кустом, потому что поднять их перед малышом теперь было бы стыд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шмыгнула из-за ветвей собака, книг не тронула, а завтрак съе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улась Нина, села и заплакала. Нет! Не жалко ей было украденного завтрака. Но слишком хорошо пели над ее головой веселые птицы. И очень тяжело было на ее сердце, которое грызла беспощадная сове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гровые технолог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гра – один из основных видов деятельности учащихся. Игры в обучении предполагают деятельность, направленную на воссоздание и усвоение социального опыта, в котором складывается и совершенствуется самоуправление поведен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олевая игр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пособствует отработке правил и моделей поведения, школьники приобретают знания об общественных нормах, о социально одобряемых и неодобряемых формах поведения в общест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еловая игр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моделирование различных социальных ситуаций, цель которых – обучение принятию реш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к   «Свобода и моральный выбор челове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 расскажу вам удивительную историю… Притча «У одного крестьянина был сын…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к  «Дружб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нтастическая добавка. Представьте, что вы оказались на чужой планете, где жители не знают, что такое дружба. Как вы им это объяснит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к «Свобода и моральный выбор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красьте слово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лес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любой цвет. Почему вы выбрали именно этот цвет? Кто-нибудь вас заставил это сделать?  Так как вы считаете, о чем мы будем говорить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к « Культура и мораль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кодекса мора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Наедине с великими» (работа с рубрикой «Мудрые мысли») . Представьте, что вы встретились с … О чем бы вы его спросил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нформационно-коммуникационные техн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овать ИКТ можно на любых этапах урока: актуализация знаний, открытие учащимися новых знаний, закрепление, самостоятельная работа, выполнение домашнего зад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Схема 3" descr=""/>
          <p:cNvPicPr/>
          <p:nvPr/>
        </p:nvPicPr>
        <p:blipFill>
          <a:blip r:embed="rId1"/>
          <a:stretch/>
        </p:blipFill>
        <p:spPr>
          <a:xfrm>
            <a:off x="963720" y="2133720"/>
            <a:ext cx="72849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46836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ременный учебный  процесс включает в себя множество  методов и технологий  обучения, направленных на развитие познавательного интереса, мотивации к учению, которые  активизируют  деятельность учащихся, заставляют их анализировать, мысл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честве инструментов освоения курса ОРКСЭ в урочной и внеурочной деятельности могут быть использованы как традиционные, так и современные обучающие технолог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3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692360" y="404640"/>
            <a:ext cx="5183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5e3c"/>
                </a:solidFill>
                <a:latin typeface="Calibri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610920" y="1412640"/>
            <a:ext cx="806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Что главное в уроке? У каждого учителя есть свой ответ на этот вопрос. И требования современной школы диктуют свои правила. Но мы не должны в погоне за новыми формами, методами, технологиями забывать о личности ученика, о том, что наша главная задача – воспитать настоящего ЧЕЛОВЕ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642960" y="3500280"/>
            <a:ext cx="7929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шаблона – Коровина И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ы рису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123rf.com/photo_7256532_cartoon-wise-owl-sitting-on-pile-book-and-red-appl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icturedesign.info/photoshop/page/14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clipartof.com/small/32979-Clipart-Illustration-Of-A-Little-Boy-And-Girl-Studying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gether-A-Green-Colored-Pencil-Watching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6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618920" y="549360"/>
            <a:ext cx="69800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4f5e3c"/>
                </a:solidFill>
                <a:latin typeface="Calibri"/>
              </a:rPr>
              <a:t>Проектные технолог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632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В основе проектных технологий лежит активная познавательная деятельность учащихся, способствующая развитию коммуникативных компетенций, исследовательских и творческих способностей, умения ориентироваться в информационном пространстве, интегрировать и обобщать информацию из различных источник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4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тличительные черты данной технологи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еполагание, которое предполагает исследование проблемы и разработку конкретного проду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ческая или теоретическая значимость предполагаем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иентация на самостоятельную деятельность (индивидуальная, парная, групповая) уча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ятельностный подхо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трудничество учителя и ученика, а также учащихся друг с другом (групповой проект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ь работать в индивидуальном темп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жизненно важных компетен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иды проектн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следовательские – напоминающие научное исследование. Они предполагают выбор темы, связанной с решением творческой, исследовательской проблемы с характерными для любой научной работы методами исследования (определение задач исследования, выдвижение гипотезы, ее последующая проверк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кладные – нацеленные на получение конкретного результата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ормационные – нацеленные на сбор и анализ информации о каком-либо явлении или объекте для представления класс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левые и игровые - направленные на реконструкцию или моделирование социальных или деловых ситуа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сследовательская деятельность школьник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Элементы исследования вводятся на уроке непосредственно. При достаточной подготовке учащихся иногда целый урок проводится в форме иссле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ие в данном случае выступает как совместный поиск учителя и уче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Ученическое исследование как индивидуальная или групповая работа имеет место вне уроков при подготовке к семинарам, конференци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Исследования различного характера проводятся школьниками в ходе различных акций, конкурсов, олимпиад и т. 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нтерактивные техн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в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“интерактив”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шло к нам из английского от сло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ac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”. 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это “взаимный”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действовать. Интерактивный - значит способный взаимодействовать или находящийся в режиме беседы, диалога с чем-либо (например, компьютером) или кем-либо (человеком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активное обучение – это специальная форма организации познав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ть интерактивного обучения состоит в такой организации учебного процесса, при которой практически все учащиеся оказываются вовлеченными в процесс познания, они имеют возможность понимать и рефлектировать по поводу того, что они знают и дума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терактивное обучение одновременно решает несколько задач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ет коммуникативные умения и навыки, помогает установлению эмоциональных контактов между учащими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ает информационную задачу, поскольку обеспечивает учащихся необходимой информацией, без которой невозможно реализовывать совместную деяте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ет общие учебные умения и навыки (анализ, синтез, постановка целей и пр.), то есть обеспечивает решение обучающих задач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ет воспитательную задачу, поскольку приучает работать в команде, прислушиваться к чужому мн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хнология творческих мастерски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авное условие мастерско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бодное самовыражение, внутренняя независимость личности, способность по-новому реагировать на происходящее, создание собственного продукта твор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ивное восприятие учащимися учебного материал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орческое осмысление учебного материал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моразвитие ученик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интереса к процессу обуче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звитие креатив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вышен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уровня грамот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навыков аргументированного разговора и письм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социальной компетен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0:00:02Z</dcterms:created>
  <dc:creator>Admin</dc:creator>
  <dc:description/>
  <dc:language>en-US</dc:language>
  <cp:lastModifiedBy>Angel</cp:lastModifiedBy>
  <dcterms:modified xsi:type="dcterms:W3CDTF">2017-03-16T11:19:15Z</dcterms:modified>
  <cp:revision>16</cp:revision>
  <dc:subject/>
  <dc:title>Слайд 1</dc:title>
</cp:coreProperties>
</file>