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0F1-30F8-47D6-9A52-DAF82238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C1D-0D84-469B-B9C1-A003A03B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792-01CB-4048-9B1B-F3E4B7E0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375-0E1C-4978-B09E-C04A308E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6BBE-52AC-48BC-BF23-70353588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D87C-7CEA-4353-B0F2-D12F0710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5F90-880C-4DB4-AF2A-95A5A23F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6D4E-4305-4479-96A7-88EA25B6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3AD1-343A-40BF-8316-56ABF15F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B542-430F-4EB8-995F-006DAC14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9B6B-9963-4CF5-A3E4-CFCF6FBB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652-BB27-4AED-AD4D-203E4F05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A1C6-580F-47A0-B518-FD7B0B7F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2427-AE4B-4A85-AD66-32E2863F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712B-FD0B-40A6-9FF5-F613B2D3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222D-F3C0-451E-97C9-369CA864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DBCB-0635-47EF-A716-9A5DC5FD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7BF69-81C3-4384-9FD4-1F4D3B36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01F48-3E38-44E0-89E2-8B8A24D1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A0A6D-093E-4DEA-9239-E36260D4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DC8CF-B1E2-4141-BA42-EF6B0C55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D720-7C29-4335-97E0-49861491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DC3-7725-4E99-9F77-C674B541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C6B57-00B9-47E5-858B-599D20C5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C4A07-E87C-4093-BE0D-C9400276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4149-E433-458F-AC87-F4AE8BB6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191B8-3023-467E-B3BC-88F1E8F5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BC07-51E6-4FBB-A140-5BDFB1FA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D78D7-5D9F-407C-8C16-44FA51DC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1EA8-B6EF-41CF-A92F-9C0F0A2B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817AD-7140-4915-8A1F-0C5E5C5B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8210-961A-4518-8065-28EF5F96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9F0F8-2A7F-4359-9A96-C0630DEB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EFD-488B-41B4-80A3-C7109D82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4A954-229B-4841-8830-D634EE6E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983FB-67CA-4782-8E7B-3289D78D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3BC43-1F60-4C5E-A49C-BDD9FF25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A450F-10F8-4E0C-8E37-886CD831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60786-F5FE-4C43-ADE3-D9C19F23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90E12-0380-4C0A-A943-45B14B97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2CEE8-F183-49F3-9969-E577BAB4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345A9-2161-408D-848A-72D779B2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730E3-7853-4C73-B6C1-16BE2D6B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1FC3A-47AF-44CE-8FFA-E34FB006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44A-706A-4B70-B259-55041F84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75265-EE2A-4B19-9951-A4145A74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D8580-BEA3-4EB3-B457-60BB5DAE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DBDAB-7B6A-48D7-ADA0-9B80E00B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08CB8-E6C4-428F-8B14-396C2DEA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EE06E-FDA3-4ADF-878A-BCD8372F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445B2-E576-4D4E-B7B8-26FB3633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BF6DC-1F11-45FA-8489-4E0BC042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AA1FD-7988-4993-984F-3906AC79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E1388-D9CE-4F16-814F-D4838255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76317-9CC1-4984-AF39-FE6BBA11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681-7423-46FE-8223-5712F96B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EAC67-EB9A-44AB-A907-681885C7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25A71-C0DB-4A74-A6CF-1F2F60F6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56F5B-6B0F-431C-9587-44B807BE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7D225-0D38-4B59-9CA5-AC866DC4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989A5-89BF-40BA-A83B-519766C4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B0EB5-6D6B-471D-AD9A-069B2D42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BA763-D951-411D-A5D7-3D649AEF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51B26-E2E4-4498-92EA-E087922F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69C2E-73FE-4406-BEF3-0672EDD8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6E263-9883-436C-9BB0-9E8868C9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BA41-8F68-4021-916E-84075D1C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DAAB8-F303-4454-8B13-516E4A24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C3F07-9367-47B9-B590-AC6F3C38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260A0-1996-47DC-8642-DF52F30D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36962-D819-4D77-9ADB-16B02853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5225B-9ED9-4817-BB2A-B80042C5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9F4AD-5B44-4866-9490-3BAAB2B8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ECA54-101A-4F80-A7A6-930F32D5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352EF-7CD7-48F7-9AA7-885C54BF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90584-BA4A-40DC-B673-FC349340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B92DB-FDE8-42B5-90A9-DD913C60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AB7B-C065-412C-9F45-574E9FEA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28D31-6C9A-412C-8613-1E749C66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78BD0-74F2-4E5D-B668-2F70B5DE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A3DC7-4CC7-4B3C-A411-A5492B49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6F9D6-09CC-40A7-A685-DF9EC33C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AA635-9A4B-45FB-B9EC-66639C11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9BD3F-C12E-453A-8D9D-F9313B77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228AF-D4BC-4F21-A4D8-AF347AE1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4E23C-C10B-4745-AB30-D5ED84BF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B2159-D6C2-4A42-B9E1-7B2C7386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9126C-BF50-462C-949D-AB8F93F8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6CC-5480-4EF8-AB1D-A6A5AA4C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43EF2-EBFC-498F-972C-90D5C990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9A359-3693-4042-9C47-AF54DF93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218C6-22AE-4243-A491-76804AF9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A9C6F-E8EC-4B52-9147-1206EE6E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1F500-F1C1-460A-8C6E-83A65DB5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6B177-F677-4BA1-BE4B-8D5D34A8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5AF09-690D-4162-B1E0-A3011C79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6F1A-EBD7-44B8-89A9-A8D0020A0FE9}" type="slidenum">
              <a:rPr b="0" lang="ru-RU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A019-9443-42CD-BB89-11194D0FE843}" type="slidenum">
              <a:rPr b="0" lang="ru-RU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A132-2894-4241-A3D2-322951443988}" type="slidenum">
              <a:rPr b="0" lang="ru-RU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A8E9-5E71-44F1-8487-718DF0F13341}" type="slidenum">
              <a:rPr b="0" lang="ru-RU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EB2B-FE09-4F27-89AA-922393A6C5CE}" type="slidenum">
              <a:rPr b="0" lang="ru-RU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2E14-AE8C-4670-94C5-2AA1FD67E8FB}" type="slidenum">
              <a:rPr b="0" lang="ru-RU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A184-C34D-4F4C-AD8D-4853609F3E36}" type="slidenum">
              <a:rPr b="0" lang="ru-RU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7A38-1663-4FF7-B4EF-5E28140196C3}" type="slidenum">
              <a:rPr b="0" lang="ru-RU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82;&#1072;&#1088;&#1090;&#1080;&#1085;&#1082;&#1072;%20&#1088;&#1077;&#1087;&#1072;&amp;noreask=1&amp;pos=19&amp;rpt=simage&amp;lr=11192&amp;uinfo=sw-1263-sh-929-fw-1038-fh-598-pd-1&amp;img_url=http%3A%2F%2Frodonews.ru%2Fsyroed%2Fi%2Ffull1300911444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13&amp;text=&#1082;&#1072;&#1088;&#1090;&#1080;&#1085;&#1082;&#1080;%20&#1086;&#1074;&#1086;&#1097;&#1080;&amp;noreask=1&amp;pos=403&amp;rpt=simage&amp;lr=11192&amp;img_url=http%3A%2F%2Fknyagna.ru%2Fwp-content%2Fgallery%2Fcache%2F427__320x240_luk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3&amp;text=&#1082;&#1072;&#1088;&#1090;&#1080;&#1085;&#1082;&#1080;%20&#1082;&#1072;&#1088;&#1090;&#1086;&#1092;&#1077;&#1083;&#1100;&amp;noreask=1&amp;pos=104&amp;rpt=simage&amp;lr=11192&amp;img_url=http%3A%2F%2Fimg1.1tv.ru%2Fimgsize640x360%2FPR20091215130836.GIF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1&amp;text=&#1082;&#1072;&#1088;&#1090;&#1080;&#1085;&#1082;&#1080;%20&#1086;&#1074;&#1086;&#1097;&#1080;&amp;noreask=1&amp;pos=55&amp;rpt=simage&amp;lr=11192&amp;img_url=http%3A%2F%2Fjardinlamadeleine.free.fr%2Fimages%2Ftomate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&amp;text=&#1082;&#1072;&#1088;&#1090;&#1080;&#1085;&#1082;&#1072;%20&#1088;&#1077;&#1076;&#1080;&#1089;&#1082;&#1072;&amp;pos=109&amp;uinfo=sw-1263-sh-929-fw-1038-fh-598-pd-1&amp;rpt=simage&amp;img_url=http%3A%2F%2Fwww.mobus.com%2Fmodules%2Fnews%2Fimages%2Farticles%2Fchanging%2F1244555422205548_200_20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7&amp;text=&#1082;&#1072;&#1088;&#1090;&#1080;&#1085;&#1082;&#1080;%20&#1086;&#1074;&#1086;&#1097;&#1080;&amp;noreask=1&amp;pos=227&amp;rpt=simage&amp;lr=11192&amp;img_url=http%3A%2F%2Fimg0.liveinternet.ru%2Fimages%2Fattach%2Fc%2F2%2F74%2F581%2F74581654_04db64f0ae79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11&amp;text=&#1082;&#1072;&#1088;&#1090;&#1080;&#1085;&#1082;&#1080;%20&#1086;&#1074;&#1086;&#1097;&#1080;&amp;noreask=1&amp;pos=349&amp;rpt=simage&amp;lr=11192&amp;img_url=http%3A%2F%2Fhealth.wild-mistress.ru%2Fwm%2Fhealth.nsf%2Fpublicall%2FD837BC32E4895E23C325761D006C6ABF%2F%24File%2Fbaklazhany2608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10&amp;text=&#1082;&#1072;&#1088;&#1090;&#1080;&#1085;&#1082;&#1080;%20&#1086;&#1074;&#1086;&#1097;&#1080;&amp;noreask=1&amp;pos=314&amp;rpt=simage&amp;lr=11192&amp;img_url=http%3A%2F%2Fimg0.liveinternet.ru%2Fimages%2Fattach%2Fc%2F0%2F63%2F335%2F63335172_1249949461_ovoshi_perec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91;&#1082;&#1088;&#1086;&#1087;&amp;pos=26&amp;uinfo=sw-1263-sh-929-fw-1038-fh-598-pd-1&amp;rpt=simage&amp;img_url=http%3A%2F%2Fimg0.liveinternet.ru%2Fimages%2Fattach%2Fc%2F6%2F90%2F774%2F90774034_large_2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7&amp;text=&#1082;&#1072;&#1088;&#1090;&#1080;&#1085;&#1082;&#1080;%20&#1086;&#1074;&#1086;&#1097;&#1080;&amp;noreask=1&amp;pos=230&amp;rpt=simage&amp;lr=11192&amp;img_url=http%3A%2F%2Fs0.tchkcdn.com%2Fg2-Wma957xtdEJSdEftmvuAUg%2Flady%2F640x0%2Fw%2F0%2F1-3-0-9-25309%2Fc01fde3d1a65bc64b18c8551b96a9c18_tasty_bread_using_pumpkin_and_wheat_flour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27&amp;text=&#1082;&#1072;&#1088;&#1090;&#1080;&#1085;&#1082;&#1080;%20&#1086;&#1074;&#1086;&#1097;&#1080;&amp;noreask=1&amp;pos=834&amp;rpt=simage&amp;lr=11192&amp;img_url=http%3A%2F%2Flovedacha.ru%2Ffiles%2Fkapust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82;&#1072;&#1088;&#1090;&#1080;&#1085;&#1082;&#1072;%20&#1082;&#1072;&#1073;&#1072;&#1095;&#1086;&#1082;&amp;pos=89&amp;uinfo=sw-1263-sh-929-fw-1038-fh-598-pd-1&amp;rpt=simage&amp;img_url=http%3A%2F%2Fagroprim.com%2F_ph%2F10%2F2%2F384636192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10&amp;text=&#1082;&#1072;&#1088;&#1090;&#1080;&#1085;&#1082;&#1080;%20&#1086;&#1074;&#1086;&#1097;&#1080;&amp;noreask=1&amp;pos=315&amp;rpt=simage&amp;lr=11192&amp;img_url=http%3A%2F%2Fimg1.liveinternet.ru%2Fimages%2Fattach%2Fc%2F5%2F86%2F86%2F86086297_000742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12&amp;text=&#1082;&#1072;&#1088;&#1090;&#1080;&#1085;&#1082;&#1080;%20&#1086;&#1074;&#1086;&#1097;&#1080;&amp;noreask=1&amp;pos=385&amp;rpt=simage&amp;lr=11192&amp;img_url=http%3A%2F%2Fthumb18.shutterstock.com%2Fphotos%2Fthumb_large%2F333766%2F333766%2C1303835841%2C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16&amp;text=&#1082;&#1072;&#1088;&#1090;&#1080;&#1085;&#1082;&#1080;%20&#1086;&#1074;&#1086;&#1097;&#1080;&amp;noreask=1&amp;pos=482&amp;rpt=simage&amp;lr=11192&amp;img_url=http%3A%2F%2Fimg02.rl0.ru%2F53cebbcf5096d8c151fed0a7e1b6639f%2F432x288%2Frus.ruvr.ru%2Fdata%2F2011%2F08%2F19%2F1255357816%2F856667_8669788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lackadder ITC"/>
              </a:rPr>
              <a:t>Презентация на тему: </a:t>
            </a: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«</a:t>
            </a:r>
            <a:r>
              <a:rPr b="0" lang="en-US" sz="5400" spc="-1" strike="noStrike">
                <a:solidFill>
                  <a:srgbClr val="000000"/>
                </a:solidFill>
                <a:latin typeface="Blackadder ITC"/>
              </a:rPr>
              <a:t>ОВОЩИ</a:t>
            </a: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/>
          <p:nvPr/>
        </p:nvSpPr>
        <p:spPr>
          <a:xfrm>
            <a:off x="4859280" y="5300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готовила Дудина Н.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0" spc="-1" strike="noStrike">
                <a:solidFill>
                  <a:srgbClr val="000000"/>
                </a:solidFill>
                <a:latin typeface="Calibri"/>
              </a:rPr>
              <a:t>Кругла, а не луна, желта, а не бумага, 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0" spc="-1" strike="noStrike">
                <a:solidFill>
                  <a:srgbClr val="000000"/>
                </a:solidFill>
                <a:latin typeface="Calibri"/>
              </a:rPr>
              <a:t>с хвостиком, 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0" spc="-1" strike="noStrike">
                <a:solidFill>
                  <a:srgbClr val="000000"/>
                </a:solidFill>
                <a:latin typeface="Calibri"/>
              </a:rPr>
              <a:t>а не мышь.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http://www.koipkro.kostroma.ru/Kostroma_EDU/mdou7/DocLib/%CE%E2%EE%F9%E8%20%E8%20%F4%F0%F3%EA%F2%FB/%F0%E5%EF%E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404280"/>
            <a:ext cx="822960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идит дед во сто шуб одет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Кто его раздевает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Тот слезы проливает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2" descr="http://gulyai.ru/uploads/posts/2012-04/1333801106_poster_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54900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Неказиста, шишковатая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А придет на стол она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кажут весело ребята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"Ну, рассыпчата, вкусна!"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4" descr="http://p3.s2.jc9.ru/filecpd.php?u=aHR0cDovL21lZGlhLndpd2ViLnJ1L2RhdGEvaW1hZ2VzL19iYXNlYmF6YWFyLzAwMDE1NC93aXdlYl83YWYxM2NmODMyMjMyYzJjMTY3YWZjMmZjOTE3MDM3MC5qcGc=&amp;tp=custom&amp;w=-1280&amp;s=5&amp;l&amp;sc=825af&amp;ver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333000"/>
            <a:ext cx="822960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ак на нашей гряд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ыросли загад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очные да крупные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от такие круглы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Летом зеленеют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 осени краснею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http://www.foodmag.ru/img/ed393ba9a7ec245a50471c806ee5e850_13460666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476280"/>
            <a:ext cx="82296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Щеки розовые, нос белый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 темноте сижу день целый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А рубашка зелена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ся на солнышке он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2" descr="http://agroua.net/img/plant/catalog/sorts/2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5940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Calibri"/>
              </a:rPr>
              <a:t>Как надела сто рубах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Calibri"/>
              </a:rPr>
              <a:t>Захрустела на зубах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620280"/>
            <a:ext cx="8229600" cy="55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alibri"/>
              </a:rPr>
              <a:t>Над землей трава,</a:t>
            </a:r>
            <a:br>
              <a:rPr sz="7200"/>
            </a:br>
            <a:r>
              <a:rPr b="0" i="1" lang="ru-RU" sz="7200" spc="-1" strike="noStrike">
                <a:solidFill>
                  <a:srgbClr val="000000"/>
                </a:solidFill>
                <a:latin typeface="Calibri"/>
              </a:rPr>
              <a:t>под землей бордова голова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http://www.1semena.ru/published/publicdata/SHOPDB/attachments/SC/products_pictures/solo_f1_en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476280"/>
            <a:ext cx="82296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разу этот овощ по цвету узнают,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иним господином все его зовут.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 кожурой блестящей и продолговат,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Угостить он взрослых и детишек рад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2" descr="http://sovsibir.ru/up/2012/146/146-13-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54900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ркие фонарики на кустах висят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но здесь проходит праздничный парад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еленые, красные, желтые плоды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они такие, узнаёшь их ты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2" descr="http://www.gigart.ru/uploads/posts/2012-08/1343896094_jt0ylomeads1ucd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54900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устик с запахом приятным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ушистым, пряным, ароматным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н форму зонтика имеет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огда в нем семена созреют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http://img1.liveinternet.ru/images/attach/c/8/99/61/99061513_large_4360286_1335799574_Uk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90756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сех овощей она царица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воей величиной гордится.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На дыню издали похожа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На рыжий мяч большущий тоже.</a:t>
            </a:r>
            <a:br>
              <a:rPr sz="26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2" descr="http://www.motto.net.ua/large/201210/3776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2" descr="http://img1.liveinternet.ru/images/attach/c/3/75/695/75695847_193f3eb5f27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620280"/>
            <a:ext cx="8229600" cy="55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libri"/>
              </a:rPr>
              <a:t>Очень длинным вырастает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Calibri"/>
              </a:rPr>
              <a:t>И пол грядки занимает.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Calibri"/>
              </a:rPr>
              <a:t>Этот овощ тыквы брат,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Calibri"/>
              </a:rPr>
              <a:t>Летом все его едят.</a:t>
            </a:r>
            <a:br>
              <a:rPr sz="26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2" descr="http://agroprim.com/_ph/10/2/38463619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765000"/>
            <a:ext cx="822960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Он кусает – но не пес.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Зубок есть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Но, где же рот?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Белый носит сюртучок.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Что же это…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Picture 2" descr="http://fruitinfo.ru/data/tradeboard/19337/tradeboards43XxP_im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Отгадали вы, ребятки,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какие овощи растут у нас на грядке.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pic>
        <p:nvPicPr>
          <p:cNvPr id="436" name="Содержимое 3" descr="http://img1.liveinternet.ru/images/attach/c/6/91/252/91252137_large_5_receptov_salatov_readmasru_11.jpg"/>
          <p:cNvPicPr/>
          <p:nvPr/>
        </p:nvPicPr>
        <p:blipFill>
          <a:blip r:embed="rId1"/>
          <a:stretch/>
        </p:blipFill>
        <p:spPr>
          <a:xfrm>
            <a:off x="250920" y="112536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24000" y="475920"/>
            <a:ext cx="82296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а кудрявый хохоло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ису из норки поволо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ощупь - очень гладкая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вкус - как сахар сладка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4" descr="http://sanatate.md/data/pic/articles/896/2600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404280"/>
            <a:ext cx="822960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Раскололся тесный домик</a:t>
            </a:r>
            <a:br>
              <a:rPr sz="5600"/>
            </a:b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На две половинки.</a:t>
            </a:r>
            <a:br>
              <a:rPr sz="5600"/>
            </a:b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И посыпались оттуда</a:t>
            </a:r>
            <a:br>
              <a:rPr sz="5600"/>
            </a:b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Бусинки-дробинки.</a:t>
            </a:r>
            <a:br>
              <a:rPr sz="5600"/>
            </a:b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2" descr="http://www.instapics.ru/download.php?file=201211/847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333000"/>
            <a:ext cx="822960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Наши поросятки выросли на грядке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К солнышку бочком, хвостики крючко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Эти поросятки играют с нами в прятк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http://static.freepik.com/fotos-kostenlos/cornichons_285666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12:08:11Z</dcterms:created>
  <dc:creator>RePack by SPecialiST</dc:creator>
  <dc:description/>
  <dc:language>en-US</dc:language>
  <cp:lastModifiedBy>1222</cp:lastModifiedBy>
  <dcterms:modified xsi:type="dcterms:W3CDTF">2017-06-13T10:19:29Z</dcterms:modified>
  <cp:revision>36</cp:revision>
  <dc:subject/>
  <dc:title>Слайд 1</dc:title>
</cp:coreProperties>
</file>