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B98-84F6-476B-97F2-1C7DED22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8BB-C0BE-41BF-99EC-862F50D8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4F9-A982-4357-952E-74F1C09B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A8E-EB09-4C78-A421-B552E287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6770-F93D-4959-9AA2-B2215926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4861-0FFC-4C67-B0CB-4F26CE74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C4DE-DE14-465F-9074-291F85A7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C2C0-4A61-4B21-8D08-1A6C93AE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3EBE-4604-4F30-A59E-D94238B7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322B-7311-455B-AA72-DC615856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3C45-EC64-43AF-9C04-C4AFEF23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7E1-3CD0-4DA7-93D0-88216B97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DF42-BFD4-4DFA-B494-8A24EB1E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DC94-010D-4298-BC8D-8AEF4CFB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31A7-73DF-4C5E-BC47-BF60EF82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0067-7EED-4834-91D7-3D8AFE4A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CC0C-7328-482D-B34E-D2A8DD43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D3B1-00C4-4C6F-AA81-95ECE84B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37E60-1485-4C63-8A7A-DEAE5149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B281-E255-4BE4-9D16-4D91F0F8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444C-8AAB-41D5-8640-49B82A1A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4701-71C1-4029-8D8A-5DF6EB7F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730-5D31-4B72-84FC-5A98B426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A645-72C6-4446-B636-F9EB36AE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60C3-FD6D-4E40-A75D-01B7A4E2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D324F-2F9E-43B4-9C59-77334CD2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7A57-3ED6-4857-8198-8CCFD5EA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AFCB0-E4E8-4C5F-8A85-46B3413A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57997-67D0-4CED-BC7B-94985A44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8A29-B916-4540-B812-F4AA077C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DC95B-9B4A-4ECF-AFA9-FD740F0A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2DA30-BFF7-42DE-8DA7-38C9F458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BBC2-12D1-4D36-9A82-95CFB07A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E2B-5FAB-4769-8B91-FAFE7151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F0016-5FD5-476D-80BF-08DD24C2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54DE-500C-40D0-8107-13B539A3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1AF7-BC69-4BCA-8B46-DBDE2E86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6E53-A4E9-4376-B3F7-FE5D88B3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704C-67EF-4046-A073-1CA710E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11445-B548-4A69-83E4-8359530E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1D6D7-A61F-4CB5-ADB8-45D5AB9A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818F3-8C85-48D1-89CF-87B6C1B5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129FF-7455-428F-A631-956AC1A3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7E4BF-A9B3-4B28-9F55-ABEBC225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C79-F79E-405A-BD7D-F82141A6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04801-0843-41EB-9172-9201CE67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F5189-AC6B-4100-AE8B-6AF75FC1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1F7CF-A8FD-415E-ACAD-36ED02FD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CEA2E-EBD6-4397-9610-AB842A3E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06789-82C1-410A-9E46-EE8D7A69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56ABF-3E5F-43DB-B775-465BC2A3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132AA-9CC8-465A-9BD7-41AAB66C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2FB8D-02EB-4ED3-8135-F23C4EF9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E922D-4733-4230-9F2F-90354E36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DB768-9F03-4509-B670-49CFEE11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2DC-256F-4066-A761-BAB723A2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AF0CE-F55A-4839-97BA-DC04B7EF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24EA4-D005-4C97-805E-171699CE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F3FE0-39A9-4A88-A81E-36F1A00B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AD427-1A68-42E9-A01D-D557846F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139B9-2ED4-462F-AA5A-E64E9985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18ECA-D1FE-4EB4-AD87-97570F84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22C2E-388C-4955-85C5-A7CE513B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4884-2D29-4FAC-A5B8-06A1D9E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CF51D-70E6-488D-A246-7B0C6D4D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05CCC-1191-4874-A224-1617D878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43A-D27E-4678-988F-E591DD3C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1094D-24C2-4772-B1F3-18579BE3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FD70E-54A6-495C-9A40-A7CB47A3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51759-46ED-4941-B718-A8876044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C5983-BB0C-4374-B368-7AA28064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7F0E2-ED19-4F24-950E-EB91E71A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EB4DC-6C5E-428E-BD6C-CD0579EB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FDDF7-06C6-445E-A4A3-91C370C8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B83B2-B735-45E0-843C-8FB95063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CE86E-8DA7-49AD-B2D8-CD723AD7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C2A34-2990-42D6-B749-38FCD970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4B4-4EE1-49F8-9FA3-721CC13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0517E-317A-4ECB-AB16-9A12247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81F6D-88B6-49E9-8FA6-C0877A49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BA7F0-1F59-4C4B-99DB-C37BDE95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9C496-1F6B-402B-9BC0-E213338E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32EE2-5E86-4DF9-A1CB-000A109E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6B0F1-FA98-4F31-8315-26E1169C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FA9EB-A405-47E3-BBE0-41167F56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6B68F-F025-4926-8A85-2FAF9C31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339CF-4DA4-4479-919B-CB0F1108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BA13C-5E4F-4C1C-BBB1-C9D9CAAD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087-CFED-4603-8A93-B9FD7196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081EA-EE56-49AD-B5A5-3E946FF1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9D4FC-D4E7-4E97-83FD-52FFBA45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DA8CB-5C4A-42E6-83C9-FB21E65B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79EB0-2986-4B19-A7D7-721985F8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52D6F-D965-4CAE-9100-EA5DAC1B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F479F-FABE-4B0F-BE1C-F267C7A4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4C8B8-78F1-4FDD-AF62-4EF9474E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78ED-CD1C-4126-9AE8-A16915174DF1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2174-1946-41BD-8809-EE8966ACE941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6103-4A88-4CA0-8105-413A49391D32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9473-A460-4713-ADC5-0E9179A7923A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8C55-C268-4E3D-807D-BC94A6C30D8E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6C46-91FC-4448-BD56-33405FC8151E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40C0-37C7-4636-9886-C7FA07E1AB3D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6F8D-0D00-41FD-92FB-3E0638257FC9}" type="slidenum">
              <a:rPr b="0" lang="ru-RU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2;&#1072;&#1088;&#1090;&#1080;&#1085;&#1082;&#1072;%20&#1088;&#1077;&#1087;&#1072;&amp;noreask=1&amp;pos=19&amp;rpt=simage&amp;lr=11192&amp;uinfo=sw-1263-sh-929-fw-1038-fh-598-pd-1&amp;img_url=http%3A%2F%2Frodonews.ru%2Fsyroed%2Fi%2Ffull130091144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3&amp;text=&#1082;&#1072;&#1088;&#1090;&#1080;&#1085;&#1082;&#1080;%20&#1086;&#1074;&#1086;&#1097;&#1080;&amp;noreask=1&amp;pos=403&amp;rpt=simage&amp;lr=11192&amp;img_url=http%3A%2F%2Fknyagna.ru%2Fwp-content%2Fgallery%2Fcache%2F427__320x240_luk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3&amp;text=&#1082;&#1072;&#1088;&#1090;&#1080;&#1085;&#1082;&#1080;%20&#1082;&#1072;&#1088;&#1090;&#1086;&#1092;&#1077;&#1083;&#1100;&amp;noreask=1&amp;pos=104&amp;rpt=simage&amp;lr=11192&amp;img_url=http%3A%2F%2Fimg1.1tv.ru%2Fimgsize640x360%2FPR20091215130836.GIF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&amp;text=&#1082;&#1072;&#1088;&#1090;&#1080;&#1085;&#1082;&#1080;%20&#1086;&#1074;&#1086;&#1097;&#1080;&amp;noreask=1&amp;pos=55&amp;rpt=simage&amp;lr=11192&amp;img_url=http%3A%2F%2Fjardinlamadeleine.free.fr%2Fimages%2Ftomat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&amp;text=&#1082;&#1072;&#1088;&#1090;&#1080;&#1085;&#1082;&#1072;%20&#1088;&#1077;&#1076;&#1080;&#1089;&#1082;&#1072;&amp;pos=109&amp;uinfo=sw-1263-sh-929-fw-1038-fh-598-pd-1&amp;rpt=simage&amp;img_url=http%3A%2F%2Fwww.mobus.com%2Fmodules%2Fnews%2Fimages%2Farticles%2Fchanging%2F1244555422205548_200_20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7&amp;text=&#1082;&#1072;&#1088;&#1090;&#1080;&#1085;&#1082;&#1080;%20&#1086;&#1074;&#1086;&#1097;&#1080;&amp;noreask=1&amp;pos=227&amp;rpt=simage&amp;lr=11192&amp;img_url=http%3A%2F%2Fimg0.liveinternet.ru%2Fimages%2Fattach%2Fc%2F2%2F74%2F581%2F74581654_04db64f0ae79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1&amp;text=&#1082;&#1072;&#1088;&#1090;&#1080;&#1085;&#1082;&#1080;%20&#1086;&#1074;&#1086;&#1097;&#1080;&amp;noreask=1&amp;pos=349&amp;rpt=simage&amp;lr=11192&amp;img_url=http%3A%2F%2Fhealth.wild-mistress.ru%2Fwm%2Fhealth.nsf%2Fpublicall%2FD837BC32E4895E23C325761D006C6ABF%2F%24File%2Fbaklazhany2608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0&amp;text=&#1082;&#1072;&#1088;&#1090;&#1080;&#1085;&#1082;&#1080;%20&#1086;&#1074;&#1086;&#1097;&#1080;&amp;noreask=1&amp;pos=314&amp;rpt=simage&amp;lr=11192&amp;img_url=http%3A%2F%2Fimg0.liveinternet.ru%2Fimages%2Fattach%2Fc%2F0%2F63%2F335%2F63335172_1249949461_ovoshi_perec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91;&#1082;&#1088;&#1086;&#1087;&amp;pos=26&amp;uinfo=sw-1263-sh-929-fw-1038-fh-598-pd-1&amp;rpt=simage&amp;img_url=http%3A%2F%2Fimg0.liveinternet.ru%2Fimages%2Fattach%2Fc%2F6%2F90%2F774%2F90774034_large_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7&amp;text=&#1082;&#1072;&#1088;&#1090;&#1080;&#1085;&#1082;&#1080;%20&#1086;&#1074;&#1086;&#1097;&#1080;&amp;noreask=1&amp;pos=230&amp;rpt=simage&amp;lr=11192&amp;img_url=http%3A%2F%2Fs0.tchkcdn.com%2Fg2-Wma957xtdEJSdEftmvuAUg%2Flady%2F640x0%2Fw%2F0%2F1-3-0-9-25309%2Fc01fde3d1a65bc64b18c8551b96a9c18_tasty_bread_using_pumpkin_and_wheat_flour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27&amp;text=&#1082;&#1072;&#1088;&#1090;&#1080;&#1085;&#1082;&#1080;%20&#1086;&#1074;&#1086;&#1097;&#1080;&amp;noreask=1&amp;pos=834&amp;rpt=simage&amp;lr=11192&amp;img_url=http%3A%2F%2Flovedacha.ru%2Ffiles%2Fkapus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82;&#1072;&#1088;&#1090;&#1080;&#1085;&#1082;&#1072;%20&#1082;&#1072;&#1073;&#1072;&#1095;&#1086;&#1082;&amp;pos=89&amp;uinfo=sw-1263-sh-929-fw-1038-fh-598-pd-1&amp;rpt=simage&amp;img_url=http%3A%2F%2Fagroprim.com%2F_ph%2F10%2F2%2F384636192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0&amp;text=&#1082;&#1072;&#1088;&#1090;&#1080;&#1085;&#1082;&#1080;%20&#1086;&#1074;&#1086;&#1097;&#1080;&amp;noreask=1&amp;pos=315&amp;rpt=simage&amp;lr=11192&amp;img_url=http%3A%2F%2Fimg1.liveinternet.ru%2Fimages%2Fattach%2Fc%2F5%2F86%2F86%2F86086297_000742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2&amp;text=&#1082;&#1072;&#1088;&#1090;&#1080;&#1085;&#1082;&#1080;%20&#1086;&#1074;&#1086;&#1097;&#1080;&amp;noreask=1&amp;pos=385&amp;rpt=simage&amp;lr=11192&amp;img_url=http%3A%2F%2Fthumb18.shutterstock.com%2Fphotos%2Fthumb_large%2F333766%2F333766%2C1303835841%2C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263-sh-929-fw-1038-fh-598-pd-1&amp;p=16&amp;text=&#1082;&#1072;&#1088;&#1090;&#1080;&#1085;&#1082;&#1080;%20&#1086;&#1074;&#1086;&#1097;&#1080;&amp;noreask=1&amp;pos=482&amp;rpt=simage&amp;lr=11192&amp;img_url=http%3A%2F%2Fimg02.rl0.ru%2F53cebbcf5096d8c151fed0a7e1b6639f%2F432x288%2Frus.ruvr.ru%2Fdata%2F2011%2F08%2F19%2F1255357816%2F856667_8669788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177"/>
            </a:gs>
            <a:gs pos="100000">
              <a:srgbClr val="fffca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ackadder ITC"/>
              </a:rPr>
              <a:t>Презентация на тему: </a:t>
            </a: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«</a:t>
            </a:r>
            <a:r>
              <a:rPr b="0" lang="en-US" sz="5400" spc="-1" strike="noStrike">
                <a:solidFill>
                  <a:srgbClr val="000000"/>
                </a:solidFill>
                <a:latin typeface="Blackadder ITC"/>
              </a:rPr>
              <a:t>ОВОЩИ</a:t>
            </a: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5300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готовила Дудина Н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Calibri"/>
              </a:rPr>
              <a:t>Кругла, а не луна, желта, а не бумага, 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Calibri"/>
              </a:rPr>
              <a:t>с хвостиком, 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Calibri"/>
              </a:rPr>
              <a:t>а не мышь.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http://www.koipkro.kostroma.ru/Kostroma_EDU/mdou7/DocLib/%CE%E2%EE%F9%E8%20%E8%20%F4%F0%F3%EA%F2%FB/%F0%E5%EF%E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404280"/>
            <a:ext cx="822960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идит дед во сто шуб одет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Кто его раздевает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Тот слезы проливает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2" descr="http://gulyai.ru/uploads/posts/2012-04/1333801106_poster_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54900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Неказиста, шишковатая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 придет на стол она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кажут весело ребят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"Ну, рассыпчата, вкусна!"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4" descr="http://p3.s2.jc9.ru/filecpd.php?u=aHR0cDovL21lZGlhLndpd2ViLnJ1L2RhdGEvaW1hZ2VzL19iYXNlYmF6YWFyLzAwMDE1NC93aXdlYl83YWYxM2NmODMyMjMyYzJjMTY3YWZjMmZjOTE3MDM3MC5qcGc=&amp;tp=custom&amp;w=-1280&amp;s=5&amp;l&amp;sc=825af&amp;ver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333000"/>
            <a:ext cx="822960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ак на нашей гряд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ыросли загад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очные да крупные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от такие круглы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Летом зеленеют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 осени краснею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http://www.foodmag.ru/img/ed393ba9a7ec245a50471c806ee5e850_13460666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476280"/>
            <a:ext cx="82296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Щеки розовые, нос белый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 темноте сижу день целы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 рубашка зелен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ся на солнышке он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http://agroua.net/img/plant/catalog/sorts/2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5940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Calibri"/>
              </a:rPr>
              <a:t>Как надела сто рубах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Calibri"/>
              </a:rPr>
              <a:t>Захрустела на зубах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620280"/>
            <a:ext cx="8229600" cy="55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alibri"/>
              </a:rPr>
              <a:t>Над землей трава,</a:t>
            </a:r>
            <a:br>
              <a:rPr sz="7200"/>
            </a:br>
            <a:r>
              <a:rPr b="0" i="1" lang="ru-RU" sz="7200" spc="-1" strike="noStrike">
                <a:solidFill>
                  <a:srgbClr val="000000"/>
                </a:solidFill>
                <a:latin typeface="Calibri"/>
              </a:rPr>
              <a:t>под землей бордова голова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http://www.1semena.ru/published/publicdata/SHOPDB/attachments/SC/products_pictures/solo_f1_en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476280"/>
            <a:ext cx="82296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разу этот овощ по цвету узнают,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иним господином все его зовут.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 кожурой блестящей и продолговат,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гостить он взрослых и детишек рад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2" descr="http://sovsibir.ru/up/2012/146/146-13-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54900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ркие фонарики на кустах висят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но здесь проходит праздничный парад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еленые, красные, желтые плоды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они такие, узнаёшь их ты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2" descr="http://www.gigart.ru/uploads/posts/2012-08/1343896094_jt0ylomeads1ucd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54900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устик с запахом приятным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ушистым, пряным, ароматным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н форму зонтика имеет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огда в нем семена созреют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http://img1.liveinternet.ru/images/attach/c/8/99/61/99061513_large_4360286_1335799574_Uk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90756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сех овощей она царица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воей величиной гордится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а дыню издали похожа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а рыжий мяч большущий тоже.</a:t>
            </a:r>
            <a:br>
              <a:rPr sz="26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2" descr="http://www.motto.net.ua/large/201210/3776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http://img1.liveinternet.ru/images/attach/c/3/75/695/75695847_193f3eb5f27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620280"/>
            <a:ext cx="8229600" cy="55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Очень длинным вырастает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И пол грядки занимает.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Этот овощ тыквы брат,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Летом все его едят.</a:t>
            </a:r>
            <a:br>
              <a:rPr sz="26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2" descr="http://agroprim.com/_ph/10/2/38463619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765000"/>
            <a:ext cx="82296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Он кусает – но не пес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Зубок есть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Но, где же рот?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Белый носит сюртучок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Что же это…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2" descr="http://fruitinfo.ru/data/tradeboard/19337/tradeboards43XxP_im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Отгадали вы, ребятки,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какие овощи растут у нас на грядке.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pic>
        <p:nvPicPr>
          <p:cNvPr id="436" name="Содержимое 3" descr="http://img1.liveinternet.ru/images/attach/c/6/91/252/91252137_large_5_receptov_salatov_readmasru_11.jpg"/>
          <p:cNvPicPr/>
          <p:nvPr/>
        </p:nvPicPr>
        <p:blipFill>
          <a:blip r:embed="rId1"/>
          <a:stretch/>
        </p:blipFill>
        <p:spPr>
          <a:xfrm>
            <a:off x="25092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24000" y="475920"/>
            <a:ext cx="82296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 кудрявый хохол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ису из норки поволо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ощупь - очень гладкая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вкус - как сахар сладка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4" descr="http://sanatate.md/data/pic/articles/896/2600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404280"/>
            <a:ext cx="822960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Раскололся тесный домик</a:t>
            </a:r>
            <a:br>
              <a:rPr sz="5600"/>
            </a:b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На две половинки.</a:t>
            </a:r>
            <a:br>
              <a:rPr sz="5600"/>
            </a:b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И посыпались оттуда</a:t>
            </a:r>
            <a:br>
              <a:rPr sz="5600"/>
            </a:b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Бусинки-дробинки.</a:t>
            </a:r>
            <a:br>
              <a:rPr sz="5600"/>
            </a:b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2" descr="http://www.instapics.ru/download.php?file=201211/84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333000"/>
            <a:ext cx="822960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Наши поросятки выросли на грядк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К солнышку бочком, хвостики крючк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Эти поросятки играют с нами в прятк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http://static.freepik.com/fotos-kostenlos/cornichons_285666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2:08:11Z</dcterms:created>
  <dc:creator>RePack by SPecialiST</dc:creator>
  <dc:description/>
  <dc:language>en-US</dc:language>
  <cp:lastModifiedBy>1222</cp:lastModifiedBy>
  <dcterms:modified xsi:type="dcterms:W3CDTF">2017-06-13T10:19:29Z</dcterms:modified>
  <cp:revision>36</cp:revision>
  <dc:subject/>
  <dc:title>Слайд 1</dc:title>
</cp:coreProperties>
</file>