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C6C-AE95-4418-9E2E-9361C012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D51-8BE1-4A0E-A4DC-52387766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93F-70F8-4CDA-AD8C-496BFBB4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B9E-132D-4009-8624-C2DA21FD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AF8-2D47-4B25-838F-2F3AE132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4F8-04C4-46EA-9736-0567E4F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327-A614-4F6E-AC5A-C7051707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114-8420-4783-B545-31AB8EF3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445-0D02-4390-BB5F-04C6555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CD5-E411-498E-A365-23626EC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3B5-1A83-41E8-8B9C-13D1398F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67A-BBF9-4185-9E9A-D9BDDC7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8ED8-6D14-46F4-83BC-112262C8E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ект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 Использование игровых приемов при формировании элементарных математических представлений у детей старшего дошкольного возрас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5643720" y="3214800"/>
            <a:ext cx="33429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МАДОУ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сен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математических представлений у детей старшего дошкольного возраста в организованной и самостоятельной деятельности детей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учающие задач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считать в пределах 10 в прямом и обратном порядке, правильно пользоваться порядковыми и количественными числительным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соотносить число (в пределах 10) с количеством предметов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еплять умение узнавать и называть геометрические фигур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еплять умение определять положение того или иного предмета не только по отношению к себе, но и к другому предмету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умение называть части суток, последовательность дней в недел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ть умение выделять совокупности предметов или фигур, обладающих общим свойством, выделять и выражать в речи признаки сходств и различия отдельных предметов и совокупност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ющие задач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смекалку, зрительную память, воображение, умение сравнивать и анализиро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формированию мыслительных процессов, развитию речи, умению аргументировать свои высказы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чувство коллективизма, создать эмоциональное настроение детей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итательные задач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самостоятельность, умение понимать заданную задачу и выполнять ее самостоятельно.</a:t>
            </a:r>
            <a:br>
              <a:rPr sz="2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000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ов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P1030871.JPG"/>
          <p:cNvPicPr/>
          <p:nvPr/>
        </p:nvPicPr>
        <p:blipFill>
          <a:blip r:embed="rId1"/>
          <a:srcRect l="2341" t="19795" r="5463" b="0"/>
          <a:stretch/>
        </p:blipFill>
        <p:spPr>
          <a:xfrm>
            <a:off x="285840" y="1714680"/>
            <a:ext cx="2592360" cy="1692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P1030979.JPG"/>
          <p:cNvPicPr/>
          <p:nvPr/>
        </p:nvPicPr>
        <p:blipFill>
          <a:blip r:embed="rId2"/>
          <a:srcRect l="0" t="0" r="0" b="9375"/>
          <a:stretch/>
        </p:blipFill>
        <p:spPr>
          <a:xfrm>
            <a:off x="2428920" y="1928880"/>
            <a:ext cx="3495600" cy="2376360"/>
          </a:xfrm>
          <a:prstGeom prst="rect">
            <a:avLst/>
          </a:prstGeom>
          <a:ln w="0">
            <a:noFill/>
          </a:ln>
        </p:spPr>
      </p:pic>
      <p:sp>
        <p:nvSpPr>
          <p:cNvPr id="47" name="Titre 3"/>
          <p:cNvSpPr/>
          <p:nvPr/>
        </p:nvSpPr>
        <p:spPr>
          <a:xfrm>
            <a:off x="57168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ние дидактических, словесных, настольных, сюжетных, пальчиковых игр математического содерж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P1030929.JPG"/>
          <p:cNvPicPr/>
          <p:nvPr/>
        </p:nvPicPr>
        <p:blipFill>
          <a:blip r:embed="rId3"/>
          <a:stretch/>
        </p:blipFill>
        <p:spPr>
          <a:xfrm>
            <a:off x="5357880" y="2214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3"/>
          <p:cNvSpPr/>
          <p:nvPr/>
        </p:nvSpPr>
        <p:spPr>
          <a:xfrm>
            <a:off x="142920" y="1357200"/>
            <a:ext cx="8786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ение математических сказок, русских народных сказок с элементами счета, заучивание считалок, стихов, потешек, пальчиковых игр на закрепление сче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P1030455.JPG"/>
          <p:cNvPicPr/>
          <p:nvPr/>
        </p:nvPicPr>
        <p:blipFill>
          <a:blip r:embed="rId2"/>
          <a:srcRect l="6254" t="4171" r="20831" b="20832"/>
          <a:stretch/>
        </p:blipFill>
        <p:spPr>
          <a:xfrm>
            <a:off x="285840" y="2214720"/>
            <a:ext cx="317340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user\Проект фото\P1030451.JPG"/>
          <p:cNvPicPr/>
          <p:nvPr/>
        </p:nvPicPr>
        <p:blipFill>
          <a:blip r:embed="rId3"/>
          <a:srcRect l="0" t="0" r="2083" b="20832"/>
          <a:stretch/>
        </p:blipFill>
        <p:spPr>
          <a:xfrm>
            <a:off x="4286160" y="2143080"/>
            <a:ext cx="39783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уктив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3"/>
          <p:cNvSpPr/>
          <p:nvPr/>
        </p:nvSpPr>
        <p:spPr>
          <a:xfrm>
            <a:off x="500040" y="128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пка и украшение цифр и геометрических фигур, составление аппликации из геометрических фигур, рисование цифр, раскрашивание раскра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P1030778.JPG"/>
          <p:cNvPicPr/>
          <p:nvPr/>
        </p:nvPicPr>
        <p:blipFill>
          <a:blip r:embed="rId2"/>
          <a:stretch/>
        </p:blipFill>
        <p:spPr>
          <a:xfrm>
            <a:off x="2643120" y="257184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P1030845.JPG"/>
          <p:cNvPicPr/>
          <p:nvPr/>
        </p:nvPicPr>
        <p:blipFill>
          <a:blip r:embed="rId3"/>
          <a:stretch/>
        </p:blipFill>
        <p:spPr>
          <a:xfrm>
            <a:off x="214200" y="2357280"/>
            <a:ext cx="2927520" cy="21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user\Проект фото\P1030462.JPG"/>
          <p:cNvPicPr/>
          <p:nvPr/>
        </p:nvPicPr>
        <p:blipFill>
          <a:blip r:embed="rId4"/>
          <a:srcRect l="0" t="18060" r="28132" b="0"/>
          <a:stretch/>
        </p:blipFill>
        <p:spPr>
          <a:xfrm>
            <a:off x="5500800" y="2071800"/>
            <a:ext cx="29527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85920" y="157140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льчиковый театр, математический теа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7" descr="P1030862.JPG"/>
          <p:cNvPicPr/>
          <p:nvPr/>
        </p:nvPicPr>
        <p:blipFill>
          <a:blip r:embed="rId1"/>
          <a:srcRect l="7303" t="19457" r="12428" b="8558"/>
          <a:stretch/>
        </p:blipFill>
        <p:spPr>
          <a:xfrm>
            <a:off x="285840" y="2000160"/>
            <a:ext cx="3929040" cy="2643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P1030866.JPG"/>
          <p:cNvPicPr/>
          <p:nvPr/>
        </p:nvPicPr>
        <p:blipFill>
          <a:blip r:embed="rId2"/>
          <a:srcRect l="13663" t="0" r="17251" b="0"/>
          <a:stretch/>
        </p:blipFill>
        <p:spPr>
          <a:xfrm>
            <a:off x="4857840" y="2000160"/>
            <a:ext cx="26272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71680" y="114300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вижные игры на ориентацию в пространстве, на повторение прямого и обратного с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user\Проект фото\P1030475.JPG"/>
          <p:cNvPicPr/>
          <p:nvPr/>
        </p:nvPicPr>
        <p:blipFill>
          <a:blip r:embed="rId1"/>
          <a:srcRect l="0" t="0" r="20732" b="13722"/>
          <a:stretch/>
        </p:blipFill>
        <p:spPr>
          <a:xfrm>
            <a:off x="357120" y="2071800"/>
            <a:ext cx="3095640" cy="252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Проект фото\P1030491.JPG"/>
          <p:cNvPicPr/>
          <p:nvPr/>
        </p:nvPicPr>
        <p:blipFill>
          <a:blip r:embed="rId2"/>
          <a:srcRect l="6252" t="0" r="12503" b="15276"/>
          <a:stretch/>
        </p:blipFill>
        <p:spPr>
          <a:xfrm>
            <a:off x="4572000" y="2071800"/>
            <a:ext cx="32036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й просмотр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волн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P1040031.JPG"/>
          <p:cNvPicPr/>
          <p:nvPr/>
        </p:nvPicPr>
        <p:blipFill>
          <a:blip r:embed="rId1"/>
          <a:stretch/>
        </p:blipFill>
        <p:spPr>
          <a:xfrm>
            <a:off x="214200" y="1214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P1040027.JPG"/>
          <p:cNvPicPr/>
          <p:nvPr/>
        </p:nvPicPr>
        <p:blipFill>
          <a:blip r:embed="rId2"/>
          <a:stretch/>
        </p:blipFill>
        <p:spPr>
          <a:xfrm>
            <a:off x="4286160" y="142884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357200" y="642960"/>
            <a:ext cx="650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entury Gothic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entury Gothic"/>
              </a:rPr>
              <a:t>В ходе реализации проекта бала достигнута основная цель - у детей повысился уровень математический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entury Gothic"/>
              </a:rPr>
              <a:t>Сформулированы навыки коллективного творчества, взаимопомощи, сотруд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entury Gothic"/>
              </a:rPr>
              <a:t>Проект способствовал активизации мышления, памяти, внимания, воображения; активизации интереса родителей к использованию математических игр и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user</cp:lastModifiedBy>
  <dcterms:modified xsi:type="dcterms:W3CDTF">2017-06-13T14:52:09Z</dcterms:modified>
  <cp:revision>11</cp:revision>
  <dc:subject/>
  <dc:title>PRESENTATION  NAME</dc:title>
</cp:coreProperties>
</file>