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7.png" ContentType="image/png"/>
  <Override PartName="/ppt/media/image15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4.jpeg" ContentType="image/jpeg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20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801-7843-4243-874F-151FA6A4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12E-9091-4F44-A9D1-295FAA4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E61-FB05-468F-94A8-D3DEC14A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5DD-8243-4B9A-9C02-D2223065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3E5-309C-4EB3-950F-CEC2CA0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4A6F-A695-44AE-B0D7-90FF354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9DA-2218-4D2F-9961-3D5B8C0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5B3B-6AF7-4A48-A309-CEB1C64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8204-AFCF-41EE-945C-1C5868E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768-B350-41B5-9F5D-9BF5A37C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041-E6C5-4DEC-A7F8-CDE9AFD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BF0-91FB-44CA-8EFE-FE3C6B6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F6FB-5530-4754-916E-D49D528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87B9-1ED8-4D0B-96C9-4AB2696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B87A-E96A-4F43-B901-06AB578C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EC50-71BD-4E9B-994A-CFE24BA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92B0-7EA3-472E-B63B-D7ACD86C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49F-82E5-4190-8468-0AF023E3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CE1-F49F-4AA0-909F-8BB9303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561-AD21-4CAA-9D83-465DB85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30B-A04E-4835-98CD-099BACF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53E-59F2-4FC5-BB1D-6819D1A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830-6A4B-4117-A241-2F17F9F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C33-7EB5-4FD7-A06E-B37F34D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C0A-1508-476A-8516-668BAEF795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47B0-F1B3-4AAC-A408-6E32B5B689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Рисунок2"/>
          <p:cNvPicPr/>
          <p:nvPr/>
        </p:nvPicPr>
        <p:blipFill>
          <a:blip r:embed="rId1"/>
          <a:stretch/>
        </p:blipFill>
        <p:spPr>
          <a:xfrm>
            <a:off x="900000" y="981000"/>
            <a:ext cx="4753080" cy="165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4" descr="фото 1"/>
          <p:cNvPicPr/>
          <p:nvPr/>
        </p:nvPicPr>
        <p:blipFill>
          <a:blip r:embed="rId2"/>
          <a:stretch/>
        </p:blipFill>
        <p:spPr>
          <a:xfrm>
            <a:off x="6012000" y="76500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5" descr="Рисунок5"/>
          <p:cNvPicPr/>
          <p:nvPr/>
        </p:nvPicPr>
        <p:blipFill>
          <a:blip r:embed="rId3"/>
          <a:stretch/>
        </p:blipFill>
        <p:spPr>
          <a:xfrm>
            <a:off x="1619280" y="3716280"/>
            <a:ext cx="597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Из чего состоит твой завтрак дома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Object 8"/>
          <p:cNvGraphicFramePr/>
          <p:nvPr/>
        </p:nvGraphicFramePr>
        <p:xfrm>
          <a:off x="755640" y="2060640"/>
          <a:ext cx="787860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878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читаешь ли ты свой завтрак полезны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971640" y="1989000"/>
          <a:ext cx="7373880" cy="38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37388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Завтрак для ребёнка школьного возрас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j0223775"/>
          <p:cNvPicPr/>
          <p:nvPr/>
        </p:nvPicPr>
        <p:blipFill>
          <a:blip r:embed="rId1"/>
          <a:stretch/>
        </p:blipFill>
        <p:spPr>
          <a:xfrm>
            <a:off x="7639200" y="1916280"/>
            <a:ext cx="1504800" cy="120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223776"/>
          <p:cNvPicPr/>
          <p:nvPr/>
        </p:nvPicPr>
        <p:blipFill>
          <a:blip r:embed="rId2"/>
          <a:stretch/>
        </p:blipFill>
        <p:spPr>
          <a:xfrm>
            <a:off x="7486560" y="4076640"/>
            <a:ext cx="1657440" cy="120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0199687"/>
          <p:cNvPicPr/>
          <p:nvPr/>
        </p:nvPicPr>
        <p:blipFill>
          <a:blip r:embed="rId3"/>
          <a:stretch/>
        </p:blipFill>
        <p:spPr>
          <a:xfrm>
            <a:off x="7524720" y="5877000"/>
            <a:ext cx="117000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186076"/>
          <p:cNvPicPr/>
          <p:nvPr/>
        </p:nvPicPr>
        <p:blipFill>
          <a:blip r:embed="rId4"/>
          <a:stretch/>
        </p:blipFill>
        <p:spPr>
          <a:xfrm>
            <a:off x="7667640" y="189000"/>
            <a:ext cx="8827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684360" y="1701720"/>
            <a:ext cx="66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ая каша «С добрым утро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онадобится: 3-4 столовых ложки овсянки,1 стакан кипятка, 2 чайных ложка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овсянку кипятком, поставить в микроволновку или на огонь на одну минуту. В кашу можно добавить немного сливочного масла, сухофрукты, орехи, вар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онадобится: 250 г творога, 1 яйцо, соль, сахар по вкусу, 2 ст.л. муки, растительное масло для жаренья.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 смешать с яйцом, добавить соль, сахар, тщательно перемешать, добавить муку. Замесить тесто. Вылепить шарики, обвалять их в муке и расплющить, чтобы они были высотой 1 см. Жарить на умеренном огне. Подавать со сметаной, вареньем или ме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ожно творожную массу не жарить, а сварить в подсоленн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13"/>
          <p:cNvPicPr/>
          <p:nvPr/>
        </p:nvPicPr>
        <p:blipFill>
          <a:blip r:embed="rId1"/>
          <a:stretch/>
        </p:blipFill>
        <p:spPr>
          <a:xfrm>
            <a:off x="900000" y="333360"/>
            <a:ext cx="792000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Рисунок12"/>
          <p:cNvPicPr/>
          <p:nvPr/>
        </p:nvPicPr>
        <p:blipFill>
          <a:blip r:embed="rId2"/>
          <a:stretch/>
        </p:blipFill>
        <p:spPr>
          <a:xfrm>
            <a:off x="3059280" y="1600200"/>
            <a:ext cx="3384360" cy="2333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41493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 завтрака способствует лучшей успеваем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ка в школе, укрепляет здоровье, повышает на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й подарок для девочек/авт.-сост.-Т.Г.Шлопак-Минск:Харвест,2007-2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о здоровье детей/Под ред.М.Я.Студеникина, 199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здоровы! (Как не болеть и не ходить в больницу) /Под ред. Г.И.Гусаровой, Г.П.Котельникова – Самара: ГУСО «Перспектива»,2007.-30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здорового школьника/авт.-сост.-Н.Б.Коростылёв – М., «Просвещение»,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j0213507"/>
          <p:cNvPicPr/>
          <p:nvPr/>
        </p:nvPicPr>
        <p:blipFill>
          <a:blip r:embed="rId1"/>
          <a:stretch/>
        </p:blipFill>
        <p:spPr>
          <a:xfrm>
            <a:off x="826920" y="333360"/>
            <a:ext cx="1447920" cy="1028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2627280" y="260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Arial"/>
              </a:rPr>
              <a:t>Работая над темой, мы познаком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99"/>
                </a:solidFill>
                <a:latin typeface="Arial"/>
              </a:rPr>
              <a:t>со следующей литерату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ак полопаешь, так и потопаешь!</a:t>
            </a:r>
            <a:br>
              <a:rPr sz="36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7" descr="i?id=43369213&amp;tov=7"/>
          <p:cNvPicPr/>
          <p:nvPr/>
        </p:nvPicPr>
        <p:blipFill>
          <a:blip r:embed="rId1"/>
          <a:stretch/>
        </p:blipFill>
        <p:spPr>
          <a:xfrm>
            <a:off x="1258920" y="2133720"/>
            <a:ext cx="2735280" cy="365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Рисунок1"/>
          <p:cNvPicPr/>
          <p:nvPr/>
        </p:nvPicPr>
        <p:blipFill>
          <a:blip r:embed="rId2"/>
          <a:stretch/>
        </p:blipFill>
        <p:spPr>
          <a:xfrm>
            <a:off x="5148360" y="2133720"/>
            <a:ext cx="338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облема: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аково влияние завтрака на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рганизм школьников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040" y="1571760"/>
            <a:ext cx="6548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ределить роль завт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Рисунок3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2956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642960" y="292896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3714840"/>
            <a:ext cx="7459560" cy="23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теоретический анализ проблемы влияния завтрака на организм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последствия пренебрежительного отношения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данные по питанию в школе и выяснить какое количество учеников нашего класса завтракают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идеальный завтрак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потеза нашего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417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трак способствует укреплению здоровья, повыш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оспособ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ает      на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Люба 251"/>
          <p:cNvPicPr/>
          <p:nvPr/>
        </p:nvPicPr>
        <p:blipFill>
          <a:blip r:embed="rId1"/>
          <a:stretch/>
        </p:blipFill>
        <p:spPr>
          <a:xfrm>
            <a:off x="4932360" y="1773360"/>
            <a:ext cx="37879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следования учёны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912960" y="1589040"/>
            <a:ext cx="7703280" cy="4462560"/>
            <a:chOff x="912960" y="1589040"/>
            <a:chExt cx="7703280" cy="446256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65680" y="247140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764600" y="337320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9640" y="247140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609000" y="158904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91296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втрака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3-4% быстр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60900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пуска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втр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4-5% медлен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305400" y="4266720"/>
              <a:ext cx="231084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е завтрака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ибавка в ве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5-7кг в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тательные вещества содержатс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4 группах продукт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Рисунок8"/>
          <p:cNvPicPr/>
          <p:nvPr/>
        </p:nvPicPr>
        <p:blipFill>
          <a:blip r:embed="rId1"/>
          <a:stretch/>
        </p:blipFill>
        <p:spPr>
          <a:xfrm>
            <a:off x="826920" y="4005360"/>
            <a:ext cx="2808360" cy="20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Рисунок6"/>
          <p:cNvPicPr/>
          <p:nvPr/>
        </p:nvPicPr>
        <p:blipFill>
          <a:blip r:embed="rId2"/>
          <a:stretch/>
        </p:blipFill>
        <p:spPr>
          <a:xfrm>
            <a:off x="5364000" y="1628640"/>
            <a:ext cx="2880000" cy="212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исунок7"/>
          <p:cNvPicPr/>
          <p:nvPr/>
        </p:nvPicPr>
        <p:blipFill>
          <a:blip r:embed="rId3"/>
          <a:stretch/>
        </p:blipFill>
        <p:spPr>
          <a:xfrm>
            <a:off x="900000" y="1628640"/>
            <a:ext cx="2733840" cy="2121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исунок9"/>
          <p:cNvPicPr/>
          <p:nvPr/>
        </p:nvPicPr>
        <p:blipFill>
          <a:blip r:embed="rId4"/>
          <a:stretch/>
        </p:blipFill>
        <p:spPr>
          <a:xfrm>
            <a:off x="5364000" y="4005360"/>
            <a:ext cx="2916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Анкет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7" descr="breakfast"/>
          <p:cNvPicPr/>
          <p:nvPr/>
        </p:nvPicPr>
        <p:blipFill>
          <a:blip r:embed="rId1"/>
          <a:stretch/>
        </p:blipFill>
        <p:spPr>
          <a:xfrm rot="20239200">
            <a:off x="5867280" y="549000"/>
            <a:ext cx="285768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рис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втракаешь ли ты дом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Object 18"/>
          <p:cNvGraphicFramePr/>
          <p:nvPr/>
        </p:nvGraphicFramePr>
        <p:xfrm>
          <a:off x="755640" y="2060640"/>
          <a:ext cx="777708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777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колько раз в день ты ешь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826920" y="1844640"/>
          <a:ext cx="770580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70580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45:26Z</dcterms:created>
  <dc:creator>Здравствуй</dc:creator>
  <dc:description/>
  <dc:language>en-US</dc:language>
  <cp:lastModifiedBy>Admin</cp:lastModifiedBy>
  <dcterms:modified xsi:type="dcterms:W3CDTF">2017-06-13T09:20:36Z</dcterms:modified>
  <cp:revision>10</cp:revision>
  <dc:subject/>
  <dc:title>Слайд 1</dc:title>
</cp:coreProperties>
</file>