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18.gif" ContentType="image/gif"/>
  <Override PartName="/ppt/media/image4.png" ContentType="image/png"/>
  <Override PartName="/ppt/media/image15.gif" ContentType="image/gif"/>
  <Override PartName="/ppt/media/image1.png" ContentType="image/png"/>
  <Override PartName="/ppt/media/image17.png" ContentType="image/png"/>
  <Override PartName="/ppt/media/image14.gif" ContentType="image/gif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dt" idx="28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 type="sldNum" idx="2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1F7E6-6B2F-45EB-979C-84CA435B3DB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D066B-592C-4F68-9F64-A4C13CA73B7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70B44-5AD7-43C8-A0CD-B0BEAFFB34E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6EB86-8D7A-4359-A88A-C2F44B183B8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1A49C-644D-4964-AAA5-29A778150C1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6FE3B-8444-4AAB-809F-D2AE2C30B50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8D001-E824-4F0E-BD11-F3895B5A600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AFA2F-6A73-4EFC-B175-5DCF5E50883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42678-EECA-4820-B94B-DFCF07A716A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C8E06-A37E-4203-8309-4BCA4A58D25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5376D-6A0B-4F12-8838-BD8676512B5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9CCDB-F4EE-4CB8-8C40-9BB9F8F08B8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A7C4D-355B-4EAC-A5C3-CA657227FEA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233B7-824A-450E-A7B2-3623D9F3B36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FB84C-52DC-4373-9A10-3ADED0B22B4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4739B-60EF-4BEF-8F38-B956EA589D8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CDFA2-22A8-4755-A8DD-13FEB6E5CE1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E3F16-71CE-4D29-9217-DA6486B6555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3B097-A360-40C8-AC63-B234FF05C6C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98258-6491-449A-8030-D12DA5CABED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8F855-497A-447F-A9D1-18239A179E2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2AA9B-444E-4BC0-A570-ADEA03B0FCB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3BB0F-1183-467E-B7DC-7940BF74DC3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74A47-1EA8-4431-9470-31EE2BAFAF6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743E-DA70-41AB-A3EB-2D3099572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558B-D282-4982-AEED-1765216926A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6C65E-EEB6-40BD-9555-02A812DCFD6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223E4-C73C-4994-B3CF-D32A9C3A490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CE6EF-AC73-46B6-A318-89B24E9E401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5F5E6-31B7-4C74-B7C0-A274B9C8A84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65B56-2ED4-4383-A3CA-609F4EA4630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29510-45A7-43B5-8D30-63655999B54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B6B42-0C0C-4192-BEDE-58129A407D6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9A644-57FF-4CAC-8F05-C1A71D4017B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26CF3-5AA5-4302-A55B-39A7577C150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3E0376-A166-4501-A085-44AC2AC13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8BFB-6AB8-4912-83E0-93DDF81A5ED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4ABF02-AD87-4787-B34D-BCBD46F5A9F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63154E-9B52-4886-B893-7F068563155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2DA0F6-05D6-4B12-AE99-2BF37216771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516AAD-117D-461C-B2AE-A30C5B02815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BA1ADD-90C8-4CD4-842D-6BC2B3E11C4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47DC69-B58F-457A-A620-F56F5B11A6F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5C6555-C2E3-4DFA-9FD5-42A695A576F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5077A1-4B99-4021-901C-DE6B4CF9E28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7ABB5B-93D0-494A-BEFA-AA4527F2B27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496A77-D081-403F-9306-199327CA9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F2EB-EDFE-4816-8EA3-FFADA1621B3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935824-3940-4594-B054-C5F0DE07CDB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125B2F-6AAF-40C0-A2B7-854751B6028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822910-8371-46EF-BC1E-805E209A592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D2E957-5E38-4743-990D-F1AF07A45CF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CE1C7F-F18C-45C6-807F-AB70BDAB13F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570BDF-D259-4D0C-A2EB-F404F63F672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B591DF-2BAA-469A-83CF-4C0C83A40F0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611DEA-35CA-4521-AA80-76124E56066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2CCFC9-1DE6-4197-91CC-025C73F4572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3DE175-5CF3-4794-A53B-6947A3AAA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230D7-DDEA-456D-8A18-295CD6D306A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19FB8-38BD-4F54-B340-244567FC8B9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D25937-9F6A-4A19-A21B-11A02E4A61C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BED92-0B40-46C3-9022-3F56BCCA5A0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4D53B-517A-48A7-A840-5EDF8FB895C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C32F4-11DB-4D2E-A584-84027BABF9A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96710-0D12-4EA1-A2D1-BB4C8EA0BC1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38F1C-EA37-4C2C-B621-4AD5A7B161F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01C7F-225B-465A-B850-D59065D21EA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AB9E3-EF0E-4EB1-8332-B64686A7B6E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22C0F-3B1D-407B-8831-B679FC260D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35D78-7833-4451-8DED-D933F00179C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C690C-FC51-42A2-AAAF-8CD02429BA3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918D6-F19B-4B97-A49A-599BF68CE4F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8A4BA-57E0-451E-87C2-750B95FFA7A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08D17-E3DC-44E8-91F6-F2FA96AC7EC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1A825-695A-47F5-9CDE-98842579493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2C1D02-2795-4F9A-9B47-98E3EAB9333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725531-5F5E-4605-A209-DFC4C5DB862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653E28-C996-4F69-BE4B-B84E73DCE08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937E5A-87B5-4DEA-88CC-3E2721669AD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600BC6-A40B-46D5-9B77-8BB1DC1D4E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57C0C-ABCC-4BE9-8A44-EC3C54A45B8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9A331D-2981-491C-B3B5-980A7C761DE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8552DA-6490-456E-90F9-796E22A5879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9DBC6F-D079-4AAE-8DD4-CC710CADACD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5E31D0-F7CB-4210-B9F3-8E93CC86E65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F823B2-220F-4AB3-B02D-BF9F7A58E5D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B2334B-D5BF-4B7A-91CC-56D47373767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49735F-92B1-4C08-A3AD-A11E0ED3876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CB82AC-5A6B-4342-BEDC-972D69FBF7F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152E4B-D083-40DE-8DF7-976E1BA53A3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AAB78-F8B7-42AE-8271-621E2C66E3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1B8D1-BA00-4430-8CB1-4E75B44C164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03C326-8A98-44CE-851F-3B693205B6A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A9D96-4947-4F61-9507-64BCAAE2A00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FF593-A430-4D0E-9046-1A2B1D11E8C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B0CEC0-7493-4505-9CEA-98D24FDABE5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42D8B8-327D-4D2D-89EB-6FABD1C4833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873DF9-9F89-4E89-846D-0DF2F049A4C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39F1DB-5F9A-42B1-9C44-AF36174AAE5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7BA6C4-7DC0-41D8-8B83-EB896FFAAEE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8EA9FC-754A-4A8E-A97B-BCEC6825BA2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43093-B2EE-47F4-97D3-00DFB37B31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E7A84-E729-4004-B1DF-1659826FB64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7373F-203D-494D-825D-E371F5D7CF2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1BEF2-78CF-4035-993A-8B7D518199D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E6F01-1EA9-4FE4-BCD5-48B18FEC798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61407-8E68-4B0C-ABE7-D8775CC9416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5E5C9-B029-491C-8B28-6CEDEB9A8C4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4CFD0-B8CC-42B9-8179-615EA834457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DA9B5-A207-452D-BA51-7F394E230A2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7498E-F62B-421E-9E7B-6271C9012BB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BE873-73B7-4CA6-BA04-25852356DF8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DD96C-6A7F-4F75-880B-FB2DB1FCD5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22F8C-91A1-47B6-83BF-19D7F15662F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9EA9F-DD46-4E70-88C4-D984C8198AD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905A62-8B0E-477C-AA7B-3EEE7DB3741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028C4A-796A-46B2-A0B5-163DD8F3248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8D9E4A-8AA4-40CF-BA27-EFA5700E0BD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C3B835-A527-446A-A2D9-1E85B8A61E4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A0F9E4-1200-468A-A571-FE0EEE84EF8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84403C-18CF-49E4-AAF9-6ED01CAF8AA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D57000-1E79-4998-841A-B263298F634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28F00D-AA60-472E-8D8E-C0D464A6388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31203E-D94F-4A74-86A4-6E84C402F3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5D36E-F1B3-4707-B45B-63873090B7B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04C5BA-B827-4512-ACBC-4333F5DA7DB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AD5C60-2E02-4201-911A-6A19DF3C8BA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A8409E-4DED-4C1A-AE30-22B96D9C0AE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31DB8B-CA9C-46D9-A009-B01C3BEF545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A517F-CEBD-46AB-BEDB-BF9D3E8C84D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16990E-2927-44FC-9CC7-A6AD2ABCDC1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7464A5-CD9F-4350-A19A-57810626CB5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E1B9C6-CCE1-47E6-BCE3-4391A76C3E1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7095DD-30AF-4CB6-914F-FFBB05699C1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699083-C25B-4572-94C1-27877D9061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D87B-A8FB-4E2F-A110-67825A662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FBE76-3695-484B-86E0-124F1F7EE2E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17F5B4-17BE-42E7-BCF6-0D6C79B7493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FAE19-7BB6-4BC4-982A-91088DCFB46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6E625-CB02-4232-9CE4-61ED8E48EEB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71A02B-62D7-4B43-8CFC-AB95DE2BC84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E071E6-88FB-4378-A6D0-0B02C36CD05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41D46-3591-478B-A9EA-00422AC0CCC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EDBAA-4B55-40F3-B8EF-EDA1A3EA384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047F8-4622-4525-B91E-FAB31345E62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8B07A-A5CF-477B-B0A5-273066691E7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4D9AC-8826-4542-95B7-380E6503E7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528F-2A68-44E2-AC82-C7D6E2018A2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43035-5EFC-4708-BF18-1FF91A95F84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B4B2C-01EE-430C-9AD9-2FB53C079E4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40941-C02E-4A05-B69B-1C89687BF02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37B0B-CEFF-40DE-BEB2-44A13F74C78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8F5D1-907B-4887-A816-8CB47800A86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E7AF3-377E-40BD-80AA-B8EDD82AFFA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051EF-CF97-4BE7-BE5B-F9BDF249B97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7B7B7B-B5E4-4471-8205-F2F891203AE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9B391D-24F3-46BF-B331-28BBC2C43D1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604483-EF94-4435-A579-D20A0E38A1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CA105-0D35-4B40-8017-23607354408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2C5CC4-87E2-4862-9DB9-B4A8F66A68D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AB3425-56CE-4C89-83DA-2DE2B4C02DF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86DFCD-5759-4F9A-BC19-A549D16E1F7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2A61A7-0C0C-46A3-99BD-94ACC236B1C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EA2C16-4775-495B-A6DE-AEA66D026A6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DD1E4C-CF24-4D0E-9294-EA6E6A564C4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DA2FAF-E874-4477-A05F-AAED95C47AA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6D2212-D576-4CE3-B78C-B4FB93B3A4F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538ECA-B27F-48A7-8F0B-89733EEA748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D20B25-2F98-48B5-9909-4A3AFF3573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7B4FB-F106-420E-86E9-95CA30794F4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7D05DC-7EF9-4BAB-8ADC-DCC1E013E37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A77F64-533B-4E8A-A4D5-4FEB9314D21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E9A86-C5D8-4FD3-8AA9-30677F558E4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606620-9058-4F6B-A29B-9F9CCE07FD7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59BD0-6841-4D52-9F90-985C1285EB5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AA6B7-D18F-4CC2-9A3B-DD37F0F6D42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9738F8-2C44-4E42-9C90-5B6F1B82949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3DD8F8-4AE9-4138-8D5B-49462D8CF93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EB1C3B-D6A0-4098-87ED-51979915A1B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048B6-4F21-4D75-B735-E1B8ABC7C7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B8E97-94DE-4E65-9F6B-C2ACD7C5054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87AD47-AC00-441C-98E7-5C47FF071E8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45D7D-02E4-4ED4-9554-F59C0BF9964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1A82D-8EF5-482F-BEFE-06FC45CC28D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77115-2D26-4A1F-9A4F-3CB8DD38758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6CD54-E62E-4D5E-9849-DDBB346DAE9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39841-CAD1-47F2-B770-3344693601B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365FA-978D-4D76-B5F6-C6C335AFA8F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24465-44FE-49E9-A2C7-AFA1AA01EF4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932D8-E2FC-41DF-954F-D07A459CC04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F185F-5417-4CA9-9369-445F8D5239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F809-D4F8-48B9-A048-1DA8AE86FAA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C62D9-312C-4792-8344-C7C60B43994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F8709-132F-4279-A8C5-6B319AC966A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7C0FC-2CCC-419B-9A39-ED88979F8D1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EB54D8-23FC-4D8E-9D02-9CC20135B48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3F3BF2-5E39-4C24-8445-3D7A0652BBD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9C72B2-8588-487A-B03A-112EE3EEC98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ED529C-EC67-41D2-A816-8EB057C1144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BD413F-753E-448D-ACBC-23F0EDDE455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F24066-3469-41C0-86DD-45F14B42261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47DDDF-5209-4FC4-AB6A-25FF10C5AC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8BAF-B130-4DE6-AEE3-708173BF9DE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3D8A50-9409-4657-AF8C-07980FFA24C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2F34A7-6416-41B3-8AF9-1BF56ABE3F4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C39787-707E-40AE-820B-7575E7D07B0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348FAB-1BDD-4EE0-B385-2B431EFF8D4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F60E70-76F9-49B4-9454-904E706DFF7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BED913-CD54-4570-9D40-6353F7EDB61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8D7B08-6696-45FD-8668-D04C07F003F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05FC3A-BE58-4552-A419-DBACB859A44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BEB083-924D-41DD-808E-397B139D25E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54D2AD-751D-4AC5-A894-2537BBC18D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624-53B9-42A3-A253-5C9A5F3FB41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D5BB72-7D16-4A4D-B211-71663354F9E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CA3954-B50A-4434-82A3-0062491B597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D11FF9-1AEC-4EDF-95A4-8307B707DA9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2E861A-6E37-482A-BABD-3C8C8675C87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1F7633-99DB-4D97-B935-3AAA88EF494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EEE484-09BC-4242-ADBF-5E5F395542F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3D4B05-7AD5-4BED-9118-1BAB621DFDC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8D5B9-60ED-4A30-9671-013AF88BF8C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FC350-9D9E-4D64-8FD3-2A4F8BCB8D3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C7304-BF62-41A4-9F21-88B100D63B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106A-69F1-45F5-9A4E-132F79B364A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17D0D-4F9A-4EA3-B630-1CDFD671720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0359B-42E6-4544-AD7F-A71C2491864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09B75-26E4-48D1-BC52-C318E82608A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1DFDB-5B0A-42AE-8AE1-B28C7EF8FE2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F5541-FB22-4A2B-A488-AC3ACECCBBC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43FE0-D487-4308-984A-412296985BB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91099-2A41-4E36-8F68-C1CF42A6BBB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4612D-8558-47B6-85CE-F6A485C5FE2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E9D64-6FBB-474F-AD76-BFB24F12D49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94C91-9957-4BD5-A8D7-4CDAD94990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9DD8-BF94-4535-99D3-045A1D3B021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7D7EA4-055A-4848-B60A-ACFD0B9F897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0F28B-C7B7-445C-ABC1-CAE290FA855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2474D-DF75-4693-85D6-0E5A402767E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7CCC6-201D-4740-BD8E-E69BBF961C9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301D75-65A8-4C1E-ADB6-3075280D72A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85949-31F1-4026-A159-FCDBEC10C28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E21D0-4BFA-42FB-8DC6-672FAA24567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80B5AE-6EE1-44B7-BC0D-5CD88209205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B0BC3-CB3B-4C4E-B56D-B0D2339C9F5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FF6A0-A06F-459D-B25F-6BB690DC1C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31B3-D47E-4A6D-B12A-99B8C12DDF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C36-9534-48CB-A3A8-E1DD7CEE86B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526EEA-DFAF-4767-B169-4EA5A1BEF92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71044A-DC24-4CCE-9ABC-83F8DD85C02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E4A1B1-2D09-403C-A2DD-6697272CB0E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6D8EA3-BD46-4230-AD3F-FA9226FD5AB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99A7E9-F5B8-4F73-8631-DF62ABD9FED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FF5F4E-43E3-4E43-8FD8-844CFCECC8A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07CF22-8B42-4345-8793-53B139FA90D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7C35F3-2E33-4D27-A1E3-F71C5EFB5B7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E03FA8-454C-4191-BC75-FEBC5691C2E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72E2C2-0308-4AB1-9042-89BA8BA6AB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C037-6B17-4E48-BE86-023F55F9E3C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C10F9B-6562-45BD-94A6-370E1A4F9D0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4BE82B-B6D8-4356-93EB-D0BB97C64C1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DAE5B0-AC3A-408D-B98F-35CC5580CF2B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F5236-30D7-4CCE-891B-73ADB750A86F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CE657-BFE9-4872-B61A-5CFAF94F61B0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5A069-CD7B-420E-BBCF-92E43A409D22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5A449-964E-49A0-B957-CEB06E72AC16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31EDD-3D03-40DF-A10F-30FDF5EF023D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EEF35-AE41-4DAD-85D3-37D7854061DF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08658-9FD7-40CE-958F-70B5E3D33B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EBF-22C3-4DBD-B784-FE3D174E475B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08C83-4DF6-4DD2-8EC0-E7ED0D4E6FB0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3569C-A78D-43D6-8BDA-A02C7BC9AE5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24B64-6392-404B-A959-3C3829F7AB79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5AA9F-0371-4931-A851-580B06DEAA2A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59AB0-E6C2-4E21-8197-E5AF89C99D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CA61-7F27-44B6-A2E5-F6D7537034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031E-0CDB-4B1F-BA03-EE0FF46A16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354-9CA6-400A-9D07-C15BA9659F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19C5-7BFB-425A-A74A-8F4D555A779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93EFF-FA4E-47A0-87C0-FB177BF7B0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EB8F0-1102-403C-B12E-3782A9EE4C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806A2-E825-49B9-B590-065151EF0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89A5-FD20-4DD3-85AE-76A5CAB197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28443-2D46-4E01-8E1A-757E928196B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C22F0-BECE-4BB6-A78C-F006991114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BE7BB-DA8B-4C27-A678-9AD0B0BB2EE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87498-5337-4C16-AA35-65017DF439E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E8DC3-162E-4CE0-8738-0A9B137FAC2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924B0-F6E3-47B4-BED8-3B1C47373DA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2B684-4C35-47FA-9F52-E03DC9814C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D80E1-84C8-4A26-82BD-E3838D9256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F1AA8-1A31-4904-B85A-FBDF52C1FB1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FD69D-E4E5-4D7B-A2E7-64CD8144D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5CC7-2024-4259-8217-BD23E4E987F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FA35D-4324-48AA-8F60-B30CF38E441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ED509-DCE1-4708-9C60-D9B303DD4F5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53AB9-7B78-453E-8AC9-88EAD5670B2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3EE63-E35C-43F3-8905-31162B364E4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DF5D2-57A0-4702-BA45-910E026BFE7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53D57-99E6-4921-8424-2D1F7C87FDB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DC65F-5CC8-41E3-A58E-436CF90B28C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E82BA-0DC8-468D-A942-24AE0FDB2B1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442AB-A060-436F-9748-B3F20DCFA88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CB732-9044-41EA-A473-F73B81CC2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7E0A-4DF4-4E73-A42D-6F7520EC6D0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97FA7-2539-43AE-9FDA-F779EA14C59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07DF-8AA8-4282-AFD0-A188F075E26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31CC-8C27-4EE5-9E7D-6F60EC27C9C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F78E-C648-4E71-AFBD-ACF30E07B98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7159-C621-4600-8085-5D03F100B18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2507-A2A1-4CEB-A725-CAA7A06F0CB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D373-E8C3-4662-BF46-12BAF566500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175C-D742-4DBF-8F1A-477E5593CE3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7BCE-7ACC-4214-90CD-95D1B47E463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9072-1E6B-49DE-9D38-3BBA5F1E3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7B15-C54E-43E8-965F-59E31137390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AEE0-4D7A-4443-A764-2C51168CF47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E8D6-A551-4E08-951D-0D2D7DF638B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F55A-9FFD-4952-99EC-480DADD9B75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E2DFEB-089C-4AC7-8DB4-C51554191E0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0CBC32-2806-4FA8-A54C-B81B0FA8D57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2504CF-2E49-4738-B801-F7E4A6D0005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1C2C6F-31B8-406F-A243-B0490729543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54CBF1-9974-49E2-8C46-D86B2D32847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167614-7F7D-43CD-9075-C6CC7306378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400A68-07E6-4E4E-8DAC-0C70F9846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EC5C-FC65-408F-8433-98FC3D11FD0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6AC15A-FA66-424C-A04B-1E7E045D404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4464E4-8E98-4661-856D-3339A980413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F39CBA-5F73-4B39-8B9E-09E7EFED272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57626F-2316-4F0E-9D31-D93FF020BF1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B2C5C3-9B6D-4C02-B17D-2DFF7D57F00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50EB2-3AC7-4CAB-BD62-854474D3A9F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1D28F-7713-4B82-929B-3B1A6937E71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DAD7C-4441-41BF-80D3-50E1A4F4CA6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F6759-D455-4A2A-9644-214246A4242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CCCE1-D34A-4F0C-8A99-5686D9697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C5D1D-A99E-459C-B972-6BCE3ED60B9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225BC8-D133-4710-9910-C21A76E2812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BB722-437F-45BB-8D4D-389770AB33C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13D99-3E56-4F50-9569-D4900FC1E77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4286C-6011-4115-BFC5-90AD3AD4AB7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735B1-17F3-4ADC-812D-9FEC5C4283F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47C48-2916-4154-BE22-7E11714545B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F3711-1FD3-4CE2-B673-EC6656BD505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88D4E-5245-4A79-8081-E267AA70DDE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21299-A1CD-4500-86C0-D58301B9821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BF624-B7C4-4D05-AB4A-993853C2C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6880" cy="6854760"/>
            <a:chOff x="0" y="0"/>
            <a:chExt cx="7616880" cy="68547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7160" cy="6854760"/>
              <a:chOff x="0" y="0"/>
              <a:chExt cx="3197160" cy="68547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58880" cy="68547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39960" cy="116352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240" y="1981080"/>
              <a:ext cx="7388640" cy="316080"/>
              <a:chOff x="228240" y="1981080"/>
              <a:chExt cx="7388640" cy="31608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07400" cy="3142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7880" y="1981080"/>
                <a:ext cx="390600" cy="3160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0DD1E-5FC3-4B90-96F3-8AEA62D1586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0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CA4EE2D-A9E8-40E5-B43C-4CBB3F15C102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11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A5AC376-5012-4467-B993-E918DAD97FD1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2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57C059B-6B9B-41A6-8C81-BE8B864ECB41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13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E29EE58-EB2F-4705-BD05-9F22D6E35959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Num" idx="14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BC5C317-88E7-41DB-BA61-7D0FC94A04B0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15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1C9D42C-5444-4C9E-8746-0D7BA6F827AE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639" name=""/>
            <p:cNvSpPr/>
            <p:nvPr/>
          </p:nvSpPr>
          <p:spPr>
            <a:xfrm>
              <a:off x="0" y="0"/>
              <a:ext cx="3502080" cy="685476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16120" y="1690560"/>
              <a:ext cx="7424640" cy="25304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0" y="1066680"/>
              <a:ext cx="2863800" cy="3154320"/>
              <a:chOff x="0" y="1066680"/>
              <a:chExt cx="2863800" cy="3154320"/>
            </a:xfrm>
          </p:grpSpPr>
          <p:sp>
            <p:nvSpPr>
              <p:cNvPr id="642" name=""/>
              <p:cNvSpPr/>
              <p:nvPr/>
            </p:nvSpPr>
            <p:spPr>
              <a:xfrm>
                <a:off x="573120" y="3583080"/>
                <a:ext cx="573120" cy="637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716120" y="1690560"/>
                <a:ext cx="571320" cy="6397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281320" y="1066680"/>
                <a:ext cx="582480" cy="6318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141560" y="3583080"/>
                <a:ext cx="581040" cy="637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81320" y="1690560"/>
                <a:ext cx="582480" cy="639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141560" y="2324160"/>
                <a:ext cx="581040" cy="6300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0" y="2324160"/>
                <a:ext cx="579600" cy="6300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716120" y="2324160"/>
                <a:ext cx="571320" cy="6300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73120" y="2948040"/>
                <a:ext cx="573120" cy="6411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141560" y="2948040"/>
                <a:ext cx="58104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sldNum" idx="1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91EDC-3DA6-4B55-8D12-0DF3D9A3ED87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sldNum" idx="17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9F8EA-517D-49D2-8EC0-32ECFE215267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E17D0-D2CB-4120-B7F9-2D13570E1516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sldNum" idx="19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8EC1A-70EE-4A91-A408-54FED545A7EC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B9109-68EF-41CD-92D7-89A13AB68FBF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9140760" cy="542880"/>
            <a:chOff x="0" y="0"/>
            <a:chExt cx="9140760" cy="5428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2600" cy="53028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2920" y="135000"/>
              <a:ext cx="8727840" cy="27144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9680" y="135000"/>
              <a:ext cx="135000" cy="1378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7560" y="0"/>
              <a:ext cx="136800" cy="1350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7560" y="135000"/>
              <a:ext cx="136800" cy="137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4680" y="274680"/>
              <a:ext cx="133200" cy="1350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1760" y="136440"/>
              <a:ext cx="138240" cy="1350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9680" y="271440"/>
              <a:ext cx="13500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4680" y="409680"/>
              <a:ext cx="133200" cy="133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sldNum" idx="20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FDD76-105A-4AE6-A702-83AACBB0A99E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F9C47-C677-4472-AC5B-CBC50485DD45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5F65F-DC2B-4897-BCEA-E5A0E05B1058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3F96A-9599-457D-AAE1-52B6FE55C520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69E58-151C-4CF4-89B7-9ADD2E939E64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sldNum" idx="25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11D1C-66E5-4790-8E39-35ADE98DAE32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sldNum" idx="2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275C8-FC54-4367-94BC-49EEFD9FE173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sldNum" idx="27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F47DE-0968-42E2-93D1-0FC298204B78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5864400" cy="6854760"/>
            <a:chOff x="0" y="0"/>
            <a:chExt cx="5864400" cy="6854760"/>
          </a:xfrm>
        </p:grpSpPr>
        <p:sp>
          <p:nvSpPr>
            <p:cNvPr id="100" name=""/>
            <p:cNvSpPr/>
            <p:nvPr/>
          </p:nvSpPr>
          <p:spPr>
            <a:xfrm>
              <a:off x="0" y="0"/>
              <a:ext cx="4568760" cy="68547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990720"/>
              <a:ext cx="5178600" cy="19018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632040" y="4889520"/>
            <a:ext cx="4873680" cy="315720"/>
            <a:chOff x="3632040" y="4889520"/>
            <a:chExt cx="4873680" cy="315720"/>
          </a:xfrm>
        </p:grpSpPr>
        <p:sp>
          <p:nvSpPr>
            <p:cNvPr id="103" name=""/>
            <p:cNvSpPr/>
            <p:nvPr/>
          </p:nvSpPr>
          <p:spPr>
            <a:xfrm flipH="1">
              <a:off x="3632040" y="4889520"/>
              <a:ext cx="4623120" cy="3142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248680" y="4889520"/>
              <a:ext cx="257040" cy="3157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76320" y="624816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29557B6-70C5-4F59-9762-00D0B5DB7C77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4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E37D1AB-3C39-4903-BA7D-672F6E9BAD8A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5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2CE6DA9-5021-4748-8531-34BF5FD2BD11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6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11EE4EE-6C9D-40DD-996E-0D54574ABFAA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7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0373FB3-5F5F-4AA3-B284-028F56603631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8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21248B3-BFAE-450D-9BCF-1242E376655D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9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B0E32B9-3FE2-4781-BA38-A57A711023DD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4716360" y="5516640"/>
            <a:ext cx="4427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РОЕКТНАЯ ДЕЯТЕЛЬНОСТЬ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МЛАДШИХ ШКОЛЬНИКОВ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укушкина Л.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812880" y="57240"/>
            <a:ext cx="78087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ипология проектов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84360" y="83664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жпредметный (интегрированный)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проект, интегрирующий смежную тематику нескольких предметов, выполняется в основном во внеурочное время под руководством нескольких специалистов в различных областях знан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755640" y="2708280"/>
            <a:ext cx="806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то могут быть небольшие проекты, затрагивающие две-три предметные области, а могут быть достаточно объемные, продолжительные. Разделы (темы) программ по разным учебным предметам группируются вокруг проект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826920" y="4076640"/>
            <a:ext cx="80661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егрированный проект предоставляет возможность использования знаний в различных сочетаниях, стирает границы между школьными дисциплинами; сближает применение школьных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й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с реальными жизненными ситуациями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755640" y="981000"/>
            <a:ext cx="792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еграция позволяет перейти от изолированного рассмотрения различных явлений действительности к их взаимосвязанному комплексному изучению, дает возможность показать мир во всем его многообразии с привлечением научных знаний, литературы, живописи, что способствует эмоциональному развитию личности ребёнка и формированию его творческого мышлени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826920" y="3213000"/>
            <a:ext cx="7848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ащиеся с большим интересом начинают подходить к изучению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ного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материала, понимая, что он им необходим в дальнейшей работе по проекту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dur="indefinite" fill="hold">
                      <p:stCondLst>
                        <p:cond delay="0"/>
                      </p:stCondLst>
                      <p:childTnLst>
                        <p:par>
                          <p:cTn id="4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420" dur="indefinite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dur="indefinite" fill="hold">
                      <p:stCondLst>
                        <p:cond delay="indefinite"/>
                      </p:stCondLst>
                      <p:childTnLst>
                        <p:par>
                          <p:cTn id="4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dur="indefinite" nodeType="after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880920" y="314280"/>
            <a:ext cx="78152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ипология проектов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24000" y="1268280"/>
            <a:ext cx="8569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ини-проект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укладываются в 1 урок или часть уро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раткосрочны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рассчитаны на 4-6 урок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редней продолжительност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укладываются в 1-2 месяц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4" name="" descr=""/>
          <p:cNvPicPr/>
          <p:nvPr/>
        </p:nvPicPr>
        <p:blipFill>
          <a:blip r:embed="rId1"/>
          <a:stretch/>
        </p:blipFill>
        <p:spPr>
          <a:xfrm>
            <a:off x="2916360" y="3780000"/>
            <a:ext cx="2906640" cy="30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dur="indefinite" fill="hold">
                      <p:stCondLst>
                        <p:cond delay="0"/>
                      </p:stCondLst>
                      <p:childTnLst>
                        <p:par>
                          <p:cTn id="4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47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395280" y="331920"/>
            <a:ext cx="842472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006666"/>
                </a:solidFill>
                <a:latin typeface="Arial"/>
              </a:rPr>
              <a:t>Роли участников проектной деятельности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39640" y="1341360"/>
            <a:ext cx="2232000" cy="503280"/>
          </a:xfrm>
          <a:prstGeom prst="rect">
            <a:avLst/>
          </a:prstGeom>
          <a:solidFill>
            <a:srgbClr val="b7dbb7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ОЛЬ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ЧИТЕЛ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276720" y="1341360"/>
            <a:ext cx="2879640" cy="503280"/>
          </a:xfrm>
          <a:prstGeom prst="rect">
            <a:avLst/>
          </a:prstGeom>
          <a:solidFill>
            <a:srgbClr val="b7dbb7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ОЛ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ЧЕНИК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516720" y="1341360"/>
            <a:ext cx="2303280" cy="503280"/>
          </a:xfrm>
          <a:prstGeom prst="rect">
            <a:avLst/>
          </a:prstGeom>
          <a:solidFill>
            <a:srgbClr val="b7dbb7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ОЛ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ОДИТЕЛЕ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39640" y="1916280"/>
            <a:ext cx="2232000" cy="1726920"/>
          </a:xfrm>
          <a:prstGeom prst="rect">
            <a:avLst/>
          </a:prstGeom>
          <a:solidFill>
            <a:srgbClr val="b7dbb7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333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Консультиру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Мотивиру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Стимулиру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Наблюдает</a:t>
            </a:r>
            <a:r>
              <a:rPr b="1" lang="ru-RU" sz="1600" spc="-1" strike="noStrike">
                <a:solidFill>
                  <a:srgbClr val="00333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276720" y="1916280"/>
            <a:ext cx="2879640" cy="2665080"/>
          </a:xfrm>
          <a:prstGeom prst="rect">
            <a:avLst/>
          </a:prstGeom>
          <a:solidFill>
            <a:srgbClr val="b7dbb7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333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Является субъекто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познавательно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Выбирае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(принимает реш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Выстраивает систему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взаимоотношений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с людьм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Оценивает</a:t>
            </a:r>
            <a:r>
              <a:rPr b="0" lang="ru-RU" sz="1600" spc="-1" strike="noStrike">
                <a:solidFill>
                  <a:srgbClr val="003332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3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3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516720" y="1916280"/>
            <a:ext cx="2305080" cy="1726920"/>
          </a:xfrm>
          <a:prstGeom prst="rect">
            <a:avLst/>
          </a:prstGeom>
          <a:solidFill>
            <a:srgbClr val="b7dbb7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333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Консультиру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Мотивиру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1"/>
          <a:stretch/>
        </p:blipFill>
        <p:spPr>
          <a:xfrm>
            <a:off x="539640" y="4076640"/>
            <a:ext cx="2135160" cy="2305080"/>
          </a:xfrm>
          <a:prstGeom prst="rect">
            <a:avLst/>
          </a:prstGeom>
          <a:ln w="0">
            <a:noFill/>
          </a:ln>
        </p:spPr>
      </p:pic>
      <p:pic>
        <p:nvPicPr>
          <p:cNvPr id="1223" name="" descr=""/>
          <p:cNvPicPr/>
          <p:nvPr/>
        </p:nvPicPr>
        <p:blipFill>
          <a:blip r:embed="rId2"/>
          <a:stretch/>
        </p:blipFill>
        <p:spPr>
          <a:xfrm>
            <a:off x="6732720" y="4365720"/>
            <a:ext cx="1995480" cy="21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dur="indefinite" fill="hold">
                      <p:stCondLst>
                        <p:cond delay="0"/>
                      </p:stCondLst>
                      <p:childTnLst>
                        <p:par>
                          <p:cTn id="4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dur="indefinite" fill="hold">
                      <p:stCondLst>
                        <p:cond delay="indefinite"/>
                      </p:stCondLst>
                      <p:childTnLst>
                        <p:par>
                          <p:cTn id="5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dur="indefinite" fill="hold">
                      <p:stCondLst>
                        <p:cond delay="indefinite"/>
                      </p:stCondLst>
                      <p:childTnLst>
                        <p:par>
                          <p:cTn id="5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dur="indefinite" fill="hold">
                      <p:stCondLst>
                        <p:cond delay="indefinite"/>
                      </p:stCondLst>
                      <p:childTnLst>
                        <p:par>
                          <p:cTn id="5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803160" y="301680"/>
            <a:ext cx="78422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Особенности организации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187280" y="907920"/>
            <a:ext cx="6573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Тема проект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900000" y="148428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ыбирается из содержания учебных предмет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лизка и понятна детям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аходится в зоне их ближайшего развит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258920" y="2637000"/>
            <a:ext cx="655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Длительность выполнения проек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971640" y="3429000"/>
            <a:ext cx="74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1-2 недели в режиме урочно-внеурочных занятий, самостоятельной работы при участии родителе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87280" y="4292640"/>
            <a:ext cx="655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Оценка выполнения проек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971640" y="508464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ложительной оценки достоин любой уровень достигнутых результатов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dur="indefinite" fill="hold">
                      <p:stCondLst>
                        <p:cond delay="0"/>
                      </p:stCondLst>
                      <p:childTnLst>
                        <p:par>
                          <p:cTn id="5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98" fill="hold"/>
                                        <p:tgtEl>
                                          <p:spTgt spid="1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98" fill="hold"/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555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98" fill="hold"/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5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5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5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57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/>
          <p:nvPr/>
        </p:nvSpPr>
        <p:spPr>
          <a:xfrm>
            <a:off x="898560" y="40464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ормы продуктов проектной деятельност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900000" y="1628640"/>
            <a:ext cx="69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правочник; газета; журна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льбо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гербарий; карт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кскурс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гра; сценарий праздни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стюм; макет; модель;  сувени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ультимедийный продукт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чебное пособие и др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1"/>
          <a:stretch/>
        </p:blipFill>
        <p:spPr>
          <a:xfrm>
            <a:off x="6789600" y="4149720"/>
            <a:ext cx="1862280" cy="21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dur="indefinite" fill="hold">
                      <p:stCondLst>
                        <p:cond delay="0"/>
                      </p:stCondLst>
                      <p:childTnLst>
                        <p:par>
                          <p:cTn id="5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60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60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61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61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6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63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585720" y="306360"/>
            <a:ext cx="81104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Формы презентации проектов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1042920" y="1197000"/>
            <a:ext cx="712800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емонстрация медиа – презентации, коллажа, макета, журнала, игрушек, предметов домашнего обиход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защита реферат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южетно-ролевая игр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здник или инсценировка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емонстрация учебного пособия и т.п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55640" y="4941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Защита проектов может проходить на родительском собрании, на уроке, во внеурочное врем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dur="indefinite" fill="hold">
                      <p:stCondLst>
                        <p:cond delay="0"/>
                      </p:stCondLst>
                      <p:childTnLst>
                        <p:par>
                          <p:cTn id="6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66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66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/>
          <p:nvPr/>
        </p:nvSpPr>
        <p:spPr>
          <a:xfrm>
            <a:off x="444600" y="384120"/>
            <a:ext cx="8281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Оформление проектной папк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79280" y="1341360"/>
            <a:ext cx="87138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ведение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, в котором описывается актуальность и важность данных проблем для участников проект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бранная и систематизированная информация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 теме проекта, в том числе необходимые ксерокопии, и распечатки из Интернет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грамма действий по проекту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: планы выполнения проекта и отдельных его этапов;  промежуточные отчеты группы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 исследований и анализа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скизы, чертежи, наброски продукта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атериалы к презентации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(сценарий, фото и т.д.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dur="indefinite" fill="hold">
                      <p:stCondLst>
                        <p:cond delay="0"/>
                      </p:stCondLst>
                      <p:childTnLst>
                        <p:par>
                          <p:cTn id="6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69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70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70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71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71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755640" y="7128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авайте обсудим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250920" y="1700280"/>
            <a:ext cx="86421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о каким критериям можно оценить успех проектной деятельности детей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1" name="" descr=""/>
          <p:cNvPicPr/>
          <p:nvPr/>
        </p:nvPicPr>
        <p:blipFill>
          <a:blip r:embed="rId1"/>
          <a:stretch/>
        </p:blipFill>
        <p:spPr>
          <a:xfrm>
            <a:off x="6227640" y="3578400"/>
            <a:ext cx="2449800" cy="296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dur="indefinite" fill="hold">
                      <p:stCondLst>
                        <p:cond delay="0"/>
                      </p:stCondLst>
                      <p:childTnLst>
                        <p:par>
                          <p:cTn id="7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826920" y="331920"/>
            <a:ext cx="778068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ритерии успеха работы над проектом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4360" y="1628640"/>
            <a:ext cx="7991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стижение конечного результата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владение учащимися учебными умениями, связанными с приемами самостоятельного приобретения знан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плоченность участников команды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лучение полного и глубокого удовлетворения от сделанного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;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веренность детей в том, что они могут создавать продукт, востребованный для них и других людей.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dur="indefinite" fill="hold">
                      <p:stCondLst>
                        <p:cond delay="indefinite"/>
                      </p:stCondLst>
                      <p:childTnLst>
                        <p:par>
                          <p:cTn id="7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dur="indefinite" fill="hold">
                      <p:stCondLst>
                        <p:cond delay="indefinite"/>
                      </p:stCondLst>
                      <p:childTnLst>
                        <p:par>
                          <p:cTn id="7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dur="indefinite" fill="hold">
                      <p:stCondLst>
                        <p:cond delay="indefinite"/>
                      </p:stCondLst>
                      <p:childTnLst>
                        <p:par>
                          <p:cTn id="7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dur="indefinite" fill="hold">
                      <p:stCondLst>
                        <p:cond delay="indefinite"/>
                      </p:stCondLst>
                      <p:childTnLst>
                        <p:par>
                          <p:cTn id="7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dur="indefinite" fill="hold">
                      <p:stCondLst>
                        <p:cond delay="indefinite"/>
                      </p:stCondLst>
                      <p:childTnLst>
                        <p:par>
                          <p:cTn id="7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588960" y="384120"/>
            <a:ext cx="7824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6666"/>
                </a:solidFill>
                <a:uFillTx/>
                <a:latin typeface="Arial"/>
              </a:rPr>
              <a:t>«Банк» проектных идей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4500720" y="1484280"/>
            <a:ext cx="403200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cap="sq" w="9360">
                  <a:solidFill>
                    <a:srgbClr val="003332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"Герои исторических песен"</a:t>
            </a:r>
            <a:endParaRPr b="0" i="1" lang="en-US" sz="1800" spc="1" strike="noStrike">
              <a:ln cap="sq" w="9360">
                <a:solidFill>
                  <a:srgbClr val="003332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395280" y="1484280"/>
            <a:ext cx="2952720" cy="57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33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Пернатые друзья"</a:t>
            </a:r>
            <a:endParaRPr b="0" lang="en-US" sz="1800" spc="1" strike="noStrike">
              <a:ln cap="sq" w="9360">
                <a:solidFill>
                  <a:srgbClr val="ff33cc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5076720" y="2637000"/>
            <a:ext cx="316728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3366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"Осторожно, Зима!"</a:t>
            </a:r>
            <a:endParaRPr b="0" lang="en-US" sz="1800" spc="1" strike="noStrike">
              <a:ln cap="sq" w="9360">
                <a:solidFill>
                  <a:srgbClr val="003366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1332000" y="5877000"/>
            <a:ext cx="64800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Выращивание кристаллов в домашних условиях»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539640" y="2637000"/>
            <a:ext cx="2808360" cy="64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"Охрана зрения"</a:t>
            </a:r>
            <a:endParaRPr b="0" lang="en-US" sz="1800" spc="1" strike="noStrike">
              <a:ln cap="sq" w="9360">
                <a:solidFill>
                  <a:srgbClr val="003366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643280" y="3716280"/>
            <a:ext cx="396108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Они нуждаются в заботе"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395280" y="3789360"/>
            <a:ext cx="280836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3366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Зимний сад"</a:t>
            </a:r>
            <a:endParaRPr b="0" lang="en-US" sz="1800" spc="1" strike="noStrike">
              <a:ln cap="sq" w="9360">
                <a:solidFill>
                  <a:srgbClr val="003366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1692360" y="5013360"/>
            <a:ext cx="604836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"Полет на воздушных шарах"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dur="indefinite" fill="hold">
                      <p:stCondLst>
                        <p:cond delay="0"/>
                      </p:stCondLst>
                      <p:childTnLst>
                        <p:par>
                          <p:cTn id="7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6" dur="2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78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790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79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8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81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4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81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0" dur="indefinite" restart="whenNotActive" nodeType="interactiveSeq" fill="hold">
                <p:stCondLst>
                  <p:cond evt="onClick">
                    <p:tgtEl>
                      <p:spTgt spid="1246"/>
                    </p:tgtEl>
                  </p:cond>
                </p:stCondLst>
                <p:childTnLst>
                  <p:par>
                    <p:cTn id="821" dur="indefinite" fill="hold">
                      <p:stCondLst>
                        <p:cond evt="onClick">
                          <p:tgtEl>
                            <p:spTgt spid="1246"/>
                          </p:tgtEl>
                        </p:cond>
                      </p:stCondLst>
                      <p:childTnLst>
                        <p:par>
                          <p:cTn id="8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dur="indefinite" restart="whenNotActive" nodeType="interactiveSeq" fill="hold">
                <p:stCondLst>
                  <p:cond evt="onClick">
                    <p:tgtEl>
                      <p:spTgt spid="1245"/>
                    </p:tgtEl>
                  </p:cond>
                </p:stCondLst>
                <p:childTnLst>
                  <p:par>
                    <p:cTn id="829" dur="indefinite" fill="hold">
                      <p:stCondLst>
                        <p:cond evt="onClick">
                          <p:tgtEl>
                            <p:spTgt spid="1245"/>
                          </p:tgtEl>
                        </p:cond>
                      </p:stCondLst>
                      <p:childTnLst>
                        <p:par>
                          <p:cTn id="8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4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dur="indefinite" restart="whenNotActive" nodeType="interactiveSeq" fill="hold">
                <p:stCondLst>
                  <p:cond evt="onClick">
                    <p:tgtEl>
                      <p:spTgt spid="1249"/>
                    </p:tgtEl>
                  </p:cond>
                </p:stCondLst>
                <p:childTnLst>
                  <p:par>
                    <p:cTn id="837" dur="indefinite" fill="hold">
                      <p:stCondLst>
                        <p:cond evt="onClick">
                          <p:tgtEl>
                            <p:spTgt spid="1249"/>
                          </p:tgtEl>
                        </p:cond>
                      </p:stCondLst>
                      <p:childTnLst>
                        <p:par>
                          <p:cTn id="8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0" dur="500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2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dur="indefinite" restart="whenNotActive" nodeType="interactiveSeq" fill="hold">
                <p:stCondLst>
                  <p:cond evt="onClick">
                    <p:tgtEl>
                      <p:spTgt spid="1247"/>
                    </p:tgtEl>
                  </p:cond>
                </p:stCondLst>
                <p:childTnLst>
                  <p:par>
                    <p:cTn id="845" dur="indefinite" fill="hold">
                      <p:stCondLst>
                        <p:cond evt="onClick">
                          <p:tgtEl>
                            <p:spTgt spid="1247"/>
                          </p:tgtEl>
                        </p:cond>
                      </p:stCondLst>
                      <p:childTnLst>
                        <p:par>
                          <p:cTn id="8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8" dur="500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0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dur="indefinite" restart="whenNotActive" nodeType="interactiveSeq" fill="hold">
                <p:stCondLst>
                  <p:cond evt="onClick">
                    <p:tgtEl>
                      <p:spTgt spid="1251"/>
                    </p:tgtEl>
                  </p:cond>
                </p:stCondLst>
                <p:childTnLst>
                  <p:par>
                    <p:cTn id="853" dur="indefinite" fill="hold">
                      <p:stCondLst>
                        <p:cond evt="onClick">
                          <p:tgtEl>
                            <p:spTgt spid="1251"/>
                          </p:tgtEl>
                        </p:cond>
                      </p:stCondLst>
                      <p:childTnLst>
                        <p:par>
                          <p:cTn id="8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56" dur="500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dur="indefinite" restart="whenNotActive" nodeType="interactiveSeq" fill="hold">
                <p:stCondLst>
                  <p:cond evt="onClick">
                    <p:tgtEl>
                      <p:spTgt spid="1250"/>
                    </p:tgtEl>
                  </p:cond>
                </p:stCondLst>
                <p:childTnLst>
                  <p:par>
                    <p:cTn id="861" dur="indefinite" fill="hold">
                      <p:stCondLst>
                        <p:cond evt="onClick">
                          <p:tgtEl>
                            <p:spTgt spid="1250"/>
                          </p:tgtEl>
                        </p:cond>
                      </p:stCondLst>
                      <p:childTnLst>
                        <p:par>
                          <p:cTn id="8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500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6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dur="indefinite" restart="whenNotActive" nodeType="interactiveSeq" fill="hold">
                <p:stCondLst>
                  <p:cond evt="onClick">
                    <p:tgtEl>
                      <p:spTgt spid="1248"/>
                    </p:tgtEl>
                  </p:cond>
                </p:stCondLst>
                <p:childTnLst>
                  <p:par>
                    <p:cTn id="869" dur="indefinite" fill="hold">
                      <p:stCondLst>
                        <p:cond evt="onClick">
                          <p:tgtEl>
                            <p:spTgt spid="1248"/>
                          </p:tgtEl>
                        </p:cond>
                      </p:stCondLst>
                      <p:childTnLst>
                        <p:par>
                          <p:cTn id="8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4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dur="indefinite" restart="whenNotActive" nodeType="interactiveSeq" fill="hold">
                <p:stCondLst>
                  <p:cond evt="onClick">
                    <p:tgtEl>
                      <p:spTgt spid="1252"/>
                    </p:tgtEl>
                  </p:cond>
                </p:stCondLst>
                <p:childTnLst>
                  <p:par>
                    <p:cTn id="877" dur="indefinite" fill="hold">
                      <p:stCondLst>
                        <p:cond evt="onClick">
                          <p:tgtEl>
                            <p:spTgt spid="1252"/>
                          </p:tgtEl>
                        </p:cond>
                      </p:stCondLst>
                      <p:childTnLst>
                        <p:par>
                          <p:cTn id="8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2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873000" y="522360"/>
            <a:ext cx="78343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6666"/>
                </a:solidFill>
                <a:uFillTx/>
                <a:latin typeface="Arial"/>
              </a:rPr>
              <a:t>Сущность понятия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24000" y="1413000"/>
            <a:ext cx="8640720" cy="39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3366"/>
                </a:solidFill>
                <a:uFillTx/>
                <a:latin typeface="Arial"/>
              </a:rPr>
              <a:t>Проект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(латин. «projectus»)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«брошенный вперед», т.е.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мысел в виде прототипа, прообраза объект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 совокупность документов для создания изделия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 предварительный текст документ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 замысел, план, прообраз какого-либо объек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Учебный проект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- специально организованный педагогом и самостоятельно выполняемый обучающимися комплекс действий по решению значимой для учащегося проблемы, завершающихся созданием творческого продук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Проектирование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- процесс создания проек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33320" y="384120"/>
            <a:ext cx="7824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Поисковый этап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50920" y="1341360"/>
            <a:ext cx="8569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ОБЛЕМ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– 1) сложный вопрос, задача, требующие разрешения, исследования; 2) ситуация, когда субъект осознает, что ему не хватает знан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ЕМ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– предмет, основное содержание рассуждения, изложе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ДАЧИ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– то, что требует исполнения, разрешения; это последовательные этапы организации и проведения исследования (изготовления изделия) от начала и до конц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ЦЕЛ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– 1) те научные и практические результаты, которые должны быть достигнуты в итоге проведения исследования, изготовления продукта; 2) предмет стремления, то, что надо, желательно осуществить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dur="indefinite" fill="hold">
                      <p:stCondLst>
                        <p:cond delay="0"/>
                      </p:stCondLst>
                      <p:childTnLst>
                        <p:par>
                          <p:cTn id="8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90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1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9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1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755640" y="476280"/>
            <a:ext cx="7924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нк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56" name=""/>
          <p:cNvGraphicFramePr/>
          <p:nvPr/>
        </p:nvGraphicFramePr>
        <p:xfrm>
          <a:off x="468360" y="1125360"/>
          <a:ext cx="8365680" cy="5473440"/>
        </p:xfrm>
        <a:graphic>
          <a:graphicData uri="http://schemas.openxmlformats.org/drawingml/2006/table">
            <a:tbl>
              <a:tblPr/>
              <a:tblGrid>
                <a:gridCol w="1662120"/>
                <a:gridCol w="1043280"/>
                <a:gridCol w="1108080"/>
                <a:gridCol w="1314720"/>
                <a:gridCol w="1057320"/>
                <a:gridCol w="1026000"/>
                <a:gridCol w="1154160"/>
              </a:tblGrid>
              <a:tr h="138168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ематическое поле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ласти знани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17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dur="indefinite" fill="hold">
                      <p:stCondLst>
                        <p:cond delay="0"/>
                      </p:stCondLst>
                      <p:childTnLst>
                        <p:par>
                          <p:cTn id="9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/>
          <p:nvPr/>
        </p:nvSpPr>
        <p:spPr>
          <a:xfrm>
            <a:off x="755640" y="476280"/>
            <a:ext cx="792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Давайте обсудим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24000" y="1413000"/>
            <a:ext cx="8640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хочет поделиться чувствами и эмоциями, с которыми уходите домой после собрания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было самым главным для вас в проделанной работе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ценного для себя каждый из вас получил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авдались ли ваши ожидания к предстоящей работе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о ваше нынешнее отношение к организации проектной деятельности младших школьников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овлетворены ли вы проделанной работой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9" name="" descr=""/>
          <p:cNvPicPr/>
          <p:nvPr/>
        </p:nvPicPr>
        <p:blipFill>
          <a:blip r:embed="rId1"/>
          <a:stretch/>
        </p:blipFill>
        <p:spPr>
          <a:xfrm>
            <a:off x="7702560" y="4869000"/>
            <a:ext cx="1441440" cy="17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dur="indefinite" fill="hold">
                      <p:stCondLst>
                        <p:cond delay="0"/>
                      </p:stCondLst>
                      <p:childTnLst>
                        <p:par>
                          <p:cTn id="9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95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1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96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96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1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" descr=""/>
          <p:cNvPicPr/>
          <p:nvPr/>
        </p:nvPicPr>
        <p:blipFill>
          <a:blip r:embed="rId1"/>
          <a:stretch/>
        </p:blipFill>
        <p:spPr>
          <a:xfrm>
            <a:off x="-255600" y="-176040"/>
            <a:ext cx="5168880" cy="4681440"/>
          </a:xfrm>
          <a:prstGeom prst="rect">
            <a:avLst/>
          </a:prstGeom>
          <a:ln w="0">
            <a:noFill/>
          </a:ln>
        </p:spPr>
      </p:pic>
      <p:pic>
        <p:nvPicPr>
          <p:cNvPr id="1261" name="" descr=""/>
          <p:cNvPicPr/>
          <p:nvPr/>
        </p:nvPicPr>
        <p:blipFill>
          <a:blip r:embed="rId2"/>
          <a:stretch/>
        </p:blipFill>
        <p:spPr>
          <a:xfrm>
            <a:off x="5346720" y="396720"/>
            <a:ext cx="3432240" cy="3767400"/>
          </a:xfrm>
          <a:prstGeom prst="rect">
            <a:avLst/>
          </a:prstGeom>
          <a:ln w="0">
            <a:noFill/>
          </a:ln>
        </p:spPr>
      </p:pic>
      <p:pic>
        <p:nvPicPr>
          <p:cNvPr id="1262" name="" descr=""/>
          <p:cNvPicPr/>
          <p:nvPr/>
        </p:nvPicPr>
        <p:blipFill>
          <a:blip r:embed="rId3"/>
          <a:stretch/>
        </p:blipFill>
        <p:spPr>
          <a:xfrm>
            <a:off x="2627280" y="350028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dur="indefinite" fill="hold">
                      <p:stCondLst>
                        <p:cond delay="0"/>
                      </p:stCondLst>
                      <p:childTnLst>
                        <p:par>
                          <p:cTn id="9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8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9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0" dur="2000" fill="hold"/>
                                        <p:tgtEl>
                                          <p:spTgt spid="12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/>
          <p:nvPr/>
        </p:nvSpPr>
        <p:spPr>
          <a:xfrm>
            <a:off x="809640" y="530280"/>
            <a:ext cx="78152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6666"/>
                </a:solidFill>
                <a:uFillTx/>
                <a:latin typeface="Arial"/>
              </a:rPr>
              <a:t>Давайте обсудим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826920" y="1700280"/>
            <a:ext cx="769464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ля чего в начальной школе организуется проектное обучение?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39840">
              <a:spcBef>
                <a:spcPts val="4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акие умения могут формироваться у детей в процессе проектной деятельности?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0" name="" descr=""/>
          <p:cNvPicPr/>
          <p:nvPr/>
        </p:nvPicPr>
        <p:blipFill>
          <a:blip r:embed="rId1"/>
          <a:stretch/>
        </p:blipFill>
        <p:spPr>
          <a:xfrm>
            <a:off x="6516720" y="3925800"/>
            <a:ext cx="2160720" cy="26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0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252360" y="331920"/>
            <a:ext cx="871236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лавная идея организации проектной деятельности учащихся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39640" y="162864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азвитие познавательных интересов обучающихся, умений самостоятельно конструировать свои знания и ориентироваться в информационном пространстве, развивать критическое мышле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39640" y="3860640"/>
            <a:ext cx="8209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4240"/>
                </a:solidFill>
                <a:uFillTx/>
                <a:latin typeface="Arial"/>
              </a:rPr>
              <a:t>Основной тезис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24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«Все, что я познаю, я знаю, для чего мне это надо и где и как я могу эти знания применит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0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/>
          <p:nvPr/>
        </p:nvSpPr>
        <p:spPr>
          <a:xfrm>
            <a:off x="809640" y="387360"/>
            <a:ext cx="78152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6666"/>
                </a:solidFill>
                <a:uFillTx/>
                <a:latin typeface="Arial"/>
              </a:rPr>
              <a:t>Актуальность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55640" y="141300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Младший школьный возраст является начальным этап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ебёнок начинает осознавать себя творцом своей деятельност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н хочет что-то создать, поднять свой имидж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900000" y="3933720"/>
            <a:ext cx="756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0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/>
          <p:nvPr/>
        </p:nvSpPr>
        <p:spPr>
          <a:xfrm>
            <a:off x="395280" y="260280"/>
            <a:ext cx="84247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витие младших школьников в процессе проектной деятельност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1"/>
          <a:stretch/>
        </p:blipFill>
        <p:spPr>
          <a:xfrm>
            <a:off x="3340080" y="2700360"/>
            <a:ext cx="2451240" cy="181620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2"/>
          <a:stretch/>
        </p:blipFill>
        <p:spPr>
          <a:xfrm>
            <a:off x="2693880" y="2487600"/>
            <a:ext cx="3541680" cy="2614680"/>
          </a:xfrm>
          <a:prstGeom prst="rect">
            <a:avLst/>
          </a:prstGeom>
          <a:ln w="0">
            <a:noFill/>
          </a:ln>
        </p:spPr>
      </p:pic>
      <p:sp>
        <p:nvSpPr>
          <p:cNvPr id="1170" name=""/>
          <p:cNvSpPr/>
          <p:nvPr/>
        </p:nvSpPr>
        <p:spPr>
          <a:xfrm>
            <a:off x="3419640" y="1197000"/>
            <a:ext cx="2089080" cy="1079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Исследовательские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уме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651640" y="5445000"/>
            <a:ext cx="2087280" cy="10810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Коммуникативные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уме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588000" y="3357720"/>
            <a:ext cx="2232000" cy="11523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Информационные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уме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24000" y="1628640"/>
            <a:ext cx="2305080" cy="10083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Умения в решении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проблем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79280" y="3860640"/>
            <a:ext cx="2232000" cy="11509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Рефлексивные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уме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556000" y="5373720"/>
            <a:ext cx="2232000" cy="1224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Презентационны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уме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516720" y="1557360"/>
            <a:ext cx="2232000" cy="11509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Технологически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уме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0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2987640" y="2276640"/>
            <a:ext cx="3456000" cy="1584000"/>
          </a:xfrm>
          <a:prstGeom prst="flowChartAlternateProcess">
            <a:avLst/>
          </a:prstGeom>
          <a:solidFill>
            <a:srgbClr val="33cccc"/>
          </a:solidFill>
          <a:ln cap="sq"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Этапы проектной деятельност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4356000" y="333360"/>
            <a:ext cx="2089080" cy="1079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ПОИСКОВЫ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900000" y="4581360"/>
            <a:ext cx="2089440" cy="1079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ПРЕЗЕНТАЦИОННЫ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932360" y="4941720"/>
            <a:ext cx="2089080" cy="1079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ПРАКТИЧЕСКИ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948360" y="2133720"/>
            <a:ext cx="2089440" cy="10792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АНАЛИТИЧЕСКИ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9640" y="1341360"/>
            <a:ext cx="2089440" cy="1079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КОНТРОЛЬНЫ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183" name=""/>
          <p:cNvCxnSpPr/>
          <p:nvPr/>
        </p:nvCxnSpPr>
        <p:spPr>
          <a:xfrm flipV="1">
            <a:off x="4932360" y="1483560"/>
            <a:ext cx="288000" cy="793080"/>
          </a:xfrm>
          <a:prstGeom prst="straightConnector1">
            <a:avLst/>
          </a:prstGeom>
          <a:ln cap="sq" w="38160">
            <a:solidFill>
              <a:srgbClr val="003366"/>
            </a:solidFill>
            <a:miter/>
            <a:tailEnd len="med" type="arrow" w="med"/>
          </a:ln>
        </p:spPr>
      </p:cxnSp>
      <p:cxnSp>
        <p:nvCxnSpPr>
          <p:cNvPr id="1184" name=""/>
          <p:cNvCxnSpPr/>
          <p:nvPr/>
        </p:nvCxnSpPr>
        <p:spPr>
          <a:xfrm flipV="1">
            <a:off x="6443640" y="2781000"/>
            <a:ext cx="505440" cy="72000"/>
          </a:xfrm>
          <a:prstGeom prst="straightConnector1">
            <a:avLst/>
          </a:prstGeom>
          <a:ln cap="sq" w="38160">
            <a:solidFill>
              <a:srgbClr val="003366"/>
            </a:solidFill>
            <a:miter/>
            <a:tailEnd len="med" type="arrow" w="med"/>
          </a:ln>
        </p:spPr>
      </p:cxnSp>
      <p:cxnSp>
        <p:nvCxnSpPr>
          <p:cNvPr id="1185" name=""/>
          <p:cNvCxnSpPr/>
          <p:nvPr/>
        </p:nvCxnSpPr>
        <p:spPr>
          <a:xfrm>
            <a:off x="5076720" y="3860280"/>
            <a:ext cx="288000" cy="1081800"/>
          </a:xfrm>
          <a:prstGeom prst="straightConnector1">
            <a:avLst/>
          </a:prstGeom>
          <a:ln cap="sq" w="38160">
            <a:solidFill>
              <a:srgbClr val="003366"/>
            </a:solidFill>
            <a:miter/>
            <a:tailEnd len="med" type="arrow" w="med"/>
          </a:ln>
        </p:spPr>
      </p:cxnSp>
      <p:cxnSp>
        <p:nvCxnSpPr>
          <p:cNvPr id="1186" name=""/>
          <p:cNvCxnSpPr/>
          <p:nvPr/>
        </p:nvCxnSpPr>
        <p:spPr>
          <a:xfrm flipH="1">
            <a:off x="2699640" y="3860280"/>
            <a:ext cx="648360" cy="794520"/>
          </a:xfrm>
          <a:prstGeom prst="straightConnector1">
            <a:avLst/>
          </a:prstGeom>
          <a:ln cap="sq" w="38160">
            <a:solidFill>
              <a:srgbClr val="003366"/>
            </a:solidFill>
            <a:miter/>
            <a:tailEnd len="med" type="arrow" w="med"/>
          </a:ln>
        </p:spPr>
      </p:cxnSp>
      <p:cxnSp>
        <p:nvCxnSpPr>
          <p:cNvPr id="1187" name=""/>
          <p:cNvCxnSpPr/>
          <p:nvPr/>
        </p:nvCxnSpPr>
        <p:spPr>
          <a:xfrm flipH="1" flipV="1">
            <a:off x="2339280" y="2349000"/>
            <a:ext cx="648360" cy="216720"/>
          </a:xfrm>
          <a:prstGeom prst="straightConnector1">
            <a:avLst/>
          </a:prstGeom>
          <a:ln cap="sq" w="38160">
            <a:solidFill>
              <a:srgbClr val="003366"/>
            </a:solidFill>
            <a:miter/>
            <a:tailEnd len="med" type="arrow" w="med"/>
          </a:ln>
        </p:spPr>
      </p:cxn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909720" y="270000"/>
            <a:ext cx="79041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ипология проектов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9" name="" descr=""/>
          <p:cNvPicPr/>
          <p:nvPr/>
        </p:nvPicPr>
        <p:blipFill>
          <a:blip r:embed="rId1"/>
          <a:stretch/>
        </p:blipFill>
        <p:spPr>
          <a:xfrm>
            <a:off x="669960" y="1262160"/>
            <a:ext cx="2908440" cy="1189080"/>
          </a:xfrm>
          <a:prstGeom prst="rect">
            <a:avLst/>
          </a:prstGeom>
          <a:ln w="0">
            <a:noFill/>
          </a:ln>
        </p:spPr>
      </p:pic>
      <p:pic>
        <p:nvPicPr>
          <p:cNvPr id="1190" name="" descr=""/>
          <p:cNvPicPr/>
          <p:nvPr/>
        </p:nvPicPr>
        <p:blipFill>
          <a:blip r:embed="rId2"/>
          <a:stretch/>
        </p:blipFill>
        <p:spPr>
          <a:xfrm>
            <a:off x="6072120" y="1328760"/>
            <a:ext cx="2809800" cy="1195200"/>
          </a:xfrm>
          <a:prstGeom prst="rect">
            <a:avLst/>
          </a:prstGeom>
          <a:ln w="0">
            <a:noFill/>
          </a:ln>
        </p:spPr>
      </p:pic>
      <p:pic>
        <p:nvPicPr>
          <p:cNvPr id="1191" name="" descr=""/>
          <p:cNvPicPr/>
          <p:nvPr/>
        </p:nvPicPr>
        <p:blipFill>
          <a:blip r:embed="rId3"/>
          <a:stretch/>
        </p:blipFill>
        <p:spPr>
          <a:xfrm>
            <a:off x="5784840" y="2633760"/>
            <a:ext cx="3121200" cy="658800"/>
          </a:xfrm>
          <a:prstGeom prst="rect">
            <a:avLst/>
          </a:prstGeom>
          <a:ln w="0">
            <a:noFill/>
          </a:ln>
        </p:spPr>
      </p:pic>
      <p:pic>
        <p:nvPicPr>
          <p:cNvPr id="1192" name="" descr=""/>
          <p:cNvPicPr/>
          <p:nvPr/>
        </p:nvPicPr>
        <p:blipFill>
          <a:blip r:embed="rId4"/>
          <a:stretch/>
        </p:blipFill>
        <p:spPr>
          <a:xfrm>
            <a:off x="817560" y="2700360"/>
            <a:ext cx="2687760" cy="66528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 txBox="1"/>
          <p:nvPr/>
        </p:nvSpPr>
        <p:spPr>
          <a:xfrm>
            <a:off x="1403280" y="5084640"/>
            <a:ext cx="172872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3366"/>
                  </a:solidFill>
                  <a:miter/>
                </a:ln>
                <a:solidFill>
                  <a:srgbClr val="002060"/>
                </a:solidFill>
                <a:latin typeface="Arial"/>
              </a:rPr>
              <a:t>Личностные</a:t>
            </a:r>
            <a:endParaRPr b="0" lang="en-US" sz="1800" spc="1" strike="noStrike">
              <a:ln cap="sq" w="9360">
                <a:solidFill>
                  <a:srgbClr val="003366"/>
                </a:solidFill>
                <a:miter/>
              </a:ln>
              <a:solidFill>
                <a:srgbClr val="002060"/>
              </a:solidFill>
              <a:latin typeface="Arial"/>
              <a:ea typeface="Arial"/>
            </a:endParaRPr>
          </a:p>
        </p:txBody>
      </p:sp>
      <p:sp>
        <p:nvSpPr>
          <p:cNvPr id="1194" name=""/>
          <p:cNvSpPr txBox="1"/>
          <p:nvPr/>
        </p:nvSpPr>
        <p:spPr>
          <a:xfrm rot="21180000">
            <a:off x="7017840" y="5229360"/>
            <a:ext cx="1384560" cy="987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3366"/>
                  </a:solidFill>
                  <a:miter/>
                </a:ln>
                <a:solidFill>
                  <a:srgbClr val="002060"/>
                </a:solidFill>
                <a:latin typeface="Arial"/>
              </a:rPr>
              <a:t>Парные</a:t>
            </a:r>
            <a:endParaRPr b="0" lang="en-US" sz="1800" spc="1" strike="noStrike">
              <a:ln cap="sq" w="9360">
                <a:solidFill>
                  <a:srgbClr val="003366"/>
                </a:solidFill>
                <a:miter/>
              </a:ln>
              <a:solidFill>
                <a:srgbClr val="002060"/>
              </a:solidFill>
              <a:latin typeface="Arial"/>
              <a:ea typeface="Arial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3924360" y="4508640"/>
            <a:ext cx="1944720" cy="64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3366"/>
                  </a:solidFill>
                  <a:miter/>
                </a:ln>
                <a:solidFill>
                  <a:srgbClr val="002060"/>
                </a:solidFill>
                <a:latin typeface="Arial"/>
              </a:rPr>
              <a:t>Групповые</a:t>
            </a:r>
            <a:endParaRPr b="0" lang="en-US" sz="1800" spc="1" strike="noStrike">
              <a:ln cap="sq" w="9360">
                <a:solidFill>
                  <a:srgbClr val="003366"/>
                </a:solidFill>
                <a:miter/>
              </a:ln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4140360" y="5229360"/>
            <a:ext cx="1452240" cy="1309680"/>
          </a:xfrm>
          <a:prstGeom prst="rect">
            <a:avLst/>
          </a:prstGeom>
          <a:ln w="0">
            <a:noFill/>
          </a:ln>
        </p:spPr>
      </p:pic>
      <p:pic>
        <p:nvPicPr>
          <p:cNvPr id="1197" name="" descr=""/>
          <p:cNvPicPr/>
          <p:nvPr/>
        </p:nvPicPr>
        <p:blipFill>
          <a:blip r:embed="rId6"/>
          <a:stretch/>
        </p:blipFill>
        <p:spPr>
          <a:xfrm>
            <a:off x="3851280" y="2492280"/>
            <a:ext cx="1581120" cy="1460520"/>
          </a:xfrm>
          <a:prstGeom prst="rect">
            <a:avLst/>
          </a:prstGeom>
          <a:ln w="0">
            <a:noFill/>
          </a:ln>
        </p:spPr>
      </p:pic>
      <p:sp>
        <p:nvSpPr>
          <p:cNvPr id="1198" name=""/>
          <p:cNvSpPr txBox="1"/>
          <p:nvPr/>
        </p:nvSpPr>
        <p:spPr>
          <a:xfrm>
            <a:off x="826920" y="3933720"/>
            <a:ext cx="2232360" cy="43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3366"/>
                  </a:solidFill>
                  <a:miter/>
                </a:ln>
                <a:solidFill>
                  <a:srgbClr val="002060"/>
                </a:solidFill>
                <a:latin typeface="Arial"/>
              </a:rPr>
              <a:t>монопроекты</a:t>
            </a:r>
            <a:endParaRPr b="0" lang="en-US" sz="1800" spc="1" strike="noStrike">
              <a:ln cap="sq" w="9360">
                <a:solidFill>
                  <a:srgbClr val="003366"/>
                </a:solidFill>
                <a:miter/>
              </a:ln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1199" name="" descr=""/>
          <p:cNvPicPr/>
          <p:nvPr/>
        </p:nvPicPr>
        <p:blipFill>
          <a:blip r:embed="rId7"/>
          <a:stretch/>
        </p:blipFill>
        <p:spPr>
          <a:xfrm>
            <a:off x="5999040" y="3425760"/>
            <a:ext cx="2833920" cy="1165320"/>
          </a:xfrm>
          <a:prstGeom prst="rect">
            <a:avLst/>
          </a:prstGeom>
          <a:ln w="0">
            <a:noFill/>
          </a:ln>
        </p:spPr>
      </p:pic>
      <p:sp>
        <p:nvSpPr>
          <p:cNvPr id="1200" name=""/>
          <p:cNvSpPr/>
          <p:nvPr/>
        </p:nvSpPr>
        <p:spPr>
          <a:xfrm>
            <a:off x="395280" y="1268280"/>
            <a:ext cx="84978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Исследовательский проект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это исследование какой-либо проблемы по правилам научного исследо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ворческий проект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предполагает максимально свободный авторский подход в решении проблемы. Продукт – альманахи, совместная газета и сочинение, театрализация, произведения изобразительного или декоративно-прикладного искусств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олево-игровые проекты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участники принимают на себя определенные роли, обусловленные характером и содержанием проекта, особенностью решаемой проблемы.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то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огут быть литературные персонажи или выдуманные герои, имитирующие социальные или деловые отношения с придуманными участниками, ситуация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Информационные проект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это сбор и обработка информации по значимой проблеме с целью ее презентации широкой аудитории (статья в СМИ, информация в сети Интернет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dur="indefinite" fill="hold">
                      <p:stCondLst>
                        <p:cond delay="0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24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25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522360" y="243000"/>
            <a:ext cx="781524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ипология проектов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684360" y="1413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нопроекты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– реализуются, как правило, в рамках одного учебного предмета, т.е. выполняется на материале конкретного предмет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1"/>
          <a:stretch/>
        </p:blipFill>
        <p:spPr>
          <a:xfrm>
            <a:off x="7151760" y="5013360"/>
            <a:ext cx="1860480" cy="1579680"/>
          </a:xfrm>
          <a:prstGeom prst="rect">
            <a:avLst/>
          </a:prstGeom>
          <a:ln w="0">
            <a:noFill/>
          </a:ln>
        </p:spPr>
      </p:pic>
      <p:sp>
        <p:nvSpPr>
          <p:cNvPr id="1204" name=""/>
          <p:cNvSpPr/>
          <p:nvPr/>
        </p:nvSpPr>
        <p:spPr>
          <a:xfrm>
            <a:off x="684360" y="2565360"/>
            <a:ext cx="799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бота над монопроектами не исключает применение знаний из других областей для решения той или иной проблемы. Но сама проблема лежит в русле содержания конкретной предметной области или области деятельности человека. Интеграция - на этапе подготовки продукта к презентации: например, компьютерная верста продукта проектной деятельност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84360" y="5300640"/>
            <a:ext cx="63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гут проводиться в рамках классно-урочной систем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dur="indefinite" fill="hold">
                      <p:stCondLst>
                        <p:cond delay="0"/>
                      </p:stCondLst>
                      <p:childTnLst>
                        <p:par>
                          <p:cTn id="3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dur="indefinite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dur="indefinite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48:09Z</dcterms:created>
  <dc:creator>Света</dc:creator>
  <dc:description/>
  <dc:language>en-US</dc:language>
  <cp:lastModifiedBy>Alexandr</cp:lastModifiedBy>
  <dcterms:modified xsi:type="dcterms:W3CDTF">2015-12-12T13:58:50Z</dcterms:modified>
  <cp:revision>19</cp:revision>
  <dc:subject/>
  <dc:title>Проектная деятельность младших школьников</dc:title>
</cp:coreProperties>
</file>