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18.gif" ContentType="image/gif"/>
  <Override PartName="/ppt/media/image4.png" ContentType="image/png"/>
  <Override PartName="/ppt/media/image15.gif" ContentType="image/gif"/>
  <Override PartName="/ppt/media/image1.png" ContentType="image/png"/>
  <Override PartName="/ppt/media/image17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dt" idx="2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sldNum" idx="2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CA6E5-9E84-4B7C-B5CD-4B409CD823C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32D50-3346-4E5B-8FF5-F8FBE172374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4D8BF-DEA6-4577-8FD7-8E74DCDBC0A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E6B57-7C81-484F-8807-00E411D1A2E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53DD1-8242-42EC-A081-9CDE2B9C1DB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D4979-A5F7-484E-8D1B-5C1A0EBC532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0E692-9EBE-4529-B187-5474AC67842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746DE-2E6F-4445-AB62-A33761942EF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C46C6-0C21-4672-813F-52A70A5CA0F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3DF4A-180B-44A6-9F1A-BB4FD797D86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3295-BC44-41FA-A5B4-4F9A9926648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F15AF-15D4-4DF3-B157-8940D493A55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8B5EC-2AE7-48B4-8162-9D8B6EF6A91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F8DBE-B692-4655-B516-50946C4EA43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154C6-8C9F-49DA-9FD5-0F2C759FB3B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CEAE4-FB48-45A5-A159-CDEEA303A55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67592-BD46-4BF4-A37D-024ABF995CE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3D522-5B17-40C1-9CF3-D88D4C2A0AC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1E68D-DD15-4EE5-A212-EA69618922F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AC4AE-2DCF-4718-983A-A9B86D163D6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AEC8A-820D-4992-9C05-DBE86CFD664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FE72B-D648-4978-9EF4-508D6662DFB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8B0D6-7E76-4D4F-B9AB-C938F6B2EBD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6516E-2CC5-4AE2-ABBC-7E8659909EF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45FC-3853-468A-BE49-FE3220A01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D9FF-6DF7-4057-9306-C4C94323A1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616D-6773-4BA6-B2A6-4CC67BE886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BDC01-CFFE-48A8-B13D-9B2C61D7615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98CF-09A0-418F-BCF2-66AEF4D1676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D6B4-E16E-4C80-9715-A7C3AC10CA0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F0EE-D01B-4F38-95CE-27BDC7651AE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EBBC-A644-42AE-BA3D-DC5CB82F811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F83C-1B2F-4D61-8B07-6F2E1245548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BD09-B2C9-491E-BA4C-680A64D2942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92DA-881D-4C2F-8F31-0CE702AB6F4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4DE2F-C871-41AD-8706-958094CE1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6D26-1662-4F92-AB7D-B5E96C267FB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AD196-AC03-4244-8AAA-C2D3C4EEAA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6F0B1-91B8-44F2-B9EA-D6428C0C3D6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6FC8E-F3C8-4FB2-A6FC-1B099AFC856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05C05-666F-462F-8B23-FEBB0FC331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A75E67-2375-401A-9110-CE7D2CE9EF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93CF4-C245-4595-8BDC-FF1A9DE9589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A876C-07DB-4203-B758-0C60A317038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BD172-ADF1-440F-A44D-F4AB59E52B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D96C9-D94C-426B-98AC-9E9B5E3E0F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7DEFC-1C49-4C66-A1B3-39F6C784B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4FF6-7F3A-4B6C-B1C4-7DDD5E4D1B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2D658-016D-482B-AE62-3ED5BC056C1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84493-DE29-487F-A973-1CF42E7141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34EED-20FF-44A9-B072-D4F854D184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D9F56-44E9-4DAC-B589-26CB4B56000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DE6B7-CCD5-46B0-9280-E577C43B22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0D77A-48D2-4A3D-90D4-B7FF7D00A9A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C01D1-D36B-40A1-8CF7-46403A5C713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22C80-452D-40F4-B8BC-F60201B620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713F0-ECAA-458D-B8CB-3644111D62F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B642F-20BC-42CE-BCAC-FEC82D84F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22E9-D949-45BB-A85F-4FE147B15D0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F9884-2A24-4EF8-BCAD-971CD9727D7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0F303-05BE-42B8-B62E-0E3BB7B2488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A36DE-58A1-447F-938A-E9FC8DEC80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3E4D-D59A-4B3E-AE29-392CA247522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567C-CF27-4D82-A1C0-9E75D007EFF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4E1F-3F29-46C7-A278-BED41BF42BE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3407C-FAE8-42B5-A664-8107F3DF9A9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8FD2-BD01-4BDC-9BE1-7AEA0C3C7F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037EF-5C92-4650-AF2D-C12CEE9756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86733-DD3E-4777-8181-D896FBCAFE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A504-B121-4B59-AF53-45E08834434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FAD0-9E8A-4D3A-B722-DFB1B97FD30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0697F-7306-4390-AC8B-D21AE63315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6D124-4FFD-4F5F-A65A-B52A84E723C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4126E-27BE-4AB3-88FF-A617448F41A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8641-6515-4E7C-ACC4-3B472345654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78E938-1C36-41E3-938A-9955B59631A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8B9D02-8AF4-44B5-9302-F4B945876C9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B0A8E1-2A24-49B3-9BCB-6860EDCF90B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EFE390-6EBE-4A61-94AA-3875C211D2D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5B4414-C94A-4C9F-99D7-CFEEE39126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F032-1070-4BCA-9ACE-C486EDDB52D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1B3775-FE75-41FB-85AC-9B6AEBEEE61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88F69-CC24-4E91-8922-91F72379902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50B389-84A1-4691-B69C-861657FDBAB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CA4233-F6EB-4709-B4AA-4A6F1AE5FA6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BB289-5EF5-4769-8949-E2DF577E001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ADF891-1B3A-41CC-9B48-30A351FDF51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14900-0E55-43A1-AA1E-A38862D448B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EE740-03FD-406A-A645-E18CEA27CF8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4E6B0-EF4A-4835-A359-52D1CEF807B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C8A75-BC41-410C-A5ED-F083E4D380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7DC1-AA01-48B2-B409-4C07617E84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0788F-D04C-4A10-A6B1-08E634C0CAE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A3DBF-FEF8-4BB0-B046-3EFD057126E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099FE-95F5-4422-8E67-563F116EDE1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1AD1B-C163-40FB-A3DC-EF1669031D1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75418-C4C9-4A76-BA81-93B8AC0330C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CE238-64FE-4560-AFEB-34E65BF7773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2995A-2913-4CA8-8F79-7B3F0D2FE27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DA8AC-3828-4C28-B933-D522CD9616A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8EF51-BA6D-4EAA-87FA-282703E5310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FF4F4-EC47-45BC-B0C6-52D7C17272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7ACD-91DD-4449-957F-40648A2F10B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F7AF-CD0F-48F3-8E9E-65DCBC1C178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6C717-4ED1-4095-93F9-499E4F6A442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3EA2B-B0BC-4543-A3B2-07E3552F07C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9271-49EF-40A3-BCCC-ACB82E160EE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C49C-6E82-4C0E-959F-A5265DB9024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72CAC-8D7A-42E9-B80B-9D3E2547470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0717-8568-4828-BC5E-9B9998660D2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AD681-D74D-46C2-8A52-29C5F814F70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F0BCB-5907-4B79-AB7E-F7AF15FF388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F8CB5-78BE-45B0-80F1-C56284D08F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AFD0-DDF0-44AC-9ACF-7AE43DAF1A4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635CD-9C08-4603-A7F9-386BDBBC619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B38894-E064-47BE-870D-56FC8FAE1FD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0FA1A2-4B52-4BDA-BF08-E73A743B999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1CF864-6A8D-4A9B-90BA-9F689F6B795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C5548-D288-4208-985F-317B542D1AD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46B9D0-4679-46CA-8FF5-52E944D38B0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8F1E99-ECDE-4222-98CE-4B0BB837E32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818593-E081-4DDF-8484-A19B553294E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A8AA99-1ECE-4546-B8E2-B3EDC1AE42E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D8A892-299B-4E4E-BAFD-2813695196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27F4-0B22-4C11-9747-9FD5D73EAB3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9C2383-D414-47A6-9064-46E10F5508F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8EB37E-1121-41AF-B894-9D709A6DF1A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46CEB6-8366-42AC-89B7-FC45135EEE6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2877A-0D80-402D-A280-20E4B26BDB6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CB8BA-320E-403E-AFB5-57328C8EF49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4CDC8-2345-4926-BC4F-37A614C0072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18222-91D4-41CB-BAD1-88BFB75BBF8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CE542-115C-4A91-B178-0864CD9FE09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1FF68-77A0-49D8-91F1-0ADE4CDFA47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9413F-92D8-4F36-BE86-7AE759B655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1B86-CF79-4937-89DE-854B9EDC1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FA5D-11D5-42BC-AF89-3BFF5026D88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99E8B-53B8-47BB-83BC-7A8AB03493E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782FF-ED90-4F1A-958A-010E6E6E406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BB319-C2C6-467C-8D58-A838ADABF0F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05962-DAFC-40A5-9808-92AD1CC0A08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BE67F-32C6-46B3-81B4-2CBB4511F19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B66DE-FEB1-44B3-A123-9D5D228BB6C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A5DAF-B3B7-4A43-811D-3BEE12B2FBF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3503B-3571-402E-A264-C289C9BFFE0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89465-A8A0-4370-8086-6C60D3B6F24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B4D4F-3EE9-487D-BBFA-8274B29F81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C66A-E331-4291-97A6-8F2925D7E9B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3F18F-4692-40C2-99A3-8EEF9511F0B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5CD3-DB98-44A2-8CA2-CF61944E3A8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961EC-D9F5-4457-81DF-84240E0EB01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161BB-6840-4C2C-A2DA-96B50047BFB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DD184-8161-41B3-B735-5519A6F7A02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79669-2120-43DA-BEC0-133D9B2E6B6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F91A7-41EA-4DE8-9A64-9315756F010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7EFEB7-9DF7-4455-91A7-54D626FC0CF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836FD6-0F43-4F22-8D3C-067ABBCD4CE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97566E-AAAC-4656-AD36-88295F4119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462C-FA5C-45CD-8714-4BD08F170DE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C5FB8-D99A-4A53-8B65-BE1DE2307AF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994A84-7662-440B-A928-1AF6EEFD7A1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24E8E-6CD7-47B5-B004-5CAE66AA1F9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F8CC11-CE0A-46DA-A18E-DC71E9F0EDB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B0489B-43D9-45ED-8208-EBA6D675107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1D18B-3EC9-4CF9-B95A-41810FB737C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EB326B-5940-4C67-A8F9-8E6D0930FF6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E948A8-5937-4F5E-BF85-B21D3DDCD47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73896B-0793-4ACD-AD88-5A5BC61B99B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F15EF-EC2C-48EA-A858-BBEE7909AD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0942-E610-410B-969B-B159D124F84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B94E3-DE00-426D-8A19-FAB3C168703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0316A-8A95-41B4-AAE9-BF967E8FA71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7CA1B-CCBE-4D92-AAA0-64E81DC66F2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DE413-8195-49D2-83DB-C92B02C7DA3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2340E-DAEC-4E88-BFF7-A2F9601B45A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FC192-90E4-47B2-B42E-57A522BFE41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1D570-8138-4D6F-ACA0-9B520C40F01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1F5ABB-877D-47CE-B45E-69DD18EB606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C1BEA-250E-40DE-8AAE-807D63292AC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68AAD-57F6-4D86-ADF2-62D9F68556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8E38-2002-4D2A-8E99-5D978E2D2F3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EF98D-C5E4-4675-9F3E-2E5950D84A5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CD9CD-36D6-4411-A7EA-066888BB095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1A86F-3AD2-414D-8C6A-4D03D04A939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3DE26-6A95-41E5-A724-FB056659CD0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4EE60-C77E-4CFE-B9B6-0C49EAB52A4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01D0D-D07F-46F1-887E-307B7767B80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2A1AE-3A09-4DB2-BC58-8D2B4173BA9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1AD81-C273-492D-8C02-68E6465BE74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8EEE-E81C-4414-B9ED-C193FE8C649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2C55B-44D4-402B-8616-0C861F959A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7FC-BBB1-4822-8D3B-CB6DC2B5FAB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4F927-6022-441B-A91D-A036D2FDFD8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0530-A53E-4F7F-A7D8-EB5AA26E7F2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1745B-CDBB-4740-9A3E-416274977E6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59C3A6-3667-4867-9528-650DC46AC08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C98C4D-5AB6-4E46-B965-5FEAFA6E955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81180E-3414-41F4-826D-19E6D4410F7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6AEA86-E3DF-4DC9-BA24-C1F5CC23F18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211498-18D7-4597-BA80-330F7F95C3D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5F57D4-4FF3-4B78-BA4B-035649340DF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D7A87B-1D62-4595-9E94-C60EA8754B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2E9-7257-4B20-A48C-E0E5F0A486D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644657-AD7F-4935-AE1D-00E08CBE38C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399BD2-30F4-461B-A20E-7ACAC19F749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5EEDD5-7B08-4757-A1B7-8F4C954C23F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05991E-FFA5-498E-960D-CF09543D17B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C8F4DA-7732-4F40-95E9-8D12D0B886B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C4EEC5-F87C-4BBA-9893-70503F994C7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A95D22-B648-417D-8D60-AA5BA8DB7F6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7879D-D46B-4A69-8E19-1623BC59D62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93F448-26C0-49BA-97F7-D962F06E88E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0E131-5E41-49BB-8BC4-671271B495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27D-193B-4635-AC45-904F24D6FC1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3F0D0-F6CA-4742-AC59-67E65752686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5DA0E6-4DAF-4F3D-BE9F-8008EF34175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8AEE3E-8A75-47ED-943E-CD371783042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1AC71-6365-45D7-B31E-6A3C81C6C21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5C75D6-9C8B-4E81-AABC-D9F9F2BBC55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277D4-7F54-4899-A080-3864822A44B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57DC66-757F-45D5-B968-664762132A4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E516-5BD5-4FE4-81B7-08A55D79626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8BC9-096B-4B9B-9075-3910CE7D96C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83905-9F21-428D-9491-4DF4F4496E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75D-D747-4AEF-81C1-4B9F93CCC8E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8CBC3-8387-4532-88D8-79698DFCBB2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A2A5C-536E-4496-A010-144CD6415C9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DAC2F-7CB7-4F0E-A968-664E0D2E8A7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C011D-FBFD-4C95-9556-A6479F1474B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32F62-32F5-4E4D-B9F9-74BBA00A513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4E7A2-AA89-46FF-AA39-91D9D9D960C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AA879-023D-4CAA-8159-96D2045DE9E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51DAA-0935-40CE-ACDC-CCEDA1F004D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556B0-3B1B-4C10-80DF-363178E4A17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CD304-4EB9-4DC1-8104-0937CC2E45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586-712E-4B0A-A543-C6D31BC0BD9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74243-43A2-4C00-A9F2-7324EAA7EDC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289C9-6EA1-4A2C-84B4-1C57BC943F9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CCBF9-F1A2-4FE8-A4FC-6D0FBE19253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8C72C-E794-47A8-BA2B-0D13C8EA68D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3E12F-B3B2-443F-9DB0-663C39A59AF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B8821-31AA-4E86-BEA8-8C7314E0CA0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B3B7D-E1E7-4272-844E-3DAEF2982CF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BDDAD-A1D6-46ED-A4F4-806DAC0B042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8A16F-3185-4892-86CC-C3144D561B2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964A7-9855-497F-9807-C11C6AC969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7C93-0F29-4FD8-8CF8-3465F80E0F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D75-60AC-4514-B68B-7820F29D7F1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92DB5-F120-4261-B2F9-258E8CC52F0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4681A-464D-4C3E-8297-540433DA65C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DC003-A5E9-4B4A-92F0-66ECFC1D691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A3424-6ADC-4C99-8F51-5D419D1614B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751556-838C-43EB-8F2E-2632CD4446D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10C302-3028-4050-84D0-3624F38A7B6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780AB8-0EB9-47D2-AA35-DE82852DD20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ABB17-96D1-4EEB-913A-EA47AC2D9FF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DEFAC-C9C4-4450-B8D9-A9F263CB0EA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394072-2DFE-4E52-871B-15D5C04155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830-6CE9-47C0-92CB-478B7E290EE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C61B5A-7B3C-4061-9FD1-B908E7617F3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594E5D-7FAD-4A0F-A28A-9DB07DAC64C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E8394-3728-422D-BC9D-2BC203B9A44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6CCAA-BA0D-4184-B351-1B42E016FB4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FDCB3-91C5-4632-9DCE-DC6EF61F368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956FA-A1C6-4EA8-8F2A-B5BC31D0118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E7F65-194B-4124-9A1C-D7B0516FE64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3CC2D-E69F-4BBC-9B67-B81BDA18C27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180A6-F280-44A2-8F7E-62379D188B1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91507-CB79-4FF4-9787-64B0A7C532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B5B-FC2F-4C21-8919-FFE027F98A6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E15B3-1DF6-438A-BC53-0615D5723AC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288C2-D1FD-48D2-97D1-ED0443850CA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29E98-C486-4C7E-A175-A0929F55D07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83040-1D66-49B2-AD40-FB9FD82BDA2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4C9DC-EA77-4EA0-93D8-DFB7BA048F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594-309A-46D8-B40D-7213E3F5CF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C7F-ABC4-4095-A0A1-1E94732B57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E7C-8DA0-4436-812C-E246461606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750-A3F3-4852-87DA-34F8AC63DC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0AF27-C7CC-450F-AAC8-863177533C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3EC97-8426-42C1-9173-F42DC97BAE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378BF-73AF-4057-A55D-E152A51EF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66CD-B840-4BB7-92CF-20CE8F6D1E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EBE4D-1047-4047-AD89-D725101DC1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AFDB0-047D-43F2-B789-0201C2CE71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96DA1-2633-4EFD-8ED3-676AF89781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D92A6-EFC9-45F1-8FD7-BBBDCB20C6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A4FCD-B372-4135-8085-EA51CFFC11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E495E-9EE9-422D-9B50-161126D2CC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B8D0D-0A90-4EE2-9EE6-12A8F6C290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B9B96-72A9-4137-B2CA-A62DB6EF8D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0D07-85BC-4E7A-843A-B76E4ECFC0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07A21-6D38-4054-B97E-32207A9BE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BF6A-1511-4117-A9EF-E67F282167E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E6BA6-3775-4D3C-A690-9E73E5CA2E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D1ED2-3288-442E-A056-8634D773701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6581D-A869-475D-8121-7C25F09ADD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79CDC-4708-4510-9724-AB60E5A7F4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DF93D-3A76-4B4D-99C9-4178D8D0C0E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C57CD-22CF-4500-AC54-EC94BE8DF6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56A02-47AF-46DA-A8BB-47292C7612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07D69-2B7B-41A9-B9FC-445B94741B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B566E-EA35-4CA4-A54D-33980B25CE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6EFE7-FBA5-4A87-928A-C888C8B12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5C5D-0106-46A7-83D3-2B389572032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6B793-F287-4C5B-8CC9-164C0AD4A5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9ED7-305D-4517-B8C3-C3C11E1B37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7355-6E03-41BF-90B9-074F1CC92A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8517-A930-41C6-8FE5-43D68B401B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A39D-42AA-461C-8ACF-72F621455C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B7C6-478B-4DC0-B849-FAA7BB13B6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C293-1C12-4181-A9DB-97589520D0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534C-5743-4B3A-AF9A-25F0175566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2407-E289-4976-AE38-DFE480CD14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275E-3E10-4657-80B7-4335631F8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127B-CD52-489F-8E89-692C5192D9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66D7-469F-4BF5-A9A5-7D520117190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45E2-CD03-4BC9-B19E-C78E26BBDC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2F54-7629-4839-9659-C4995B85C0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889D5-B748-456D-881B-B7F52FF1F1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AFC05-9BD0-4F94-9C2E-7050898D39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F99A5-D29D-4A03-A502-B1D7B22E2D7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ACEEE-DB04-4C93-BDE2-B54E2D97BE9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93F55-114B-471E-B3AD-59EE9D6F7C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491A9-649C-49EA-BDC6-66580D761E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682B8-6BEC-4704-925E-79EB7A64F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DD8F-1738-4699-9F5D-1C69C2E54F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2FA38C-242F-4131-AE31-BB779AE12C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36B2F-3099-430B-9EDD-481D1C42E6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A5817-8767-4B99-9F82-B48E0BD4F5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3CD31-E850-4110-B9C1-33F3F28C55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B4CDE-8D60-4AAA-B980-0649A30157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8E614-6FF5-442A-9793-3B20311F21B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DF982-67C9-47CB-8DBC-A1669D359FC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CED71-B9B6-4F50-ABE5-3AE7419631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7E8C1-2E14-429F-920F-BB82C755F0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F2B4A-4135-4E0D-8E3B-FDA9A810C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5324-5887-45ED-BF9D-70C217111DA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70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C3DC3-6FDA-4466-8929-117E8364E58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1F965-4EBD-4317-9AA6-519E23EAD6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F9782-E24A-4E0A-AB89-1CED40A68E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37589-79F1-407C-BF58-496582E828D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6E9C8-027D-446C-8B2F-0D9DBE62195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2A1CC-425F-424B-9FBF-9EFE42EBF8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E83C9-1196-40DB-B08B-462B97A8A0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FD1A-4BD6-41C3-A673-045B23BFA30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315D-E7A3-4B56-A0D8-BF5D0D4E428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42CA-893E-4E3E-8094-69D9E0291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6880" cy="6854760"/>
            <a:chOff x="0" y="0"/>
            <a:chExt cx="7616880" cy="68547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7160" cy="6854760"/>
              <a:chOff x="0" y="0"/>
              <a:chExt cx="3197160" cy="68547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58880" cy="68547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39960" cy="116352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88640" cy="316080"/>
              <a:chOff x="228240" y="1981080"/>
              <a:chExt cx="7388640" cy="31608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7400" cy="3142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0600" cy="3160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26363-B222-4D10-A3E1-70A65B1D037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0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7CF6AA2-366E-4D7F-BC02-9F0344A5151F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11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68F683F-B4E2-4632-AADE-0752F4ACDE96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2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E98AA2C-42E4-4766-893D-6921B6778157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13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CA21D88-4421-4368-94EE-30AB2CD179E0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Num" idx="14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135B127-3C0B-4D2B-A598-D7E6B6A1040C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15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A1E9085-7133-4871-A26F-9B8B1FBC51CD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639" name=""/>
            <p:cNvSpPr/>
            <p:nvPr/>
          </p:nvSpPr>
          <p:spPr>
            <a:xfrm>
              <a:off x="0" y="0"/>
              <a:ext cx="3502080" cy="68547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16120" y="1690560"/>
              <a:ext cx="7424640" cy="2530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0" y="1066680"/>
              <a:ext cx="2863800" cy="3154320"/>
              <a:chOff x="0" y="1066680"/>
              <a:chExt cx="2863800" cy="3154320"/>
            </a:xfrm>
          </p:grpSpPr>
          <p:sp>
            <p:nvSpPr>
              <p:cNvPr id="642" name=""/>
              <p:cNvSpPr/>
              <p:nvPr/>
            </p:nvSpPr>
            <p:spPr>
              <a:xfrm>
                <a:off x="573120" y="3583080"/>
                <a:ext cx="573120" cy="637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16120" y="1690560"/>
                <a:ext cx="571320" cy="6397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281320" y="106668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41560" y="3583080"/>
                <a:ext cx="581040" cy="637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81320" y="1690560"/>
                <a:ext cx="58248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41560" y="2324160"/>
                <a:ext cx="581040" cy="6300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2324160"/>
                <a:ext cx="579600" cy="6300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16120" y="2324160"/>
                <a:ext cx="571320" cy="6300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3120" y="2948040"/>
                <a:ext cx="573120" cy="641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41560" y="2948040"/>
                <a:ext cx="5810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5D9D4-987F-4F7C-9693-47F8F87A842B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BD11C-A2C5-4EDF-987B-334CB43EBE1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EB911-5478-45AC-92F6-6E813522890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44BDD-7E8C-43EF-A165-C7B46D65315C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D5CC0-BBEE-4E64-96C3-ACC24A5159D0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40760" cy="542880"/>
            <a:chOff x="0" y="0"/>
            <a:chExt cx="9140760" cy="5428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2600" cy="53028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920" y="135000"/>
              <a:ext cx="8727840" cy="27144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9680" y="135000"/>
              <a:ext cx="135000" cy="1378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560" y="0"/>
              <a:ext cx="136800" cy="135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7560" y="135000"/>
              <a:ext cx="136800" cy="137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4680" y="274680"/>
              <a:ext cx="133200" cy="135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1760" y="136440"/>
              <a:ext cx="138240" cy="1350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9680" y="27144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4680" y="409680"/>
              <a:ext cx="133200" cy="133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0860B-53E4-4444-B9C4-30209BFDABB0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A3508-96E3-4E6F-8914-1E3FE3D429B5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57DE7-64A7-4B9C-B1FC-6EEE84F702E6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B829F-A093-4492-9BB9-BEA22BC158F0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EB07E-675D-4121-892D-E52FE3C70435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Num" idx="2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D85C5-6A61-46AD-96FD-5073EDCEA422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sldNum" idx="2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23C88-2FA6-4A27-9ED8-B3B5831AD9F9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A8DA8-53BA-4A91-AA37-26BC3C1270DF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5864400" cy="6854760"/>
            <a:chOff x="0" y="0"/>
            <a:chExt cx="5864400" cy="6854760"/>
          </a:xfrm>
        </p:grpSpPr>
        <p:sp>
          <p:nvSpPr>
            <p:cNvPr id="100" name=""/>
            <p:cNvSpPr/>
            <p:nvPr/>
          </p:nvSpPr>
          <p:spPr>
            <a:xfrm>
              <a:off x="0" y="0"/>
              <a:ext cx="4568760" cy="68547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990720"/>
              <a:ext cx="5178600" cy="1901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32040" y="4889520"/>
            <a:ext cx="4873680" cy="315720"/>
            <a:chOff x="3632040" y="4889520"/>
            <a:chExt cx="4873680" cy="315720"/>
          </a:xfrm>
        </p:grpSpPr>
        <p:sp>
          <p:nvSpPr>
            <p:cNvPr id="103" name=""/>
            <p:cNvSpPr/>
            <p:nvPr/>
          </p:nvSpPr>
          <p:spPr>
            <a:xfrm flipH="1">
              <a:off x="3632040" y="4889520"/>
              <a:ext cx="4623120" cy="3142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48680" y="4889520"/>
              <a:ext cx="257040" cy="3157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76320" y="624816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C703AC3-9B39-48FD-9334-8CAD3DF0FAA5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4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7E05B42-918A-4461-A5E0-DF1F9B9CFEA0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5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053F32E-2AC8-4EE5-A2B7-A528FB9F56E2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6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48A1BC6-A637-47CB-A272-4AD1505C4CF2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7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368F3D3-E93E-4F30-8127-C4E57B77DC25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8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FACA290-F1FF-4371-934D-B1C901207720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9"/>
          </p:nvPr>
        </p:nvSpPr>
        <p:spPr>
          <a:xfrm>
            <a:off x="84240" y="6241680"/>
            <a:ext cx="583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A850E7F-D6EA-4596-BAA2-6A5C9A41D8B1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4716360" y="5516640"/>
            <a:ext cx="4427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РОЕКТНАЯ ДЕЯТЕЛЬНОСТЬ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МЛАДШИХ ШКОЛЬНИКО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укушкина Л.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812880" y="57240"/>
            <a:ext cx="7808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ипология проект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4360" y="836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жпредметный (интегрированный)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проект, интегрирующий смежную тематику нескольких предметов, выполняется в основном во внеурочное время под руководством нескольких специалистов в различных областя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55640" y="2708280"/>
            <a:ext cx="806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 могут быть небольшие проекты, затрагивающие две-три предметные области, а могут быть достаточно объемные, продолжительные. Разделы (темы) программ по разным учебным предметам группируются вокруг проект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26920" y="4076640"/>
            <a:ext cx="8066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ированный проект предоставляет возможность использования знаний в различных сочетаниях, стирает границы между школьными дисциплинами; сближает применение школьны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 реальными жизненными ситуациями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755640" y="981000"/>
            <a:ext cx="79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ация позволяет перейти от изолированного рассмотрения различных явлений действительности к их взаимосвязанному комплексному изучению, дает возможность показать мир во всем его многообразии с привлечением научных знаний, литературы, живописи, что способствует эмоциональному развитию личности ребёнка и формированию его творческого мышлен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826920" y="3213000"/>
            <a:ext cx="784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щиеся с большим интересом начинают подходить к изучению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ног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атериала, понимая, что он им необходим в дальнейшей работе по проект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dur="indefinite" fill="hold">
                      <p:stCondLst>
                        <p:cond delay="0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420" dur="indefinite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dur="indefinite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880920" y="314280"/>
            <a:ext cx="7815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ипология проект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24000" y="126828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ини-проек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укладываются в 1 урок или часть уро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раткосрочны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рассчитаны на 4-6 уро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редней продолжительност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укладываются в 1-2 месяц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1"/>
          <a:stretch/>
        </p:blipFill>
        <p:spPr>
          <a:xfrm>
            <a:off x="2916360" y="3780000"/>
            <a:ext cx="2906640" cy="30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dur="indefinite" fill="hold">
                      <p:stCondLst>
                        <p:cond delay="0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395280" y="331920"/>
            <a:ext cx="84247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6666"/>
                </a:solidFill>
                <a:latin typeface="Arial"/>
              </a:rPr>
              <a:t>Роли участников проектной деятельности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39640" y="1341360"/>
            <a:ext cx="2232000" cy="50328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Л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ЧИТЕЛ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276720" y="1341360"/>
            <a:ext cx="2879640" cy="50328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ЧЕНИ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516720" y="1341360"/>
            <a:ext cx="2303280" cy="50328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39640" y="1916280"/>
            <a:ext cx="2232000" cy="172692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Консульт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Мотив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Стимул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Наблюдает</a:t>
            </a: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276720" y="1916280"/>
            <a:ext cx="2879640" cy="266508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Является субъект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познавательно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Выбирае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(принимает реше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Выстраивает систем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взаимоотношени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с людьм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Оценивает</a:t>
            </a:r>
            <a:r>
              <a:rPr b="0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516720" y="1916280"/>
            <a:ext cx="2305080" cy="1726920"/>
          </a:xfrm>
          <a:prstGeom prst="rect">
            <a:avLst/>
          </a:prstGeom>
          <a:solidFill>
            <a:srgbClr val="b7dbb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Консульт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32"/>
                </a:solidFill>
                <a:latin typeface="Arial"/>
              </a:rPr>
              <a:t>Мотивир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539640" y="4076640"/>
            <a:ext cx="2135160" cy="230508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2"/>
          <a:stretch/>
        </p:blipFill>
        <p:spPr>
          <a:xfrm>
            <a:off x="6732720" y="4365720"/>
            <a:ext cx="1995480" cy="21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dur="indefinite" fill="hold">
                      <p:stCondLst>
                        <p:cond delay="0"/>
                      </p:stCondLst>
                      <p:childTnLst>
                        <p:par>
                          <p:cTn id="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dur="indefinite" fill="hold">
                      <p:stCondLst>
                        <p:cond delay="indefinite"/>
                      </p:stCondLst>
                      <p:childTnLst>
                        <p:par>
                          <p:cTn id="5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dur="indefinite" fill="hold">
                      <p:stCondLst>
                        <p:cond delay="indefinite"/>
                      </p:stCondLst>
                      <p:childTnLst>
                        <p:par>
                          <p:cTn id="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803160" y="301680"/>
            <a:ext cx="78422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Особенности организации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187280" y="907920"/>
            <a:ext cx="6573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Тема проек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900000" y="148428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ыбирается из содержания учебных предмет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лизка и понятна детям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аходится в зоне их ближайшего развит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258920" y="2637000"/>
            <a:ext cx="655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лительность выполнения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971640" y="3429000"/>
            <a:ext cx="74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-2 недели в режиме урочно-внеурочных занятий, самостоятельной работы при участии родител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87280" y="4292640"/>
            <a:ext cx="65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ценка выполнения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971640" y="5084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ложительной оценки достоин любой уровень достигнутых результат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dur="indefinite" fill="hold">
                      <p:stCondLst>
                        <p:cond delay="0"/>
                      </p:stCondLst>
                      <p:childTnLst>
                        <p:par>
                          <p:cTn id="5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98" fill="hold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98" fill="hold"/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98" fill="hold"/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5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898560" y="40464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ы продуктов проектной деятель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900000" y="1628640"/>
            <a:ext cx="69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равочник; газета; журна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льб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ербарий; кар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скурс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гра; сценарий праздн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стюм; макет; модель;  сувени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ультимедийный продук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ебное пособие и др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6789600" y="4149720"/>
            <a:ext cx="186228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dur="indefinite" fill="hold">
                      <p:stCondLst>
                        <p:cond delay="0"/>
                      </p:stCondLst>
                      <p:childTnLst>
                        <p:par>
                          <p:cTn id="5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6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6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6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6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63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585720" y="306360"/>
            <a:ext cx="8110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Формы презентации проекто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042920" y="1197000"/>
            <a:ext cx="71280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монстрация медиа – презентации, коллажа, макета, журнала, игрушек, предметов домашнего обиход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защита реферат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южетно-ролевая игр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здник или инсценировк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монстрация учебного пособия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55640" y="49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Защита проектов может проходить на родительском собрании, на уроке, во внеурочное врем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dur="indefinite" fill="hold">
                      <p:stCondLst>
                        <p:cond delay="0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66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444600" y="384120"/>
            <a:ext cx="8281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формление проектной папк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7928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ведение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, в котором описывается актуальность и важность данных проблем для участников проекта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бранная и систематизированная информация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 теме проекта, в том числе необходимые ксерокопии, и распечатки из Интернет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грамма действий по проекту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: планы выполнения проекта и отдельных его этапов;  промежуточные отчеты групп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исследований и анализа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скизы, чертежи, наброски продукта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ериалы к презентации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сценарий, фото и т.д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dur="indefinite" fill="hold">
                      <p:stCondLst>
                        <p:cond delay="0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7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7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7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755640" y="7128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авайте обсудим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50920" y="1700280"/>
            <a:ext cx="86421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о каким критериям можно оценить успех проектной деятельности детей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6227640" y="3578400"/>
            <a:ext cx="2449800" cy="29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dur="indefinite" fill="hold">
                      <p:stCondLst>
                        <p:cond delay="0"/>
                      </p:stCondLst>
                      <p:childTnLst>
                        <p:par>
                          <p:cTn id="7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826920" y="331920"/>
            <a:ext cx="77806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ритерии успеха работы над проектом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4360" y="162864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стижение конечного результат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владение учащимися учебными умениями, связанными с приемами самостоятельного приобретения знан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лоченность участников команды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лучение полного и глубокого удовлетворения от сделанного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веренность детей в том, что они могут создавать продукт, востребованный для них и других людей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dur="indefinite" fill="hold">
                      <p:stCondLst>
                        <p:cond delay="indefinite"/>
                      </p:stCondLst>
                      <p:childTnLst>
                        <p:par>
                          <p:cTn id="7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dur="indefinite" fill="hold">
                      <p:stCondLst>
                        <p:cond delay="indefinite"/>
                      </p:stCondLst>
                      <p:childTnLst>
                        <p:par>
                          <p:cTn id="7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dur="indefinite" fill="hold">
                      <p:stCondLst>
                        <p:cond delay="indefinite"/>
                      </p:stCondLst>
                      <p:childTnLst>
                        <p:par>
                          <p:cTn id="7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dur="indefinite" fill="hold">
                      <p:stCondLst>
                        <p:cond delay="indefinite"/>
                      </p:stCondLst>
                      <p:childTnLst>
                        <p:par>
                          <p:cTn id="7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588960" y="384120"/>
            <a:ext cx="7824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6666"/>
                </a:solidFill>
                <a:uFillTx/>
                <a:latin typeface="Arial"/>
              </a:rPr>
              <a:t>«Банк» проектных идей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500720" y="1484280"/>
            <a:ext cx="40320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00333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"Герои исторических песен"</a:t>
            </a:r>
            <a:endParaRPr b="0" i="1" lang="en-US" sz="1800" spc="1" strike="noStrike">
              <a:ln cap="sq" w="9360">
                <a:solidFill>
                  <a:srgbClr val="00333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95280" y="1484280"/>
            <a:ext cx="295272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33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Пернатые друзья"</a:t>
            </a:r>
            <a:endParaRPr b="0" lang="en-US" sz="1800" spc="1" strike="noStrike">
              <a:ln cap="sq" w="9360">
                <a:solidFill>
                  <a:srgbClr val="ff33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5076720" y="2637000"/>
            <a:ext cx="31672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"Осторожно, Зима!"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1332000" y="5877000"/>
            <a:ext cx="6480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Выращивание кристаллов в домашних условиях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539640" y="2637000"/>
            <a:ext cx="280836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"Охрана зрения"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643280" y="3716280"/>
            <a:ext cx="3961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Они нуждаются в заботе"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95280" y="3789360"/>
            <a:ext cx="280836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Зимний сад"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1692360" y="501336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"Полет на воздушных шарах"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dur="indefinite" fill="hold">
                      <p:stCondLst>
                        <p:cond delay="0"/>
                      </p:stCondLst>
                      <p:childTnLst>
                        <p:par>
                          <p:cTn id="7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79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7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81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dur="indefinite" restart="whenNotActive" nodeType="interactiveSeq" fill="hold">
                <p:stCondLst>
                  <p:cond evt="onClick">
                    <p:tgtEl>
                      <p:spTgt spid="1246"/>
                    </p:tgtEl>
                  </p:cond>
                </p:stCondLst>
                <p:childTnLst>
                  <p:par>
                    <p:cTn id="821" dur="indefinite" fill="hold">
                      <p:stCondLst>
                        <p:cond evt="onClick">
                          <p:tgtEl>
                            <p:spTgt spid="1246"/>
                          </p:tgtEl>
                        </p:cond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dur="indefinite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829" dur="indefinite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8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4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dur="indefinite" restart="whenNotActive" nodeType="interactiveSeq" fill="hold">
                <p:stCondLst>
                  <p:cond evt="onClick">
                    <p:tgtEl>
                      <p:spTgt spid="1249"/>
                    </p:tgtEl>
                  </p:cond>
                </p:stCondLst>
                <p:childTnLst>
                  <p:par>
                    <p:cTn id="837" dur="indefinite" fill="hold">
                      <p:stCondLst>
                        <p:cond evt="onClick">
                          <p:tgtEl>
                            <p:spTgt spid="1249"/>
                          </p:tgtEl>
                        </p:cond>
                      </p:stCondLst>
                      <p:childTnLst>
                        <p:par>
                          <p:cTn id="8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dur="indefinite" restart="whenNotActive" nodeType="interactiveSeq" fill="hold">
                <p:stCondLst>
                  <p:cond evt="onClick">
                    <p:tgtEl>
                      <p:spTgt spid="1247"/>
                    </p:tgtEl>
                  </p:cond>
                </p:stCondLst>
                <p:childTnLst>
                  <p:par>
                    <p:cTn id="845" dur="indefinite" fill="hold">
                      <p:stCondLst>
                        <p:cond evt="onClick">
                          <p:tgtEl>
                            <p:spTgt spid="1247"/>
                          </p:tgtEl>
                        </p:cond>
                      </p:stCondLst>
                      <p:childTnLst>
                        <p:par>
                          <p:cTn id="8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dur="indefinite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853" dur="indefinite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8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dur="indefinite" restart="whenNotActive" nodeType="interactiveSeq" fill="hold">
                <p:stCondLst>
                  <p:cond evt="onClick">
                    <p:tgtEl>
                      <p:spTgt spid="1250"/>
                    </p:tgtEl>
                  </p:cond>
                </p:stCondLst>
                <p:childTnLst>
                  <p:par>
                    <p:cTn id="861" dur="indefinite" fill="hold">
                      <p:stCondLst>
                        <p:cond evt="onClick">
                          <p:tgtEl>
                            <p:spTgt spid="1250"/>
                          </p:tgtEl>
                        </p:cond>
                      </p:stCondLst>
                      <p:childTnLst>
                        <p:par>
                          <p:cTn id="8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dur="indefinite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869" dur="indefinite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8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4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dur="indefinite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877" dur="indefinite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8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873000" y="522360"/>
            <a:ext cx="78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6666"/>
                </a:solidFill>
                <a:uFillTx/>
                <a:latin typeface="Arial"/>
              </a:rPr>
              <a:t>Сущность понят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24000" y="1413000"/>
            <a:ext cx="864072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Проект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(латин. «projectus»)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«брошенный вперед», т.е.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мысел в виде прототипа, прообраза объек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совокупность документов для создания издел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предварительный текст докумен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замысел, план, прообраз какого-либо объек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Учебный проект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- специально организованный педагогом и самостоятельно выполняемый обучающимися комплекс действий по решению значимой для учащегося проблемы, завершающихся созданием творческого продук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роектирование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- процесс создания проек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33320" y="384120"/>
            <a:ext cx="7824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оисковый эта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50920" y="1341360"/>
            <a:ext cx="8569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БЛЕМ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– 1) сложный вопрос, задача, требующие разрешения, исследования; 2) ситуация, когда субъект осознает, что ему не хватает знан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ЕМ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– предмет, основное содержание рассуждения, излож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– то, что требует исполнения, разрешения; это последовательные этапы организации и проведения исследования (изготовления изделия) от начала и до конц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– 1) те научные и практические результаты, которые должны быть достигнуты в итоге проведения исследования, изготовления продукта; 2) предмет стремления, то, что надо, желательно осуществи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dur="indefinite" fill="hold">
                      <p:stCondLst>
                        <p:cond delay="0"/>
                      </p:stCondLst>
                      <p:childTnLst>
                        <p:par>
                          <p:cTn id="8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0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755640" y="476280"/>
            <a:ext cx="792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н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468360" y="1125360"/>
          <a:ext cx="8365680" cy="5473440"/>
        </p:xfrm>
        <a:graphic>
          <a:graphicData uri="http://schemas.openxmlformats.org/drawingml/2006/table">
            <a:tbl>
              <a:tblPr/>
              <a:tblGrid>
                <a:gridCol w="1662120"/>
                <a:gridCol w="1043280"/>
                <a:gridCol w="1108080"/>
                <a:gridCol w="1314720"/>
                <a:gridCol w="1057320"/>
                <a:gridCol w="1026000"/>
                <a:gridCol w="1154160"/>
              </a:tblGrid>
              <a:tr h="138168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тическое пол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ласти знани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1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dur="indefinite" fill="hold">
                      <p:stCondLst>
                        <p:cond delay="0"/>
                      </p:stCondLst>
                      <p:childTnLst>
                        <p:par>
                          <p:cTn id="9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755640" y="476280"/>
            <a:ext cx="792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Давайте обсудим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24000" y="1413000"/>
            <a:ext cx="864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хочет поделиться чувствами и эмоциями, с которыми уходите домой после собрания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ыло самым главным для вас в проделанной работ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ценного для себя каждый из вас получил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авдались ли ваши ожидания к предстоящей работ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 ваше нынешнее отношение к организации проектной деятельности младших школьников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влетворены ли вы проделанной работой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1"/>
          <a:stretch/>
        </p:blipFill>
        <p:spPr>
          <a:xfrm>
            <a:off x="7702560" y="4869000"/>
            <a:ext cx="1441440" cy="17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dur="indefinite" fill="hold">
                      <p:stCondLst>
                        <p:cond delay="0"/>
                      </p:stCondLst>
                      <p:childTnLst>
                        <p:par>
                          <p:cTn id="9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5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1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96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-255600" y="-176040"/>
            <a:ext cx="5168880" cy="468144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5346720" y="396720"/>
            <a:ext cx="3432240" cy="376740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3"/>
          <a:stretch/>
        </p:blipFill>
        <p:spPr>
          <a:xfrm>
            <a:off x="2627280" y="350028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dur="indefinite" fill="hold">
                      <p:stCondLst>
                        <p:cond delay="0"/>
                      </p:stCondLst>
                      <p:childTnLst>
                        <p:par>
                          <p:cTn id="9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0" dur="2000" fill="hold"/>
                                        <p:tgtEl>
                                          <p:spTgt spid="1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809640" y="530280"/>
            <a:ext cx="7815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6666"/>
                </a:solidFill>
                <a:uFillTx/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826920" y="1700280"/>
            <a:ext cx="76946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ля чего в начальной школе организуется проектное обучение?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39840"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акие умения могут формироваться у детей в процессе проектной деятельности?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1"/>
          <a:stretch/>
        </p:blipFill>
        <p:spPr>
          <a:xfrm>
            <a:off x="6516720" y="3925800"/>
            <a:ext cx="216072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252360" y="331920"/>
            <a:ext cx="871236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лавная идея организации проектной деятельности учащихся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39640" y="162864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звитие познавательных интересов обучающихся, умений самостоятельно конструировать свои знания и ориентироваться в информационном пространстве, развивать критическое мышл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39640" y="3860640"/>
            <a:ext cx="820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4240"/>
                </a:solidFill>
                <a:uFillTx/>
                <a:latin typeface="Arial"/>
              </a:rPr>
              <a:t>Основной тезис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24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«Все, что я познаю, я знаю, для чего мне это надо и где и как я могу эти знания применит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809640" y="387360"/>
            <a:ext cx="78152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55640" y="141300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ладший школьный возраст является начальным этап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бёнок начинает осознавать себя творцом своей деятель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н хочет что-то создать, поднять свой имидж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3933720"/>
            <a:ext cx="756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395280" y="260280"/>
            <a:ext cx="8424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витие младших школьников в процессе проектной деятель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3340080" y="2700360"/>
            <a:ext cx="2451240" cy="181620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2"/>
          <a:stretch/>
        </p:blipFill>
        <p:spPr>
          <a:xfrm>
            <a:off x="2693880" y="2487600"/>
            <a:ext cx="3541680" cy="261468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3419640" y="1197000"/>
            <a:ext cx="208908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Исследовательски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651640" y="5445000"/>
            <a:ext cx="2087280" cy="10810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Коммуникативны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588000" y="3357720"/>
            <a:ext cx="2232000" cy="1152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Информационны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24000" y="1628640"/>
            <a:ext cx="2305080" cy="1008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 в решении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робле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79280" y="386064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Рефлексивны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556000" y="5373720"/>
            <a:ext cx="2232000" cy="1224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резентационны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516720" y="155736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Технологически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ум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0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2987640" y="2276640"/>
            <a:ext cx="3456000" cy="1584000"/>
          </a:xfrm>
          <a:prstGeom prst="flowChartAlternateProcess">
            <a:avLst/>
          </a:prstGeom>
          <a:solidFill>
            <a:srgbClr val="33cccc"/>
          </a:solidFill>
          <a:ln cap="sq"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тапы проектной деятельност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356000" y="333360"/>
            <a:ext cx="208908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ОИСКОВЫ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900000" y="4581360"/>
            <a:ext cx="208944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РЕЗЕНТАЦИОННЫ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932360" y="4941720"/>
            <a:ext cx="208908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ПРАКТИЧЕСКИ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948360" y="2133720"/>
            <a:ext cx="2089440" cy="1079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АНАЛИТИЧЕСКИ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9640" y="1341360"/>
            <a:ext cx="2089440" cy="1079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КОНТРОЛЬНЫ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83" name=""/>
          <p:cNvCxnSpPr/>
          <p:nvPr/>
        </p:nvCxnSpPr>
        <p:spPr>
          <a:xfrm flipV="1">
            <a:off x="4932360" y="1483560"/>
            <a:ext cx="288000" cy="79308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184" name=""/>
          <p:cNvCxnSpPr/>
          <p:nvPr/>
        </p:nvCxnSpPr>
        <p:spPr>
          <a:xfrm flipV="1">
            <a:off x="6443640" y="2781000"/>
            <a:ext cx="505440" cy="7200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185" name=""/>
          <p:cNvCxnSpPr/>
          <p:nvPr/>
        </p:nvCxnSpPr>
        <p:spPr>
          <a:xfrm>
            <a:off x="5076720" y="3860280"/>
            <a:ext cx="288000" cy="108180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186" name=""/>
          <p:cNvCxnSpPr/>
          <p:nvPr/>
        </p:nvCxnSpPr>
        <p:spPr>
          <a:xfrm flipH="1">
            <a:off x="2699640" y="3860280"/>
            <a:ext cx="648360" cy="79452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187" name=""/>
          <p:cNvCxnSpPr/>
          <p:nvPr/>
        </p:nvCxnSpPr>
        <p:spPr>
          <a:xfrm flipH="1" flipV="1">
            <a:off x="2339280" y="2349000"/>
            <a:ext cx="648360" cy="21672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909720" y="270000"/>
            <a:ext cx="7904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ипология проект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669960" y="1262160"/>
            <a:ext cx="2908440" cy="118908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6072120" y="1328760"/>
            <a:ext cx="2809800" cy="1195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3"/>
          <a:stretch/>
        </p:blipFill>
        <p:spPr>
          <a:xfrm>
            <a:off x="5784840" y="2633760"/>
            <a:ext cx="3121200" cy="6588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4"/>
          <a:stretch/>
        </p:blipFill>
        <p:spPr>
          <a:xfrm>
            <a:off x="817560" y="2700360"/>
            <a:ext cx="2687760" cy="66528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 txBox="1"/>
          <p:nvPr/>
        </p:nvSpPr>
        <p:spPr>
          <a:xfrm>
            <a:off x="1403280" y="5084640"/>
            <a:ext cx="1728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Личностные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1194" name=""/>
          <p:cNvSpPr txBox="1"/>
          <p:nvPr/>
        </p:nvSpPr>
        <p:spPr>
          <a:xfrm rot="21180000">
            <a:off x="7017840" y="5229360"/>
            <a:ext cx="1384560" cy="98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Парные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924360" y="4508640"/>
            <a:ext cx="194472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Групповые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1452240" cy="130968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6"/>
          <a:stretch/>
        </p:blipFill>
        <p:spPr>
          <a:xfrm>
            <a:off x="3851280" y="2492280"/>
            <a:ext cx="1581120" cy="146052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 txBox="1"/>
          <p:nvPr/>
        </p:nvSpPr>
        <p:spPr>
          <a:xfrm>
            <a:off x="826920" y="3933720"/>
            <a:ext cx="2232360" cy="4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3366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монопроекты</a:t>
            </a:r>
            <a:endParaRPr b="0" lang="en-US" sz="1800" spc="1" strike="noStrike">
              <a:ln cap="sq" w="9360">
                <a:solidFill>
                  <a:srgbClr val="003366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1199" name="" descr=""/>
          <p:cNvPicPr/>
          <p:nvPr/>
        </p:nvPicPr>
        <p:blipFill>
          <a:blip r:embed="rId7"/>
          <a:stretch/>
        </p:blipFill>
        <p:spPr>
          <a:xfrm>
            <a:off x="5999040" y="3425760"/>
            <a:ext cx="2833920" cy="1165320"/>
          </a:xfrm>
          <a:prstGeom prst="rect">
            <a:avLst/>
          </a:prstGeom>
          <a:ln w="0">
            <a:noFill/>
          </a:ln>
        </p:spPr>
      </p:pic>
      <p:sp>
        <p:nvSpPr>
          <p:cNvPr id="1200" name=""/>
          <p:cNvSpPr/>
          <p:nvPr/>
        </p:nvSpPr>
        <p:spPr>
          <a:xfrm>
            <a:off x="395280" y="1268280"/>
            <a:ext cx="8497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сследовательский проект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это исследование какой-либо проблемы по правилам научного исслед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ворческий проект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редполагает максимально свободный авторский подход в решении проблемы. Продукт – альманахи, совместная газета и сочинение, театрализация, произведения изобразительного или декоративно-прикладного искус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олево-игровые проект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участники принимают на себя определенные роли, обусловленные характером и содержанием проекта, особенностью решаемой проблемы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гут быть литературные персонажи или выдуманные герои, имитирующие социальные или деловые отношения с придуманными участниками, ситуаци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3984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нформационные проект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это сбор и обработка информации по значимой проблеме с целью ее презентации широкой аудитории (статья в СМИ, информация в сети Интернет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0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522360" y="243000"/>
            <a:ext cx="78152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ипология проект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84360" y="1413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нопроекты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 реализуются, как правило, в рамках одного учебного предмета, т.е. выполняется на материале конкретного предмет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151760" y="5013360"/>
            <a:ext cx="1860480" cy="157968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684360" y="256536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та над монопроектами не исключает применение знаний из других областей для решения той или иной проблемы. Но сама проблема лежит в русле содержания конкретной предметной области или области деятельности человека. Интеграция - на этапе подготовки продукта к презентации: например, компьютерная верста продукта проектной деятель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84360" y="5300640"/>
            <a:ext cx="63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т проводиться в рамках классно-урочной систем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dur="indefinite" fill="hold">
                      <p:stCondLst>
                        <p:cond delay="0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dur="indefinite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dur="indefinite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48:09Z</dcterms:created>
  <dc:creator>Света</dc:creator>
  <dc:description/>
  <dc:language>en-US</dc:language>
  <cp:lastModifiedBy>Alexandr</cp:lastModifiedBy>
  <dcterms:modified xsi:type="dcterms:W3CDTF">2015-12-12T13:58:50Z</dcterms:modified>
  <cp:revision>19</cp:revision>
  <dc:subject/>
  <dc:title>Проектная деятельность младших школьников</dc:title>
</cp:coreProperties>
</file>