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A45-EE00-43FA-9BC6-18F5412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15B-52E5-40D1-8C5D-09FCF271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302-F49D-426D-8C3C-04829616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243-A34E-412B-A012-05AD22D8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9A1-0F26-4CBC-9187-EC72645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140-5C7F-45D2-A2A2-E1F7F5A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2FB-C572-4484-ABAE-89BBCC10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CC5-DD23-4D78-AE59-70931D14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3BA-DF0D-4386-84CB-8B40F82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1C5-019A-4625-8629-ED7E4AD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86F-DC31-4E22-9F76-B94D119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E4A-260D-440D-8728-C2A2481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C56B4-A432-4D20-BF11-DE0869168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4"/>
          <a:stretch/>
        </p:blipFill>
        <p:spPr>
          <a:xfrm>
            <a:off x="1925640" y="1639800"/>
            <a:ext cx="5432400" cy="14274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5"/>
          <a:stretch/>
        </p:blipFill>
        <p:spPr>
          <a:xfrm>
            <a:off x="3486240" y="4784760"/>
            <a:ext cx="4011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4479840" y="296712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4"/>
          <a:stretch/>
        </p:blipFill>
        <p:spPr>
          <a:xfrm>
            <a:off x="2182680" y="1395360"/>
            <a:ext cx="4919760" cy="963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5"/>
          <a:stretch/>
        </p:blipFill>
        <p:spPr>
          <a:xfrm>
            <a:off x="353880" y="1987560"/>
            <a:ext cx="8491680" cy="44863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6"/>
          <a:stretch/>
        </p:blipFill>
        <p:spPr>
          <a:xfrm>
            <a:off x="433440" y="1152360"/>
            <a:ext cx="2359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817560" y="1692360"/>
            <a:ext cx="7508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 It also has a sea-boarder with 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Norway;  b) Canada;  c)the U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. The West Siberian Lowland is a 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plain;   b) highland;   c)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 _____ separates Europe from 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the Altai;    b) the Urals;   c)the Cauca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_____ is the biggest river in Eur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the Ob;  b) the Lena;  c)the Volg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. Russia is a parliamentary 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federation;   b) republic;   c)kingd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6"/>
          <p:cNvSpPr/>
          <p:nvPr/>
        </p:nvSpPr>
        <p:spPr>
          <a:xfrm>
            <a:off x="2333520" y="1839960"/>
            <a:ext cx="47354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THE  K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1)b; 2)a; 3)a; 4)b; 5)c; 6)a; 7)b; 8)c; 9)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7"/>
          <p:cNvSpPr/>
          <p:nvPr/>
        </p:nvSpPr>
        <p:spPr>
          <a:xfrm>
            <a:off x="2122560" y="3618000"/>
            <a:ext cx="4946400" cy="12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POINTS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(БАЛЛ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 «5» ;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8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 «4»;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6-7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 «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5≤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Try again! 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пробуй снова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traight Connector 5"/>
          <p:cNvSpPr/>
          <p:nvPr/>
        </p:nvSpPr>
        <p:spPr>
          <a:xfrm>
            <a:off x="247680" y="3730680"/>
            <a:ext cx="879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Admin\Desktop\92319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http://heliograph.ru/images/956502_ramka-dlya-gramoty-s-flagom-r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286000" y="2411280"/>
            <a:ext cx="48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dsovet.su/load/394-1-0-393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2" descr=""/>
          <p:cNvPicPr/>
          <p:nvPr/>
        </p:nvPicPr>
        <p:blipFill>
          <a:blip r:embed="rId4"/>
          <a:stretch/>
        </p:blipFill>
        <p:spPr>
          <a:xfrm>
            <a:off x="3352680" y="1639800"/>
            <a:ext cx="25718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6:16:52Z</dcterms:created>
  <dc:creator>Vicari Vollmar</dc:creator>
  <dc:description/>
  <dc:language>en-US</dc:language>
  <cp:lastModifiedBy>Вова</cp:lastModifiedBy>
  <dcterms:modified xsi:type="dcterms:W3CDTF">2017-06-13T05:44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B0DF1FB0ABEE249ADE30E16273C3A22</vt:lpwstr>
  </property>
</Properties>
</file>