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5F3-7D6F-4DDC-BA3A-3F84E659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D7C-2E9D-4BAE-8D9A-30ED210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3A5-9997-460A-A6C4-C9BCE735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63D-C6F9-4037-A920-1FA13D56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BAB-606F-4848-B825-44919DA4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A55-8723-4726-88F1-B3911492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51D-BE02-4DF2-B926-7DEA5BF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C2F-247F-4F1E-BE9D-CBA5496B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555-659E-4BCF-9A0D-3404321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4E8-C54D-4232-8513-E563E46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5CA-9075-40AE-B14D-1CF05C0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72F-DBD8-422A-B2C8-31824EF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952B4-5134-4AC2-A5A3-13C6C8BB0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4"/>
          <a:stretch/>
        </p:blipFill>
        <p:spPr>
          <a:xfrm>
            <a:off x="1925640" y="1639800"/>
            <a:ext cx="5432400" cy="1427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5"/>
          <a:stretch/>
        </p:blipFill>
        <p:spPr>
          <a:xfrm>
            <a:off x="3486240" y="4784760"/>
            <a:ext cx="4011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479840" y="296712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4"/>
          <a:stretch/>
        </p:blipFill>
        <p:spPr>
          <a:xfrm>
            <a:off x="2182680" y="1395360"/>
            <a:ext cx="491976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5"/>
          <a:stretch/>
        </p:blipFill>
        <p:spPr>
          <a:xfrm>
            <a:off x="353880" y="1987560"/>
            <a:ext cx="8491680" cy="44863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6"/>
          <a:stretch/>
        </p:blipFill>
        <p:spPr>
          <a:xfrm>
            <a:off x="433440" y="1152360"/>
            <a:ext cx="2359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817560" y="1692360"/>
            <a:ext cx="7508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 It also has a sea-boarder with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Norway;  b) Canada;  c)the 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 The West Siberian Lowland is a 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plain;   b) highland;   c)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 _____ separates Europe from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the Altai;    b) the Urals;   c)the Cauca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_____ is the biggest river in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the Ob;  b) the Lena;  c)the Volg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. Russia is a parliamentary 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federation;   b) republic;   c)kingd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6"/>
          <p:cNvSpPr/>
          <p:nvPr/>
        </p:nvSpPr>
        <p:spPr>
          <a:xfrm>
            <a:off x="2333520" y="1839960"/>
            <a:ext cx="47354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HE  K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1)b; 2)a; 3)a; 4)b; 5)c; 6)a; 7)b; 8)c; 9)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7"/>
          <p:cNvSpPr/>
          <p:nvPr/>
        </p:nvSpPr>
        <p:spPr>
          <a:xfrm>
            <a:off x="2122560" y="3618000"/>
            <a:ext cx="4946400" cy="12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POINTS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(БАЛ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5» ;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8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4»;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6-7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5≤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ry again! 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пробуй снова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86000" y="2411280"/>
            <a:ext cx="48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94-1-0-393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4"/>
          <a:stretch/>
        </p:blipFill>
        <p:spPr>
          <a:xfrm>
            <a:off x="3352680" y="1639800"/>
            <a:ext cx="25718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6:16:52Z</dcterms:created>
  <dc:creator>Vicari Vollmar</dc:creator>
  <dc:description/>
  <dc:language>en-US</dc:language>
  <cp:lastModifiedBy>Вова</cp:lastModifiedBy>
  <dcterms:modified xsi:type="dcterms:W3CDTF">2017-06-13T05:44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B0DF1FB0ABEE249ADE30E16273C3A22</vt:lpwstr>
  </property>
</Properties>
</file>