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EC1-3411-423C-96DA-5F64432E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216-C53E-49A8-8484-0054D75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9D9-D3AC-4732-BF24-F363E7F1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60C-4158-4423-906C-C9A34CF6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CC94-9D0B-4598-BB36-274EDEC5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1CE6-B481-4A7A-A8AC-0B0E5A4C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88923-AACB-45FA-B755-B63D41E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1099-2C47-4E1E-B94C-062EA84D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CBEA0-B10B-45BB-B1D6-5A7EEB03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860D-A297-4DD7-BE7A-141A3475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0B9F5-8078-404D-9553-340794A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3AA-2CBC-49E1-989E-D9EB89FD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A8D42-D7CB-46BA-AF02-159D8A0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5F8F1-EB66-4606-A62F-BBAAC7B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977F-552F-4FAF-87B5-E5EF6AB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05E91-0D1C-492C-8F52-B3A20EAD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B9C7-53F0-4521-AB1D-725FD77E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0DD-EB13-4985-97B7-1CD13D4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9BD-613A-4421-91CF-FEC77797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D8D-CB01-446D-BD03-8A3D6898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501-1115-4AC9-849C-6B20E98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D1E-BC81-4089-AF58-981C53B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772-3DCA-4F4F-A723-9B031E6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18C-A4F0-4DA3-84B8-B6B3BDA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69F-94AF-40D3-9FDB-7BE14CC13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3AF-2145-49FF-B6DE-541F757E3E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808"/>
                </a:solidFill>
                <a:latin typeface="Tahoma"/>
              </a:rPr>
              <a:t>Литературное   чтение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55640" y="5157360"/>
            <a:ext cx="4537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  Фахрединова Людмила Федоровна,  учитель – дефектолог МОУ «Сош №1 г.Ртищев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ван Андреевич Кры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сн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image4"/>
          <p:cNvPicPr/>
          <p:nvPr/>
        </p:nvPicPr>
        <p:blipFill>
          <a:blip r:embed="rId1"/>
          <a:stretch/>
        </p:blipFill>
        <p:spPr>
          <a:xfrm>
            <a:off x="2143080" y="3071880"/>
            <a:ext cx="483408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еваки – тот,  кто  слоняется  по  улицам  без  д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апоказ – обратить  внимание  для 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Забияка – человек,  который  любит  затевать  сс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Отколе – от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Шавка – непородистая  собака,  дворня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Диковинка – старинная,  удивительная  вещь  или  яв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имся рассказыват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916280"/>
            <a:ext cx="903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иллюстрацию, расскажи о событии, описанном Крыловым в бас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image2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image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mage4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mage5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image6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image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imag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95280" y="45813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Ив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Андреевич Кры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808"/>
                </a:solidFill>
                <a:latin typeface="Tahoma"/>
              </a:rPr>
              <a:t>(1769-18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354480" y="857160"/>
            <a:ext cx="57895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126792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88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190512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учить басню Крылова И.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лон и Мось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Высмеив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808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ож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Глуп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Жад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с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Л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808"/>
                </a:solidFill>
                <a:uFillTx/>
                <a:latin typeface="Tahoma"/>
              </a:rPr>
              <a:t>Одобря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Чес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Храб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Трудолюб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Добродуш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Щед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Tahoma"/>
              </a:rPr>
              <a:t>Скром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йди верный от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Схема 5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364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 здесь лишне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хема 5" descr=""/>
          <p:cNvPicPr/>
          <p:nvPr/>
        </p:nvPicPr>
        <p:blipFill>
          <a:blip r:embed="rId1"/>
          <a:stretch/>
        </p:blipFill>
        <p:spPr>
          <a:xfrm>
            <a:off x="347760" y="164628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ая цель верн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хема 5" descr=""/>
          <p:cNvPicPr/>
          <p:nvPr/>
        </p:nvPicPr>
        <p:blipFill>
          <a:blip r:embed="rId1"/>
          <a:stretch/>
        </p:blipFill>
        <p:spPr>
          <a:xfrm>
            <a:off x="420840" y="158436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й признак относится к бас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Схема 5" descr=""/>
          <p:cNvPicPr/>
          <p:nvPr/>
        </p:nvPicPr>
        <p:blipFill>
          <a:blip r:embed="rId1"/>
          <a:stretch/>
        </p:blipFill>
        <p:spPr>
          <a:xfrm>
            <a:off x="237960" y="1584360"/>
            <a:ext cx="841248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808"/>
                </a:solidFill>
                <a:latin typeface="Tahoma"/>
              </a:rPr>
              <a:t>Мораль – вывод  или  поучение,  в  котором  выражена  главная  мысль  басн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525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й определение бас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SmartArt 3" descr=""/>
          <p:cNvPicPr/>
          <p:nvPr/>
        </p:nvPicPr>
        <p:blipFill>
          <a:blip r:embed="rId1"/>
          <a:stretch/>
        </p:blipFill>
        <p:spPr>
          <a:xfrm>
            <a:off x="-249120" y="554040"/>
            <a:ext cx="9393120" cy="5450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08"/>
                </a:solidFill>
                <a:latin typeface="Tahoma"/>
              </a:rPr>
              <a:t>Басня – краткий,  нравоучительный  рассказ,  в  котором  персонажами  являются  люди,  живот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15728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808"/>
                </a:solidFill>
                <a:latin typeface="Tahoma"/>
              </a:rPr>
              <a:t>Нравоучительный  рассказ – это  рассказ,  в котором  есть  поучение,  внушение  нравственных  прав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30:34Z</dcterms:created>
  <dc:creator>Пользователь</dc:creator>
  <dc:description/>
  <dc:language>en-US</dc:language>
  <cp:lastModifiedBy>Valera</cp:lastModifiedBy>
  <dcterms:modified xsi:type="dcterms:W3CDTF">2016-10-20T03:10:10Z</dcterms:modified>
  <cp:revision>18</cp:revision>
  <dc:subject/>
  <dc:title>Литературное   чтение</dc:title>
</cp:coreProperties>
</file>