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945E-11FB-42E1-A9D7-18206875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8320-4F00-465C-AD6A-C080CB02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8005-B434-4A4E-8114-8BEA3BD3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6E06-D4F3-4F85-891A-87CB396E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E5909-B7DF-4B74-8CE7-09A93F4C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19537-46BE-4B9E-8A38-9D379073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AA710-D783-4BBB-A083-6FB4C24B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E7C1B-554E-4C43-895D-113B4C4D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B666A-7D36-4CC0-862E-F92D0C67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CD4A2-403A-4275-93A4-F029D1E4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F6E03-AF82-49B9-82D3-385704F6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F6D1-947A-42BC-AEF9-21F1EBB7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ACAA1-3339-49D1-B35D-414399EC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2119F-F7CD-44DA-95C2-8475E69F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24301-9BCE-4B39-8156-CFD10BBE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CAEAA-EA82-4A56-8C97-CAEADBE7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6DF7A-83F6-43F6-AA07-6EC17D6A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73F9-B5A2-46A2-8E38-8B3F3B46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51A-592E-40AA-ABA4-0FDE0BCF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6604-5A58-4986-ADD2-76887B1B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65A-2156-4914-81B1-55A44B38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D183-00D5-4660-BDFF-3804E464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1FB3-DC6F-4AEB-AD58-2CB86DDD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46C-9BDB-4F78-B71E-1C0EF7FF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4E29-E81D-4FDB-BDDD-8D33ECA6E9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D693-E546-4BDE-8BC1-E8DBBB1659D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808"/>
                </a:solidFill>
                <a:latin typeface="Tahoma"/>
              </a:rPr>
              <a:t>Литературное   чтение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355640" y="5157360"/>
            <a:ext cx="453708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втор:   Фахрединова Людмила Федоровна,  учитель – дефектолог МОУ «Сош №1 г.Ртищево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Иван Андреевич Крыло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асн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Слон и Моськ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image4"/>
          <p:cNvPicPr/>
          <p:nvPr/>
        </p:nvPicPr>
        <p:blipFill>
          <a:blip r:embed="rId1"/>
          <a:stretch/>
        </p:blipFill>
        <p:spPr>
          <a:xfrm>
            <a:off x="2143080" y="3071880"/>
            <a:ext cx="4834080" cy="361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808"/>
                </a:solidFill>
                <a:latin typeface="Tahoma"/>
              </a:rPr>
              <a:t>Зеваки – тот,  кто  слоняется  по  улицам  без  де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808"/>
                </a:solidFill>
                <a:latin typeface="Tahoma"/>
              </a:rPr>
              <a:t>Напоказ – обратить  внимание  для  ви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808"/>
                </a:solidFill>
                <a:latin typeface="Tahoma"/>
              </a:rPr>
              <a:t>Забияка – человек,  который  любит  затевать  ссо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808"/>
                </a:solidFill>
                <a:latin typeface="Tahoma"/>
              </a:rPr>
              <a:t>Отколе – отку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808"/>
                </a:solidFill>
                <a:latin typeface="Tahoma"/>
              </a:rPr>
              <a:t>Шавка – непородистая  собака,  дворняж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808"/>
                </a:solidFill>
                <a:latin typeface="Tahoma"/>
              </a:rPr>
              <a:t>Диковинка – старинная,  удивительная  вещь  или  явл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чимся рассказывать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1916280"/>
            <a:ext cx="90360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Задание: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пользуя иллюстрацию, расскажи о событии, описанном Крыловым в бас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image2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image3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image4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image5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5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image6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image7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imag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395280" y="4581360"/>
            <a:ext cx="324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808"/>
                </a:solidFill>
                <a:latin typeface="Tahoma"/>
              </a:rPr>
              <a:t>Ива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808"/>
                </a:solidFill>
                <a:latin typeface="Tahoma"/>
              </a:rPr>
              <a:t>Андреевич Крыл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808"/>
                </a:solidFill>
                <a:latin typeface="Tahoma"/>
              </a:rPr>
              <a:t>(1769-184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3354480" y="857160"/>
            <a:ext cx="578952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5280" y="1267920"/>
            <a:ext cx="82915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8800" spc="-1" strike="noStrike">
                <a:solidFill>
                  <a:srgbClr val="ffffff"/>
                </a:solidFill>
                <a:latin typeface="Tahoma"/>
              </a:rPr>
              <a:t>Спасибо!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8800" spc="-1" strike="noStrike">
                <a:solidFill>
                  <a:srgbClr val="ffffff"/>
                </a:solidFill>
                <a:latin typeface="Tahoma"/>
              </a:rPr>
              <a:t>МОЛОДЦЫ!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5840" y="1905120"/>
            <a:ext cx="840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ыучить басню Крылова И.А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Слон и Моськ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808"/>
                </a:solidFill>
                <a:uFillTx/>
                <a:latin typeface="Tahoma"/>
              </a:rPr>
              <a:t>Высмеива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808"/>
                </a:solidFill>
                <a:uFillTx/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Лож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Глуп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Жад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Трус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Ле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Ле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Хвастов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808"/>
                </a:solidFill>
                <a:uFillTx/>
                <a:latin typeface="Tahoma"/>
              </a:rPr>
              <a:t>Одобряе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Чест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Храбр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Трудолюб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Добродуш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Милосерд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Щедр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Скромн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йди верный отве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Схема 5" descr=""/>
          <p:cNvPicPr/>
          <p:nvPr/>
        </p:nvPicPr>
        <p:blipFill>
          <a:blip r:embed="rId1"/>
          <a:stretch/>
        </p:blipFill>
        <p:spPr>
          <a:xfrm>
            <a:off x="285840" y="1573200"/>
            <a:ext cx="8364600" cy="4462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то здесь лишнее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Схема 5" descr=""/>
          <p:cNvPicPr/>
          <p:nvPr/>
        </p:nvPicPr>
        <p:blipFill>
          <a:blip r:embed="rId1"/>
          <a:stretch/>
        </p:blipFill>
        <p:spPr>
          <a:xfrm>
            <a:off x="347760" y="1646280"/>
            <a:ext cx="8229600" cy="4462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ая цель верна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Схема 5" descr=""/>
          <p:cNvPicPr/>
          <p:nvPr/>
        </p:nvPicPr>
        <p:blipFill>
          <a:blip r:embed="rId1"/>
          <a:stretch/>
        </p:blipFill>
        <p:spPr>
          <a:xfrm>
            <a:off x="420840" y="1584360"/>
            <a:ext cx="8229600" cy="4462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кой признак относится к басн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Схема 5" descr=""/>
          <p:cNvPicPr/>
          <p:nvPr/>
        </p:nvPicPr>
        <p:blipFill>
          <a:blip r:embed="rId1"/>
          <a:stretch/>
        </p:blipFill>
        <p:spPr>
          <a:xfrm>
            <a:off x="237960" y="1584360"/>
            <a:ext cx="8412480" cy="4462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631280" cy="381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808"/>
                </a:solidFill>
                <a:latin typeface="Tahoma"/>
              </a:rPr>
              <a:t>Мораль – вывод  или  поучение,  в  котором  выражена  главная  мысль  басни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52545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ай определение бас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Рисунок SmartArt 3" descr=""/>
          <p:cNvPicPr/>
          <p:nvPr/>
        </p:nvPicPr>
        <p:blipFill>
          <a:blip r:embed="rId1"/>
          <a:stretch/>
        </p:blipFill>
        <p:spPr>
          <a:xfrm>
            <a:off x="-249120" y="554040"/>
            <a:ext cx="9393120" cy="5450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808"/>
                </a:solidFill>
                <a:latin typeface="Tahoma"/>
              </a:rPr>
              <a:t>Басня – краткий,  нравоучительный  рассказ,  в  котором  персонажами  являются  люди,  животны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4157280"/>
            <a:ext cx="822960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808"/>
                </a:solidFill>
                <a:latin typeface="Tahoma"/>
              </a:rPr>
              <a:t>Нравоучительный  рассказ – это  рассказ,  в котором  есть  поучение,  внушение  нравственных  прави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09:30:34Z</dcterms:created>
  <dc:creator>Пользователь</dc:creator>
  <dc:description/>
  <dc:language>en-US</dc:language>
  <cp:lastModifiedBy>Valera</cp:lastModifiedBy>
  <dcterms:modified xsi:type="dcterms:W3CDTF">2016-10-20T03:10:10Z</dcterms:modified>
  <cp:revision>18</cp:revision>
  <dc:subject/>
  <dc:title>Литературное   чтение</dc:title>
</cp:coreProperties>
</file>