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5F65-1469-4254-8407-36700658614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A296-8950-4EC8-AA88-5EFC09EE1B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E5F-5CA7-4378-A382-C1936892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CD0-260E-4CDF-B659-5F6CFA89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BDB-6AB1-4108-AB7E-A6CED5B6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4C7-0348-45C4-B11A-8C7AD2A5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F73B-0A17-429D-A3AC-BD476828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5213-B98D-4713-94D8-CD38211E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2B1F-269E-4822-B613-5308EECE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A99-4BD1-4B4C-AA5A-EACD5F8B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67CD-C3DE-4D0C-B03C-7075A766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A3E-6DF8-4282-BB92-A6F58A6E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D739-2502-4ED6-B35E-DC596E5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699-C09D-4E14-9839-B852B36B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C1FA-D2CB-470C-83EA-DB7C1A0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C096-1143-482D-907F-A37F64F4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40E0-8E47-4DDC-8AD3-C5C67B65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842A-3A8B-43B4-9BF4-199CD124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DB39-7C5C-4CB8-A606-30421E11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406-38DA-40CC-AEEB-F6FDA750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A7F-ECEF-4275-8704-5F141C8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DD5-9E3E-49E4-BC52-803D7B05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960-30AC-47E8-8123-6A153A54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E52-097A-4C92-812D-FCF0853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228-A959-4F59-B1BD-DEE4B14F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C74-D301-418E-9C38-866CAE9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6D44-022D-4593-909D-624C3C792C6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2A14-09F8-4B25-9E9F-D18CD75EA3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«Соответствие влажности воздуха и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 температурного режима в Лицее нормам СанПиН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03280" y="1484280"/>
            <a:ext cx="3683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ы  проект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ки 7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шак Наталия и Толпегин Артё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оводители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физи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сильева Н.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экологии Чесноков А.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C:\Documents and Settings\~\Рабочий стол\Новая папка\IMG_20170206_142223.jpg"/>
          <p:cNvPicPr/>
          <p:nvPr/>
        </p:nvPicPr>
        <p:blipFill>
          <a:blip r:embed="rId1"/>
          <a:stretch/>
        </p:blipFill>
        <p:spPr>
          <a:xfrm>
            <a:off x="357120" y="1714680"/>
            <a:ext cx="4143600" cy="492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 измерения температурного режим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6" name="Picture 2" descr="C:\Documents and Settings\~\Мои документы\Мои рисунки\Экология\Экология 019.jpg"/>
          <p:cNvPicPr/>
          <p:nvPr/>
        </p:nvPicPr>
        <p:blipFill>
          <a:blip r:embed="rId1"/>
          <a:stretch/>
        </p:blipFill>
        <p:spPr>
          <a:xfrm>
            <a:off x="214200" y="2071800"/>
            <a:ext cx="4281480" cy="3929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Documents and Settings\~\Мои документы\Мои рисунки\Экология\Экология 023.jpg"/>
          <p:cNvPicPr/>
          <p:nvPr/>
        </p:nvPicPr>
        <p:blipFill>
          <a:blip r:embed="rId2"/>
          <a:stretch/>
        </p:blipFill>
        <p:spPr>
          <a:xfrm>
            <a:off x="4648320" y="2071800"/>
            <a:ext cx="4038480" cy="39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пературный режим в норм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9" name="Picture 2" descr="C:\Documents and Settings\~\Мои документы\Мои рисунки\Экология\Экология 030.jpg"/>
          <p:cNvPicPr/>
          <p:nvPr/>
        </p:nvPicPr>
        <p:blipFill>
          <a:blip r:embed="rId1"/>
          <a:stretch/>
        </p:blipFill>
        <p:spPr>
          <a:xfrm>
            <a:off x="214200" y="2000160"/>
            <a:ext cx="4281480" cy="435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~\Мои документы\Мои рисунки\Экология\Экология 029.jpg"/>
          <p:cNvPicPr/>
          <p:nvPr/>
        </p:nvPicPr>
        <p:blipFill>
          <a:blip r:embed="rId2"/>
          <a:stretch/>
        </p:blipFill>
        <p:spPr>
          <a:xfrm>
            <a:off x="4648320" y="2000160"/>
            <a:ext cx="4281480" cy="435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Процесс измерения влажности в кабинете математики и в библиотек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7" descr="C:\Documents and Settings\~\Мои документы\Мои рисунки\Экология\Экология 055.jpg"/>
          <p:cNvPicPr/>
          <p:nvPr/>
        </p:nvPicPr>
        <p:blipFill>
          <a:blip r:embed="rId1"/>
          <a:stretch/>
        </p:blipFill>
        <p:spPr>
          <a:xfrm>
            <a:off x="214200" y="2143080"/>
            <a:ext cx="4286520" cy="4000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C:\Documents and Settings\~\Мои документы\Мои рисунки\Экология\Экология 071.jpg"/>
          <p:cNvPicPr/>
          <p:nvPr/>
        </p:nvPicPr>
        <p:blipFill>
          <a:blip r:embed="rId2"/>
          <a:stretch/>
        </p:blipFill>
        <p:spPr>
          <a:xfrm>
            <a:off x="4714920" y="2143080"/>
            <a:ext cx="4429080" cy="407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езультаты  исследова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507520" cy="5446440"/>
        </p:xfrm>
        <a:graphic>
          <a:graphicData uri="http://schemas.openxmlformats.org/drawingml/2006/table">
            <a:tbl>
              <a:tblPr/>
              <a:tblGrid>
                <a:gridCol w="4068720"/>
                <a:gridCol w="1476360"/>
                <a:gridCol w="1555920"/>
                <a:gridCol w="140652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ряемый о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 cу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го термомет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влажного термомет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лаж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идор возле гардероб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№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№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№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№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ов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ртивный з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инет админист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блиот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особы регулирования влажности воздух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тривание помещ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иодическая влажная уборка помещ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ный контроль температуры и влажности воздуха в учебных кабинетах и прочих помеще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пособы увлажнения воздух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opryskivanie"/>
          <p:cNvPicPr/>
          <p:nvPr/>
        </p:nvPicPr>
        <p:blipFill>
          <a:blip r:embed="rId1"/>
          <a:stretch/>
        </p:blipFill>
        <p:spPr>
          <a:xfrm>
            <a:off x="539640" y="1125360"/>
            <a:ext cx="3672000" cy="539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0026-026-Uvlazhniteli-vozdukha"/>
          <p:cNvPicPr/>
          <p:nvPr/>
        </p:nvPicPr>
        <p:blipFill>
          <a:blip r:embed="rId2"/>
          <a:stretch/>
        </p:blipFill>
        <p:spPr>
          <a:xfrm>
            <a:off x="4500720" y="1125360"/>
            <a:ext cx="4392360" cy="532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стественный увлажнитель воздуха – цветы (в рекреации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6" name="Picture 2" descr="C:\Documents and Settings\~\Мои документы\Мои рисунки\Экология\Экология 061.jpg"/>
          <p:cNvPicPr/>
          <p:nvPr/>
        </p:nvPicPr>
        <p:blipFill>
          <a:blip r:embed="rId1"/>
          <a:stretch/>
        </p:blipFill>
        <p:spPr>
          <a:xfrm>
            <a:off x="428760" y="1600200"/>
            <a:ext cx="8358120" cy="497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ридор второго этаж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8" name="Picture 3" descr="C:\Documents and Settings\~\Мои документы\Мои рисунки\Экология\Экология 053.jpg"/>
          <p:cNvPicPr/>
          <p:nvPr/>
        </p:nvPicPr>
        <p:blipFill>
          <a:blip r:embed="rId1"/>
          <a:stretch/>
        </p:blipFill>
        <p:spPr>
          <a:xfrm>
            <a:off x="357120" y="1600200"/>
            <a:ext cx="8358120" cy="5043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остаток влажности приводит к сухости кожи и раннему ее старению. Группа риска при недостаточной влажности – это дети и люди с заболеваниями дыхательных путей, астматики и аллергики, что из-за сухости воздуха увеличивается заболеваемость органов дыхания среди учащихся.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этому в зимнее время необходимо увлажнять воздух в  помещениях с помощью специальных приспособлений (например, с помощью пористых увлажнителей, укрепленных на отопительных элементах, проветривание помещений, влажной уборки помещений, разведения цвет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Заключ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Тепловая пушка» в библиотек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2" name="Picture 2" descr="C:\Documents and Settings\~\Мои документы\Мои рисунки\Экология\Экология 067.jpg"/>
          <p:cNvPicPr/>
          <p:nvPr/>
        </p:nvPicPr>
        <p:blipFill>
          <a:blip r:embed="rId1"/>
          <a:stretch/>
        </p:blipFill>
        <p:spPr>
          <a:xfrm>
            <a:off x="357120" y="1571760"/>
            <a:ext cx="8358120" cy="497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сновополагающий в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1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оответствуют ли температурный режим и влажность воздуха в здании Лицея нормам СанПиН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14400" y="49528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351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 проделанной нами работы, в библиотеке  установлена тепловая пушка, повышающая температуру   и понижающая влажность воздух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рно проводится проверка теплового режима, проветривание и проведение влажной уборки в помещении Лице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ех учебных кабинетах нашего здания влажность воздуха соответствует нормам СанП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741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ывод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Проделанная работ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55640" y="1785600"/>
            <a:ext cx="763272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Изучили документы норм СанПиНа для учебных завед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ровели замеры температуры в отдельных кабинетах и местах общего польз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Составили таблицы и провели подсчёт влажности в этих кабине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Проверили соответствие полученных данных с данными нормами СанП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делали выводы и внесли предложение администрации для устранения недостат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1844640"/>
            <a:ext cx="5219640" cy="3745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0" y="5605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лажность - один из важнейших параметров воздуха, непосредственно влияющих на здоровье человека. Оптимальный уровень влажности, при которой человек чувствует себя наиболее комфортно 60-70%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5724360" y="1812960"/>
            <a:ext cx="302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условиях сухости у людей появляется сонливость и рассеянность, повышается утомляемость, ухудшается общее самочувствие, снижается работоспособность и иммунит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-1080"/>
            <a:ext cx="862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лияние влажности воздуха на жизнедеяте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елове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ысокая влажност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а в тепл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дна для жил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6" descr="IMG_2369"/>
          <p:cNvPicPr/>
          <p:nvPr/>
        </p:nvPicPr>
        <p:blipFill>
          <a:blip r:embed="rId1"/>
          <a:stretch/>
        </p:blipFill>
        <p:spPr>
          <a:xfrm>
            <a:off x="179280" y="2349360"/>
            <a:ext cx="4176720" cy="424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1328109311_mx2twlnewkioczo"/>
          <p:cNvPicPr/>
          <p:nvPr/>
        </p:nvPicPr>
        <p:blipFill>
          <a:blip r:embed="rId2"/>
          <a:stretch/>
        </p:blipFill>
        <p:spPr>
          <a:xfrm>
            <a:off x="4572000" y="2421000"/>
            <a:ext cx="4286160" cy="424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8" name="Picture 4" descr="kcBgB1lSQy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Психрометр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image"/>
          <p:cNvPicPr/>
          <p:nvPr/>
        </p:nvPicPr>
        <p:blipFill>
          <a:blip r:embed="rId1"/>
          <a:srcRect l="3780" t="693" r="3780" b="10055"/>
          <a:stretch/>
        </p:blipFill>
        <p:spPr>
          <a:xfrm>
            <a:off x="533520" y="1066680"/>
            <a:ext cx="2974680" cy="487692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990720" y="5029200"/>
            <a:ext cx="685800" cy="12952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600200" y="5105520"/>
            <a:ext cx="60948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2286000" y="3124080"/>
            <a:ext cx="457200" cy="3048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29744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05920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6904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4184640" y="990720"/>
            <a:ext cx="432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- «Сухой» термометр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казывает температуру воздух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- «Влажный» термометр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казывает «точку рос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 - Психрометрическая таб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3417480" y="2666880"/>
            <a:ext cx="5751360" cy="3812400"/>
          </a:xfrm>
          <a:prstGeom prst="rect">
            <a:avLst/>
          </a:prstGeom>
          <a:solidFill>
            <a:srgbClr val="996600">
              <a:alpha val="60000"/>
            </a:srgbClr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. Снять показания «сухог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«влажного» термомет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 Определить раз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казаний термомет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. На пересечении столбц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температура воздуха»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о вертикал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l-GR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Δ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 горизонтали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най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значение относитель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лажности возду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0" name="Picture 5" descr="img1"/>
          <p:cNvPicPr/>
          <p:nvPr/>
        </p:nvPicPr>
        <p:blipFill>
          <a:blip r:embed="rId1"/>
          <a:stretch/>
        </p:blipFill>
        <p:spPr>
          <a:xfrm>
            <a:off x="826920" y="260280"/>
            <a:ext cx="749016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48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39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1619280" y="2421720"/>
            <a:ext cx="5767200" cy="2014200"/>
          </a:xfrm>
          <a:prstGeom prst="rect">
            <a:avLst/>
          </a:prstGeom>
          <a:solidFill>
            <a:srgbClr val="ffffff">
              <a:alpha val="66000"/>
            </a:srgbClr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достаток влажности воздуха сильнее всего испытывают комнатные цветы и  растения. Поникшая зелень и бутоны, пожелтевшие и сморщенные кончики листьев, «листопад» в неположенное время – все это свидетельствует о пониженной влажности воздуха в помещ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258920" y="0"/>
            <a:ext cx="743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Природные измерители влаж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4:48:56Z</dcterms:created>
  <dc:creator>~</dc:creator>
  <dc:description/>
  <dc:language>en-US</dc:language>
  <cp:lastModifiedBy>~</cp:lastModifiedBy>
  <dcterms:modified xsi:type="dcterms:W3CDTF">2017-06-13T12:46:11Z</dcterms:modified>
  <cp:revision>44</cp:revision>
  <dc:subject/>
  <dc:title>«Соответствие влажности воздуха и  температурного режима в Лицее нормам СанПиНа»</dc:title>
</cp:coreProperties>
</file>