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E3B9-68EE-4903-83D0-E40B6115C5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3DB-A475-431F-AE56-16B81FACFA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3B8-94CA-4550-9C5A-8650C6A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81A-A41D-4972-A276-D218520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DF9-E81B-4FED-BD47-7AE5BCE1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3FF-7B9E-45B0-98FF-A1B0A054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3A34-3D70-4E1D-91D8-8C98A579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82D5-EDCF-45A4-BCA7-8CEEBB95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9AAE-CB24-49B2-BB93-7F82715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450-73EA-4929-9E58-0AAF6525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16E-AB11-4A2B-A324-9177EDB6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77BE-5F7A-4782-B893-69EFBC4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CF8-41FB-4AAB-A4A6-5C47015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D05-B4A3-4601-93E8-3D8E7F2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A75-D9D9-4B76-8EB7-B6E1A3E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155-1F39-4450-8113-68A4B6FA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95F-69BB-4693-B2A2-58D33E9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1A9-BFD1-451D-B81C-4479665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E593-41C6-4D56-BBEA-91550337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2E5-2118-41CC-8BB2-3AF2DC6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8F2-FC0C-4522-9F17-A4674C7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00A-DA08-466F-A128-0CD6837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BD1-7985-4B44-8C36-789BB55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895-2564-479C-BB61-5427773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F31-C5AD-487B-9050-2CE4DA4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FED-C841-45AD-99EB-19A428B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3B4-78EB-4CEE-BFF9-F66C83B5779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E961-11C7-469A-B3B6-52DC1856BB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«Соответствие влажности воздуха 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 температурного режима в Лицее нормам СанПиН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03280" y="1484280"/>
            <a:ext cx="3683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ы  проект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7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шак Наталия и Толпегин Артё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и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сильева Н.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экологии Чесноков А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C:\Documents and Settings\~\Рабочий стол\Новая папка\IMG_20170206_142223.jpg"/>
          <p:cNvPicPr/>
          <p:nvPr/>
        </p:nvPicPr>
        <p:blipFill>
          <a:blip r:embed="rId1"/>
          <a:stretch/>
        </p:blipFill>
        <p:spPr>
          <a:xfrm>
            <a:off x="357120" y="1714680"/>
            <a:ext cx="4143600" cy="49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 измерения температурного режим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6" name="Picture 2" descr="C:\Documents and Settings\~\Мои документы\Мои рисунки\Экология\Экология 019.jpg"/>
          <p:cNvPicPr/>
          <p:nvPr/>
        </p:nvPicPr>
        <p:blipFill>
          <a:blip r:embed="rId1"/>
          <a:stretch/>
        </p:blipFill>
        <p:spPr>
          <a:xfrm>
            <a:off x="214200" y="2071800"/>
            <a:ext cx="4281480" cy="3929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~\Мои документы\Мои рисунки\Экология\Экология 023.jpg"/>
          <p:cNvPicPr/>
          <p:nvPr/>
        </p:nvPicPr>
        <p:blipFill>
          <a:blip r:embed="rId2"/>
          <a:stretch/>
        </p:blipFill>
        <p:spPr>
          <a:xfrm>
            <a:off x="4648320" y="207180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пературный режим в нор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9" name="Picture 2" descr="C:\Documents and Settings\~\Мои документы\Мои рисунки\Экология\Экология 030.jpg"/>
          <p:cNvPicPr/>
          <p:nvPr/>
        </p:nvPicPr>
        <p:blipFill>
          <a:blip r:embed="rId1"/>
          <a:stretch/>
        </p:blipFill>
        <p:spPr>
          <a:xfrm>
            <a:off x="214200" y="2000160"/>
            <a:ext cx="4281480" cy="435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~\Мои документы\Мои рисунки\Экология\Экология 029.jpg"/>
          <p:cNvPicPr/>
          <p:nvPr/>
        </p:nvPicPr>
        <p:blipFill>
          <a:blip r:embed="rId2"/>
          <a:stretch/>
        </p:blipFill>
        <p:spPr>
          <a:xfrm>
            <a:off x="4648320" y="2000160"/>
            <a:ext cx="4281480" cy="43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Процесс измерения влажности в кабинете математики и в библиотек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7" descr="C:\Documents and Settings\~\Мои документы\Мои рисунки\Экология\Экология 055.jpg"/>
          <p:cNvPicPr/>
          <p:nvPr/>
        </p:nvPicPr>
        <p:blipFill>
          <a:blip r:embed="rId1"/>
          <a:stretch/>
        </p:blipFill>
        <p:spPr>
          <a:xfrm>
            <a:off x="214200" y="2143080"/>
            <a:ext cx="428652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Documents and Settings\~\Мои документы\Мои рисунки\Экология\Экология 071.jpg"/>
          <p:cNvPicPr/>
          <p:nvPr/>
        </p:nvPicPr>
        <p:blipFill>
          <a:blip r:embed="rId2"/>
          <a:stretch/>
        </p:blipFill>
        <p:spPr>
          <a:xfrm>
            <a:off x="4714920" y="2143080"/>
            <a:ext cx="4429080" cy="40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 исследова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507520" cy="5446440"/>
        </p:xfrm>
        <a:graphic>
          <a:graphicData uri="http://schemas.openxmlformats.org/drawingml/2006/table">
            <a:tbl>
              <a:tblPr/>
              <a:tblGrid>
                <a:gridCol w="4068720"/>
                <a:gridCol w="1476360"/>
                <a:gridCol w="1555920"/>
                <a:gridCol w="140652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ряемый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 cу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го термом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влажного термом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ж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идор возле гардеро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ртивный з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админист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блиот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особы регулирования влажности воздух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тривание помещ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иодическая влажная уборка помещ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ый контроль температуры и влажности воздуха в учебных кабинетах и прочих помещ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пособы увлажнения воздух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opryskivanie"/>
          <p:cNvPicPr/>
          <p:nvPr/>
        </p:nvPicPr>
        <p:blipFill>
          <a:blip r:embed="rId1"/>
          <a:stretch/>
        </p:blipFill>
        <p:spPr>
          <a:xfrm>
            <a:off x="539640" y="1125360"/>
            <a:ext cx="3672000" cy="539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0026-026-Uvlazhniteli-vozdukha"/>
          <p:cNvPicPr/>
          <p:nvPr/>
        </p:nvPicPr>
        <p:blipFill>
          <a:blip r:embed="rId2"/>
          <a:stretch/>
        </p:blipFill>
        <p:spPr>
          <a:xfrm>
            <a:off x="4500720" y="1125360"/>
            <a:ext cx="4392360" cy="532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стественный увлажнитель воздуха – цветы (в рекреации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6" name="Picture 2" descr="C:\Documents and Settings\~\Мои документы\Мои рисунки\Экология\Экология 061.jpg"/>
          <p:cNvPicPr/>
          <p:nvPr/>
        </p:nvPicPr>
        <p:blipFill>
          <a:blip r:embed="rId1"/>
          <a:stretch/>
        </p:blipFill>
        <p:spPr>
          <a:xfrm>
            <a:off x="428760" y="1600200"/>
            <a:ext cx="835812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ридор второго этаж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8" name="Picture 3" descr="C:\Documents and Settings\~\Мои документы\Мои рисунки\Экология\Экология 053.jpg"/>
          <p:cNvPicPr/>
          <p:nvPr/>
        </p:nvPicPr>
        <p:blipFill>
          <a:blip r:embed="rId1"/>
          <a:stretch/>
        </p:blipFill>
        <p:spPr>
          <a:xfrm>
            <a:off x="357120" y="1600200"/>
            <a:ext cx="8358120" cy="504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остаток влажности приводит к сухости кожи и раннему ее старению. Группа риска при недостаточной влажности – это дети и люди с заболеваниями дыхательных путей, астматики и аллергики, что из-за сухости воздуха увеличивается заболеваемость органов дыхания среди учащихся.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этому в зимнее время необходимо увлажнять воздух в  помещениях с помощью специальных приспособлений (например, с помощью пористых увлажнителей, укрепленных на отопительных элементах, проветривание помещений, влажной уборки помещений, разведения цвет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Заключ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Тепловая пушка» в библиотек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2" name="Picture 2" descr="C:\Documents and Settings\~\Мои документы\Мои рисунки\Экология\Экология 067.jpg"/>
          <p:cNvPicPr/>
          <p:nvPr/>
        </p:nvPicPr>
        <p:blipFill>
          <a:blip r:embed="rId1"/>
          <a:stretch/>
        </p:blipFill>
        <p:spPr>
          <a:xfrm>
            <a:off x="357120" y="1571760"/>
            <a:ext cx="835812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ответствуют ли температурный режим и влажность воздуха в здании Лицея нормам СанПиН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14400" y="4952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35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проделанной нами работы, в библиотеке  установлена тепловая пушка, повышающая температуру   и понижающая влажность воздух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рно проводится проверка теплового режима, проветривание и проведение влажной уборки в помещении Лице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ех учебных кабинетах нашего здания влажность воздуха соответствует нормам СанП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41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Проделанная работ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55640" y="1785600"/>
            <a:ext cx="763272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Изучили документы норм СанПиНа для учебных завед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ровели замеры температуры в отдельных кабинетах и места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оставили таблицы и провели подсчёт влажности в этих кабине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оверили соответствие полученных данных с данными нормами СанП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делали выводы и внесли предложение администрации для устранения недостат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5219640" cy="374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5605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лажность - один из важнейших параметров воздуха, непосредственно влияющих на здоровье человека. Оптимальный уровень влажности, при которой человек чувствует себя наиболее комфортно 60-70%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724360" y="1812960"/>
            <a:ext cx="30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условиях сухости у людей появляется сонливость и рассеянность, повышается утомляемость, ухудшается общее самочувствие, снижается работоспособность и иммунит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-1080"/>
            <a:ext cx="86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лияние влажности воздуха на жизнедеяте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елове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ысокая влажно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а в теп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на для жил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6" descr="IMG_2369"/>
          <p:cNvPicPr/>
          <p:nvPr/>
        </p:nvPicPr>
        <p:blipFill>
          <a:blip r:embed="rId1"/>
          <a:stretch/>
        </p:blipFill>
        <p:spPr>
          <a:xfrm>
            <a:off x="179280" y="2349360"/>
            <a:ext cx="4176720" cy="424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1328109311_mx2twlnewkioczo"/>
          <p:cNvPicPr/>
          <p:nvPr/>
        </p:nvPicPr>
        <p:blipFill>
          <a:blip r:embed="rId2"/>
          <a:stretch/>
        </p:blipFill>
        <p:spPr>
          <a:xfrm>
            <a:off x="4572000" y="2421000"/>
            <a:ext cx="4286160" cy="424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Picture 4" descr="kcBgB1lSQy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сихромет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image"/>
          <p:cNvPicPr/>
          <p:nvPr/>
        </p:nvPicPr>
        <p:blipFill>
          <a:blip r:embed="rId1"/>
          <a:srcRect l="3780" t="693" r="3780" b="10055"/>
          <a:stretch/>
        </p:blipFill>
        <p:spPr>
          <a:xfrm>
            <a:off x="533520" y="1066680"/>
            <a:ext cx="2974680" cy="487692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990720" y="5029200"/>
            <a:ext cx="685800" cy="129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600200" y="5105520"/>
            <a:ext cx="60948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286000" y="3124080"/>
            <a:ext cx="457200" cy="3048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2974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0592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690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4184640" y="990720"/>
            <a:ext cx="432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- «Сухой» термомет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азывает температуру возду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- «Влажный» термомет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азывает «точку рос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 - Психрометрическая таб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417480" y="2666880"/>
            <a:ext cx="5751360" cy="3812400"/>
          </a:xfrm>
          <a:prstGeom prst="rect">
            <a:avLst/>
          </a:prstGeom>
          <a:solidFill>
            <a:srgbClr val="996600">
              <a:alpha val="60000"/>
            </a:srgbClr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. Снять показания «сухог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«влажного» термомет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пределить раз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казаний термомет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На пересечении столбц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температура воздуха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о вертикал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l-GR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 горизонтал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най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значение относите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лажности возд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0" name="Picture 5" descr="img1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48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39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1619280" y="2421720"/>
            <a:ext cx="5767200" cy="2014200"/>
          </a:xfrm>
          <a:prstGeom prst="rect">
            <a:avLst/>
          </a:prstGeom>
          <a:solidFill>
            <a:srgbClr val="ffffff">
              <a:alpha val="66000"/>
            </a:srgbClr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достаток влажности воздуха сильнее всего испытывают комнатные цветы и  растения. Поникшая зелень и бутоны, пожелтевшие и сморщенные кончики листьев, «листопад» в неположенное время – все это свидетельствует о пониженной влажности воздуха в помещ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258920" y="0"/>
            <a:ext cx="74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Природные измерители вла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4:48:56Z</dcterms:created>
  <dc:creator>~</dc:creator>
  <dc:description/>
  <dc:language>en-US</dc:language>
  <cp:lastModifiedBy>~</cp:lastModifiedBy>
  <dcterms:modified xsi:type="dcterms:W3CDTF">2017-06-13T12:46:11Z</dcterms:modified>
  <cp:revision>44</cp:revision>
  <dc:subject/>
  <dc:title>«Соответствие влажности воздуха и  температурного режима в Лицее нормам СанПиНа»</dc:title>
</cp:coreProperties>
</file>