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D72-B59C-46EA-9349-97F73DE8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1B4-08F5-4341-B5F6-66C792C6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936-AE58-43BA-A726-AACC5720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F34-A7A9-43A8-894F-4E574D0A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EB2-4548-4318-9FA0-E14B9394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D24-36EA-45E4-A985-9126CB74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AAA-B8E8-47DB-BFAE-B15B13A4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138-DEE2-4F74-8D3A-79972A8A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718-3FD1-480F-859A-B8A060A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630-892D-4C1B-BA3B-C419C22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A37-B75F-4070-A8BD-0E252A0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C0A-E8D4-4232-8F6B-D3EFAF4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8FE9-5F55-43F1-A30A-2834554D1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ъём цилин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"/>
          <p:cNvSpPr/>
          <p:nvPr/>
        </p:nvSpPr>
        <p:spPr>
          <a:xfrm>
            <a:off x="355680" y="1191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385560" y="6667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4"/>
          <p:cNvSpPr/>
          <p:nvPr/>
        </p:nvSpPr>
        <p:spPr>
          <a:xfrm>
            <a:off x="378360" y="33606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9"/>
          <p:cNvSpPr/>
          <p:nvPr/>
        </p:nvSpPr>
        <p:spPr>
          <a:xfrm>
            <a:off x="288720" y="2959200"/>
            <a:ext cx="20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,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380880" y="1066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1"/>
          <p:cNvSpPr/>
          <p:nvPr/>
        </p:nvSpPr>
        <p:spPr>
          <a:xfrm>
            <a:off x="355680" y="4916520"/>
            <a:ext cx="14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62"/>
          <p:cNvSpPr/>
          <p:nvPr/>
        </p:nvSpPr>
        <p:spPr>
          <a:xfrm>
            <a:off x="3998880" y="5342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= 2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Прямоугольник 30" descr=""/>
          <p:cNvPicPr/>
          <p:nvPr/>
        </p:nvPicPr>
        <p:blipFill>
          <a:blip r:embed="rId1"/>
          <a:stretch/>
        </p:blipFill>
        <p:spPr>
          <a:xfrm>
            <a:off x="371520" y="4121280"/>
            <a:ext cx="3414600" cy="5428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3"/>
          <p:cNvSpPr/>
          <p:nvPr/>
        </p:nvSpPr>
        <p:spPr>
          <a:xfrm>
            <a:off x="378000" y="3754440"/>
            <a:ext cx="13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) V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Прямоугольник 88" descr=""/>
          <p:cNvPicPr/>
          <p:nvPr/>
        </p:nvPicPr>
        <p:blipFill>
          <a:blip r:embed="rId2"/>
          <a:stretch/>
        </p:blipFill>
        <p:spPr>
          <a:xfrm>
            <a:off x="371520" y="5668920"/>
            <a:ext cx="1324080" cy="6652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8222"/>
          <p:cNvSpPr/>
          <p:nvPr/>
        </p:nvSpPr>
        <p:spPr>
          <a:xfrm>
            <a:off x="304560" y="529596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 = h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168"/>
          <p:cNvSpPr/>
          <p:nvPr/>
        </p:nvSpPr>
        <p:spPr>
          <a:xfrm>
            <a:off x="906120" y="5295960"/>
            <a:ext cx="19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Прямоугольник 44" descr=""/>
          <p:cNvPicPr/>
          <p:nvPr/>
        </p:nvPicPr>
        <p:blipFill>
          <a:blip r:embed="rId3"/>
          <a:stretch/>
        </p:blipFill>
        <p:spPr>
          <a:xfrm>
            <a:off x="378000" y="2176560"/>
            <a:ext cx="1749240" cy="542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5"/>
          <p:cNvSpPr/>
          <p:nvPr/>
        </p:nvSpPr>
        <p:spPr>
          <a:xfrm>
            <a:off x="1847880" y="222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= 3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46"/>
          <p:cNvSpPr/>
          <p:nvPr/>
        </p:nvSpPr>
        <p:spPr>
          <a:xfrm>
            <a:off x="385920" y="1440000"/>
            <a:ext cx="28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—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47"/>
          <p:cNvSpPr/>
          <p:nvPr/>
        </p:nvSpPr>
        <p:spPr>
          <a:xfrm>
            <a:off x="385920" y="259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r = 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48"/>
          <p:cNvSpPr/>
          <p:nvPr/>
        </p:nvSpPr>
        <p:spPr>
          <a:xfrm>
            <a:off x="1230480" y="257796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8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49"/>
          <p:cNvSpPr/>
          <p:nvPr/>
        </p:nvSpPr>
        <p:spPr>
          <a:xfrm>
            <a:off x="378000" y="453384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24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ая соединительная линия 50"/>
          <p:cNvSpPr/>
          <p:nvPr/>
        </p:nvSpPr>
        <p:spPr>
          <a:xfrm>
            <a:off x="6630840" y="1030320"/>
            <a:ext cx="0" cy="2405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Овал 4"/>
          <p:cNvSpPr/>
          <p:nvPr/>
        </p:nvSpPr>
        <p:spPr>
          <a:xfrm>
            <a:off x="5808600" y="2959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52"/>
          <p:cNvSpPr/>
          <p:nvPr/>
        </p:nvSpPr>
        <p:spPr>
          <a:xfrm flipV="1">
            <a:off x="5808600" y="1033560"/>
            <a:ext cx="0" cy="24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Овал 2"/>
          <p:cNvSpPr/>
          <p:nvPr/>
        </p:nvSpPr>
        <p:spPr>
          <a:xfrm>
            <a:off x="5808600" y="103356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2"/>
          <p:cNvSpPr/>
          <p:nvPr/>
        </p:nvSpPr>
        <p:spPr>
          <a:xfrm flipV="1">
            <a:off x="5808600" y="556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ая соединительная линия 56"/>
          <p:cNvSpPr/>
          <p:nvPr/>
        </p:nvSpPr>
        <p:spPr>
          <a:xfrm>
            <a:off x="6642000" y="3435480"/>
            <a:ext cx="673200" cy="2365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ая соединительная линия 59"/>
          <p:cNvSpPr/>
          <p:nvPr/>
        </p:nvSpPr>
        <p:spPr>
          <a:xfrm flipV="1">
            <a:off x="7451640" y="1033560"/>
            <a:ext cx="0" cy="240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Овал 2"/>
          <p:cNvSpPr/>
          <p:nvPr/>
        </p:nvSpPr>
        <p:spPr>
          <a:xfrm>
            <a:off x="5808600" y="343548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6841440" y="29908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6622200" y="1987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Прямоугольник 29" descr=""/>
          <p:cNvPicPr/>
          <p:nvPr/>
        </p:nvPicPr>
        <p:blipFill>
          <a:blip r:embed="rId4"/>
          <a:stretch/>
        </p:blipFill>
        <p:spPr>
          <a:xfrm>
            <a:off x="3992400" y="4479840"/>
            <a:ext cx="1895760" cy="88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олилиния 63"/>
          <p:cNvSpPr/>
          <p:nvPr/>
        </p:nvSpPr>
        <p:spPr>
          <a:xfrm>
            <a:off x="6649920" y="2957400"/>
            <a:ext cx="1662120" cy="1279800"/>
          </a:xfrm>
          <a:custGeom>
            <a:avLst/>
            <a:gdLst/>
            <a:ahLst/>
            <a:rect l="l" t="t" r="r" b="b"/>
            <a:pathLst>
              <a:path w="904403" h="2159000">
                <a:moveTo>
                  <a:pt x="7118" y="678560"/>
                </a:moveTo>
                <a:cubicBezTo>
                  <a:pt x="9578" y="1128512"/>
                  <a:pt x="-8232" y="1196526"/>
                  <a:pt x="4847" y="1435906"/>
                </a:cubicBezTo>
                <a:cubicBezTo>
                  <a:pt x="53728" y="1781798"/>
                  <a:pt x="50730" y="1687945"/>
                  <a:pt x="77177" y="1808179"/>
                </a:cubicBezTo>
                <a:lnTo>
                  <a:pt x="128882" y="1919662"/>
                </a:lnTo>
                <a:lnTo>
                  <a:pt x="211512" y="2027759"/>
                </a:lnTo>
                <a:lnTo>
                  <a:pt x="315997" y="2139950"/>
                </a:lnTo>
                <a:lnTo>
                  <a:pt x="373147" y="2159000"/>
                </a:lnTo>
                <a:lnTo>
                  <a:pt x="557297" y="2159000"/>
                </a:lnTo>
                <a:lnTo>
                  <a:pt x="700543" y="2032982"/>
                </a:lnTo>
                <a:lnTo>
                  <a:pt x="790845" y="1900610"/>
                </a:lnTo>
                <a:lnTo>
                  <a:pt x="853024" y="1726612"/>
                </a:lnTo>
                <a:lnTo>
                  <a:pt x="904403" y="1450862"/>
                </a:lnTo>
                <a:cubicBezTo>
                  <a:pt x="902286" y="904762"/>
                  <a:pt x="900171" y="1209225"/>
                  <a:pt x="898054" y="663125"/>
                </a:cubicBezTo>
                <a:lnTo>
                  <a:pt x="829525" y="363667"/>
                </a:lnTo>
                <a:lnTo>
                  <a:pt x="711018" y="137592"/>
                </a:lnTo>
                <a:lnTo>
                  <a:pt x="576347" y="35845"/>
                </a:lnTo>
                <a:lnTo>
                  <a:pt x="436647" y="0"/>
                </a:lnTo>
                <a:lnTo>
                  <a:pt x="325151" y="41630"/>
                </a:lnTo>
                <a:lnTo>
                  <a:pt x="208047" y="137592"/>
                </a:lnTo>
                <a:lnTo>
                  <a:pt x="97873" y="316251"/>
                </a:lnTo>
                <a:cubicBezTo>
                  <a:pt x="67621" y="437021"/>
                  <a:pt x="38772" y="494143"/>
                  <a:pt x="7118" y="678560"/>
                </a:cubicBezTo>
                <a:close/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олилиния 25"/>
          <p:cNvSpPr/>
          <p:nvPr/>
        </p:nvSpPr>
        <p:spPr>
          <a:xfrm>
            <a:off x="5295960" y="1701720"/>
            <a:ext cx="901800" cy="2878200"/>
          </a:xfrm>
          <a:custGeom>
            <a:avLst/>
            <a:gdLst/>
            <a:ahLst/>
            <a:rect l="l" t="t" r="r" b="b"/>
            <a:pathLst>
              <a:path w="901700" h="2159000">
                <a:moveTo>
                  <a:pt x="0" y="298450"/>
                </a:moveTo>
                <a:cubicBezTo>
                  <a:pt x="2117" y="810683"/>
                  <a:pt x="4233" y="1322917"/>
                  <a:pt x="6350" y="1835150"/>
                </a:cubicBezTo>
                <a:lnTo>
                  <a:pt x="25400" y="1987550"/>
                </a:lnTo>
                <a:lnTo>
                  <a:pt x="107950" y="2070100"/>
                </a:lnTo>
                <a:lnTo>
                  <a:pt x="203200" y="2114550"/>
                </a:lnTo>
                <a:lnTo>
                  <a:pt x="317500" y="2139950"/>
                </a:lnTo>
                <a:lnTo>
                  <a:pt x="374650" y="2159000"/>
                </a:lnTo>
                <a:lnTo>
                  <a:pt x="558800" y="2159000"/>
                </a:lnTo>
                <a:lnTo>
                  <a:pt x="704850" y="2108200"/>
                </a:lnTo>
                <a:lnTo>
                  <a:pt x="793750" y="2051050"/>
                </a:lnTo>
                <a:lnTo>
                  <a:pt x="869950" y="1981200"/>
                </a:lnTo>
                <a:lnTo>
                  <a:pt x="901700" y="1873250"/>
                </a:lnTo>
                <a:cubicBezTo>
                  <a:pt x="899583" y="1327150"/>
                  <a:pt x="897467" y="781050"/>
                  <a:pt x="895350" y="234950"/>
                </a:cubicBezTo>
                <a:lnTo>
                  <a:pt x="812800" y="120650"/>
                </a:lnTo>
                <a:lnTo>
                  <a:pt x="698500" y="50800"/>
                </a:lnTo>
                <a:lnTo>
                  <a:pt x="577850" y="12700"/>
                </a:lnTo>
                <a:lnTo>
                  <a:pt x="438150" y="0"/>
                </a:lnTo>
                <a:lnTo>
                  <a:pt x="323850" y="12700"/>
                </a:lnTo>
                <a:lnTo>
                  <a:pt x="209550" y="50800"/>
                </a:lnTo>
                <a:lnTo>
                  <a:pt x="82550" y="107950"/>
                </a:lnTo>
                <a:lnTo>
                  <a:pt x="44450" y="177800"/>
                </a:lnTo>
                <a:lnTo>
                  <a:pt x="0" y="241300"/>
                </a:lnTo>
                <a:lnTo>
                  <a:pt x="0" y="349250"/>
                </a:lnTo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355680" y="1191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385920" y="666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4"/>
          <p:cNvSpPr/>
          <p:nvPr/>
        </p:nvSpPr>
        <p:spPr>
          <a:xfrm>
            <a:off x="378000" y="27432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69"/>
          <p:cNvSpPr/>
          <p:nvPr/>
        </p:nvSpPr>
        <p:spPr>
          <a:xfrm>
            <a:off x="378360" y="2373480"/>
            <a:ext cx="1099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Найти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380880" y="104148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илинд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31"/>
          <p:cNvSpPr/>
          <p:nvPr/>
        </p:nvSpPr>
        <p:spPr>
          <a:xfrm>
            <a:off x="376200" y="4102200"/>
            <a:ext cx="145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π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62"/>
          <p:cNvSpPr/>
          <p:nvPr/>
        </p:nvSpPr>
        <p:spPr>
          <a:xfrm>
            <a:off x="355680" y="6108840"/>
            <a:ext cx="3182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5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376200" y="34336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33"/>
          <p:cNvSpPr/>
          <p:nvPr/>
        </p:nvSpPr>
        <p:spPr>
          <a:xfrm>
            <a:off x="378000" y="3106800"/>
            <a:ext cx="138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88"/>
          <p:cNvSpPr/>
          <p:nvPr/>
        </p:nvSpPr>
        <p:spPr>
          <a:xfrm>
            <a:off x="283320" y="4776840"/>
            <a:ext cx="184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3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3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8222"/>
          <p:cNvSpPr/>
          <p:nvPr/>
        </p:nvSpPr>
        <p:spPr>
          <a:xfrm>
            <a:off x="372960" y="4432320"/>
            <a:ext cx="218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π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4"/>
          <p:cNvSpPr/>
          <p:nvPr/>
        </p:nvSpPr>
        <p:spPr>
          <a:xfrm>
            <a:off x="385920" y="1373040"/>
            <a:ext cx="130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45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46"/>
          <p:cNvSpPr/>
          <p:nvPr/>
        </p:nvSpPr>
        <p:spPr>
          <a:xfrm>
            <a:off x="366840" y="1708200"/>
            <a:ext cx="2889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бъём жидкости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47"/>
          <p:cNvSpPr/>
          <p:nvPr/>
        </p:nvSpPr>
        <p:spPr>
          <a:xfrm>
            <a:off x="385920" y="2046240"/>
            <a:ext cx="144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3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49"/>
          <p:cNvSpPr/>
          <p:nvPr/>
        </p:nvSpPr>
        <p:spPr>
          <a:xfrm>
            <a:off x="378000" y="3773520"/>
            <a:ext cx="1590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π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ая соединительная линия 50"/>
          <p:cNvSpPr/>
          <p:nvPr/>
        </p:nvSpPr>
        <p:spPr>
          <a:xfrm>
            <a:off x="7480440" y="3386160"/>
            <a:ext cx="1440" cy="3747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6659640" y="295740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ая соединительная линия 52"/>
          <p:cNvSpPr/>
          <p:nvPr/>
        </p:nvSpPr>
        <p:spPr>
          <a:xfrm flipV="1">
            <a:off x="6659640" y="2089080"/>
            <a:ext cx="0" cy="167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2"/>
          <p:cNvSpPr/>
          <p:nvPr/>
        </p:nvSpPr>
        <p:spPr>
          <a:xfrm>
            <a:off x="6659640" y="208908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2"/>
          <p:cNvSpPr/>
          <p:nvPr/>
        </p:nvSpPr>
        <p:spPr>
          <a:xfrm flipV="1">
            <a:off x="6659640" y="1610640"/>
            <a:ext cx="1644480" cy="47772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56"/>
          <p:cNvSpPr/>
          <p:nvPr/>
        </p:nvSpPr>
        <p:spPr>
          <a:xfrm>
            <a:off x="7494480" y="3760920"/>
            <a:ext cx="673200" cy="2379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ая соединительная линия 59"/>
          <p:cNvSpPr/>
          <p:nvPr/>
        </p:nvSpPr>
        <p:spPr>
          <a:xfrm flipV="1">
            <a:off x="8304120" y="2089080"/>
            <a:ext cx="0" cy="167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2"/>
          <p:cNvSpPr/>
          <p:nvPr/>
        </p:nvSpPr>
        <p:spPr>
          <a:xfrm>
            <a:off x="6659640" y="343368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7696800" y="3386160"/>
            <a:ext cx="32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7123680" y="334800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ая соединительная линия 29"/>
          <p:cNvSpPr/>
          <p:nvPr/>
        </p:nvSpPr>
        <p:spPr>
          <a:xfrm>
            <a:off x="5740560" y="2046240"/>
            <a:ext cx="0" cy="21384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ая соединительная линия 34"/>
          <p:cNvSpPr/>
          <p:nvPr/>
        </p:nvSpPr>
        <p:spPr>
          <a:xfrm flipV="1">
            <a:off x="5292720" y="1257480"/>
            <a:ext cx="0" cy="29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ая соединительная линия 37"/>
          <p:cNvSpPr/>
          <p:nvPr/>
        </p:nvSpPr>
        <p:spPr>
          <a:xfrm>
            <a:off x="5740560" y="4197240"/>
            <a:ext cx="330120" cy="1954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ая соединительная линия 38"/>
          <p:cNvSpPr/>
          <p:nvPr/>
        </p:nvSpPr>
        <p:spPr>
          <a:xfrm flipV="1">
            <a:off x="6188040" y="1257480"/>
            <a:ext cx="0" cy="29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Овал 4"/>
          <p:cNvSpPr/>
          <p:nvPr/>
        </p:nvSpPr>
        <p:spPr>
          <a:xfrm>
            <a:off x="5292720" y="170172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Овал 2"/>
          <p:cNvSpPr/>
          <p:nvPr/>
        </p:nvSpPr>
        <p:spPr>
          <a:xfrm>
            <a:off x="5292720" y="1257480"/>
            <a:ext cx="895320" cy="3790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Овал 2"/>
          <p:cNvSpPr/>
          <p:nvPr/>
        </p:nvSpPr>
        <p:spPr>
          <a:xfrm flipV="1">
            <a:off x="5292720" y="882720"/>
            <a:ext cx="895320" cy="3794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2"/>
          <p:cNvSpPr/>
          <p:nvPr/>
        </p:nvSpPr>
        <p:spPr>
          <a:xfrm>
            <a:off x="5292720" y="207648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40"/>
          <p:cNvSpPr/>
          <p:nvPr/>
        </p:nvSpPr>
        <p:spPr>
          <a:xfrm>
            <a:off x="5747400" y="3828960"/>
            <a:ext cx="32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рямоугольник 41"/>
          <p:cNvSpPr/>
          <p:nvPr/>
        </p:nvSpPr>
        <p:spPr>
          <a:xfrm>
            <a:off x="5753880" y="287496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Овал 4"/>
          <p:cNvSpPr/>
          <p:nvPr/>
        </p:nvSpPr>
        <p:spPr>
          <a:xfrm>
            <a:off x="5292720" y="382896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2"/>
          <p:cNvSpPr/>
          <p:nvPr/>
        </p:nvSpPr>
        <p:spPr>
          <a:xfrm>
            <a:off x="5292720" y="420372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Овал 4"/>
          <p:cNvSpPr/>
          <p:nvPr/>
        </p:nvSpPr>
        <p:spPr>
          <a:xfrm>
            <a:off x="6659640" y="328464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2"/>
          <p:cNvSpPr/>
          <p:nvPr/>
        </p:nvSpPr>
        <p:spPr>
          <a:xfrm>
            <a:off x="6659640" y="376092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оугольник 26"/>
          <p:cNvSpPr/>
          <p:nvPr/>
        </p:nvSpPr>
        <p:spPr>
          <a:xfrm>
            <a:off x="284400" y="5106960"/>
            <a:ext cx="194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∙ 45 = (3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64"/>
          <p:cNvSpPr/>
          <p:nvPr/>
        </p:nvSpPr>
        <p:spPr>
          <a:xfrm>
            <a:off x="291240" y="5446800"/>
            <a:ext cx="174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 45 = 9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27"/>
          <p:cNvSpPr/>
          <p:nvPr/>
        </p:nvSpPr>
        <p:spPr>
          <a:xfrm>
            <a:off x="324720" y="5780160"/>
            <a:ext cx="1089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5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Выгнутая вверх стрелка 28"/>
          <p:cNvSpPr/>
          <p:nvPr/>
        </p:nvSpPr>
        <p:spPr>
          <a:xfrm>
            <a:off x="5872320" y="158760"/>
            <a:ext cx="1363680" cy="754200"/>
          </a:xfrm>
          <a:custGeom>
            <a:avLst/>
            <a:gdLst>
              <a:gd name="textAreaLeft" fmla="*/ 270000 w 1363680"/>
              <a:gd name="textAreaRight" fmla="*/ 999360 w 136368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62" hR="21600" stAng="10800000" swAng="5400000"/>
                <a:lnTo>
                  <a:pt x="11546" y="0"/>
                </a:lnTo>
                <a:arcTo wR="8562" hR="21600" stAng="-5400000" swAng="3415241"/>
                <a:lnTo>
                  <a:pt x="21328" y="16200"/>
                </a:lnTo>
                <a:lnTo>
                  <a:pt x="18616" y="21600"/>
                </a:lnTo>
                <a:lnTo>
                  <a:pt x="15360" y="16200"/>
                </a:lnTo>
                <a:lnTo>
                  <a:pt x="16852" y="16200"/>
                </a:lnTo>
                <a:arcTo wR="8562" hR="21600" stAng="-1984759" swAng="-3174486"/>
                <a:lnTo>
                  <a:pt x="10054" y="330"/>
                </a:lnTo>
                <a:arcTo wR="8562" hR="21600" stAng="-5640754" swAng="-5159246"/>
                <a:close/>
              </a:path>
              <a:path fill="darkenLess" w="21600" h="21600">
                <a:moveTo>
                  <a:pt x="0" y="21600"/>
                </a:moveTo>
                <a:arcTo wR="8562" hR="21600" stAng="10800000" swAng="5400000"/>
                <a:lnTo>
                  <a:pt x="8562" y="0"/>
                </a:lnTo>
                <a:arcTo wR="8562" hR="21600" stAng="-5400000" swAng="240754"/>
                <a:lnTo>
                  <a:pt x="10054" y="330"/>
                </a:lnTo>
                <a:arcTo wR="8562" hR="21600" stAng="-5640754" swAng="-5159246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ая соединительная линия 3"/>
          <p:cNvSpPr/>
          <p:nvPr/>
        </p:nvSpPr>
        <p:spPr>
          <a:xfrm flipV="1">
            <a:off x="5808600" y="1029960"/>
            <a:ext cx="822240" cy="2405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ая соединительная линия 7"/>
          <p:cNvSpPr/>
          <p:nvPr/>
        </p:nvSpPr>
        <p:spPr>
          <a:xfrm>
            <a:off x="6630840" y="1041480"/>
            <a:ext cx="820800" cy="23940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355680" y="1191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85920" y="666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78000" y="27432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69"/>
          <p:cNvSpPr/>
          <p:nvPr/>
        </p:nvSpPr>
        <p:spPr>
          <a:xfrm>
            <a:off x="372240" y="2379600"/>
            <a:ext cx="1151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Найти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380880" y="104148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Прямоугольник 31" descr=""/>
          <p:cNvPicPr/>
          <p:nvPr/>
        </p:nvPicPr>
        <p:blipFill>
          <a:blip r:embed="rId1"/>
          <a:stretch/>
        </p:blipFill>
        <p:spPr>
          <a:xfrm>
            <a:off x="371520" y="5370480"/>
            <a:ext cx="1182600" cy="463680"/>
          </a:xfrm>
          <a:prstGeom prst="rect">
            <a:avLst/>
          </a:prstGeom>
          <a:ln w="0">
            <a:noFill/>
          </a:ln>
        </p:spPr>
      </p:pic>
      <p:sp>
        <p:nvSpPr>
          <p:cNvPr id="306" name="TextBox 62"/>
          <p:cNvSpPr/>
          <p:nvPr/>
        </p:nvSpPr>
        <p:spPr>
          <a:xfrm>
            <a:off x="372960" y="5780160"/>
            <a:ext cx="3184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12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Прямоугольник 30" descr=""/>
          <p:cNvPicPr/>
          <p:nvPr/>
        </p:nvPicPr>
        <p:blipFill>
          <a:blip r:embed="rId2"/>
          <a:stretch/>
        </p:blipFill>
        <p:spPr>
          <a:xfrm>
            <a:off x="371520" y="3438360"/>
            <a:ext cx="2908080" cy="6033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3"/>
          <p:cNvSpPr/>
          <p:nvPr/>
        </p:nvSpPr>
        <p:spPr>
          <a:xfrm>
            <a:off x="378000" y="311616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бъём кону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Прямоугольник 8222" descr=""/>
          <p:cNvPicPr/>
          <p:nvPr/>
        </p:nvPicPr>
        <p:blipFill>
          <a:blip r:embed="rId3"/>
          <a:stretch/>
        </p:blipFill>
        <p:spPr>
          <a:xfrm>
            <a:off x="365040" y="4668840"/>
            <a:ext cx="2116080" cy="7938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44"/>
          <p:cNvSpPr/>
          <p:nvPr/>
        </p:nvSpPr>
        <p:spPr>
          <a:xfrm>
            <a:off x="385920" y="2043000"/>
            <a:ext cx="144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к.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46"/>
          <p:cNvSpPr/>
          <p:nvPr/>
        </p:nvSpPr>
        <p:spPr>
          <a:xfrm>
            <a:off x="385920" y="1373040"/>
            <a:ext cx="23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— общий ради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49"/>
          <p:cNvSpPr/>
          <p:nvPr/>
        </p:nvSpPr>
        <p:spPr>
          <a:xfrm>
            <a:off x="378000" y="4000680"/>
            <a:ext cx="31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Объём цилинд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ая соединительная линия 50"/>
          <p:cNvSpPr/>
          <p:nvPr/>
        </p:nvSpPr>
        <p:spPr>
          <a:xfrm>
            <a:off x="6630840" y="1030320"/>
            <a:ext cx="0" cy="2405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Овал 4"/>
          <p:cNvSpPr/>
          <p:nvPr/>
        </p:nvSpPr>
        <p:spPr>
          <a:xfrm>
            <a:off x="5808600" y="2959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ая соединительная линия 52"/>
          <p:cNvSpPr/>
          <p:nvPr/>
        </p:nvSpPr>
        <p:spPr>
          <a:xfrm flipV="1">
            <a:off x="5808600" y="1033560"/>
            <a:ext cx="0" cy="24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Овал 2"/>
          <p:cNvSpPr/>
          <p:nvPr/>
        </p:nvSpPr>
        <p:spPr>
          <a:xfrm>
            <a:off x="5808600" y="103356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Овал 2"/>
          <p:cNvSpPr/>
          <p:nvPr/>
        </p:nvSpPr>
        <p:spPr>
          <a:xfrm flipV="1">
            <a:off x="5808600" y="556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ая соединительная линия 56"/>
          <p:cNvSpPr/>
          <p:nvPr/>
        </p:nvSpPr>
        <p:spPr>
          <a:xfrm>
            <a:off x="6642000" y="3435480"/>
            <a:ext cx="809640" cy="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ая соединительная линия 59"/>
          <p:cNvSpPr/>
          <p:nvPr/>
        </p:nvSpPr>
        <p:spPr>
          <a:xfrm flipV="1">
            <a:off x="7451640" y="1033560"/>
            <a:ext cx="0" cy="240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6841440" y="29908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6622200" y="1987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9"/>
          <p:cNvSpPr/>
          <p:nvPr/>
        </p:nvSpPr>
        <p:spPr>
          <a:xfrm>
            <a:off x="385920" y="1716120"/>
            <a:ext cx="23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— общая высо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Овал 2"/>
          <p:cNvSpPr/>
          <p:nvPr/>
        </p:nvSpPr>
        <p:spPr>
          <a:xfrm>
            <a:off x="5808600" y="343548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38"/>
          <p:cNvSpPr/>
          <p:nvPr/>
        </p:nvSpPr>
        <p:spPr>
          <a:xfrm>
            <a:off x="376200" y="4336920"/>
            <a:ext cx="2324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.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S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осн.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· h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· 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39"/>
          <p:cNvSpPr/>
          <p:nvPr/>
        </p:nvSpPr>
        <p:spPr>
          <a:xfrm>
            <a:off x="1258920" y="5378400"/>
            <a:ext cx="2017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.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·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2 = 12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6 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3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050920" y="836640"/>
            <a:ext cx="47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просы для повтор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890640" y="1989000"/>
            <a:ext cx="749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называется цилиндром, осью цилиндра, высотой цилиндра, радиусом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является основанием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является развёрткой боковой поверхности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11120" y="452520"/>
            <a:ext cx="73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то называется цилиндром, осью цилиндра, высотой цилиндра, радиусом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4"/>
          <p:cNvSpPr/>
          <p:nvPr/>
        </p:nvSpPr>
        <p:spPr>
          <a:xfrm>
            <a:off x="7319160" y="432432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5" descr=""/>
          <p:cNvPicPr/>
          <p:nvPr/>
        </p:nvPicPr>
        <p:blipFill>
          <a:blip r:embed="rId1"/>
          <a:stretch/>
        </p:blipFill>
        <p:spPr>
          <a:xfrm>
            <a:off x="4511520" y="1893960"/>
            <a:ext cx="4381560" cy="1262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9"/>
          <p:cNvSpPr/>
          <p:nvPr/>
        </p:nvSpPr>
        <p:spPr>
          <a:xfrm>
            <a:off x="7769880" y="429408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4"/>
          <p:cNvSpPr/>
          <p:nvPr/>
        </p:nvSpPr>
        <p:spPr>
          <a:xfrm>
            <a:off x="7226640" y="261792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5"/>
          <p:cNvSpPr/>
          <p:nvPr/>
        </p:nvSpPr>
        <p:spPr>
          <a:xfrm>
            <a:off x="7671240" y="256392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6"/>
          <p:cNvSpPr/>
          <p:nvPr/>
        </p:nvSpPr>
        <p:spPr>
          <a:xfrm>
            <a:off x="7849080" y="2633760"/>
            <a:ext cx="319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7"/>
          <p:cNvSpPr/>
          <p:nvPr/>
        </p:nvSpPr>
        <p:spPr>
          <a:xfrm>
            <a:off x="8022600" y="482616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7013520" y="4546440"/>
            <a:ext cx="11606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7013520" y="4210200"/>
            <a:ext cx="1160640" cy="3362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6"/>
          <p:cNvSpPr/>
          <p:nvPr/>
        </p:nvSpPr>
        <p:spPr>
          <a:xfrm flipV="1">
            <a:off x="7593120" y="3347640"/>
            <a:ext cx="0" cy="1204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7"/>
          <p:cNvSpPr/>
          <p:nvPr/>
        </p:nvSpPr>
        <p:spPr>
          <a:xfrm flipV="1">
            <a:off x="7593120" y="4882680"/>
            <a:ext cx="0" cy="4971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8"/>
          <p:cNvSpPr/>
          <p:nvPr/>
        </p:nvSpPr>
        <p:spPr>
          <a:xfrm>
            <a:off x="7593120" y="4579920"/>
            <a:ext cx="0" cy="5176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7567560" y="4514760"/>
            <a:ext cx="50760" cy="6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>
            <a:off x="7610400" y="4572000"/>
            <a:ext cx="409680" cy="214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 flipV="1">
            <a:off x="8174160" y="2850840"/>
            <a:ext cx="0" cy="169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3"/>
          <p:cNvSpPr/>
          <p:nvPr/>
        </p:nvSpPr>
        <p:spPr>
          <a:xfrm flipV="1">
            <a:off x="7013520" y="2851200"/>
            <a:ext cx="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 flipV="1">
            <a:off x="7180200" y="3077640"/>
            <a:ext cx="0" cy="170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15"/>
          <p:cNvSpPr/>
          <p:nvPr/>
        </p:nvSpPr>
        <p:spPr>
          <a:xfrm flipV="1">
            <a:off x="7392960" y="3174840"/>
            <a:ext cx="0" cy="167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 flipV="1">
            <a:off x="7778880" y="3174480"/>
            <a:ext cx="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7"/>
          <p:cNvSpPr/>
          <p:nvPr/>
        </p:nvSpPr>
        <p:spPr>
          <a:xfrm flipV="1">
            <a:off x="8013600" y="3068280"/>
            <a:ext cx="0" cy="172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19"/>
          <p:cNvSpPr/>
          <p:nvPr/>
        </p:nvSpPr>
        <p:spPr>
          <a:xfrm>
            <a:off x="7112160" y="4586400"/>
            <a:ext cx="64800" cy="190440"/>
          </a:xfrm>
          <a:custGeom>
            <a:avLst/>
            <a:gdLst/>
            <a:ahLst/>
            <a:rect l="l" t="t" r="r" b="b"/>
            <a:pathLst>
              <a:path w="93134" h="203200">
                <a:moveTo>
                  <a:pt x="93134" y="59267"/>
                </a:moveTo>
                <a:lnTo>
                  <a:pt x="0" y="0"/>
                </a:lnTo>
                <a:lnTo>
                  <a:pt x="0" y="143934"/>
                </a:lnTo>
                <a:lnTo>
                  <a:pt x="93134" y="203200"/>
                </a:lnTo>
                <a:lnTo>
                  <a:pt x="93134" y="59267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20"/>
          <p:cNvSpPr/>
          <p:nvPr/>
        </p:nvSpPr>
        <p:spPr>
          <a:xfrm>
            <a:off x="7323120" y="4697280"/>
            <a:ext cx="65160" cy="155880"/>
          </a:xfrm>
          <a:custGeom>
            <a:avLst/>
            <a:gdLst/>
            <a:ahLst/>
            <a:rect l="l" t="t" r="r" b="b"/>
            <a:pathLst>
              <a:path w="93134" h="165986">
                <a:moveTo>
                  <a:pt x="93134" y="24711"/>
                </a:moveTo>
                <a:lnTo>
                  <a:pt x="5316" y="0"/>
                </a:lnTo>
                <a:lnTo>
                  <a:pt x="0" y="138618"/>
                </a:lnTo>
                <a:lnTo>
                  <a:pt x="93134" y="165986"/>
                </a:lnTo>
                <a:lnTo>
                  <a:pt x="93134" y="24711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22"/>
          <p:cNvSpPr/>
          <p:nvPr/>
        </p:nvSpPr>
        <p:spPr>
          <a:xfrm flipH="1">
            <a:off x="7779600" y="4705200"/>
            <a:ext cx="65160" cy="139680"/>
          </a:xfrm>
          <a:custGeom>
            <a:avLst/>
            <a:gdLst/>
            <a:ahLst/>
            <a:rect l="l" t="t" r="r" b="b"/>
            <a:pathLst>
              <a:path w="93134" h="150037">
                <a:moveTo>
                  <a:pt x="93134" y="8762"/>
                </a:moveTo>
                <a:lnTo>
                  <a:pt x="2658" y="0"/>
                </a:lnTo>
                <a:lnTo>
                  <a:pt x="0" y="141276"/>
                </a:lnTo>
                <a:lnTo>
                  <a:pt x="93134" y="150037"/>
                </a:lnTo>
                <a:lnTo>
                  <a:pt x="93134" y="8762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23"/>
          <p:cNvSpPr/>
          <p:nvPr/>
        </p:nvSpPr>
        <p:spPr>
          <a:xfrm flipV="1">
            <a:off x="8020080" y="4569840"/>
            <a:ext cx="65160" cy="190440"/>
          </a:xfrm>
          <a:custGeom>
            <a:avLst/>
            <a:gdLst/>
            <a:ahLst/>
            <a:rect l="l" t="t" r="r" b="b"/>
            <a:pathLst>
              <a:path w="93134" h="203200">
                <a:moveTo>
                  <a:pt x="93134" y="59267"/>
                </a:moveTo>
                <a:lnTo>
                  <a:pt x="0" y="0"/>
                </a:lnTo>
                <a:lnTo>
                  <a:pt x="0" y="143934"/>
                </a:lnTo>
                <a:lnTo>
                  <a:pt x="93134" y="203200"/>
                </a:lnTo>
                <a:lnTo>
                  <a:pt x="93134" y="59267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>
            <a:off x="7593120" y="2811600"/>
            <a:ext cx="0" cy="5158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2"/>
          <p:cNvSpPr/>
          <p:nvPr/>
        </p:nvSpPr>
        <p:spPr>
          <a:xfrm>
            <a:off x="7013520" y="2851200"/>
            <a:ext cx="11606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2"/>
          <p:cNvSpPr/>
          <p:nvPr/>
        </p:nvSpPr>
        <p:spPr>
          <a:xfrm flipV="1">
            <a:off x="7013520" y="2513880"/>
            <a:ext cx="11606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29"/>
          <p:cNvSpPr/>
          <p:nvPr/>
        </p:nvSpPr>
        <p:spPr>
          <a:xfrm flipV="1">
            <a:off x="7593120" y="2230200"/>
            <a:ext cx="0" cy="5936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37"/>
          <p:cNvSpPr/>
          <p:nvPr/>
        </p:nvSpPr>
        <p:spPr>
          <a:xfrm>
            <a:off x="7593120" y="2865600"/>
            <a:ext cx="40932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43"/>
          <p:cNvSpPr/>
          <p:nvPr/>
        </p:nvSpPr>
        <p:spPr>
          <a:xfrm>
            <a:off x="7574040" y="2833560"/>
            <a:ext cx="50760" cy="6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48"/>
          <p:cNvSpPr/>
          <p:nvPr/>
        </p:nvSpPr>
        <p:spPr>
          <a:xfrm>
            <a:off x="7983360" y="3043080"/>
            <a:ext cx="51120" cy="6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49"/>
          <p:cNvSpPr/>
          <p:nvPr/>
        </p:nvSpPr>
        <p:spPr>
          <a:xfrm>
            <a:off x="7991640" y="4735440"/>
            <a:ext cx="48960" cy="66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6"/>
          <p:cNvSpPr/>
          <p:nvPr/>
        </p:nvSpPr>
        <p:spPr>
          <a:xfrm>
            <a:off x="468360" y="2681280"/>
            <a:ext cx="6048360" cy="154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илинд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тело, ограниченное цилиндрической поверхностью и двумя кругами с границами O(r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ь цилинд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рямая 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сота цилинд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а образующ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 цилинд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радиус осн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812880" y="26924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то является развёрткой боковой поверхности цилинд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12880" y="792000"/>
            <a:ext cx="45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то является основанием цилинд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563400" y="3843360"/>
            <a:ext cx="4764240" cy="20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1295280" y="387972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ёртка боковой поверхности цилинд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прямоуголь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ами, равными высоте цилиндра и длине окружности осн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52600" y="3827520"/>
            <a:ext cx="671400" cy="871560"/>
          </a:xfrm>
          <a:prstGeom prst="rect">
            <a:avLst/>
          </a:prstGeom>
          <a:ln w="0">
            <a:noFill/>
          </a:ln>
        </p:spPr>
      </p:pic>
      <p:sp>
        <p:nvSpPr>
          <p:cNvPr id="86" name="Скругленный прямоугольник 8"/>
          <p:cNvSpPr/>
          <p:nvPr/>
        </p:nvSpPr>
        <p:spPr>
          <a:xfrm>
            <a:off x="439560" y="1468440"/>
            <a:ext cx="476568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26960" y="1452600"/>
            <a:ext cx="527040" cy="6825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2"/>
          <p:cNvSpPr/>
          <p:nvPr/>
        </p:nvSpPr>
        <p:spPr>
          <a:xfrm>
            <a:off x="1028880" y="1517760"/>
            <a:ext cx="38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уг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снования цилинд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13"/>
          <p:cNvSpPr/>
          <p:nvPr/>
        </p:nvSpPr>
        <p:spPr>
          <a:xfrm>
            <a:off x="6856560" y="1612800"/>
            <a:ext cx="861840" cy="1149480"/>
          </a:xfrm>
          <a:prstGeom prst="ellipse">
            <a:avLst/>
          </a:prstGeom>
          <a:solidFill>
            <a:srgbClr val="92d05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14"/>
          <p:cNvSpPr/>
          <p:nvPr/>
        </p:nvSpPr>
        <p:spPr>
          <a:xfrm>
            <a:off x="6858000" y="4248000"/>
            <a:ext cx="861840" cy="1149480"/>
          </a:xfrm>
          <a:prstGeom prst="ellipse">
            <a:avLst/>
          </a:prstGeom>
          <a:solidFill>
            <a:srgbClr val="92d05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6012000" y="2762280"/>
            <a:ext cx="2530440" cy="1485720"/>
          </a:xfrm>
          <a:prstGeom prst="rect">
            <a:avLst/>
          </a:prstGeom>
          <a:solidFill>
            <a:srgbClr val="c2e4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 flipH="1">
            <a:off x="7283520" y="4824360"/>
            <a:ext cx="436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7241400" y="48020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5736240" y="4297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5735880" y="2201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8544960" y="22017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8569080" y="4116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ая соединительная линия 118"/>
          <p:cNvSpPr/>
          <p:nvPr/>
        </p:nvSpPr>
        <p:spPr>
          <a:xfrm>
            <a:off x="7018200" y="5662440"/>
            <a:ext cx="476280" cy="1670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117"/>
          <p:cNvSpPr/>
          <p:nvPr/>
        </p:nvSpPr>
        <p:spPr>
          <a:xfrm>
            <a:off x="7010280" y="3963960"/>
            <a:ext cx="0" cy="16984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58"/>
          <p:cNvSpPr/>
          <p:nvPr/>
        </p:nvSpPr>
        <p:spPr>
          <a:xfrm>
            <a:off x="7013520" y="915840"/>
            <a:ext cx="0" cy="16956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83"/>
          <p:cNvSpPr/>
          <p:nvPr/>
        </p:nvSpPr>
        <p:spPr>
          <a:xfrm flipV="1">
            <a:off x="6315120" y="5310000"/>
            <a:ext cx="446040" cy="371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72"/>
          <p:cNvSpPr/>
          <p:nvPr/>
        </p:nvSpPr>
        <p:spPr>
          <a:xfrm>
            <a:off x="7281720" y="5322960"/>
            <a:ext cx="430200" cy="3585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79"/>
          <p:cNvSpPr/>
          <p:nvPr/>
        </p:nvSpPr>
        <p:spPr>
          <a:xfrm>
            <a:off x="6761160" y="5322960"/>
            <a:ext cx="520560" cy="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73"/>
          <p:cNvSpPr/>
          <p:nvPr/>
        </p:nvSpPr>
        <p:spPr>
          <a:xfrm>
            <a:off x="7281720" y="3643200"/>
            <a:ext cx="0" cy="16797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74"/>
          <p:cNvSpPr/>
          <p:nvPr/>
        </p:nvSpPr>
        <p:spPr>
          <a:xfrm>
            <a:off x="6761160" y="3643200"/>
            <a:ext cx="0" cy="1667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2053"/>
          <p:cNvSpPr/>
          <p:nvPr/>
        </p:nvSpPr>
        <p:spPr>
          <a:xfrm>
            <a:off x="7236000" y="2316240"/>
            <a:ext cx="357120" cy="2952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55"/>
          <p:cNvSpPr/>
          <p:nvPr/>
        </p:nvSpPr>
        <p:spPr>
          <a:xfrm>
            <a:off x="7236000" y="620640"/>
            <a:ext cx="0" cy="16858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2063"/>
          <p:cNvSpPr/>
          <p:nvPr/>
        </p:nvSpPr>
        <p:spPr>
          <a:xfrm>
            <a:off x="6804000" y="636480"/>
            <a:ext cx="0" cy="16858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2"/>
          <p:cNvSpPr/>
          <p:nvPr/>
        </p:nvSpPr>
        <p:spPr>
          <a:xfrm>
            <a:off x="527040" y="830160"/>
            <a:ext cx="4978440" cy="1702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258920" y="8431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1098720" y="1316160"/>
            <a:ext cx="426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ма вписана в цилиндр, если её основания вписаны в основания цилинд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14440" y="812880"/>
            <a:ext cx="512640" cy="66816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7"/>
          <p:cNvSpPr/>
          <p:nvPr/>
        </p:nvSpPr>
        <p:spPr>
          <a:xfrm>
            <a:off x="530280" y="4032360"/>
            <a:ext cx="4978440" cy="1701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1262160" y="40449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1101600" y="4519440"/>
            <a:ext cx="42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ма описана около цилиндра, если её основания описаны около основания цилинд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15880" y="4014720"/>
            <a:ext cx="513000" cy="66996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2"/>
          <p:cNvSpPr/>
          <p:nvPr/>
        </p:nvSpPr>
        <p:spPr>
          <a:xfrm>
            <a:off x="6434280" y="261144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4"/>
          <p:cNvSpPr/>
          <p:nvPr/>
        </p:nvSpPr>
        <p:spPr>
          <a:xfrm>
            <a:off x="6434280" y="2278080"/>
            <a:ext cx="1158840" cy="33336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ая соединительная линия 14"/>
          <p:cNvSpPr/>
          <p:nvPr/>
        </p:nvSpPr>
        <p:spPr>
          <a:xfrm flipV="1">
            <a:off x="7593120" y="918720"/>
            <a:ext cx="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ая соединительная линия 15"/>
          <p:cNvSpPr/>
          <p:nvPr/>
        </p:nvSpPr>
        <p:spPr>
          <a:xfrm flipV="1">
            <a:off x="6434280" y="91908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ая соединительная линия 2051"/>
          <p:cNvSpPr/>
          <p:nvPr/>
        </p:nvSpPr>
        <p:spPr>
          <a:xfrm>
            <a:off x="6804000" y="2306520"/>
            <a:ext cx="432000" cy="97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ая соединительная линия 36"/>
          <p:cNvSpPr/>
          <p:nvPr/>
        </p:nvSpPr>
        <p:spPr>
          <a:xfrm>
            <a:off x="6761160" y="2906640"/>
            <a:ext cx="504720" cy="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ая соединительная линия 2055"/>
          <p:cNvSpPr/>
          <p:nvPr/>
        </p:nvSpPr>
        <p:spPr>
          <a:xfrm flipV="1">
            <a:off x="7265880" y="2611440"/>
            <a:ext cx="327240" cy="2952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ая соединительная линия 2057"/>
          <p:cNvSpPr/>
          <p:nvPr/>
        </p:nvSpPr>
        <p:spPr>
          <a:xfrm flipH="1" flipV="1">
            <a:off x="6434280" y="2611440"/>
            <a:ext cx="326880" cy="2952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2059"/>
          <p:cNvSpPr/>
          <p:nvPr/>
        </p:nvSpPr>
        <p:spPr>
          <a:xfrm flipV="1">
            <a:off x="6434280" y="2306160"/>
            <a:ext cx="369720" cy="3049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47"/>
          <p:cNvSpPr/>
          <p:nvPr/>
        </p:nvSpPr>
        <p:spPr>
          <a:xfrm>
            <a:off x="6804000" y="620640"/>
            <a:ext cx="43200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48"/>
          <p:cNvSpPr/>
          <p:nvPr/>
        </p:nvSpPr>
        <p:spPr>
          <a:xfrm>
            <a:off x="6761160" y="1211400"/>
            <a:ext cx="50472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49"/>
          <p:cNvSpPr/>
          <p:nvPr/>
        </p:nvSpPr>
        <p:spPr>
          <a:xfrm>
            <a:off x="7236000" y="611280"/>
            <a:ext cx="357120" cy="304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50"/>
          <p:cNvSpPr/>
          <p:nvPr/>
        </p:nvSpPr>
        <p:spPr>
          <a:xfrm flipV="1">
            <a:off x="7265880" y="915480"/>
            <a:ext cx="327240" cy="295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51"/>
          <p:cNvSpPr/>
          <p:nvPr/>
        </p:nvSpPr>
        <p:spPr>
          <a:xfrm flipH="1" flipV="1">
            <a:off x="6434280" y="915480"/>
            <a:ext cx="326880" cy="295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52"/>
          <p:cNvSpPr/>
          <p:nvPr/>
        </p:nvSpPr>
        <p:spPr>
          <a:xfrm flipV="1">
            <a:off x="6434280" y="611280"/>
            <a:ext cx="369720" cy="304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2073"/>
          <p:cNvSpPr/>
          <p:nvPr/>
        </p:nvSpPr>
        <p:spPr>
          <a:xfrm>
            <a:off x="6761160" y="1211400"/>
            <a:ext cx="0" cy="16952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075"/>
          <p:cNvSpPr/>
          <p:nvPr/>
        </p:nvSpPr>
        <p:spPr>
          <a:xfrm>
            <a:off x="7265880" y="1211400"/>
            <a:ext cx="0" cy="16952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вал 2"/>
          <p:cNvSpPr/>
          <p:nvPr/>
        </p:nvSpPr>
        <p:spPr>
          <a:xfrm>
            <a:off x="6434280" y="91908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 2"/>
          <p:cNvSpPr/>
          <p:nvPr/>
        </p:nvSpPr>
        <p:spPr>
          <a:xfrm flipV="1">
            <a:off x="6434280" y="58140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"/>
          <p:cNvSpPr/>
          <p:nvPr/>
        </p:nvSpPr>
        <p:spPr>
          <a:xfrm>
            <a:off x="6434280" y="568476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4"/>
          <p:cNvSpPr/>
          <p:nvPr/>
        </p:nvSpPr>
        <p:spPr>
          <a:xfrm>
            <a:off x="6434280" y="534816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77"/>
          <p:cNvSpPr/>
          <p:nvPr/>
        </p:nvSpPr>
        <p:spPr>
          <a:xfrm flipV="1">
            <a:off x="7593120" y="4019400"/>
            <a:ext cx="0" cy="1665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ая соединительная линия 78"/>
          <p:cNvSpPr/>
          <p:nvPr/>
        </p:nvSpPr>
        <p:spPr>
          <a:xfrm flipV="1">
            <a:off x="6434280" y="3989520"/>
            <a:ext cx="0" cy="1730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"/>
          <p:cNvSpPr/>
          <p:nvPr/>
        </p:nvSpPr>
        <p:spPr>
          <a:xfrm>
            <a:off x="6434280" y="3989520"/>
            <a:ext cx="1158840" cy="3362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2"/>
          <p:cNvSpPr/>
          <p:nvPr/>
        </p:nvSpPr>
        <p:spPr>
          <a:xfrm flipV="1">
            <a:off x="6434280" y="3671280"/>
            <a:ext cx="1158840" cy="3474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ая соединительная линия 80"/>
          <p:cNvSpPr/>
          <p:nvPr/>
        </p:nvSpPr>
        <p:spPr>
          <a:xfrm>
            <a:off x="6710400" y="6033960"/>
            <a:ext cx="60624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81"/>
          <p:cNvSpPr/>
          <p:nvPr/>
        </p:nvSpPr>
        <p:spPr>
          <a:xfrm flipV="1">
            <a:off x="7316640" y="5681160"/>
            <a:ext cx="395280" cy="352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82"/>
          <p:cNvSpPr/>
          <p:nvPr/>
        </p:nvSpPr>
        <p:spPr>
          <a:xfrm flipH="1" flipV="1">
            <a:off x="6315120" y="5681160"/>
            <a:ext cx="395280" cy="352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84"/>
          <p:cNvSpPr/>
          <p:nvPr/>
        </p:nvSpPr>
        <p:spPr>
          <a:xfrm>
            <a:off x="6732720" y="3643200"/>
            <a:ext cx="54900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85"/>
          <p:cNvSpPr/>
          <p:nvPr/>
        </p:nvSpPr>
        <p:spPr>
          <a:xfrm>
            <a:off x="6710400" y="4335480"/>
            <a:ext cx="60624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86"/>
          <p:cNvSpPr/>
          <p:nvPr/>
        </p:nvSpPr>
        <p:spPr>
          <a:xfrm>
            <a:off x="7278840" y="3643200"/>
            <a:ext cx="433080" cy="3384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87"/>
          <p:cNvSpPr/>
          <p:nvPr/>
        </p:nvSpPr>
        <p:spPr>
          <a:xfrm flipV="1">
            <a:off x="7316640" y="3981240"/>
            <a:ext cx="395280" cy="3538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88"/>
          <p:cNvSpPr/>
          <p:nvPr/>
        </p:nvSpPr>
        <p:spPr>
          <a:xfrm flipH="1" flipV="1">
            <a:off x="6315120" y="3981240"/>
            <a:ext cx="395280" cy="3538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89"/>
          <p:cNvSpPr/>
          <p:nvPr/>
        </p:nvSpPr>
        <p:spPr>
          <a:xfrm flipV="1">
            <a:off x="6315120" y="3643200"/>
            <a:ext cx="417600" cy="3384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90"/>
          <p:cNvSpPr/>
          <p:nvPr/>
        </p:nvSpPr>
        <p:spPr>
          <a:xfrm>
            <a:off x="6710400" y="4335480"/>
            <a:ext cx="0" cy="16984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91"/>
          <p:cNvSpPr/>
          <p:nvPr/>
        </p:nvSpPr>
        <p:spPr>
          <a:xfrm>
            <a:off x="7316640" y="4335480"/>
            <a:ext cx="0" cy="16891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104"/>
          <p:cNvSpPr/>
          <p:nvPr/>
        </p:nvSpPr>
        <p:spPr>
          <a:xfrm>
            <a:off x="6315120" y="3981600"/>
            <a:ext cx="0" cy="1699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106"/>
          <p:cNvSpPr/>
          <p:nvPr/>
        </p:nvSpPr>
        <p:spPr>
          <a:xfrm>
            <a:off x="7711920" y="3981600"/>
            <a:ext cx="0" cy="17031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0"/>
          <p:cNvSpPr/>
          <p:nvPr/>
        </p:nvSpPr>
        <p:spPr>
          <a:xfrm>
            <a:off x="7021440" y="2611440"/>
            <a:ext cx="476280" cy="1699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1"/>
          <p:cNvSpPr/>
          <p:nvPr/>
        </p:nvSpPr>
        <p:spPr>
          <a:xfrm>
            <a:off x="6975360" y="173988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20"/>
          <p:cNvSpPr/>
          <p:nvPr/>
        </p:nvSpPr>
        <p:spPr>
          <a:xfrm>
            <a:off x="7002000" y="464976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7063200" y="228600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2"/>
          <p:cNvSpPr/>
          <p:nvPr/>
        </p:nvSpPr>
        <p:spPr>
          <a:xfrm>
            <a:off x="7060320" y="528948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1"/>
          <p:cNvSpPr/>
          <p:nvPr/>
        </p:nvSpPr>
        <p:spPr>
          <a:xfrm>
            <a:off x="546120" y="1316160"/>
            <a:ext cx="8077320" cy="3073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2009880" y="1500120"/>
            <a:ext cx="63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Теоре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755640" y="2787480"/>
            <a:ext cx="78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ём цилиндр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вен произведению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с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531720" y="1293840"/>
            <a:ext cx="1144800" cy="1454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3271320" y="5060880"/>
            <a:ext cx="262692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Овал 30"/>
          <p:cNvSpPr/>
          <p:nvPr/>
        </p:nvSpPr>
        <p:spPr>
          <a:xfrm>
            <a:off x="6702480" y="5192640"/>
            <a:ext cx="1569960" cy="920880"/>
          </a:xfrm>
          <a:prstGeom prst="ellipse">
            <a:avLst/>
          </a:pr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103"/>
          <p:cNvSpPr/>
          <p:nvPr/>
        </p:nvSpPr>
        <p:spPr>
          <a:xfrm>
            <a:off x="7866000" y="5154480"/>
            <a:ext cx="600120" cy="497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ая соединительная линия 114"/>
          <p:cNvSpPr/>
          <p:nvPr/>
        </p:nvSpPr>
        <p:spPr>
          <a:xfrm flipV="1">
            <a:off x="6516720" y="5136840"/>
            <a:ext cx="622440" cy="514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4"/>
          <p:cNvSpPr/>
          <p:nvPr/>
        </p:nvSpPr>
        <p:spPr>
          <a:xfrm>
            <a:off x="6702480" y="5189400"/>
            <a:ext cx="1577880" cy="457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ая соединительная линия 130"/>
          <p:cNvSpPr/>
          <p:nvPr/>
        </p:nvSpPr>
        <p:spPr>
          <a:xfrm flipH="1" flipV="1">
            <a:off x="8264520" y="2819160"/>
            <a:ext cx="15840" cy="2827080"/>
          </a:xfrm>
          <a:prstGeom prst="line">
            <a:avLst/>
          </a:prstGeom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ая соединительная линия 131"/>
          <p:cNvSpPr/>
          <p:nvPr/>
        </p:nvSpPr>
        <p:spPr>
          <a:xfrm flipV="1">
            <a:off x="6702480" y="2819160"/>
            <a:ext cx="14400" cy="2827080"/>
          </a:xfrm>
          <a:prstGeom prst="line">
            <a:avLst/>
          </a:prstGeom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кругленный прямоугольник 1"/>
          <p:cNvSpPr/>
          <p:nvPr/>
        </p:nvSpPr>
        <p:spPr>
          <a:xfrm>
            <a:off x="600120" y="652320"/>
            <a:ext cx="7932600" cy="1336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1763640" y="6429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1763640" y="117000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ём цилиндр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вен произведению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ощад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со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90680" y="630360"/>
            <a:ext cx="1082520" cy="1376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7"/>
          <p:cNvSpPr/>
          <p:nvPr/>
        </p:nvSpPr>
        <p:spPr>
          <a:xfrm>
            <a:off x="414720" y="2017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415800" y="269388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— радиус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8"/>
          <p:cNvSpPr/>
          <p:nvPr/>
        </p:nvSpPr>
        <p:spPr>
          <a:xfrm>
            <a:off x="349560" y="3005280"/>
            <a:ext cx="226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Доказать: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ил.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осн.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·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59"/>
          <p:cNvSpPr/>
          <p:nvPr/>
        </p:nvSpPr>
        <p:spPr>
          <a:xfrm>
            <a:off x="416880" y="23893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60"/>
          <p:cNvSpPr/>
          <p:nvPr/>
        </p:nvSpPr>
        <p:spPr>
          <a:xfrm>
            <a:off x="409680" y="3681360"/>
            <a:ext cx="3082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— n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угольная призма, вписанная в цилиндр Р радиус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 высото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402480" y="335124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50"/>
          <p:cNvSpPr/>
          <p:nvPr/>
        </p:nvSpPr>
        <p:spPr>
          <a:xfrm>
            <a:off x="1432440" y="26938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— выс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6"/>
          <p:cNvSpPr/>
          <p:nvPr/>
        </p:nvSpPr>
        <p:spPr>
          <a:xfrm>
            <a:off x="415800" y="4254480"/>
            <a:ext cx="308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илиндр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69"/>
          <p:cNvSpPr/>
          <p:nvPr/>
        </p:nvSpPr>
        <p:spPr>
          <a:xfrm>
            <a:off x="415800" y="4869000"/>
            <a:ext cx="308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ъёмы цилиндров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TextBox 73" descr=""/>
          <p:cNvPicPr/>
          <p:nvPr/>
        </p:nvPicPr>
        <p:blipFill>
          <a:blip r:embed="rId2"/>
          <a:stretch/>
        </p:blipFill>
        <p:spPr>
          <a:xfrm>
            <a:off x="407880" y="5162400"/>
            <a:ext cx="3597480" cy="10558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1"/>
          <p:cNvSpPr/>
          <p:nvPr/>
        </p:nvSpPr>
        <p:spPr>
          <a:xfrm>
            <a:off x="415800" y="6197760"/>
            <a:ext cx="2500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&lt;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·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h &lt; V                   (1)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97"/>
          <p:cNvSpPr/>
          <p:nvPr/>
        </p:nvSpPr>
        <p:spPr>
          <a:xfrm>
            <a:off x="3835440" y="2367000"/>
            <a:ext cx="1249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→ ∞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→ 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98"/>
          <p:cNvSpPr/>
          <p:nvPr/>
        </p:nvSpPr>
        <p:spPr>
          <a:xfrm>
            <a:off x="4894200" y="2367000"/>
            <a:ext cx="93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→ V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99"/>
          <p:cNvSpPr/>
          <p:nvPr/>
        </p:nvSpPr>
        <p:spPr>
          <a:xfrm>
            <a:off x="3841920" y="2976480"/>
            <a:ext cx="202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1) ⇒ li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→∞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· h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V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0"/>
          <p:cNvSpPr/>
          <p:nvPr/>
        </p:nvSpPr>
        <p:spPr>
          <a:xfrm>
            <a:off x="3844800" y="3276720"/>
            <a:ext cx="180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о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→∞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01"/>
          <p:cNvSpPr/>
          <p:nvPr/>
        </p:nvSpPr>
        <p:spPr>
          <a:xfrm>
            <a:off x="3844800" y="357984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3795120" y="399420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орема доказ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ая соединительная линия 102"/>
          <p:cNvSpPr/>
          <p:nvPr/>
        </p:nvSpPr>
        <p:spPr>
          <a:xfrm>
            <a:off x="7491240" y="2801880"/>
            <a:ext cx="0" cy="2849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ая соединительная линия 104"/>
          <p:cNvSpPr/>
          <p:nvPr/>
        </p:nvSpPr>
        <p:spPr>
          <a:xfrm>
            <a:off x="7866000" y="2303640"/>
            <a:ext cx="0" cy="283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ая соединительная линия 105"/>
          <p:cNvSpPr/>
          <p:nvPr/>
        </p:nvSpPr>
        <p:spPr>
          <a:xfrm>
            <a:off x="7139160" y="2330280"/>
            <a:ext cx="0" cy="2833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Овал 4"/>
          <p:cNvSpPr/>
          <p:nvPr/>
        </p:nvSpPr>
        <p:spPr>
          <a:xfrm>
            <a:off x="6516720" y="5086440"/>
            <a:ext cx="1949400" cy="565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108"/>
          <p:cNvSpPr/>
          <p:nvPr/>
        </p:nvSpPr>
        <p:spPr>
          <a:xfrm flipV="1">
            <a:off x="8466120" y="2804760"/>
            <a:ext cx="0" cy="28465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ая соединительная линия 109"/>
          <p:cNvSpPr/>
          <p:nvPr/>
        </p:nvSpPr>
        <p:spPr>
          <a:xfrm flipV="1">
            <a:off x="6516720" y="2804760"/>
            <a:ext cx="0" cy="29034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ая соединительная линия 110"/>
          <p:cNvSpPr/>
          <p:nvPr/>
        </p:nvSpPr>
        <p:spPr>
          <a:xfrm>
            <a:off x="7139160" y="5137200"/>
            <a:ext cx="726840" cy="1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111"/>
          <p:cNvSpPr/>
          <p:nvPr/>
        </p:nvSpPr>
        <p:spPr>
          <a:xfrm>
            <a:off x="7067520" y="6145200"/>
            <a:ext cx="847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ая соединительная линия 112"/>
          <p:cNvSpPr/>
          <p:nvPr/>
        </p:nvSpPr>
        <p:spPr>
          <a:xfrm flipV="1">
            <a:off x="7915320" y="5651280"/>
            <a:ext cx="550800" cy="49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ая соединительная линия 113"/>
          <p:cNvSpPr/>
          <p:nvPr/>
        </p:nvSpPr>
        <p:spPr>
          <a:xfrm flipH="1" flipV="1">
            <a:off x="6516720" y="5651280"/>
            <a:ext cx="550800" cy="49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ая соединительная линия 115"/>
          <p:cNvSpPr/>
          <p:nvPr/>
        </p:nvSpPr>
        <p:spPr>
          <a:xfrm>
            <a:off x="7139160" y="2290680"/>
            <a:ext cx="72684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ая соединительная линия 116"/>
          <p:cNvSpPr/>
          <p:nvPr/>
        </p:nvSpPr>
        <p:spPr>
          <a:xfrm>
            <a:off x="7067520" y="3295800"/>
            <a:ext cx="84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ая соединительная линия 117"/>
          <p:cNvSpPr/>
          <p:nvPr/>
        </p:nvSpPr>
        <p:spPr>
          <a:xfrm>
            <a:off x="7866000" y="2290680"/>
            <a:ext cx="600120" cy="51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ая соединительная линия 118"/>
          <p:cNvSpPr/>
          <p:nvPr/>
        </p:nvSpPr>
        <p:spPr>
          <a:xfrm flipV="1">
            <a:off x="7915320" y="2801880"/>
            <a:ext cx="550800" cy="4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ая соединительная линия 119"/>
          <p:cNvSpPr/>
          <p:nvPr/>
        </p:nvSpPr>
        <p:spPr>
          <a:xfrm flipH="1" flipV="1">
            <a:off x="6516720" y="2801880"/>
            <a:ext cx="550800" cy="4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ая соединительная линия 120"/>
          <p:cNvSpPr/>
          <p:nvPr/>
        </p:nvSpPr>
        <p:spPr>
          <a:xfrm flipV="1">
            <a:off x="6516720" y="2290320"/>
            <a:ext cx="622440" cy="51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2"/>
          <p:cNvSpPr/>
          <p:nvPr/>
        </p:nvSpPr>
        <p:spPr>
          <a:xfrm flipV="1">
            <a:off x="6516720" y="2239920"/>
            <a:ext cx="1949400" cy="565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125"/>
          <p:cNvSpPr/>
          <p:nvPr/>
        </p:nvSpPr>
        <p:spPr>
          <a:xfrm>
            <a:off x="7505640" y="5651640"/>
            <a:ext cx="960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26"/>
          <p:cNvSpPr/>
          <p:nvPr/>
        </p:nvSpPr>
        <p:spPr>
          <a:xfrm>
            <a:off x="7524360" y="413856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27"/>
          <p:cNvSpPr/>
          <p:nvPr/>
        </p:nvSpPr>
        <p:spPr>
          <a:xfrm>
            <a:off x="7661880" y="530388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3780000" y="2679840"/>
            <a:ext cx="1411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→∞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2"/>
          <p:cNvSpPr/>
          <p:nvPr/>
        </p:nvSpPr>
        <p:spPr>
          <a:xfrm>
            <a:off x="6702480" y="5646600"/>
            <a:ext cx="1577880" cy="457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Овал 2"/>
          <p:cNvSpPr/>
          <p:nvPr/>
        </p:nvSpPr>
        <p:spPr>
          <a:xfrm>
            <a:off x="6716880" y="2819520"/>
            <a:ext cx="1547640" cy="4554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Овал 2"/>
          <p:cNvSpPr/>
          <p:nvPr/>
        </p:nvSpPr>
        <p:spPr>
          <a:xfrm flipV="1">
            <a:off x="6716880" y="2321640"/>
            <a:ext cx="1547640" cy="49716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ая соединительная линия 121"/>
          <p:cNvSpPr/>
          <p:nvPr/>
        </p:nvSpPr>
        <p:spPr>
          <a:xfrm>
            <a:off x="7067520" y="3295800"/>
            <a:ext cx="0" cy="28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122"/>
          <p:cNvSpPr/>
          <p:nvPr/>
        </p:nvSpPr>
        <p:spPr>
          <a:xfrm>
            <a:off x="7915320" y="3295800"/>
            <a:ext cx="0" cy="28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Овал 135"/>
          <p:cNvSpPr/>
          <p:nvPr/>
        </p:nvSpPr>
        <p:spPr>
          <a:xfrm>
            <a:off x="6716880" y="2332080"/>
            <a:ext cx="1555560" cy="938160"/>
          </a:xfrm>
          <a:prstGeom prst="ellipse">
            <a:avLst/>
          </a:pr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Овал 2"/>
          <p:cNvSpPr/>
          <p:nvPr/>
        </p:nvSpPr>
        <p:spPr>
          <a:xfrm>
            <a:off x="6516720" y="2805120"/>
            <a:ext cx="1949400" cy="565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516720" y="5651640"/>
            <a:ext cx="1949400" cy="5648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32"/>
          <p:cNvSpPr/>
          <p:nvPr/>
        </p:nvSpPr>
        <p:spPr>
          <a:xfrm>
            <a:off x="428760" y="455940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исанная призма дл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6 (а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2-07T17:06:23Z</dcterms:modified>
  <cp:revision>2</cp:revision>
  <dc:subject/>
  <dc:title>Объём цилиндра</dc:title>
</cp:coreProperties>
</file>