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B1A5-E3CF-4499-B372-0DE27DE4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0CAF-EB36-443A-8426-D7AD5762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9AFA-6864-47E0-88E7-A516B98D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ABC1-5002-486A-A7A8-290EB0A9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F756-EF72-40A9-A60A-8DB0E669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6A08-B925-477A-9AB9-52C35F18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86F5-B98D-45F3-B321-68C36C2B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1E40-C559-4484-96E3-4ABEF0FD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1686-F902-4A48-B084-A8232AFF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573E-785E-41F1-8BEA-B164F802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F794-BBCB-4274-ABAA-9B71E51B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F76E-2D16-46A5-BB51-A788CAC5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FF04-79F4-4697-880E-34C118CA65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6840" y="921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8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5" descr=""/>
          <p:cNvPicPr/>
          <p:nvPr/>
        </p:nvPicPr>
        <p:blipFill>
          <a:blip r:embed="rId1"/>
          <a:stretch/>
        </p:blipFill>
        <p:spPr>
          <a:xfrm>
            <a:off x="1566720" y="2225520"/>
            <a:ext cx="6224760" cy="386424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5280480" y="648828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квадратное уравнение не является приведенным, то как будет выглядеть теорема Виет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01760" y="1714680"/>
          <a:ext cx="8327880" cy="4362120"/>
        </p:xfrm>
        <a:graphic>
          <a:graphicData uri="http://schemas.openxmlformats.org/drawingml/2006/table">
            <a:tbl>
              <a:tblPr/>
              <a:tblGrid>
                <a:gridCol w="4163760"/>
                <a:gridCol w="4164120"/>
              </a:tblGrid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веденное квадратное урав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льное квадратное урав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" name="Object 1"/>
              <p:cNvSpPr txBox="1"/>
              <p:nvPr/>
            </p:nvSpPr>
            <p:spPr>
              <a:xfrm>
                <a:off x="428760" y="2428920"/>
                <a:ext cx="41209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428760" y="3571920"/>
                <a:ext cx="357192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4714920" y="2500200"/>
                <a:ext cx="41259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5"/>
              <p:cNvSpPr txBox="1"/>
              <p:nvPr/>
            </p:nvSpPr>
            <p:spPr>
              <a:xfrm>
                <a:off x="4572000" y="3429000"/>
                <a:ext cx="2867040" cy="274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ема Ви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840" y="8568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 праву достойна в стихах быть воспе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 свойствах корней теорема Вие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лучше, скажи, постоянства таког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множишь ты корни – и дробь уж гото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ислителе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в знаменателе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сумма корней тоже дроби равн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Хоть с минусом дробь эта, что за бед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ислителе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в знаменателе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?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ение упраж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.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 в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 в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6 в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1 в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.29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,9, 26,31-а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5480" y="2143080"/>
            <a:ext cx="825804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казать теорему Виета, показать ее применение. Рассмотреть различные задания на применение теоремы Виет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 Назвать корни уравнени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571840" y="874800"/>
            <a:ext cx="5715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x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2 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= 6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x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+3x = 0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y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 – 121 =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  <a:ea typeface="Calibri"/>
              </a:rPr>
              <a:t>5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x</a:t>
            </a:r>
            <a:r>
              <a:rPr b="0" lang="ru-RU" sz="54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  <a:ea typeface="Calibri"/>
              </a:rPr>
              <a:t> =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7"/>
              <p:cNvSpPr txBox="1"/>
              <p:nvPr/>
            </p:nvSpPr>
            <p:spPr>
              <a:xfrm>
                <a:off x="2928960" y="4357800"/>
                <a:ext cx="3475080" cy="18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Указать коэффициенты квадратных уравнени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4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-5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+10=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+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4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=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4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-4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=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4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=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11-2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4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=4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 Решить уравн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9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-6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+8=0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ить уравнения и заполнить таблицу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2642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i="1" lang="ru-RU" sz="4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-2</a:t>
            </a: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-15=0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i="1" lang="ru-RU" sz="4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-10</a:t>
            </a: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+21= 0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i="1" lang="ru-RU" sz="4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 +5</a:t>
            </a: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 +6 =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208080" y="4206960"/>
            <a:ext cx="8362800" cy="115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457200" y="1600200"/>
          <a:ext cx="8229600" cy="1833480"/>
        </p:xfrm>
        <a:graphic>
          <a:graphicData uri="http://schemas.openxmlformats.org/drawingml/2006/table">
            <a:tbl>
              <a:tblPr/>
              <a:tblGrid>
                <a:gridCol w="1685880"/>
                <a:gridCol w="500040"/>
                <a:gridCol w="642960"/>
                <a:gridCol w="500040"/>
                <a:gridCol w="1714680"/>
                <a:gridCol w="1571400"/>
                <a:gridCol w="16146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X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=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1= 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6 =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14880" y="1599840"/>
            <a:ext cx="44719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первые эти выводы сделал Франсуа Виет (1540 – 1603 гг.)- французский математик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н стал одним из первых, кто стал обозначать числа буквами, что существенно развило теорию уравнений. Свои выводы Франсуа Виет сформулировал в виде теоремы и доказал ее. Использование этой теоремы позволяет экономить время при решении уравнени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C:\Documents and Settings\Александр\Рабочий стол\STP64813.JPG"/>
          <p:cNvPicPr/>
          <p:nvPr/>
        </p:nvPicPr>
        <p:blipFill>
          <a:blip r:embed="rId1"/>
          <a:stretch/>
        </p:blipFill>
        <p:spPr>
          <a:xfrm>
            <a:off x="457200" y="1762200"/>
            <a:ext cx="337176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ема Вие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428480"/>
            <a:ext cx="914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Сумма корней приведенного квадратного уравнения равна второму коэффициенту, взятому с противоположным знаком, а произведение корней равно свободному  члену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1:56:43Z</dcterms:created>
  <dc:creator>Александр</dc:creator>
  <dc:description/>
  <dc:language>en-US</dc:language>
  <cp:lastModifiedBy>home</cp:lastModifiedBy>
  <dcterms:modified xsi:type="dcterms:W3CDTF">2017-03-09T18:11:16Z</dcterms:modified>
  <cp:revision>19</cp:revision>
  <dc:subject/>
  <dc:title>8 класс</dc:title>
</cp:coreProperties>
</file>