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D10C-5C28-46B7-A8DE-B9C6783DBF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5F24-C4CB-42E9-AFE3-6686F38F7B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BFEE-A495-4946-998C-80B69152E3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3BE9-2E01-4B3B-ABD2-0F3B17257E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C49C-AA21-4F17-9AF7-066E771147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D241-B1B6-4DCB-AB8E-EF12F6FDBD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65D-53FA-48EB-89F0-7A274AA1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0BE9-0CEE-45F5-B3D1-3396BBCA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493-B4B7-4CAE-BF05-947B7D48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903-2457-43E7-AF97-6E78ADD2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2550-7330-4D1D-AA33-B806692C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E09-571E-4E59-AEA9-E4F45122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44A4-6BB0-439B-A78A-19A0C42A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B6F0-1458-41EA-AFCE-19DD57DB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AC4-8625-491A-A432-CAD7BF30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FD88-54F4-470A-B705-BCB2DD5F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569B-7D82-428A-90B0-33FFEB19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693-2ADC-4DE5-8357-C499E5DE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9409-0173-4B7F-B15F-93940D7666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ррациональные урав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9"/>
          <p:cNvSpPr/>
          <p:nvPr/>
        </p:nvSpPr>
        <p:spPr>
          <a:xfrm>
            <a:off x="0" y="1428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 для решения иррационального уравнения методом возведения в квадрат, необходимо возвести обе части уравнения в квадрат, решить полученное рациональное уравнение, проверить корни подстановкой в исходное уравн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440240" y="8460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695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4440240" y="8460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" descr="C:\Users\апачай\Desktop\Презентации\11 класс\Первообразная\risunok_raketa.jpg"/>
          <p:cNvPicPr/>
          <p:nvPr/>
        </p:nvPicPr>
        <p:blipFill>
          <a:blip r:embed="rId2"/>
          <a:stretch/>
        </p:blipFill>
        <p:spPr>
          <a:xfrm>
            <a:off x="2786040" y="3071880"/>
            <a:ext cx="40640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0" y="142884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ер 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Решить урав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шение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образуем урав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зведем обе части уравнения в квадр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спользуемся еще раз методом возведения в квадр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440240" y="8460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695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4440240" y="8460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3143160" y="1785960"/>
            <a:ext cx="2449440" cy="3571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3"/>
          <a:stretch/>
        </p:blipFill>
        <p:spPr>
          <a:xfrm>
            <a:off x="3143160" y="2643120"/>
            <a:ext cx="2270160" cy="357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4"/>
          <a:stretch/>
        </p:blipFill>
        <p:spPr>
          <a:xfrm>
            <a:off x="2928960" y="3429000"/>
            <a:ext cx="3214800" cy="357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5"/>
          <a:stretch/>
        </p:blipFill>
        <p:spPr>
          <a:xfrm>
            <a:off x="3429000" y="3786120"/>
            <a:ext cx="1965240" cy="3571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723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0" y="1447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3" descr=""/>
          <p:cNvPicPr/>
          <p:nvPr/>
        </p:nvPicPr>
        <p:blipFill>
          <a:blip r:embed="rId6"/>
          <a:stretch/>
        </p:blipFill>
        <p:spPr>
          <a:xfrm>
            <a:off x="3214800" y="4572000"/>
            <a:ext cx="2500200" cy="345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"/>
          <p:cNvPicPr/>
          <p:nvPr/>
        </p:nvPicPr>
        <p:blipFill>
          <a:blip r:embed="rId7"/>
          <a:stretch/>
        </p:blipFill>
        <p:spPr>
          <a:xfrm>
            <a:off x="2928960" y="5000760"/>
            <a:ext cx="3000240" cy="325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0" y="723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0" y="1419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17" descr=""/>
          <p:cNvPicPr/>
          <p:nvPr/>
        </p:nvPicPr>
        <p:blipFill>
          <a:blip r:embed="rId8"/>
          <a:stretch/>
        </p:blipFill>
        <p:spPr>
          <a:xfrm>
            <a:off x="3286080" y="5429160"/>
            <a:ext cx="2071800" cy="3222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9"/>
          <p:cNvSpPr/>
          <p:nvPr/>
        </p:nvSpPr>
        <p:spPr>
          <a:xfrm>
            <a:off x="0" y="695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0" descr=""/>
          <p:cNvPicPr/>
          <p:nvPr/>
        </p:nvPicPr>
        <p:blipFill>
          <a:blip r:embed="rId9"/>
          <a:stretch/>
        </p:blipFill>
        <p:spPr>
          <a:xfrm>
            <a:off x="2714760" y="5786280"/>
            <a:ext cx="3268440" cy="5716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2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9"/>
          <p:cNvSpPr/>
          <p:nvPr/>
        </p:nvSpPr>
        <p:spPr>
          <a:xfrm>
            <a:off x="0" y="142884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талось выполнить провер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х=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440240" y="8460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0" y="695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4440240" y="8460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2286000" y="2428920"/>
            <a:ext cx="4541760" cy="357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" descr=""/>
          <p:cNvPicPr/>
          <p:nvPr/>
        </p:nvPicPr>
        <p:blipFill>
          <a:blip r:embed="rId3"/>
          <a:stretch/>
        </p:blipFill>
        <p:spPr>
          <a:xfrm>
            <a:off x="1571760" y="2928960"/>
            <a:ext cx="6330960" cy="785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0" descr=""/>
          <p:cNvPicPr/>
          <p:nvPr/>
        </p:nvPicPr>
        <p:blipFill>
          <a:blip r:embed="rId4"/>
          <a:stretch/>
        </p:blipFill>
        <p:spPr>
          <a:xfrm>
            <a:off x="2786040" y="1357200"/>
            <a:ext cx="32688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191" name="TextBox 9"/>
          <p:cNvSpPr/>
          <p:nvPr/>
        </p:nvSpPr>
        <p:spPr>
          <a:xfrm>
            <a:off x="0" y="14288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ер 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шить урав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шение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 решении данного уравнения воспользуемся методом введения новой переменой, представи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, тогда исходное уравнение примет ви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ведя обратную заме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 первого выражения х=49, а второе не имеет смыс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х=4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440240" y="8460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695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4440240" y="8460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" descr=""/>
          <p:cNvPicPr/>
          <p:nvPr/>
        </p:nvPicPr>
        <p:blipFill>
          <a:blip r:embed="rId2"/>
          <a:stretch/>
        </p:blipFill>
        <p:spPr>
          <a:xfrm>
            <a:off x="3286080" y="1785960"/>
            <a:ext cx="1892520" cy="3571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4500720" y="2500200"/>
            <a:ext cx="726840" cy="357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4"/>
          <a:stretch/>
        </p:blipFill>
        <p:spPr>
          <a:xfrm>
            <a:off x="3500280" y="3143160"/>
            <a:ext cx="1857600" cy="344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5"/>
          <a:stretch/>
        </p:blipFill>
        <p:spPr>
          <a:xfrm>
            <a:off x="3429000" y="3571920"/>
            <a:ext cx="1928880" cy="3301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11" descr=""/>
          <p:cNvPicPr/>
          <p:nvPr/>
        </p:nvPicPr>
        <p:blipFill>
          <a:blip r:embed="rId6"/>
          <a:stretch/>
        </p:blipFill>
        <p:spPr>
          <a:xfrm>
            <a:off x="3429000" y="4572000"/>
            <a:ext cx="1957320" cy="3571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3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0" y="1428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шить урав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шить урав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шить урав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4440240" y="8460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695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4440240" y="8460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2"/>
          <a:stretch/>
        </p:blipFill>
        <p:spPr>
          <a:xfrm>
            <a:off x="3071880" y="2000160"/>
            <a:ext cx="2036520" cy="4287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3"/>
          <p:cNvSpPr/>
          <p:nvPr/>
        </p:nvSpPr>
        <p:spPr>
          <a:xfrm>
            <a:off x="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3"/>
          <a:stretch/>
        </p:blipFill>
        <p:spPr>
          <a:xfrm>
            <a:off x="2857680" y="2857680"/>
            <a:ext cx="2938320" cy="4284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4"/>
          <a:stretch/>
        </p:blipFill>
        <p:spPr>
          <a:xfrm>
            <a:off x="3143160" y="3786120"/>
            <a:ext cx="1892520" cy="3571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9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0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1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2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,9,20,21,22-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8:01:01Z</dcterms:created>
  <dc:creator>апачай</dc:creator>
  <dc:description/>
  <dc:language>en-US</dc:language>
  <cp:lastModifiedBy>home</cp:lastModifiedBy>
  <dcterms:modified xsi:type="dcterms:W3CDTF">2017-03-09T19:10:44Z</dcterms:modified>
  <cp:revision>251</cp:revision>
  <dc:subject/>
  <dc:title>Занимательная математика</dc:title>
</cp:coreProperties>
</file>