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677A-6590-4C9F-8D5C-E9A796A7ED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FD3C-9C69-4B97-88F5-75ACD5B191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3FF1-397F-45B3-AC2F-CCDCCADEF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8A0-A955-4293-9CDA-DCACAE64B9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0458-D29F-4654-93C4-E568FB5908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8599-D24C-4F0D-ABAD-D614A3014D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108-E62F-4867-B11F-DC5273B8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0EE-ACD8-42C1-BA94-489A54A5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4CF-2EB0-4B7F-8D14-AEE23D95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04B-02E0-4DA3-B3DB-CCC6DF14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FE9-1A36-40F3-97D2-4FE714A5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30C-2A37-441C-8EC6-B86A364A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DF4-9CC2-4854-A8EE-55388003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99C-222A-4DF5-9EDF-C37476F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FEE-1229-488A-9976-7368089D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958-EE71-42E8-B6B5-FE8856A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140-241E-4196-A73D-08B24A5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BF9-110B-41E7-8661-4068F34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C55C-687D-4351-83BE-D2FC17C62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ррациональны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0" y="1428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для решения иррационального уравнения методом возведения в квадрат, необходимо возвести обе части уравнения в квадрат, решить полученное рациональное уравнение, проверить корни подстановкой в исходное уравн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C:\Users\апачай\Desktop\Презентации\11 класс\Первообразная\risunok_raketa.jpg"/>
          <p:cNvPicPr/>
          <p:nvPr/>
        </p:nvPicPr>
        <p:blipFill>
          <a:blip r:embed="rId2"/>
          <a:stretch/>
        </p:blipFill>
        <p:spPr>
          <a:xfrm>
            <a:off x="2786040" y="3071880"/>
            <a:ext cx="40640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0" y="142884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 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образуем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ведем обе части уравнения в квад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ользуемся еще раз методом возведения в квад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143160" y="1785960"/>
            <a:ext cx="2449440" cy="357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3143160" y="2643120"/>
            <a:ext cx="2270160" cy="357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4"/>
          <a:stretch/>
        </p:blipFill>
        <p:spPr>
          <a:xfrm>
            <a:off x="2928960" y="3429000"/>
            <a:ext cx="3214800" cy="35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3429000" y="3786120"/>
            <a:ext cx="1965240" cy="357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723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144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6"/>
          <a:stretch/>
        </p:blipFill>
        <p:spPr>
          <a:xfrm>
            <a:off x="3214800" y="4572000"/>
            <a:ext cx="2500200" cy="34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7"/>
          <a:stretch/>
        </p:blipFill>
        <p:spPr>
          <a:xfrm>
            <a:off x="2928960" y="5000760"/>
            <a:ext cx="3000240" cy="325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0" y="723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7" descr=""/>
          <p:cNvPicPr/>
          <p:nvPr/>
        </p:nvPicPr>
        <p:blipFill>
          <a:blip r:embed="rId8"/>
          <a:stretch/>
        </p:blipFill>
        <p:spPr>
          <a:xfrm>
            <a:off x="3286080" y="5429160"/>
            <a:ext cx="2071800" cy="322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9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0" descr=""/>
          <p:cNvPicPr/>
          <p:nvPr/>
        </p:nvPicPr>
        <p:blipFill>
          <a:blip r:embed="rId9"/>
          <a:stretch/>
        </p:blipFill>
        <p:spPr>
          <a:xfrm>
            <a:off x="2714760" y="5786280"/>
            <a:ext cx="326844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2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0" y="142884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талось выполнить провер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х=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2286000" y="2428920"/>
            <a:ext cx="4541760" cy="357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6330960" cy="785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0" descr=""/>
          <p:cNvPicPr/>
          <p:nvPr/>
        </p:nvPicPr>
        <p:blipFill>
          <a:blip r:embed="rId4"/>
          <a:stretch/>
        </p:blipFill>
        <p:spPr>
          <a:xfrm>
            <a:off x="2786040" y="1357200"/>
            <a:ext cx="3268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9"/>
          <p:cNvSpPr/>
          <p:nvPr/>
        </p:nvSpPr>
        <p:spPr>
          <a:xfrm>
            <a:off x="0" y="14288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 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решении данного уравнения воспользуемся методом введения новой переменой, представи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, тогда исходное уравнение примет в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ведя обратную заме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 первого выражения х=49, а второе не имеет смыс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х=4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3286080" y="1785960"/>
            <a:ext cx="1892520" cy="357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4500720" y="2500200"/>
            <a:ext cx="726840" cy="357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3500280" y="3143160"/>
            <a:ext cx="1857600" cy="344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5"/>
          <a:stretch/>
        </p:blipFill>
        <p:spPr>
          <a:xfrm>
            <a:off x="3429000" y="3571920"/>
            <a:ext cx="1928880" cy="330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6"/>
          <a:stretch/>
        </p:blipFill>
        <p:spPr>
          <a:xfrm>
            <a:off x="3429000" y="4572000"/>
            <a:ext cx="1957320" cy="357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2"/>
          <a:stretch/>
        </p:blipFill>
        <p:spPr>
          <a:xfrm>
            <a:off x="3071880" y="2000160"/>
            <a:ext cx="2036520" cy="4287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3"/>
          <a:stretch/>
        </p:blipFill>
        <p:spPr>
          <a:xfrm>
            <a:off x="2857680" y="2857680"/>
            <a:ext cx="2938320" cy="4284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4"/>
          <a:stretch/>
        </p:blipFill>
        <p:spPr>
          <a:xfrm>
            <a:off x="3143160" y="3786120"/>
            <a:ext cx="189252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9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2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,9,20,21,22-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01:01Z</dcterms:created>
  <dc:creator>апачай</dc:creator>
  <dc:description/>
  <dc:language>en-US</dc:language>
  <cp:lastModifiedBy>home</cp:lastModifiedBy>
  <dcterms:modified xsi:type="dcterms:W3CDTF">2017-03-09T19:10:44Z</dcterms:modified>
  <cp:revision>251</cp:revision>
  <dc:subject/>
  <dc:title>Занимательная математика</dc:title>
</cp:coreProperties>
</file>